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move the slide</a:t>
            </a:r>
            <a:endParaRPr b="1" lang="en-US" sz="3200" spc="-1" strike="noStrike">
              <a:solidFill>
                <a:srgbClr val="000000"/>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057E-E633-495A-91A9-B7507138B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3445-661E-4A5E-B031-99C7F000FE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4BF7-9FCD-4182-8ED5-168B722C5D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8DB82-7F56-4826-96D5-B97C77BDB9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74AC-7E16-4C8A-942D-17CE5CD7EA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109A3-B0ED-41BF-9E74-D2FA7A7597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8ED5-5184-419A-AB18-D9579F4CDD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B230-C0E8-4270-B80B-906A193A9B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5927-E463-4740-9D66-5253E916FE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www.elftown.com/_First%20semester%20-%20fall%20processing</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AF971-7852-49DF-91C7-A4E9C21F76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E9DE-1CD8-41E7-B90C-8C14376072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E1E59-7CEF-4069-BC35-1A2F882B68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F65F-09A4-4252-91DF-C45F78D680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www.uq.edu.au/research/integrity-compliance/files/animal/sops/att/sop_att_063_eye_enucleation_cattle.pdf</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4264-AF24-4E83-83D8-A9AE9C4DF9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13129-71A0-409F-B6E3-EBE030DB66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AF775-5761-4F86-A021-D483B51BC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457200" y="266652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7A1E2-125D-4E2B-BA18-B3C3A976A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BB962-CB86-4281-AC5F-E073A1057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45720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E01F5-CE5D-4D3E-A5E9-FB5624A50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C03B5-8593-4D29-A8CE-FF582F39F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457200" y="2666520"/>
            <a:ext cx="8229600" cy="34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5B097-8172-4263-89B2-679B2C3C8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D2C6E-4F6A-4D98-953B-EB5BBDC47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B37C4-EC79-401E-A15C-D6F0E3DDD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FFB11-CC69-481C-B433-1FFE7E929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280" y="1676160"/>
            <a:ext cx="88934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BD7CD-DF07-4A1F-A54F-A91B45AF9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9F7F9-5C4B-4275-B7FD-AA4E42D8E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457200" y="2666520"/>
            <a:ext cx="8229600" cy="34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35B1D-8BD8-4777-9BB4-F25729676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B76CB-0D4F-4BD7-BBDF-47C52DD4C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B69F4-9938-46A0-B52F-C3B39F9F4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457200" y="266652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8044F-1797-4C8C-B047-BCFB3DAB9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F156C6-B6C5-4699-9BC6-C8998E4A2F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45720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68225A-FD11-4113-8F89-4840220514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AD4B2-EEBC-448D-A49D-8E86663AC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33468-B583-49D0-9F5B-A126F1D21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7542A-0B2F-436F-B0EF-E1DB24C4B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280" y="1676160"/>
            <a:ext cx="88934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E6D79-C14B-4F8A-9C4D-CB438080F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DAA49-4967-424D-B05C-189C07EC4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51EB1-6CEF-480E-B9DD-C1CF3B158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62EC0-A6D8-4530-9AA5-69CBB00423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457200" y="2666520"/>
            <a:ext cx="8229600" cy="345924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16680" indent="-23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4860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2804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82EB-F9D2-481D-804D-B198064AEB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457200" y="2666520"/>
            <a:ext cx="8229600" cy="345924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16680" indent="-23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4860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2804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32E7-709C-4AD4-9732-15DF1C922B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19320" y="5105160"/>
            <a:ext cx="716256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Sitka Small"/>
              </a:rPr>
              <a:t>BOVINE EYE </a:t>
            </a:r>
            <a:br>
              <a:rPr sz="2700"/>
            </a:br>
            <a:r>
              <a:rPr b="1" lang="en-US" sz="2700" spc="-1" strike="noStrike">
                <a:solidFill>
                  <a:srgbClr val="ffffff"/>
                </a:solidFill>
                <a:latin typeface="Sitka Small"/>
              </a:rPr>
              <a:t>ENUCLEATION AND EXENTERATION</a:t>
            </a:r>
            <a:endParaRPr b="1" lang="en-US" sz="2700" spc="-1" strike="noStrike">
              <a:solidFill>
                <a:srgbClr val="000000"/>
              </a:solidFill>
              <a:latin typeface="Tahoma"/>
            </a:endParaRPr>
          </a:p>
        </p:txBody>
      </p:sp>
      <p:sp>
        <p:nvSpPr>
          <p:cNvPr id="90" name="TextBox 3"/>
          <p:cNvSpPr/>
          <p:nvPr/>
        </p:nvSpPr>
        <p:spPr>
          <a:xfrm>
            <a:off x="4419720" y="617220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1800" spc="-1" strike="noStrike">
                <a:solidFill>
                  <a:srgbClr val="000000"/>
                </a:solidFill>
                <a:latin typeface="Broadway"/>
              </a:rPr>
              <a:t>Post-Operative Considera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1828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SIBLE COMPLICATIONS ASSOCIATED WITH ENUCLEATION AND EXENTERATION</a:t>
            </a:r>
            <a:endParaRPr b="1" lang="en-US" sz="3200" spc="-1" strike="noStrike">
              <a:solidFill>
                <a:srgbClr val="000000"/>
              </a:solidFill>
              <a:latin typeface="Tahoma"/>
            </a:endParaRPr>
          </a:p>
        </p:txBody>
      </p:sp>
      <p:sp>
        <p:nvSpPr>
          <p:cNvPr id="110" name=""/>
          <p:cNvSpPr txBox="1"/>
          <p:nvPr/>
        </p:nvSpPr>
        <p:spPr>
          <a:xfrm>
            <a:off x="76320" y="3200400"/>
            <a:ext cx="899136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Calibri"/>
              </a:rPr>
              <a:t>Post-operative bleeding</a:t>
            </a:r>
            <a:r>
              <a:rPr b="0" lang="en-US" sz="3200" spc="-1" strike="noStrike">
                <a:solidFill>
                  <a:srgbClr val="000000"/>
                </a:solidFill>
                <a:latin typeface="Calibri"/>
              </a:rPr>
              <a:t>- Eyelid closure provides a seal to contain any further haemorrhage. However if bleeding is extensive, the orbit can swell and blood may escape. For small or unwell patients, the potential blood loss may be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Calibri"/>
              </a:rPr>
              <a:t>Inf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Calibri"/>
              </a:rPr>
              <a:t>Dehiscence of the surgical woun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1726920"/>
            <a:ext cx="883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SIBLE COMPLICATIONS ASSOCIATED WITH ENUCLEATION AND EXENTERATION</a:t>
            </a:r>
            <a:endParaRPr b="1" lang="en-US" sz="3200" spc="-1" strike="noStrike">
              <a:solidFill>
                <a:srgbClr val="000000"/>
              </a:solidFill>
              <a:latin typeface="Tahoma"/>
            </a:endParaRPr>
          </a:p>
        </p:txBody>
      </p:sp>
      <p:sp>
        <p:nvSpPr>
          <p:cNvPr id="112" name=""/>
          <p:cNvSpPr txBox="1"/>
          <p:nvPr/>
        </p:nvSpPr>
        <p:spPr>
          <a:xfrm>
            <a:off x="0" y="2895120"/>
            <a:ext cx="9144000" cy="3962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Calibri"/>
              </a:rPr>
              <a:t>Cyst or mucocoele formation </a:t>
            </a:r>
            <a:r>
              <a:rPr b="0" lang="en-US" sz="3000" spc="-1" strike="noStrike">
                <a:solidFill>
                  <a:srgbClr val="000000"/>
                </a:solidFill>
                <a:latin typeface="Calibri"/>
              </a:rPr>
              <a:t>due to inadequate resection of the conjunctiva or gland of the third eyelid. Build-up of lacrimal secretions can lead to sinus form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Calibri"/>
              </a:rPr>
              <a:t>Orbital emphysem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Calibri"/>
              </a:rPr>
              <a:t>Blindness</a:t>
            </a:r>
            <a:r>
              <a:rPr b="0" lang="en-US" sz="3000" spc="-1" strike="noStrike">
                <a:solidFill>
                  <a:srgbClr val="000000"/>
                </a:solidFill>
                <a:latin typeface="Calibri"/>
              </a:rPr>
              <a:t> of the contralateral eye due to damage to the optic nerv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Calibri"/>
              </a:rPr>
              <a:t>Pain-</a:t>
            </a:r>
            <a:r>
              <a:rPr b="0" lang="en-US" sz="3000" spc="-1" strike="noStrike">
                <a:solidFill>
                  <a:srgbClr val="000000"/>
                </a:solidFill>
                <a:latin typeface="Calibri"/>
              </a:rPr>
              <a:t> Severe pain warrants the attention of a veterinari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ENERAL COMMENTS</a:t>
            </a:r>
            <a:endParaRPr b="1" lang="en-US" sz="3200" spc="-1" strike="noStrike">
              <a:solidFill>
                <a:srgbClr val="000000"/>
              </a:solidFill>
              <a:latin typeface="Tahoma"/>
            </a:endParaRPr>
          </a:p>
        </p:txBody>
      </p:sp>
      <p:sp>
        <p:nvSpPr>
          <p:cNvPr id="114" name=""/>
          <p:cNvSpPr txBox="1"/>
          <p:nvPr/>
        </p:nvSpPr>
        <p:spPr>
          <a:xfrm>
            <a:off x="2133720" y="1599840"/>
            <a:ext cx="6858000" cy="525780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it comes to enucleation in most animals, blindness is well tolerated. Animals with vision in one eye cope very well and generally behave completely normal. They do lose their binocular vision which does alter their depth perception (stereopsis), although they do retain a limited ability to judge depth using other visual cues.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addition, a variable degree of orbital depression is present, but this is usually cosmetically acceptable and rarely causes the animal any problem. When the hair regrows, the depression becomes less obvious.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
          <p:cNvPicPr/>
          <p:nvPr/>
        </p:nvPicPr>
        <p:blipFill>
          <a:blip r:embed="rId1"/>
          <a:stretch/>
        </p:blipFill>
        <p:spPr>
          <a:xfrm>
            <a:off x="289080" y="3200400"/>
            <a:ext cx="4267080" cy="3382920"/>
          </a:xfrm>
          <a:prstGeom prst="rect">
            <a:avLst/>
          </a:prstGeom>
          <a:ln w="0">
            <a:noFill/>
          </a:ln>
        </p:spPr>
      </p:pic>
      <p:pic>
        <p:nvPicPr>
          <p:cNvPr id="116" name="Picture 8" descr=""/>
          <p:cNvPicPr/>
          <p:nvPr/>
        </p:nvPicPr>
        <p:blipFill>
          <a:blip r:embed="rId2"/>
          <a:stretch/>
        </p:blipFill>
        <p:spPr>
          <a:xfrm>
            <a:off x="5181480" y="3133800"/>
            <a:ext cx="3429000" cy="3429000"/>
          </a:xfrm>
          <a:prstGeom prst="rect">
            <a:avLst/>
          </a:prstGeom>
          <a:ln w="0">
            <a:noFill/>
          </a:ln>
        </p:spPr>
      </p:pic>
      <p:pic>
        <p:nvPicPr>
          <p:cNvPr id="117" name="Rectangle 9" descr=""/>
          <p:cNvPicPr/>
          <p:nvPr/>
        </p:nvPicPr>
        <p:blipFill>
          <a:blip r:embed="rId3"/>
          <a:stretch/>
        </p:blipFill>
        <p:spPr>
          <a:xfrm>
            <a:off x="536400" y="1523880"/>
            <a:ext cx="8321760" cy="1755720"/>
          </a:xfrm>
          <a:prstGeom prst="rect">
            <a:avLst/>
          </a:prstGeom>
          <a:ln w="0">
            <a:noFill/>
          </a:ln>
        </p:spPr>
      </p:pic>
      <p:sp>
        <p:nvSpPr>
          <p:cNvPr id="118" name="Rectangle 10"/>
          <p:cNvSpPr/>
          <p:nvPr/>
        </p:nvSpPr>
        <p:spPr>
          <a:xfrm>
            <a:off x="5181480" y="6019920"/>
            <a:ext cx="3429000" cy="5634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1800" spc="-1" strike="noStrike">
                <a:solidFill>
                  <a:srgbClr val="ffffff"/>
                </a:solidFill>
                <a:latin typeface="Calibri"/>
              </a:rPr>
              <a:t>“</a:t>
            </a:r>
            <a:r>
              <a:rPr b="0" lang="en-TT" sz="1800" spc="-1" strike="noStrike">
                <a:solidFill>
                  <a:srgbClr val="ffffff"/>
                </a:solidFill>
                <a:latin typeface="Calibri"/>
              </a:rPr>
              <a:t>Mr. Take-way yuh gyu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190476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THIRD EYELID REMOVAL SURGERY IN COWS</a:t>
            </a:r>
            <a:endParaRPr b="1" lang="en-US" sz="3200" spc="-1" strike="noStrike">
              <a:solidFill>
                <a:srgbClr val="000000"/>
              </a:solidFill>
              <a:latin typeface="Tahoma"/>
            </a:endParaRPr>
          </a:p>
        </p:txBody>
      </p:sp>
      <p:sp>
        <p:nvSpPr>
          <p:cNvPr id="120" name=""/>
          <p:cNvSpPr txBox="1"/>
          <p:nvPr/>
        </p:nvSpPr>
        <p:spPr>
          <a:xfrm>
            <a:off x="152280" y="3200040"/>
            <a:ext cx="883944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sh the eye with sterile solutions to remove blood and debr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an antibiotic ointment/eye dro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eld the patient from wind, dust and bright sunlight for several hours to prevent keratit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postoperative analges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182844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EYE ENUCLEATION AND EXENTERATION SURGERY IN COWS</a:t>
            </a:r>
            <a:endParaRPr b="1" lang="en-US" sz="3200" spc="-1" strike="noStrike">
              <a:solidFill>
                <a:srgbClr val="000000"/>
              </a:solidFill>
              <a:latin typeface="Tahoma"/>
            </a:endParaRPr>
          </a:p>
        </p:txBody>
      </p:sp>
      <p:sp>
        <p:nvSpPr>
          <p:cNvPr id="92" name=""/>
          <p:cNvSpPr txBox="1"/>
          <p:nvPr/>
        </p:nvSpPr>
        <p:spPr>
          <a:xfrm>
            <a:off x="347400" y="3141720"/>
            <a:ext cx="8762760" cy="3733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imals recovering from anesthesia may feel weak as the sedation may not completely wear off after the procedure and so it is important to ensure that the patients are slowly walked or carried to a safe, hazardless area. The best thing to do is to get an animal into a clean, shady, wide open space with minimal dust where there are no objects to trip over or bounce into.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nimal should be kept in a confined area for several days after surgery to allow for appropriate </a:t>
            </a:r>
            <a:r>
              <a:rPr b="0" lang="en-TT" sz="2700" spc="-1" strike="noStrike">
                <a:solidFill>
                  <a:srgbClr val="000000"/>
                </a:solidFill>
                <a:latin typeface="Calibri"/>
              </a:rPr>
              <a:t>haemostasis to occur.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6761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EYE ENUCLEATION AND EXENTERATION SURGERY IN COWS</a:t>
            </a:r>
            <a:endParaRPr b="1" lang="en-US" sz="3200" spc="-1" strike="noStrike">
              <a:solidFill>
                <a:srgbClr val="000000"/>
              </a:solidFill>
              <a:latin typeface="Tahoma"/>
            </a:endParaRPr>
          </a:p>
        </p:txBody>
      </p:sp>
      <p:sp>
        <p:nvSpPr>
          <p:cNvPr id="94" name=""/>
          <p:cNvSpPr txBox="1"/>
          <p:nvPr/>
        </p:nvSpPr>
        <p:spPr>
          <a:xfrm>
            <a:off x="457200" y="3048120"/>
            <a:ext cx="8229600" cy="3962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eye patch or covering may be worn by the patient until the eyelids have healed well (5-10 days post-operatively) to protect the surgery site and prevent self-trauma. It is usual for some orbital swelling to occur, usually due to hematoma formation underneath the sealed eyelids. This usually resolves in 3-5 days. The accumulation of blood into the suture-closed orbit acts as a pressure bandage and stops further bleeding.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04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EYE ENUCLEATION AND EXENTERATION SURGERY IN COWS</a:t>
            </a:r>
            <a:endParaRPr b="1" lang="en-US" sz="3200" spc="-1" strike="noStrike">
              <a:solidFill>
                <a:srgbClr val="000000"/>
              </a:solidFill>
              <a:latin typeface="Tahoma"/>
            </a:endParaRPr>
          </a:p>
        </p:txBody>
      </p:sp>
      <p:pic>
        <p:nvPicPr>
          <p:cNvPr id="96" name="Picture 6" descr=""/>
          <p:cNvPicPr/>
          <p:nvPr/>
        </p:nvPicPr>
        <p:blipFill>
          <a:blip r:embed="rId1"/>
          <a:stretch/>
        </p:blipFill>
        <p:spPr>
          <a:xfrm>
            <a:off x="-22320" y="3298680"/>
            <a:ext cx="5257800" cy="3538800"/>
          </a:xfrm>
          <a:prstGeom prst="rect">
            <a:avLst/>
          </a:prstGeom>
          <a:ln w="0">
            <a:noFill/>
          </a:ln>
        </p:spPr>
      </p:pic>
      <p:sp>
        <p:nvSpPr>
          <p:cNvPr id="97" name="Thought Bubble: Cloud 7"/>
          <p:cNvSpPr/>
          <p:nvPr/>
        </p:nvSpPr>
        <p:spPr>
          <a:xfrm>
            <a:off x="2602080" y="3298680"/>
            <a:ext cx="2438280" cy="1371600"/>
          </a:xfrm>
          <a:prstGeom prst="cloudCallout">
            <a:avLst>
              <a:gd name="adj1" fmla="val -20833"/>
              <a:gd name="adj2" fmla="val 62500"/>
            </a:avLst>
          </a:prstGeom>
          <a:solidFill>
            <a:srgbClr val="edcdac"/>
          </a:solidFill>
          <a:ln w="25560">
            <a:solidFill>
              <a:srgbClr val="ae96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1800" spc="-1" strike="noStrike">
                <a:solidFill>
                  <a:srgbClr val="000000"/>
                </a:solidFill>
                <a:latin typeface="Calibri"/>
              </a:rPr>
              <a:t>Arrr. I’m Cap’n</a:t>
            </a:r>
            <a:r>
              <a:rPr b="0" lang="en-TT" sz="1800" spc="-1" strike="noStrike">
                <a:solidFill>
                  <a:srgbClr val="000000"/>
                </a:solidFill>
                <a:latin typeface="Calibri"/>
              </a:rPr>
              <a:t> </a:t>
            </a:r>
            <a:r>
              <a:rPr b="1" lang="en-TT" sz="1800" spc="-1" strike="noStrike">
                <a:solidFill>
                  <a:srgbClr val="000000"/>
                </a:solidFill>
                <a:latin typeface="Calibri"/>
              </a:rPr>
              <a:t>Hugh Heifer</a:t>
            </a:r>
            <a:r>
              <a:rPr b="0" lang="en-TT" sz="1800" spc="-1" strike="noStrike">
                <a:solidFill>
                  <a:srgbClr val="000000"/>
                </a:solidFill>
                <a:latin typeface="Calibri"/>
              </a:rPr>
              <a:t>. </a:t>
            </a:r>
            <a:endParaRPr b="0" lang="en-US" sz="1800" spc="-1" strike="noStrike">
              <a:solidFill>
                <a:srgbClr val="000000"/>
              </a:solidFill>
              <a:latin typeface="Calibri"/>
            </a:endParaRPr>
          </a:p>
        </p:txBody>
      </p:sp>
      <p:pic>
        <p:nvPicPr>
          <p:cNvPr id="98" name="Picture 4" descr=""/>
          <p:cNvPicPr/>
          <p:nvPr/>
        </p:nvPicPr>
        <p:blipFill>
          <a:blip r:embed="rId2"/>
          <a:srcRect l="0" t="0" r="0" b="8842"/>
          <a:stretch/>
        </p:blipFill>
        <p:spPr>
          <a:xfrm>
            <a:off x="5030640" y="3665520"/>
            <a:ext cx="3962520" cy="320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EYE ENUCLEATION AND EXENTERATION SURGERY IN COWS</a:t>
            </a:r>
            <a:endParaRPr b="1" lang="en-US" sz="3200" spc="-1" strike="noStrike">
              <a:solidFill>
                <a:srgbClr val="000000"/>
              </a:solidFill>
              <a:latin typeface="Tahoma"/>
            </a:endParaRPr>
          </a:p>
        </p:txBody>
      </p:sp>
      <p:sp>
        <p:nvSpPr>
          <p:cNvPr id="100" name=""/>
          <p:cNvSpPr txBox="1"/>
          <p:nvPr/>
        </p:nvSpPr>
        <p:spPr>
          <a:xfrm>
            <a:off x="2268360" y="1828440"/>
            <a:ext cx="68580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ternatively, the wound could be packed with a lengthy strip of gauze/cloth, which is left protruding from sutured lids and each day a portion of the gauze/cloth is pulled out and subsequently remove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bserve that this method which utilizes the exteriorization of material from the environment and into an open wound may act as a conduit for infection. The eye must therefore be observed daily and the patient examine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9800" y="18284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EYE ENUCLEATION AND EXENTERATION SURGERY IN COWS</a:t>
            </a:r>
            <a:endParaRPr b="1" lang="en-US" sz="3200" spc="-1" strike="noStrike">
              <a:solidFill>
                <a:srgbClr val="000000"/>
              </a:solidFill>
              <a:latin typeface="Tahoma"/>
            </a:endParaRPr>
          </a:p>
        </p:txBody>
      </p:sp>
      <p:sp>
        <p:nvSpPr>
          <p:cNvPr id="102" name=""/>
          <p:cNvSpPr txBox="1"/>
          <p:nvPr/>
        </p:nvSpPr>
        <p:spPr>
          <a:xfrm>
            <a:off x="457200" y="3048120"/>
            <a:ext cx="8229600" cy="39621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m compresses may be applied by the farmers if this seems to give the animal some relief.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ear duct connects the orbit to the nares, and therefore a small amount of bleeding (usually serosanguinous in nature) from the ipsilateral nostril may be observed in the first 3-4 days after the procedur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EYE ENUCLEATION AND EXENTERATION SURGERY IN COWS</a:t>
            </a:r>
            <a:endParaRPr b="1" lang="en-US" sz="3200" spc="-1" strike="noStrike">
              <a:solidFill>
                <a:srgbClr val="000000"/>
              </a:solidFill>
              <a:latin typeface="Tahoma"/>
            </a:endParaRPr>
          </a:p>
        </p:txBody>
      </p:sp>
      <p:sp>
        <p:nvSpPr>
          <p:cNvPr id="104" name=""/>
          <p:cNvSpPr txBox="1"/>
          <p:nvPr/>
        </p:nvSpPr>
        <p:spPr>
          <a:xfrm>
            <a:off x="2133720" y="1904760"/>
            <a:ext cx="6858000" cy="5257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st-operative analgesia, in the form of NSAIDs such as Banamine, should be provided for approximately five days after surger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short course of post-operative antibiotics like Pen-Strep are normally prescribed as it is impossible to maintain complete aseptic field throughou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the cases where non-absorbable sutures have been used in the eyelids, these are removed 10-14 days following surgery. </a:t>
            </a:r>
            <a:r>
              <a:rPr b="0" lang="en-TT" sz="2700" spc="-1" strike="noStrike">
                <a:solidFill>
                  <a:srgbClr val="000000"/>
                </a:solidFill>
                <a:latin typeface="Calibri"/>
              </a:rPr>
              <a:t>Daily observation of the surgical site and assessment of general well being is performed until suture remova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EYE ENUCLEATION AND EXENTERATION SURGERY IN COWS</a:t>
            </a:r>
            <a:endParaRPr b="1" lang="en-US" sz="3200" spc="-1" strike="noStrike">
              <a:solidFill>
                <a:srgbClr val="000000"/>
              </a:solidFill>
              <a:latin typeface="Tahoma"/>
            </a:endParaRPr>
          </a:p>
        </p:txBody>
      </p:sp>
      <p:sp>
        <p:nvSpPr>
          <p:cNvPr id="106" name=""/>
          <p:cNvSpPr txBox="1"/>
          <p:nvPr/>
        </p:nvSpPr>
        <p:spPr>
          <a:xfrm>
            <a:off x="2057400" y="2133360"/>
            <a:ext cx="6858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septic, insecticide, and/or insect repellent preparations should be conside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 are checked twice daily for 48 hours to detect any signs of sinusitis or skin bacterial contamination or fly strik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167616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SIBLE COMPLICATIONS ASSOCIATED WITH ENUCLEATION AND EXENTERATION</a:t>
            </a:r>
            <a:endParaRPr b="1" lang="en-US" sz="3200" spc="-1" strike="noStrike">
              <a:solidFill>
                <a:srgbClr val="000000"/>
              </a:solidFill>
              <a:latin typeface="Tahoma"/>
            </a:endParaRPr>
          </a:p>
        </p:txBody>
      </p:sp>
      <p:sp>
        <p:nvSpPr>
          <p:cNvPr id="108" name=""/>
          <p:cNvSpPr txBox="1"/>
          <p:nvPr/>
        </p:nvSpPr>
        <p:spPr>
          <a:xfrm>
            <a:off x="0" y="2895120"/>
            <a:ext cx="9144000" cy="3962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Calibri"/>
              </a:rPr>
              <a:t>Cardiac bradyarrhythmia</a:t>
            </a:r>
            <a:r>
              <a:rPr b="0" lang="en-US" sz="3000" spc="-1" strike="noStrike">
                <a:solidFill>
                  <a:srgbClr val="000000"/>
                </a:solidFill>
                <a:latin typeface="Calibri"/>
              </a:rPr>
              <a:t> as a result of the oculo-cardiac reflex. Stimulation of the vagus nerve can be avoided or minimized by gentle globe and tissue handl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Calibri"/>
              </a:rPr>
              <a:t>Intra-operative bleeding</a:t>
            </a:r>
            <a:r>
              <a:rPr b="0" lang="en-US" sz="3000" spc="-1" strike="noStrike">
                <a:solidFill>
                  <a:srgbClr val="000000"/>
                </a:solidFill>
                <a:latin typeface="Calibri"/>
              </a:rPr>
              <a:t>- This may arise from the optic blood vessels. Usually packing the orbit with a swab and applying digital pressure long enough (five minutes or more) will stop the bleeding. Bleeding can also occur from the angularis oculi vein when the eyelids are being removed. It is situated below the medial canthu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DavidSuresh</dc:creator>
  <dc:description/>
  <dc:language>en-US</dc:language>
  <cp:lastModifiedBy>aliyyah.khan</cp:lastModifiedBy>
  <dcterms:modified xsi:type="dcterms:W3CDTF">2017-11-19T13:24:47Z</dcterms:modified>
  <cp:revision>293</cp:revision>
  <dc:subject/>
  <dc:title>PowerPoint Presentation</dc:title>
</cp:coreProperties>
</file>