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A3C-DFF2-444D-80D4-BB14B6A1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C63-AE9E-407C-BBD0-6F9723C8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307-9428-45D5-827C-FA37D87F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99E-157D-4E21-B5B8-3021358D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11CD-55CA-45E2-BFC0-7A123225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F220-C809-4513-B72B-7924B56B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A244-9339-490C-B5FE-35CE02E8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6352-A79D-4A02-920A-2FC0E417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4C1B-108D-4FB4-9F93-BCD47A82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32C0-824F-4F7A-8024-CE76D4EB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4F6E-399C-438C-9555-B6B12A7E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2A1-283D-4AA1-BA93-5163734D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56F3-3A47-41E8-8915-2E37ADB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5138-867F-4ACF-ACC4-F30F00C4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5AE4-1886-4C69-BCE2-B617F0E2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A7C2-DD90-4CB8-9013-C766531A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32CE-9578-417D-ACC3-3E86E9DC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3B9-4E38-4F03-8F33-F30781DB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BE4-D29D-4526-9944-BF46E894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B5B-BBA1-4C2E-9795-9D45B734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597-BE15-48A4-8A15-0193A2AB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F8A-E606-418D-99A3-AD33586E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A1E-6D66-4E7B-8DB7-43C9D9D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BB7-42C9-4E95-AF69-1FD3F801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7931-A945-4F51-BD51-5C775DC0F0F4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B9F2-4FC3-49C1-8C57-262AF865651E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ÚMUL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46080" y="2517840"/>
            <a:ext cx="2833920" cy="23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40360" y="4653000"/>
            <a:ext cx="1440000" cy="1157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6193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3:52:41Z</dcterms:created>
  <dc:creator>JUAN CARLOS SEGURA DOMENE</dc:creator>
  <dc:description/>
  <dc:language>en-US</dc:language>
  <cp:lastModifiedBy>JUAN CARLOS SEGURA DOMENE</cp:lastModifiedBy>
  <dcterms:modified xsi:type="dcterms:W3CDTF">2010-11-30T13:56:39Z</dcterms:modified>
  <cp:revision>1</cp:revision>
  <dc:subject/>
  <dc:title>CÚMUL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