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9D1-533E-4C00-A8AF-E2477C13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504-FD10-42E0-9E13-EB1638EE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8BF-BBF1-4CB2-85E2-0E164668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E3A-D93F-4D44-9117-58ED1FDE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458C-A6B6-4688-A648-9F0A9C8F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0336-9C3E-4CE2-B0E6-4A60A3C4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0BCB-3F47-4070-9EB3-54D377C0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2710-3619-45CE-93A6-4D42C3F6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BEA9-5EBF-41A4-9DF8-761D340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108C-B085-447F-A7F3-F09811C0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F7FB-EE0E-447B-90DC-697536DC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FAF-2798-4346-B63A-EDFC299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C9F8-F38D-4129-AC31-7EEA2579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AF10-E509-40F6-A1ED-3C085E4B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B05D-310A-4CA7-8E11-A922A349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E0FE-7A1D-4BED-A573-88586069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B0D6-59F3-4879-8718-CADA2AD9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416-F201-4571-B69D-FD698829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2B4-63CD-4426-ABE1-68849E2F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CC0-7197-4C31-B05E-0124FB39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726-6309-4EA1-A148-9D62CD42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19B-C23E-4E95-B77B-5104B540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740-E3BE-4A78-B9A6-6C08FDCF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8AA-5EC2-48E2-9154-3B50B12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8CA7-6BEE-4C40-8ED7-4CB9AAB3D64C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5F2D-F145-4A18-818A-200B6111DF11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ÚMUL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46080" y="2517840"/>
            <a:ext cx="2833920" cy="23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4653000"/>
            <a:ext cx="1440000" cy="11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619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3:52:41Z</dcterms:created>
  <dc:creator>JUAN CARLOS SEGURA DOMENE</dc:creator>
  <dc:description/>
  <dc:language>en-US</dc:language>
  <cp:lastModifiedBy>JUAN CARLOS SEGURA DOMENE</cp:lastModifiedBy>
  <dcterms:modified xsi:type="dcterms:W3CDTF">2010-11-30T13:56:39Z</dcterms:modified>
  <cp:revision>1</cp:revision>
  <dc:subject/>
  <dc:title>CÚMUL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