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877BD-BDEF-4C0C-A50E-6E7D8478B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30376-12EC-4AAA-B27A-A6C56E989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43959-8FAA-4C03-8F3F-FEA7F6A93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AC311-AB23-418A-8DE1-0F45FBCE8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06735-B940-47B4-AB29-5A47FF0A1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1507B-1B2D-424D-A565-88920EF1B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CE273-4A4E-419D-81AC-48E9F3C44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21EEC-A78C-4C19-8FCE-7285A799D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A0BF0-FA99-446B-A488-993B42697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2FB6F-539E-4B0B-B579-BC9DAA3B8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D74CA-D9D0-4472-A83A-1695DC745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285C6-AF6A-4D83-9C81-2A2793195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735D3-9A66-41B2-85A0-2340F2831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5F8C3-1737-4D69-8ED5-504F7CBF4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BFDE8-C15E-4D8F-9CAF-64431DF4B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1A6D3-4D17-433A-B0DF-445CAD4DF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3304D-B745-412E-829D-A7DB9D13E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2B85A-2633-45CA-BC06-DBCF3716F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FD2D0-7F51-4D5A-93A6-B6DF63AD9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BD230-A898-40E9-B573-EB151A9C0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A80A8-4D1B-4A82-963A-0E305C43D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7DE00-4A25-4BD2-816B-D165C1D5B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1B300-988B-4713-AEAA-9AB6CBED2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4098E-C28E-4B47-BEDF-A0C4499F6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2F645-80C3-4AEB-BA53-1B23914D8386}" type="slidenum">
              <a:rPr b="0" lang="es-E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A6F79-4ABD-4EBB-820B-15D5D577F6CA}" type="slidenum">
              <a:rPr b="0" lang="es-E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b2b2b2"/>
                </a:solidFill>
                <a:latin typeface="Arial"/>
              </a:rPr>
              <a:t>CÚMULO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946080" y="2517840"/>
            <a:ext cx="2833920" cy="232704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940360" y="4653000"/>
            <a:ext cx="1440000" cy="11574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5219640" y="1628640"/>
            <a:ext cx="2619360" cy="18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30T13:52:41Z</dcterms:created>
  <dc:creator>JUAN CARLOS SEGURA DOMENE</dc:creator>
  <dc:description/>
  <dc:language>en-US</dc:language>
  <cp:lastModifiedBy>JUAN CARLOS SEGURA DOMENE</cp:lastModifiedBy>
  <dcterms:modified xsi:type="dcterms:W3CDTF">2010-11-30T13:56:39Z</dcterms:modified>
  <cp:revision>1</cp:revision>
  <dc:subject/>
  <dc:title>CÚMULO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7</vt:r8>
  </property>
</Properties>
</file>