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B834-1B15-42DB-95E0-FB9A191D7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6EE2-A869-417A-8B57-6AC3C90F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923-0DC2-4F49-BF43-DE41A4A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6DD-AF71-4833-8FFC-F84AD66D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7BF-FEFE-4938-A588-F4C0D9C9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900-90A8-4433-BFBE-282523EF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5A16-A714-47FD-A903-E468B948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3DBE-A47B-4F6F-877F-E07A5053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03EC-55FE-460E-BE27-13799D9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E842-6732-492B-878F-4385CAC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21B4-3EDF-408E-BB65-2D98D6E1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78E-B6E3-4CF7-BA60-932EB69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A5E3-716F-4CA1-ACFA-420478F4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E8D-B859-49E7-AED0-37DF0E35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63A-10F2-4A23-96D1-D8B9A52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8ACF-EC13-450F-AEA5-65F1CF5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2991-2AE5-417B-AB17-BD737C90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F0BE-19B8-4399-ADB1-2A5EB18A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A46D-BFD4-4A31-8CBD-A4A2F367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5F3-979F-4A03-89CC-B77DDEEC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7FC-3B66-446E-B220-9D84516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BD4-DE43-4410-9E78-4951697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FF4-E33F-43D7-AC64-F840D48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A0D-33DA-4E7C-8455-C1DF208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2C6-3289-4B23-A311-7B331E9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46B-E9B2-47FB-A4FC-8F4E808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9060-0DD2-4434-9D7B-A4334FE52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3755-5965-4DEC-921C-048AC0F04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Assessing Critical Thinking and Effective Communication across the General Education Curriculum:  Best Practices and Next Steps</a:t>
            </a:r>
            <a:br>
              <a:rPr sz="41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356688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C&amp;U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leans, February 2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Van Bramer, Janine Utell, Karen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ner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roduction – 1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ott Van Bramer – Chemis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nine Utell – Englis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aren Rose – Psych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veloping Criteria – 2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itical thinking definitions – hando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termine crit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evidence of critical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common expec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y to student pap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ing Your Criteri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iteria – what did you look f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essment findings  - how did they 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mmendations – to improve outco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review – was this usefu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n for return – what will you do ne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ing Criteria – 3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 paper #1 and assess – 10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 paper #2 and assess – 5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uss 2 papers with partner – 10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uss 4 papers with team – 5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porting out – 2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iteria – what did you look f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essment findings  - how did they 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mmendations – to improve outco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review – was this usefu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n for return – what will you do ne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Your Take Home Messa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ur Take Home Messa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-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3:17:31Z</dcterms:created>
  <dc:creator>Scott Van Bramer</dc:creator>
  <dc:description/>
  <dc:language>en-US</dc:language>
  <cp:lastModifiedBy>Van Bramer</cp:lastModifiedBy>
  <dcterms:modified xsi:type="dcterms:W3CDTF">2012-03-01T15:01:25Z</dcterms:modified>
  <cp:revision>68</cp:revision>
  <dc:subject/>
  <dc:title>Instrumental Analysis Chem 366</dc:title>
</cp:coreProperties>
</file>