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9F94-FDB7-4C4B-B7DA-0EA639A52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8BFB-4BC4-4498-80F6-05390AFD3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E37-CE9C-462A-9E5E-406383B0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5B0-90AC-44BB-9380-EA1EAF86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E83-E04C-4C95-BB32-92FAF420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141-6B45-4E55-8EF9-B53D731E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04CB-6E2D-41C6-BADC-E74E33F6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2D2E-1816-4D8B-81C1-A2BABC39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E2D8-F3BA-421E-9F5D-90078077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5796-0679-4A65-BE83-4194CC3C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BA4C-379F-4585-9B25-78B25DA8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5FB0-E223-4C12-AD2B-ECF198E5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1975-B691-49E4-9A67-EC524857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8AB-F709-4AD4-A06D-DA74A36E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323C-627F-42EA-AB53-B3A0F084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CC02-CD3E-4C54-8D2C-F098F7EE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BEAD-E70C-464D-B7DC-4F5568A5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0611-4AC5-49A1-956B-89E12056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FBB2-A158-48C7-92E8-75EE2D99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1DE-ED63-4BF3-84A5-E8F1751E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F90-5B0D-41FB-B9FD-8693B09D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D70-4A99-4EE1-9A50-B357FBE2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E1B-41DC-407A-AA1A-C67D8663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007-AE2B-4C0D-BAB6-D21FD2E0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444-7B4B-4293-BC90-235FD678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C93-A24D-4F65-BF40-851CCFFD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svanbram@science.wid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A4C9-E3AD-42CC-96DF-0854909BD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svanbram@science.wid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7152-9822-478C-A6AB-0A6232D5F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vanbram@science.widener.edu" TargetMode="External"/><Relationship Id="rId2" Type="http://schemas.openxmlformats.org/officeDocument/2006/relationships/hyperlink" Target="mailto:jmutell@widener.ed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vanbram@science.widener.edu" TargetMode="External"/><Relationship Id="rId2" Type="http://schemas.openxmlformats.org/officeDocument/2006/relationships/hyperlink" Target="mailto:jmutell@widener.ed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svanbram@science.widener.edu" TargetMode="External"/><Relationship Id="rId2" Type="http://schemas.openxmlformats.org/officeDocument/2006/relationships/hyperlink" Target="mailto:jmutell@widener.edu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vanbram@science.widener.edu" TargetMode="External"/><Relationship Id="rId2" Type="http://schemas.openxmlformats.org/officeDocument/2006/relationships/hyperlink" Target="mailto:jmutell@widener.edu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66"/>
                </a:solidFill>
                <a:latin typeface="Arial Black"/>
              </a:rPr>
              <a:t>Assessing Critical Thinking and Effective Communication across the General Education Curriculum:  Best Practices and Next Steps</a:t>
            </a:r>
            <a:br>
              <a:rPr sz="41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95280" y="356688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C&amp;U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rleans, February 24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Van Bramer, Janine Utell, Karen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ner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vanbram@science.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 J.M. Utell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troduction – 10 mi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ott Van Bramer – Chemis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anine Utell – Englis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aren Rose – Psych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vanbram@science.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 J.M. Utell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veloping Criteria – 20 mi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itical thinking definitions – handou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termine criter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evidence of critical th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common expec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ly to student pap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vanbram@science.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 J.M. Utell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sing Your Criteri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iteria – what did you look f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essment findings  - how did they 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commendations – to improve outcom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cess review – was this usefu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lan for return – what will you do nex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vanbram@science.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 J.M. Utell, </a:t>
            </a:r>
            <a:r>
              <a:rPr b="0" lang="en-US" sz="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sing Criteria – 30 mi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d paper #1 and assess – 10 m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d paper #2 and assess – 5 m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cuss 2 papers with partner – 10 m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cuss 4 papers with team – 5 m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svanbram@science.widener.edu ; J.M. Utell,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porting out – 20 mi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iteria – what did you look f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essment findings  - how did they 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commendations – to improve outcom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cess review – was this usefu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lan for return – what will you do nex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svanbram@science.widener.edu ; J.M. Utell,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Your Take Home Messag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svanbram@science.widener.edu ; J.M. Utell,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ur Take Home Messag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-dr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discipl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-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152280" y="639144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ing Critical Thinking and Effective Communication across the General Education Curriculum:  Best Practices and Next Steps at AAC&amp;U General Education and Assessment: New Contexts, New Cultures, February 2012.  S.E. Van Bramer, svanbram@science.widener.edu ; J.M. Utell,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mutell@widener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K.C. Rose, kcrose@widener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3:17:31Z</dcterms:created>
  <dc:creator>Scott Van Bramer</dc:creator>
  <dc:description/>
  <dc:language>en-US</dc:language>
  <cp:lastModifiedBy>Van Bramer</cp:lastModifiedBy>
  <dcterms:modified xsi:type="dcterms:W3CDTF">2012-03-01T15:01:25Z</dcterms:modified>
  <cp:revision>68</cp:revision>
  <dc:subject/>
  <dc:title>Instrumental Analysis Chem 366</dc:title>
</cp:coreProperties>
</file>