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055-255F-4C2C-8347-0F9CE0E0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3A8-5BF5-465E-B0DD-AEC431FF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1B9-F872-4CBD-BDBC-953C1289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BD9-873B-425F-8769-9B101AD0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02C-1B00-40A8-9F9A-69A6CFD8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E59-CD79-400E-A2D0-DC4328D8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ECE-9CD4-4DD8-A48B-BC6D9A04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3A9-F681-479B-AB3C-8165D24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176-7E57-436F-8B82-F3999EAE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217-FC4A-4D19-89F4-714AFED0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C7B-5649-43D1-B5AF-C051868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8EB-2773-4955-A1C1-B2470A5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6155-F43A-4D52-B37F-B1CA3B3DA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omic Sans MS"/>
              </a:rPr>
              <a:t>Letture di brani, poesie, canz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59:48Z</dcterms:created>
  <dc:creator>savini</dc:creator>
  <dc:description/>
  <dc:language>en-US</dc:language>
  <cp:lastModifiedBy>savini</cp:lastModifiedBy>
  <dcterms:modified xsi:type="dcterms:W3CDTF">2004-09-15T01:02:54Z</dcterms:modified>
  <cp:revision>1</cp:revision>
  <dc:subject/>
  <dc:title>Letture di brani, poesie, canzoni</dc:title>
</cp:coreProperties>
</file>