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76F9-8578-4198-9285-13CC0C95D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12D9-FADE-4226-B303-021E0FCB0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CA99-6A78-4214-9E4D-2051C53B6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884B-5F57-4C01-A1B4-0545366E3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D99B-2189-4DCD-A905-BBFB4C26F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3000-A0E1-4810-B4C3-B55CAA030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B6C0-326E-45EC-AE43-630DDCB6B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8609-7CFA-48F6-B9C9-6DEF65B70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A8AA-F5E0-40F4-A7D4-CD3734F90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827C-DEC7-4E3E-BDA3-5865C4A46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7778-1459-4E82-928F-2158C59F1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C21A-583C-4DFD-8C4E-5C140E9E9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189B1-4279-47DD-AFCE-468C324CAB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ccff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33"/>
                </a:solidFill>
                <a:latin typeface="Comic Sans MS"/>
              </a:rPr>
              <a:t>Letture di brani, poesie, canzon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3T04:59:48Z</dcterms:created>
  <dc:creator>savini</dc:creator>
  <dc:description/>
  <dc:language>en-US</dc:language>
  <cp:lastModifiedBy>savini</cp:lastModifiedBy>
  <dcterms:modified xsi:type="dcterms:W3CDTF">2004-09-15T01:02:54Z</dcterms:modified>
  <cp:revision>1</cp:revision>
  <dc:subject/>
  <dc:title>Letture di brani, poesie, canzoni</dc:title>
</cp:coreProperties>
</file>