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522F-70C4-420B-B3E1-338A02DF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FD87-5F12-4AA2-96A6-52E0149A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D171-5664-4111-8CAE-6D0DA7C46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B02E-3D0C-4D57-B86D-8C50FC54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E784-C704-425F-89AB-34019635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EE5-D4ED-4DFA-8887-7F0862B0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E1F4-CD03-4464-BC48-7FAAF78C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77BC-F9EA-4AD6-BCA3-40F5D017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DB0C-6EBB-46AC-B94A-9D60B360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4DD6-9291-46BC-80B7-E7AD50B0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AF1D-A631-4157-A98D-F7CD88C0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D224-2522-49AD-92EE-70B07478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9F91-55CD-4D03-AF74-AD6EC47A4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cc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omic Sans MS"/>
              </a:rPr>
              <a:t>Letture di brani, poesie, canzo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4:59:48Z</dcterms:created>
  <dc:creator>savini</dc:creator>
  <dc:description/>
  <dc:language>en-US</dc:language>
  <cp:lastModifiedBy>savini</cp:lastModifiedBy>
  <dcterms:modified xsi:type="dcterms:W3CDTF">2004-09-15T01:02:54Z</dcterms:modified>
  <cp:revision>1</cp:revision>
  <dc:subject/>
  <dc:title>Letture di brani, poesie, canzoni</dc:title>
</cp:coreProperties>
</file>