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603-6878-49AF-9519-19761B02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0BD-4FB1-488A-8E9F-0E0632F5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8F5-2272-4E03-B6B5-B4006457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DCD-0016-4A5E-B1CC-DE9B3C05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F8A-F64E-42F6-82B1-7BB4BDE8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8BC-8BBD-4CF9-B9DB-A92BB2C4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46D-F5B2-482D-BF2F-FA63D187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8B2-086A-413D-9C55-63B9324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E30-383A-4CE2-B352-3FFA2FE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1F5-CF3D-47C0-8C4E-89560EEE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8E1-41CD-4927-A130-83AB8F5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3A6-8FEF-4B45-B0BC-6010363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0B2-91D6-4A13-AAFF-64702C8F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Visione e commento della videocassetta</a:t>
            </a:r>
            <a:br>
              <a:rPr sz="4400"/>
            </a:b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br>
              <a:rPr sz="4400"/>
            </a:br>
            <a:r>
              <a:rPr b="1" lang="it-IT" sz="4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“La vita umana:prima meraviglia”</a:t>
            </a:r>
            <a:br>
              <a:rPr sz="4400"/>
            </a:br>
            <a:r>
              <a:rPr b="1" lang="it-IT" sz="4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 </a:t>
            </a:r>
            <a:br>
              <a:rPr sz="4400"/>
            </a:b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sulle origini e sviluppo della vita pre-na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7315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27:29Z</dcterms:created>
  <dc:creator>savini</dc:creator>
  <dc:description/>
  <dc:language>en-US</dc:language>
  <cp:lastModifiedBy>savini</cp:lastModifiedBy>
  <dcterms:modified xsi:type="dcterms:W3CDTF">2004-10-21T02:27:42Z</dcterms:modified>
  <cp:revision>1</cp:revision>
  <dc:subject/>
  <dc:title>  Visione e commento della videocassetta       “La vita umana:prima meraviglia”   sulle origini e sviluppo della vita pre-natale</dc:title>
</cp:coreProperties>
</file>