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2FEC-BC7D-4826-82E6-7C6E31FD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32B7-6124-436E-B4EF-E8D91BE2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74A3-A710-4358-B685-918EB81C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7CCE-D263-42A8-A5CC-4C12AC7E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8C2C-4AC4-4759-8457-AE892139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F1AD-5BD4-401B-9696-9EA460A4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151D-A0B2-4FEB-B9FB-20FFEC29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7968-FB78-405A-AF38-6AD4C9EA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5D6D-4CC7-498E-9BD4-37EB23C1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1016-911C-460A-A787-D9458979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B8C0-48E7-4764-8970-4487D97D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FF16-B752-4822-BE52-182BB119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2E75-165A-4AE3-8ADD-FE975BAED0A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ccff"/>
                </a:solidFill>
                <a:latin typeface="Times New Roman"/>
              </a:rPr>
              <a:t>Grandi domand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Che senso ha vive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Cosa ci sto a fare al mond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Perché il dolo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23:14:00Z</dcterms:created>
  <dc:creator>savini</dc:creator>
  <dc:description/>
  <dc:language>en-US</dc:language>
  <cp:lastModifiedBy>savini</cp:lastModifiedBy>
  <dcterms:modified xsi:type="dcterms:W3CDTF">2005-01-31T20:34:08Z</dcterms:modified>
  <cp:revision>2</cp:revision>
  <dc:subject/>
  <dc:title>Grandi domande</dc:title>
</cp:coreProperties>
</file>