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948-6416-41CC-816E-5A2C9521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84E-BF4C-4BB1-BBDD-6955C27B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7FB-A676-4B75-8795-6305BABA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5C9-B035-4D92-8B5B-BAAA94E4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E10-4C28-4F68-BC63-01C2BCAB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269-6060-49BA-96D7-B7180352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8DF-517A-4357-8D1D-99034669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142-9DB1-4394-9D81-3A77805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368-6435-4420-9AC8-A0C82152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401-B570-400C-94D4-B83B659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A8B-8FBA-48AD-A721-AE48674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D44-51E1-4E35-8DA5-A1A85DF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D79E-24B0-43A3-A3BD-F4D224DEB9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ff"/>
                </a:solidFill>
                <a:latin typeface="Times New Roman"/>
              </a:rPr>
              <a:t>Grandi doma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he senso ha viv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osa ci sto a fare al mond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Perché il dol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3:14:00Z</dcterms:created>
  <dc:creator>savini</dc:creator>
  <dc:description/>
  <dc:language>en-US</dc:language>
  <cp:lastModifiedBy>savini</cp:lastModifiedBy>
  <dcterms:modified xsi:type="dcterms:W3CDTF">2005-01-31T20:34:08Z</dcterms:modified>
  <cp:revision>2</cp:revision>
  <dc:subject/>
  <dc:title>Grandi domande</dc:title>
</cp:coreProperties>
</file>