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117-74B6-4929-913A-C5C0A615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A20E-B7C0-4037-B2FB-770ED2B3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EE9-02E1-47AA-9C95-E39262DA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C0D-E08E-44E5-BFB7-4F9CC804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374E-DA37-4424-84D2-54D5A67D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EA3-7340-476B-B106-8CBA9415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E2BE-8FCF-41B4-B4F2-6DAEFAFA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6B0E-39E1-4EFA-9E90-FF4410A0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E0E-BAD9-48A8-85E2-3A77C4C3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4DA-A285-4A91-8A51-1769F3F7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B75-4065-4D84-A5BE-0EDDBCF1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C34E-B43E-4167-9A96-34BD79A5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0E3A-9A78-4924-991B-0D151B81770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ccff"/>
                </a:solidFill>
                <a:latin typeface="Times New Roman"/>
              </a:rPr>
              <a:t>Grandi doman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Che senso ha viv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Cosa ci sto a fare al mond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Perché il dolo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23:14:00Z</dcterms:created>
  <dc:creator>savini</dc:creator>
  <dc:description/>
  <dc:language>en-US</dc:language>
  <cp:lastModifiedBy>savini</cp:lastModifiedBy>
  <dcterms:modified xsi:type="dcterms:W3CDTF">2005-01-31T20:34:08Z</dcterms:modified>
  <cp:revision>2</cp:revision>
  <dc:subject/>
  <dc:title>Grandi domande</dc:title>
</cp:coreProperties>
</file>