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D8C-1882-4827-B59D-85E1C684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AAD-5693-422D-B658-0ECB1E14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94C-1A84-4A00-929E-6C4268F2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7FE-B331-4F74-BC27-38EFB5DD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5F3-A946-45E6-8923-120B4A52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371-18B7-48F7-AA83-51E8F9B3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C04D-A482-4D86-98DC-CEE1E874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892-AD96-4840-8B6C-B2148B23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008-7016-460D-8502-E109A0DD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492-65E6-41FD-88B0-716FC8C9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AA2-8C7F-4DC0-B09F-7CF0ACC4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A83-FE26-41C5-9894-3489D5A0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9C1B-6B24-49AC-800E-3FB5917FE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Testimonianza di una coppia di sp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5:20:34Z</dcterms:created>
  <dc:creator>savini</dc:creator>
  <dc:description/>
  <dc:language>en-US</dc:language>
  <cp:lastModifiedBy>savini</cp:lastModifiedBy>
  <dcterms:modified xsi:type="dcterms:W3CDTF">2004-09-15T03:43:24Z</dcterms:modified>
  <cp:revision>1</cp:revision>
  <dc:subject/>
  <dc:title>Testimonianza di una coppia di sposi</dc:title>
</cp:coreProperties>
</file>