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5D0-9B6D-44E5-8999-47100AE8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AEC-41BA-48A3-99C5-CB42A9A9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294-01C4-4D61-B864-5604080B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73F-1DE6-4F8E-B89F-BC78B1B2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81C-417D-4A41-9159-8211841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281-6737-43BD-8E05-8254C5F9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5D8-FDE1-4E7E-8276-2420428A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30C-DC52-442A-8075-95A96881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B2E-55B6-4A96-8E45-6A3FDA25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80C-F5E2-4D78-B9B3-B02048AB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1AF-F5FE-42BB-ACB4-594E6F0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03B-8C42-4528-9A76-017E443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22DB-17A0-47CC-A40F-87C414377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Testimonianza di una coppia di sp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5:20:34Z</dcterms:created>
  <dc:creator>savini</dc:creator>
  <dc:description/>
  <dc:language>en-US</dc:language>
  <cp:lastModifiedBy>savini</cp:lastModifiedBy>
  <dcterms:modified xsi:type="dcterms:W3CDTF">2004-09-15T03:43:24Z</dcterms:modified>
  <cp:revision>1</cp:revision>
  <dc:subject/>
  <dc:title>Testimonianza di una coppia di sposi</dc:title>
</cp:coreProperties>
</file>