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A1DB-8DD8-490E-BD66-73F57F78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9D5-1DE7-4F33-9998-F380E306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2D8-7B91-4328-9091-7C403282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593-3287-4D11-912B-526A9688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D01-2D16-4F0D-A2F1-E7E2B4B4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2BC-046D-4BAC-91C5-C33FCC0E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564-6B3E-44E8-ACDA-3C8451C1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AA3-C7F4-4F0C-8FB4-F0FFED4C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4B7-C264-4D07-8766-614E0C06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6A3-C4F3-4760-B2C1-DE065BF9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89B-C32C-4E50-8624-58FB5681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ED6-4DD5-4E7F-8C49-17F40A4F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B752-A213-49E9-8EDA-C11D1F6EC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Testimonianza di una coppia di sp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5:20:34Z</dcterms:created>
  <dc:creator>savini</dc:creator>
  <dc:description/>
  <dc:language>en-US</dc:language>
  <cp:lastModifiedBy>savini</cp:lastModifiedBy>
  <dcterms:modified xsi:type="dcterms:W3CDTF">2004-09-15T03:43:24Z</dcterms:modified>
  <cp:revision>1</cp:revision>
  <dc:subject/>
  <dc:title>Testimonianza di una coppia di sposi</dc:title>
</cp:coreProperties>
</file>