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75D-E6CE-4F12-BEE6-00534DE0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DF8-2410-4821-8A48-6E4B25E3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B77-F72C-4EAD-85EA-1EE17DB7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FB5-568C-487A-A603-7C16ECB5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3D2-B1CA-4EB7-B029-8609FC14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6DF-FD9E-44E7-9117-DDF9D07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1B6-056E-45CF-9DDB-9AC590A7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D85-1E0D-4DCC-BF76-3D1CE273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043-37DC-4D25-BE57-5A8D2DBA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81E-90A7-4696-AFE6-E40A8D8C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BEB-EBF8-4160-8F53-55EA97F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988-063A-4A69-AC14-6964EA0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6D7-F035-4B81-9853-E687B2BAA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066680"/>
            <a:ext cx="78868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ttura introduttiva di test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he affrontano problematiche adolescenzial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.Frank "Le due Anne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.Ginsburg 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1052640"/>
            <a:ext cx="7886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Visione del film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"Gli anni in tasca"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 F. Truffaut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182880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lementi di psicologia evolutiva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(dott Adele Tellarini)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1:12:40Z</dcterms:created>
  <dc:creator>savini</dc:creator>
  <dc:description/>
  <dc:language>en-US</dc:language>
  <cp:lastModifiedBy>donata</cp:lastModifiedBy>
  <dcterms:modified xsi:type="dcterms:W3CDTF">2007-10-01T19:47:46Z</dcterms:modified>
  <cp:revision>4</cp:revision>
  <dc:subject/>
  <dc:title>Presentazione di PowerPoint</dc:title>
</cp:coreProperties>
</file>