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F45-352E-4284-AFAB-8476A0F3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8C9C-BAF6-42A6-8196-BE8110FB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47C-0861-426A-AE91-39E61DEF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EDA-E7DF-4A97-91F6-01E8510C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B2DB-9783-4D2B-98A0-8CF1FAE0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773-6A44-438C-87A9-C38D65C2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236-5606-426A-84A6-8DC3947D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6434-D713-470F-863F-735BA274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D20D-7285-48D2-A120-C78AC7D6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CA98-297A-429C-96E4-DF5F08D7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A37-F948-4551-8887-3AACD927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32EF-5645-407D-80EB-0AC6AF9F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72E8-20B7-43FA-90EA-5D9F29CD3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066680"/>
            <a:ext cx="788688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ettura introduttiva di testi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che affrontano problematiche adolescenziali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A.Frank "Le due Anne"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N.Ginsburg "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4360" y="1052640"/>
            <a:ext cx="78865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>
                        <a:alpha val="48235"/>
                      </a:srgbClr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Visione del film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>
                      <a:alpha val="48235"/>
                    </a:srgbClr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>
                        <a:alpha val="48235"/>
                      </a:srgbClr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"Gli anni in tasca"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>
                      <a:alpha val="48235"/>
                    </a:srgbClr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>
                        <a:alpha val="48235"/>
                      </a:srgbClr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i F. Truffaut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>
                      <a:alpha val="48235"/>
                    </a:srgbClr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880" y="1828800"/>
            <a:ext cx="8458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Elementi di psicologia evolutiva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(dott Adele Tellarini)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01:12:40Z</dcterms:created>
  <dc:creator>savini</dc:creator>
  <dc:description/>
  <dc:language>en-US</dc:language>
  <cp:lastModifiedBy>donata</cp:lastModifiedBy>
  <dcterms:modified xsi:type="dcterms:W3CDTF">2007-10-01T19:47:46Z</dcterms:modified>
  <cp:revision>4</cp:revision>
  <dc:subject/>
  <dc:title>Presentazione di PowerPoint</dc:title>
</cp:coreProperties>
</file>