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253-58C8-4B6C-A114-9F08CB1E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B4A-588F-4AC4-8B51-53B67D18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6D4-1470-4BCA-93FA-7FAE0387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643-3BFC-488F-BEF3-3383F31C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937-D6B3-47A2-86DE-998A5702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DA4-A766-4094-BDB9-3F2DE0E6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FD4-2949-455F-A6AA-94923DBE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FC9-020E-4DD5-A7D7-627FBC4B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D32-EF85-41A4-8A12-4C0AC9D9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A11-E000-4837-8DE2-A9E2B111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C5D-DD78-471D-999F-A85E0EEC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F01-7542-4DAC-88C7-23EE36F0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A83C-A589-4024-A99A-6519C1D10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066680"/>
            <a:ext cx="78868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ttura introduttiva di testi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che affrontano problematiche adolescenziali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.Frank "Le due Anne"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.Ginsburg "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4360" y="1052640"/>
            <a:ext cx="78865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Visione del film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"Gli anni in tasca"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i F. Truffaut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1828800"/>
            <a:ext cx="8458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Elementi di psicologia evolutiva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(dott Adele Tellarini)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1:12:40Z</dcterms:created>
  <dc:creator>savini</dc:creator>
  <dc:description/>
  <dc:language>en-US</dc:language>
  <cp:lastModifiedBy>donata</cp:lastModifiedBy>
  <dcterms:modified xsi:type="dcterms:W3CDTF">2007-10-01T19:47:46Z</dcterms:modified>
  <cp:revision>4</cp:revision>
  <dc:subject/>
  <dc:title>Presentazione di PowerPoint</dc:title>
</cp:coreProperties>
</file>