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944-5FF3-4AD3-91A9-89004B69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A5A-F75F-4FE8-AB63-93B29F25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B726-33F7-444E-9222-B58699D7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D04-34FA-4FEE-BC87-329BCC33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F17A-A007-4437-9687-328D5A93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F86-190E-493D-806C-9CD28CF8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F6C-5998-49C9-9817-34F27042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880-A4AB-431A-BAB7-CC0C77D4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B96-304D-4D63-B89D-43E3A4F0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EA38-8142-43B6-AA74-6407F02D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26C-0E0D-4F7B-ACAD-D4B1F02A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A82-539E-476E-911C-90B0F7F9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B7B8-3F7F-44CE-A3C0-03B4B17F3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066680"/>
            <a:ext cx="788688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ttura introduttiva di testi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che affrontano problematiche adolescenziali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A.Frank "Le due Anne"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N.Ginsburg "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4360" y="1052640"/>
            <a:ext cx="78865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48235"/>
                      </a:srgbClr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Visione del film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>
                      <a:alpha val="48235"/>
                    </a:srgbClr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48235"/>
                      </a:srgbClr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"Gli anni in tasca"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>
                      <a:alpha val="48235"/>
                    </a:srgbClr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48235"/>
                      </a:srgbClr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i F. Truffaut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>
                      <a:alpha val="48235"/>
                    </a:srgbClr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1828800"/>
            <a:ext cx="8458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Elementi di psicologia evolutiva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(dott Adele Tellarini)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01:12:40Z</dcterms:created>
  <dc:creator>savini</dc:creator>
  <dc:description/>
  <dc:language>en-US</dc:language>
  <cp:lastModifiedBy>donata</cp:lastModifiedBy>
  <dcterms:modified xsi:type="dcterms:W3CDTF">2007-10-01T19:47:27Z</dcterms:modified>
  <cp:revision>4</cp:revision>
  <dc:subject/>
  <dc:title>Presentazione di PowerPoint</dc:title>
</cp:coreProperties>
</file>