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E9E-3B09-43AF-A44F-51345BCB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E53-00E8-4D68-87ED-FEA34FB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C3F-A36D-44BC-A9EA-5AE65436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CDF-B457-466E-B05A-0C7ED351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E3A-77C9-40FF-AC4B-051E609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796-C1A8-4594-99FE-1750949E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22C-1788-43E3-8AAE-90DC2D9B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873-D152-4BA1-8A21-BCCDA72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2AB-9CB5-4CCF-917C-604EE24C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E14-C36C-4386-8466-75F766A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F55-54B0-4B94-8FB4-5BECD1E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FAF-9EEA-4B8D-A80A-880CCD7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EFC-A731-47F0-A6D9-29B1D4BB1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886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ttura introduttiva di test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he affrontano problematiche adolescenzial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.Frank "Le due Anne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.Ginsburg 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052640"/>
            <a:ext cx="7886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Visione del film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Gli anni in tasca"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 F. Truffaut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82880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lementi di psicologia evolutiva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(dott Adele Tellarini)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1:12:40Z</dcterms:created>
  <dc:creator>savini</dc:creator>
  <dc:description/>
  <dc:language>en-US</dc:language>
  <cp:lastModifiedBy>donata</cp:lastModifiedBy>
  <dcterms:modified xsi:type="dcterms:W3CDTF">2007-10-01T19:47:27Z</dcterms:modified>
  <cp:revision>4</cp:revision>
  <dc:subject/>
  <dc:title>Presentazione di PowerPoint</dc:title>
</cp:coreProperties>
</file>