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50A-DC03-46CD-BBC5-31DF0BD3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EF6-5EAF-452E-BD26-79CE37DD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281-EBAB-48D6-AB78-C4C5297E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E26-47AD-43A9-B043-17589733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C82-DC5A-4A27-8F6E-5B127449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310-B8E4-4A96-8E24-CFCFD98C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DFA-E09D-4339-B69A-2FE41C0D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0E5-11CE-4C6F-8641-563F9F59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D48-A097-4835-931F-C918730C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D03-0BFC-4B77-91E3-7BDEB7D2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AFB-30CB-4DDB-B14E-77ACEA44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E59-C59D-4392-9514-93031D7B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50E9-4993-4F65-A55E-8C0784BD4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066680"/>
            <a:ext cx="78868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ttura introduttiva di testi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che affrontano problematiche adolescenziali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A.Frank "Le due Anne"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N.Ginsburg "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4360" y="1052640"/>
            <a:ext cx="78865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Visione del film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"Gli anni in tasca"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i F. Truffaut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1828800"/>
            <a:ext cx="8458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Elementi di psicologia evolutiva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(dott Adele Tellarini)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01:12:40Z</dcterms:created>
  <dc:creator>savini</dc:creator>
  <dc:description/>
  <dc:language>en-US</dc:language>
  <cp:lastModifiedBy>donata</cp:lastModifiedBy>
  <dcterms:modified xsi:type="dcterms:W3CDTF">2007-10-01T19:47:27Z</dcterms:modified>
  <cp:revision>4</cp:revision>
  <dc:subject/>
  <dc:title>Presentazione di PowerPoint</dc:title>
</cp:coreProperties>
</file>