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872-3B52-4881-8238-B6366AD8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FA0A-B365-4EAA-BEDD-6AFB6AAF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84B1-3FF9-4379-A2B9-6FA433BC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9090-D364-467B-AA88-6F97AEC9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FFE-0606-401A-818B-BE6AE1EE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F0D7-03DA-4448-B9CF-52715B6E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3B1-14FC-438B-8590-45F88576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146-BFBB-4C4B-A801-7ED648E9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7FA-AAAC-4473-81C4-BAD62AAE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0F97-F7CB-4A68-8711-4A4049ED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A7F-C2F7-462D-941E-D1176BF9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113-751D-495A-8990-40D8ED06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1084-B825-42B5-AF9B-6065C607EC5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ccff"/>
                </a:solidFill>
                <a:latin typeface="Times New Roman"/>
              </a:rPr>
              <a:t>Grandi doman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Che senso ha viv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Cosa ci sto a fare al mond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Perché il dolo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23:14:00Z</dcterms:created>
  <dc:creator>savini</dc:creator>
  <dc:description/>
  <dc:language>en-US</dc:language>
  <cp:lastModifiedBy>savini</cp:lastModifiedBy>
  <dcterms:modified xsi:type="dcterms:W3CDTF">2005-01-31T20:34:08Z</dcterms:modified>
  <cp:revision>2</cp:revision>
  <dc:subject/>
  <dc:title>Grandi domande</dc:title>
</cp:coreProperties>
</file>