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8296-6D16-41DF-8902-A0E528D7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0CD4-D357-41AE-A297-3888576A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21FD-C766-49D6-85F1-456941D7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9D8F-830E-4FED-9997-B17EC2DC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A550-232A-4749-A438-6B062CB1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6C76-7A96-466C-8BA8-E9D69404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2774-1FDF-4CBE-8EC1-B8C91D7A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BEDA-C0E7-42F4-8B9D-653996BA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4FD0-3E41-452D-9B87-667915A3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4DFC-2A6E-44C2-90F4-8E47E909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D8DA-675C-4120-87D6-315A344D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0EE3-9136-4BA8-9601-CE8B2595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7966-1DDB-497D-B606-E37490E82DD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ccff"/>
                </a:solidFill>
                <a:latin typeface="Times New Roman"/>
              </a:rPr>
              <a:t>Grandi domand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Che senso ha vive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Cosa ci sto a fare al mond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Perché il dolo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23:14:00Z</dcterms:created>
  <dc:creator>savini</dc:creator>
  <dc:description/>
  <dc:language>en-US</dc:language>
  <cp:lastModifiedBy>savini</cp:lastModifiedBy>
  <dcterms:modified xsi:type="dcterms:W3CDTF">2005-01-31T20:34:08Z</dcterms:modified>
  <cp:revision>2</cp:revision>
  <dc:subject/>
  <dc:title>Grandi domande</dc:title>
</cp:coreProperties>
</file>