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CFE-73D2-41C9-A923-CCB2F7A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988-D9B6-443C-9B24-23D76915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6DF-22EC-4469-9A46-E3A3CE55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A31-4313-452A-B5FE-274634CF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054-5AEB-4F34-9D2A-FFF6076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1FF-F922-49AD-98C7-0711FD0C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03A-69C9-4C2B-BED8-82E9FAF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39F-7A61-43E1-8FF6-8E56C2AD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770-0DFA-4E68-A50C-235FED8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AAA-57B8-467E-AF4E-A697925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7C6-289A-4D33-9BD7-E139866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DD5-5E95-406A-A6BD-E104E896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431C-CF20-4E70-8EF5-7DF095982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Testimonianza di don Le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. e di suor Vilma Masci del nostro istit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31:59Z</dcterms:created>
  <dc:creator>savini</dc:creator>
  <dc:description/>
  <dc:language>en-US</dc:language>
  <cp:lastModifiedBy>savini</cp:lastModifiedBy>
  <dcterms:modified xsi:type="dcterms:W3CDTF">2004-10-21T02:29:14Z</dcterms:modified>
  <cp:revision>4</cp:revision>
  <dc:subject/>
  <dc:title>Testimonianza di don Leo e di una suora dell’istituto</dc:title>
</cp:coreProperties>
</file>