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FB5-280F-4BAB-A3C8-CDDF1EDC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157-C1FF-44B8-92A6-17AF509D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428-C661-4498-A49A-44F249C9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1DB-4E85-4EDF-A807-B22C4265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DFB-55A3-4BDC-99DF-AF6FEC0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A19-9D7D-44AA-829C-8E4CEDD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BB3-5287-4D25-918A-D3C1652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0FC-5304-4D7A-9FE6-2A40C512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2CF-5C0A-43BC-8DF2-C284763C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6C3-A708-438B-B704-ADCF994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807-0D30-4BAA-9EB4-73E8459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D8E-6BC5-4C6A-87E8-D4287F5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B07-8419-4142-AABA-7E02552F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Testimonianza di don Le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. e di suor Vilma Masci del nostro istit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31:59Z</dcterms:created>
  <dc:creator>savini</dc:creator>
  <dc:description/>
  <dc:language>en-US</dc:language>
  <cp:lastModifiedBy>savini</cp:lastModifiedBy>
  <dcterms:modified xsi:type="dcterms:W3CDTF">2004-10-21T02:29:14Z</dcterms:modified>
  <cp:revision>4</cp:revision>
  <dc:subject/>
  <dc:title>Testimonianza di don Leo e di una suora dell’istituto</dc:title>
</cp:coreProperties>
</file>