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EB1-0934-4698-8EFE-397972A4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E4A-51C3-49CC-AA56-0E3816CD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B04-97DA-4B2B-AB51-2AFCDD7E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F35-AC9D-48AA-A5D5-26BA8C5E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0D1-0EB6-4418-BB2A-A236D15A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E10-6A24-457C-BDB3-58402237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C54-6DC7-4785-9773-887DB329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61C-380E-4641-85DB-1FBE8FB3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FA1-9F87-4D3C-BFCE-0A50EE2D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967-225D-4834-9867-73BE9D9C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EFA-A225-441E-973C-7B6A21A7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04E-F490-4992-BE9C-81216BB5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3E6C-A496-4A95-87AC-E04A8B356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Testimonianza di don Le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. e di suor Vilma Masci del nostro istitu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5:31:59Z</dcterms:created>
  <dc:creator>savini</dc:creator>
  <dc:description/>
  <dc:language>en-US</dc:language>
  <cp:lastModifiedBy>savini</cp:lastModifiedBy>
  <dcterms:modified xsi:type="dcterms:W3CDTF">2004-10-21T02:29:14Z</dcterms:modified>
  <cp:revision>4</cp:revision>
  <dc:subject/>
  <dc:title>Testimonianza di don Leo e di una suora dell’istituto</dc:title>
</cp:coreProperties>
</file>