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2B8-102B-4221-AB3F-03C9308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887-0667-4064-9DAC-A12633A8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98F-A5BC-4819-9AF9-1E711A8E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B43-37B3-4E76-81E1-EF261AE7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E23-DE2F-433A-948E-678E609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984-2D35-4D41-9B01-505C434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C05-2D68-4BDE-9D92-BFB56D43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83B-2A58-4ABF-A396-35CDCB36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365-ADC4-4729-8A16-41C74BA5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016-A6E8-4964-A41A-085934C6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973-5CE0-4A4B-AE34-80E09A5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14F-2A9A-4471-BDF1-7BE4002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703-34A1-4C7C-B842-BE0013F91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ff33"/>
                </a:solidFill>
                <a:latin typeface="Comic Sans MS"/>
              </a:rPr>
              <a:t>Letture di t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0:55:24Z</dcterms:created>
  <dc:creator>savini</dc:creator>
  <dc:description/>
  <dc:language>en-US</dc:language>
  <cp:lastModifiedBy>savini</cp:lastModifiedBy>
  <dcterms:modified xsi:type="dcterms:W3CDTF">2004-09-15T01:21:16Z</dcterms:modified>
  <cp:revision>1</cp:revision>
  <dc:subject/>
  <dc:title>Letture di testi</dc:title>
</cp:coreProperties>
</file>