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265-37FF-4997-AF38-B498423D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3CD-336D-4300-AA8E-E31B05C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4A6-5A52-41B2-861A-497F03EC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4E0-0A8B-438C-B68F-23815796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D89-D56C-4C58-9C37-B90F484E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DEC-9DAD-40B6-8BC3-6A98BD20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455-DD15-4211-80F6-54F3B580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2A5-1676-424B-993B-31E7EA4C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A95-268C-4A36-8174-D478CB4E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B1A-B6F4-44EF-A41A-0FCF8FC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78C-43B7-4D1B-9363-5ECF3B32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E8E-90AB-402C-B0EB-5B8D2D1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5484-7008-49C2-BDBC-F897A4827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ff33"/>
                </a:solidFill>
                <a:latin typeface="Comic Sans MS"/>
              </a:rPr>
              <a:t>Letture di t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0:55:24Z</dcterms:created>
  <dc:creator>savini</dc:creator>
  <dc:description/>
  <dc:language>en-US</dc:language>
  <cp:lastModifiedBy>savini</cp:lastModifiedBy>
  <dcterms:modified xsi:type="dcterms:W3CDTF">2004-09-15T01:21:16Z</dcterms:modified>
  <cp:revision>1</cp:revision>
  <dc:subject/>
  <dc:title>Letture di testi</dc:title>
</cp:coreProperties>
</file>