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B5E-5684-4084-A86E-6614884B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AB0-73F7-4032-B8EA-C352FC38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4DD-2174-4F2B-A171-1B9D2FF0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EA0-5AA2-4BA9-A890-1809F400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334-3282-4110-B466-73909A60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606-CF45-4DF5-A5E2-A2328093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4CF-C94F-4392-AD9A-F436B468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647-61D7-488B-BECB-977C8F41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72E-F82E-4151-9D54-66386D99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D40-8A18-472F-AF71-8928C3FD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EF6-EDFB-4BCE-B8AD-3F0C4794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DFF-16DE-4201-86A3-9F5D78BD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BFB8-9BF4-4DF7-A8C7-362A1E607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ff33"/>
                </a:solidFill>
                <a:latin typeface="Comic Sans MS"/>
              </a:rPr>
              <a:t>Letture di t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0:55:24Z</dcterms:created>
  <dc:creator>savini</dc:creator>
  <dc:description/>
  <dc:language>en-US</dc:language>
  <cp:lastModifiedBy>savini</cp:lastModifiedBy>
  <dcterms:modified xsi:type="dcterms:W3CDTF">2004-09-15T01:21:16Z</dcterms:modified>
  <cp:revision>1</cp:revision>
  <dc:subject/>
  <dc:title>Letture di testi</dc:title>
</cp:coreProperties>
</file>