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943600" y="6340320"/>
            <a:ext cx="251460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Education Discussions at Widener;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st 1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ene Lieb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Van Br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lanta 9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“general education” mean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hould it en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it, what are students mi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Bridg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dge Week 2005 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Education: A Conversation among Collea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define general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general education en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students be missing?  Or, why bother?  (note:  we didn’t really get to this – conversation turned to 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er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Bridge Week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 “Core Valu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K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er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1752480"/>
            <a:ext cx="7391160" cy="4496040"/>
            <a:chOff x="990720" y="1752480"/>
            <a:chExt cx="7391160" cy="44960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16667" t="14815" r="18627" b="20372"/>
            <a:stretch/>
          </p:blipFill>
          <p:spPr>
            <a:xfrm>
              <a:off x="990720" y="1752480"/>
              <a:ext cx="73911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990720" y="1752480"/>
              <a:ext cx="73911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ll 200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Education Network (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ize Bridge Wee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C&amp;U “Liberal Educ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ACU Liber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eral edu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A philosophy of education that empowers individuals, liberates the mind from ignorance, and cultivates social responsibility. Characterized by challenging encounters with important issues, and more a way of studying than specific content, liberal education can occur at all types of colleges and universities. "General Education" (cf. below) and an expectation of in-depth study in at least one field normally comprise liberal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eral a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pecific disciplines (the humanities, social sciences, and sci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ACU Gener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Edu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The part of a liberal education curriculum shared by all students. It provides broad exposure to multiple disciplines and forms the basis for developing important intellectual and civic 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ward to Faculty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ulty Council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ulty Council Academic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Education Tas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&amp;S Academic Assessment and General Education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ather information and make recommendations to the College Faculty for general education assessment and evaluation efforts that pertain to the College of Arts and Scienc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ather information about and make recommendations to the College Faculty on pedagogical issues, experiential learning, and educational philosoph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t as the College’s  principal liaison with other Committees with similar charges in other Schools, Colleges, the University, and with the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s and Colleges formed -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Requirement -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&amp;S general education requirement - 19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lanta, February 2005</a:t>
            </a:r>
            <a:br>
              <a:rPr sz="4400"/>
            </a:b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Education and Assessment: Creating Shared Responsibility for Learning Across th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ion of American Colleges &amp; Universities (AA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dener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 Markowitz (Acting D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cia Dyer (Co-facilit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ene Lieberman (Co-facilit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hel Batch (Huma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ine Utell (Huma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Adams (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tt Van Bramer (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en Rose (Social 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s Vike (Social 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e of the Confer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ggy L. Maki “Assessment as Catalyst to Deepen Student Lear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ring the Quality of Education: Accreditors and Institutions Working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ra Humphreys (AAC&amp;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hryn Aberle (ABE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O. Dwyer  (sacsc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P. Nichols (NEH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rry Gaff (AAC&amp;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matic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s of 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Student Gains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ement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Ownership and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e Home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campus buy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 to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 reform is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 not a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 and GE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studen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e goals an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e learn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turn from At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 2005 – Atlanta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ge Week 2005 – Campus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 2005 – Bridge Week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05 – General Edu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 2006 - A&amp;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9:18:26Z</dcterms:created>
  <dc:creator>Debbie</dc:creator>
  <dc:description/>
  <dc:language>en-US</dc:language>
  <cp:lastModifiedBy>Widener University</cp:lastModifiedBy>
  <dcterms:modified xsi:type="dcterms:W3CDTF">2006-04-17T19:01:47Z</dcterms:modified>
  <cp:revision>6</cp:revision>
  <dc:subject/>
  <dc:title>Click to add a title</dc:title>
</cp:coreProperties>
</file>