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6D3E5-17A4-40E7-A4A6-EB8BE69013E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3D3-C977-4F28-8491-D136323B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A1C-A81A-4EA9-9896-D5F054E9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0B7-E484-4E90-AF9E-ADE36829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51E-3F2D-439D-A33B-CEAB43FD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7F9-1160-4F30-9FAD-55F8E42B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B5D-C59D-4C30-940C-DD92AB80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D48-3DBF-4628-AFDC-A9CCDAC9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9B51-1268-4458-B995-197446CB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9D4-7477-4F2D-90D4-930B5572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DA8-64C8-47B7-8F4B-DE928864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9E5-0661-46AF-8610-BEB26C46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A6D-9B37-4D57-99E8-E77E0FDF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57B41-0844-4517-BF8A-C85F156CD198}" type="slidenum"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900000"/>
            <a:ext cx="7920000" cy="2138400"/>
          </a:xfrm>
          <a:prstGeom prst="rect">
            <a:avLst/>
          </a:prstGeom>
          <a:solidFill>
            <a:srgbClr val="00cc99"/>
          </a:solidFill>
          <a:ln cap="sq"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“cicli” e i r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cl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la bicicl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nte la sua lunga storia la bicicletta ha avuto diverse fortune:  a  volte è stata  dimenticata, altre volte è diventata un oggetto di moda. Quando si è diffusa l’automobile, la bici è stata accantonata perchè era lenta e pes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sso la bici è nuovamente  utilizzata perchè, a causa della  crisi, le persone non possono permettersi l’automobile che consuma tanta benzina. Inoltre adesso I cittadini  sono  molto più sensibili all’ambiente e tengono dei comportamenti molto più rispettosi verso la natura e usano l’auto solo  quando è strettamente necessario, ad esempio per andare al lavoro se non ci sono i mezzi  pubblici di traspor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11640" y="4067280"/>
            <a:ext cx="3241440" cy="1973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3280" y="1403280"/>
            <a:ext cx="8640720" cy="5184720"/>
          </a:xfrm>
          <a:prstGeom prst="rect">
            <a:avLst/>
          </a:prstGeom>
          <a:solidFill>
            <a:srgbClr val="ff0000"/>
          </a:solidFill>
          <a:ln cap="sq"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DALARE PER NECESSITA’ O PER PIAC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 mondo ci sono diverse tradizioni di uso della bici. In Cina e in India le persone impiegano la bici per necessità perché non hanno nessun altro mezzo di trasporto per muoversi. Mentre in America e in Australia la bici è diventata il simbolo di uno stile di vita sano e in armonia con l’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7640" y="3635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264360" y="3635280"/>
            <a:ext cx="265752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3280" y="5724360"/>
            <a:ext cx="2400120" cy="16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264360" y="5580000"/>
            <a:ext cx="252396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00000" y="539640"/>
            <a:ext cx="6480360" cy="2138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ischi per le bici sulle s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Italia, pur essendoci tanti appassionati della bicicletta, manca il rispetto verso  I ciclisti  perchè non si rispettano le regole  del codice della str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 sono tanti ostacoli all’ uso della bici in città: la mancanza di piste ciclabili, le strade un po’ rovinate e con tante  buche, la maleducazione degli automobili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questi  motivi tante persone rinunciano a prendere la bici  perchè non vogliono correre dei risch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gli ultimi anni però si stanno realizzando sempre più spazi  dedicati alle bi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92000" y="2843280"/>
            <a:ext cx="2314800" cy="1971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40360" y="277164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7000" y="28558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09:19:30Z</dcterms:created>
  <dc:creator/>
  <dc:description/>
  <dc:language>en-US</dc:language>
  <cp:lastModifiedBy>Alessio</cp:lastModifiedBy>
  <dcterms:modified xsi:type="dcterms:W3CDTF">2013-11-13T08:48:34Z</dcterms:modified>
  <cp:revision>6</cp:revision>
  <dc:subject/>
  <dc:title>Diapositiva 1</dc:title>
</cp:coreProperties>
</file>