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F3271-5FEA-40D9-B947-F7D1FD5E8C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C5066-779B-44E3-A0B3-6EA6EF60B8D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3055-951D-4D16-A868-3BCE7FC42B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6FB4-1784-42EC-B755-682D35AB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AC5A-2AE4-4F75-9F55-C14B6E24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DB99-70A0-4A9F-9DE8-A1581B2E3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F775-5A63-42D9-B30B-4F1C947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5624-781D-4E3F-86C2-3767A84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3A78-2C8E-4670-913C-932A7AC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32DF-8B62-4A85-B031-2E62A5E4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DFB9-4620-4119-A289-85812CDB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95F4-3DC8-48FA-98A7-687C81D6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060A-B7CF-498C-89A0-EC46DBB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DA03-25F0-470C-8F46-F07F454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20B59-67F4-4DA7-A308-34AE462CFC5B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alibri"/>
                <a:ea typeface="Microsoft YaHei"/>
              </a:rPr>
              <a:t>COME SI VA IN BICICLET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3214800"/>
            <a:ext cx="64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DOMANDE DI LEONARDO DA VINCI STAFFETTA SCRITTU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Gli elementi di sicurezza della bicicle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vado in bici devo essere sicuro che sia tutto in ordine. I freni devono essere collegati alle ruote e devono avere la gomma non rovinata, non devono essere troppo duri o troppo morbidi, le ruote devono essere ben gonfie e non screpolate e devo avere le luci o i catarifrangenti affinché i veicoli che mi incrociano mi vedano chiar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86200" y="1857240"/>
            <a:ext cx="3143520" cy="314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3500280" cy="342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Prima f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 andare in bicicletta bisogna sedersi sul sellino, impugnare il manubrio e muovere i pedali in maniera circolare; in tal modo tramite la catena si imprime alla bicicletta una spinta in avanti che aumenta all’aumentare della peda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Lo schema della b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570800" cy="4822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Come mi siedo sulla bicicle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mi siedo sulla bicicletta devo stare attento che il sellino e il manubrio siano alla giusta altezza altrimenti farò molta fatica e mi verrà male alla schi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Quando sono seduto la gamba deve stendersi quasi completamente sul pedale ma contemporaneamente devo fare attenzione di riuscire ad appoggiare il piede per terra quando mi fer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486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E’ ora di part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 andare in bicicletta è importante avere il giusto abbigli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L’indumento più importante per la sicurezza è il caschetto che mi proteggerà in caso di caduta. Tutti i corridori professionisti lo utilizz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Sono molto importanti i pantaloncini imbottiti e una maglia che lasci traspirare il su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625608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Cosa mangiare e b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Se decido di compiere dei lunghi tratti non mi devo dimenticare di portarmi una borraccia perché quando si va in bicicletta si consumano molti liqui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ovrò stare molto attento a non mangiare troppo o cose poco digeribili; mi porterò quindi delle merendine che mi daranno molta energia e non mi appesantiran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8880" y="3786120"/>
            <a:ext cx="4357800" cy="249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86040" y="857160"/>
            <a:ext cx="2990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8:23:50Z</dcterms:created>
  <dc:creator>amministratore</dc:creator>
  <dc:description/>
  <dc:language>en-US</dc:language>
  <cp:lastModifiedBy>donchisciotte</cp:lastModifiedBy>
  <dcterms:modified xsi:type="dcterms:W3CDTF">2013-11-11T22:29:32Z</dcterms:modified>
  <cp:revision>26</cp:revision>
  <dc:subject/>
  <dc:title>COME SI VA’ IN BICICLETTA</dc:title>
</cp:coreProperties>
</file>