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C54476-968D-43AE-A088-36A3DE2EAA7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8481D1-26FC-48C8-A297-9615722496C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8A47-306D-46DB-A496-0FA83F1CC7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BB6A-2BD5-4555-9AA5-2FA55E32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0F07-D9CF-483F-948C-9E58216B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CEFA-1079-4B4D-83C8-F3C7DC4C86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6E74-EAAF-411D-A576-716C4691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3AA5-E230-4F51-A339-E6DE8808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5E88-8ED4-4DBE-BDC4-81AD1D24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CEB3-3548-4C71-8760-E7F19DF0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575F-B25C-4D21-8F68-D3571982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B54B-16A7-42AA-A367-3CC86067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54C2-57D0-4A1D-9BAB-2CE77FF9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60EA-95E2-48E4-BE6F-CF72187F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DBE23F-28AF-4EDD-9627-73B70C966FF7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0040" y="1000080"/>
            <a:ext cx="7772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Calibri"/>
                <a:ea typeface="Microsoft YaHei"/>
              </a:rPr>
              <a:t>COME SI VA IN BICICLET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3214800"/>
            <a:ext cx="64296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70c0"/>
                </a:solidFill>
                <a:latin typeface="Calibri"/>
                <a:ea typeface="Microsoft YaHei"/>
              </a:rPr>
              <a:t>DOMANDE DI LEONARDO DA VINCI STAFFETTA SCRITTURA CRE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Gli elementi di sicurezza della biciclet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Quando vado in bici devo essere sicuro che sia tutto in ordine. I freni devono essere collegati alle ruote e devono avere la gomma non rovinata, non devono essere troppo duri o troppo morbidi, le ruote devono essere ben gonfie e non screpolate e devo avere le luci o i catarifrangenti affinché i veicoli che mi incrociano mi vedano chiar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86200" y="1857240"/>
            <a:ext cx="3143520" cy="3143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3500280" cy="342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Prima f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 andare in bicicletta bisogna sedersi sul sellino, impugnare il manubrio e muovere i pedali in maniera circolare; in tal modo tramite la catena si imprime alla bicicletta una spinta in avanti che aumenta all’aumentare della peda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Lo schema della b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570800" cy="4822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Come mi siedo sulla biciclet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Quando mi siedo sulla bicicletta devo stare attento che il sellino e il manubrio siano alla giusta altezza altrimenti farò molta fatica e mi verrà male alla schi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Quando sono seduto la gamba deve stendersi quasi completamente sul pedale ma contemporaneamente devo fare attenzione di riuscire ad appoggiare il piede per terra quando mi fer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4864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E’ ora di part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 andare in bicicletta è importante avere il giusto abbigli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L’indumento più importante per la sicurezza è il caschetto che mi proteggerà in caso di caduta. Tutti i corridori professionisti lo utilizz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Sono molto importanti i pantaloncini imbottiti e una maglia che lasci traspirare il su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71760" y="928800"/>
            <a:ext cx="625608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Cosa mangiare e b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Se decido di compiere dei lunghi tratti non mi devo dimenticare di portarmi una borraccia perché quando si va in bicicletta si consumano molti liqui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Dovrò stare molto attento a non mangiare troppo o cose poco digeribili; mi porterò quindi delle merendine che mi daranno molta energia e non mi appesantiran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28880" y="3786120"/>
            <a:ext cx="4357800" cy="249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86040" y="857160"/>
            <a:ext cx="2990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8:23:50Z</dcterms:created>
  <dc:creator>amministratore</dc:creator>
  <dc:description/>
  <dc:language>en-US</dc:language>
  <cp:lastModifiedBy>donchisciotte</cp:lastModifiedBy>
  <dcterms:modified xsi:type="dcterms:W3CDTF">2013-11-11T22:29:32Z</dcterms:modified>
  <cp:revision>26</cp:revision>
  <dc:subject/>
  <dc:title>COME SI VA’ IN BICICLETTA</dc:title>
</cp:coreProperties>
</file>