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81B73-ECC0-422E-A701-680AAA0A2D3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5A34-1F87-404D-86B0-22E257CE61E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90042-4812-484C-AAEA-11A5020E6F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4941-A731-4B45-ABAC-AD2FF7605A4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40689-9084-4570-A926-BE7BC10CA2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E4C37-8FA6-4392-B0CA-BBC104BBFEF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AF3E5-A6DC-4951-8E8C-B28A4FA93F1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D97C4-4E93-443C-B992-5AED2687B6B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87619-EC50-40CF-B426-3EBE4DF3463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C89C-B0E6-49FC-9C1B-2D49165983D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B8B82-DB1A-4585-BB2A-96781846EB1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F719-6C6A-482B-9AA6-80530DF210A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F257-D8E7-42E2-88B0-426FCAA8E5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5539-642A-498D-82CF-4BE84A157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871-9EAE-4CFF-8F26-24751DF38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1A2F-A89B-4CFD-93FF-64542228C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2E41-4626-4AB7-B3A0-D200D4FEC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6CD5-8081-486F-9C93-1FEE31246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924E-C799-4DF1-9C48-812F24204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9F24-C6DF-45F7-8F26-E03033A24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701C-C35E-4723-B198-17E9EF0A5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35000"/>
            <a:ext cx="9070920" cy="73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7932-E3E9-4DE2-A615-F73A69F79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4B71-62AE-4A40-974E-63534CC56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C493-C022-457F-9AEC-5C47FCE4C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10F1-2473-4777-BFBC-FFD695E9D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4840" y="7007400"/>
            <a:ext cx="2349360" cy="39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CE97A-C6BA-4A69-8B25-ABE23FA3CD24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iclismo_su_pista" TargetMode="External"/><Relationship Id="rId2" Type="http://schemas.openxmlformats.org/officeDocument/2006/relationships/hyperlink" Target="http://it.wikipedia.org/wiki/Velodromo" TargetMode="External"/><Relationship Id="rId3" Type="http://schemas.openxmlformats.org/officeDocument/2006/relationships/hyperlink" Target="http://it.wikipedia.org/wiki/Ciclismo_su_strada" TargetMode="External"/><Relationship Id="rId4" Type="http://schemas.openxmlformats.org/officeDocument/2006/relationships/hyperlink" Target="http://it.wikipedia.org/wiki/Ciclocross" TargetMode="External"/><Relationship Id="rId5" Type="http://schemas.openxmlformats.org/officeDocument/2006/relationships/hyperlink" Target="http://it.wikipedia.org/wiki/Mountain_biking" TargetMode="External"/><Relationship Id="rId6" Type="http://schemas.openxmlformats.org/officeDocument/2006/relationships/hyperlink" Target="http://it.wikipedia.org/wiki/BMX" TargetMode="External"/><Relationship Id="rId7" Type="http://schemas.openxmlformats.org/officeDocument/2006/relationships/hyperlink" Target="http://it.wikipedia.org/wiki/Motocross" TargetMode="External"/><Relationship Id="rId8" Type="http://schemas.openxmlformats.org/officeDocument/2006/relationships/hyperlink" Target="http://it.wikipedia.org/wiki/Bike_trial" TargetMode="External"/><Relationship Id="rId9" Type="http://schemas.openxmlformats.org/officeDocument/2006/relationships/hyperlink" Target="http://it.wikipedia.org/w/index.php?title=Ciclismo_indoor&amp;action=edit&amp;redlink=1" TargetMode="External"/><Relationship Id="rId10" Type="http://schemas.openxmlformats.org/officeDocument/2006/relationships/hyperlink" Target="http://it.wikipedia.org/w/index.php?title=Ciclismo_artistico&amp;action=edit&amp;redlink=1" TargetMode="External"/><Relationship Id="rId11" Type="http://schemas.openxmlformats.org/officeDocument/2006/relationships/hyperlink" Target="http://it.wikipedia.org/w/index.php?title=Cycle_ball&amp;action=edit&amp;redlink=1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40000" y="1260360"/>
            <a:ext cx="540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0" spc="-1" strike="noStrike">
                <a:solidFill>
                  <a:srgbClr val="00cc33"/>
                </a:solidFill>
                <a:latin typeface="Arial"/>
              </a:rPr>
              <a:t>Si possono fare gare con la bicicletta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539640"/>
            <a:ext cx="9360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ountain b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mountain bike è una bicicletta strutturata in maniera da potersi muovere anche fuori da strade asfaltate, sia in salita che in discesa,in tratti con piet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9720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16080"/>
            <a:ext cx="953928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riath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triathlon è uno sport individuale. È articolato su tre prove che si svolgono in immediata successione e sono basate su diverse distanze a seconda della categoria. Lo sport nasce come individuale: sono state quindi dapprima vietate forme di collaborazione tra atlet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180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720" y="539640"/>
            <a:ext cx="85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iclismo è uno degli sport più popolari del mondo e consiste nel gareggiare correndo su una biciclet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'ambito del ciclismo classico esistono tre specialità principali: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iclismo su pist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che si corre all'interno de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elodrom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iclismo su strad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iclocros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Dagli anni ottanta ha avuto molta diffusione anche il ciclismo fuoristrada,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mountain biking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Esistono poi anche le competizioni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MX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che ricordano le gar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otocros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e quell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bike tria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Nel panorama rientrano infine le gar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iclismo indoor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suddivise in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ciclismo artistic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cycle bal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539640"/>
            <a:ext cx="918072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Numerosi sport sono praticati con i vari tipi di biciclett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Bike trial   BM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Ciclismo Ciclocro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Mountain bike Triathl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900000"/>
            <a:ext cx="6119640" cy="67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Bike tr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Bike Trial è uno sport ciclistico in cui l'atleta affronta un percorso ad ostacoli senza poggiare a terra i pied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biciclette da trial sono caratterizzate da freni molto potenti, con pinze ad un solo pistone, e alleggerite da cerchi forati. Il rocchetto posteriore è singolo, fissato alla ruota, mentre quello centrale è a ruota libera. Il sottocoppa  protegge la corona e tutto il movimento centrale e serve anche ad agganciare ostacoli abbastanza al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60" y="363600"/>
            <a:ext cx="10079280" cy="6804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19280" y="1050840"/>
            <a:ext cx="630072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clis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intende l'uso della bicicletta a scopo sportivo o come mezzo di traspor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iclismo è uno degli sport più popolari del mondo e consiste nel gareggiare pedalando su una bicicletta, ma viene usata  anche  come spost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bicicletta è il principale mezzo di trasporto in molti paesi in cui la motorizzazione di massa non si è ancora sviluppata, e in modo crescente in paesi in cui questo processo è già avvenuto e, a causa delle conseguenze negative si è avviato un processo di riduzione e uscita dall'automob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360" y="-1584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900000"/>
            <a:ext cx="918036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iclocr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ciclocross è un particolare tipo di attività ciclistica, praticata abitualmente in autunno e nei mesi invernali. Le competizion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istono in circuiti fuori strada. La distanza della gara non è prefissata: viene stabilita dalla giuria, sulla base del temp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primi due giri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percorsi sono generalmente in prati e boschi, con brevissim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ratti in asfalto, salite e discese brevi e molto ripide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molte curve angolate e talvolta tratti su sentiero stretto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ove passa una sola bicicletta per vol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0360" y="360360"/>
            <a:ext cx="9720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M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BMX  è una disciplina ciclistica nata negli Stati Uniti nel 1968 e rapidamente diffusasi nel resto del mondo nel corso del decennio successivo.Le biciclette per BMX sono monomarcia, piuttosto piccole e leggere, ma solide. Il percorso è caratterizzato da dossi, curve paraboliche e altri ostacoli simili a quelli dei tracciati da motocro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1000" y="2649600"/>
            <a:ext cx="9369360" cy="4730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360" y="2298600"/>
            <a:ext cx="10079280" cy="671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8:23:46Z</dcterms:created>
  <dc:creator/>
  <dc:description/>
  <dc:language>en-US</dc:language>
  <cp:lastModifiedBy>Santaera</cp:lastModifiedBy>
  <dcterms:modified xsi:type="dcterms:W3CDTF">2013-11-10T19:14:28Z</dcterms:modified>
  <cp:revision>2</cp:revision>
  <dc:subject/>
  <dc:title>Presentazione standard di PowerPoint</dc:title>
</cp:coreProperties>
</file>