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9634B-6F7E-4FF6-9EC4-7E4456BC718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0CDC0-7F69-4C98-9348-9D45AB84FDA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FB054-0C88-4B4D-B7B0-414EC13ECEF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357D5-C377-47A0-97FE-76344B57267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EFDF1-3A79-4B01-848E-48CF55370E5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8DDD1-9290-4FE7-9816-5F0481B843B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6753F-9069-4FAD-9E1E-F2E2C61700A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4D140-956A-4C13-8BF4-5BBD7E02997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2012-FA4F-4955-B238-3B1EB9609B7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9D933-D19F-4932-AB69-395B28676D2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8A928-0AAD-4B1E-BAA0-BAAEE3895CD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F8A0A-1A73-46D9-BD09-CEBE76A3355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A2CD1-01F4-4782-B44C-DD9DA674F0D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D83D-E742-431A-B02B-66CA25C0E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788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57D4-40FB-4DF1-AD69-FF2ED1AB2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EB2D-F3C4-46AE-AD3F-DF4857FA2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32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32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78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678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67880"/>
            <a:ext cx="292068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ECA0-A792-4EF3-BF0D-7424A38DC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3280"/>
            <a:ext cx="90709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015B-EF3E-4B7E-BD98-485A6388B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092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5156-C951-43EC-B773-4BA714D5A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B328-6836-4CFD-89E1-5AA6D028E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B3E5-4E5F-418D-8570-9F0E1BB5C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135000"/>
            <a:ext cx="9070920" cy="73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28A1-2534-461E-9B79-DBF31C1F1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2F4D-7D53-4011-B44F-3B46AD982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678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E31A-D526-4A24-977E-AB0295DCF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3280"/>
            <a:ext cx="442656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788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3CEE-7F98-4AB3-B27B-8998430D8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35000"/>
            <a:ext cx="9070920" cy="15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3280"/>
            <a:ext cx="907092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4840" y="7007400"/>
            <a:ext cx="2349360" cy="39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752E6-0383-4894-8883-AF1FA56EE9B5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Ciclismo_su_pista" TargetMode="External"/><Relationship Id="rId2" Type="http://schemas.openxmlformats.org/officeDocument/2006/relationships/hyperlink" Target="http://it.wikipedia.org/wiki/Velodromo" TargetMode="External"/><Relationship Id="rId3" Type="http://schemas.openxmlformats.org/officeDocument/2006/relationships/hyperlink" Target="http://it.wikipedia.org/wiki/Ciclismo_su_strada" TargetMode="External"/><Relationship Id="rId4" Type="http://schemas.openxmlformats.org/officeDocument/2006/relationships/hyperlink" Target="http://it.wikipedia.org/wiki/Ciclocross" TargetMode="External"/><Relationship Id="rId5" Type="http://schemas.openxmlformats.org/officeDocument/2006/relationships/hyperlink" Target="http://it.wikipedia.org/wiki/Mountain_biking" TargetMode="External"/><Relationship Id="rId6" Type="http://schemas.openxmlformats.org/officeDocument/2006/relationships/hyperlink" Target="http://it.wikipedia.org/wiki/BMX" TargetMode="External"/><Relationship Id="rId7" Type="http://schemas.openxmlformats.org/officeDocument/2006/relationships/hyperlink" Target="http://it.wikipedia.org/wiki/Motocross" TargetMode="External"/><Relationship Id="rId8" Type="http://schemas.openxmlformats.org/officeDocument/2006/relationships/hyperlink" Target="http://it.wikipedia.org/wiki/Bike_trial" TargetMode="External"/><Relationship Id="rId9" Type="http://schemas.openxmlformats.org/officeDocument/2006/relationships/hyperlink" Target="http://it.wikipedia.org/w/index.php?title=Ciclismo_indoor&amp;action=edit&amp;redlink=1" TargetMode="External"/><Relationship Id="rId10" Type="http://schemas.openxmlformats.org/officeDocument/2006/relationships/hyperlink" Target="http://it.wikipedia.org/w/index.php?title=Ciclismo_artistico&amp;action=edit&amp;redlink=1" TargetMode="External"/><Relationship Id="rId11" Type="http://schemas.openxmlformats.org/officeDocument/2006/relationships/hyperlink" Target="http://it.wikipedia.org/w/index.php?title=Cycle_ball&amp;action=edit&amp;redlink=1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40000" y="1260360"/>
            <a:ext cx="540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0" spc="-1" strike="noStrike">
                <a:solidFill>
                  <a:srgbClr val="00cc33"/>
                </a:solidFill>
                <a:latin typeface="Arial"/>
              </a:rPr>
              <a:t>Si possono fare gare con la bicicletta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539640"/>
            <a:ext cx="9360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ountain b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mountain bike è una bicicletta strutturata in maniera da potersi muovere anche fuori da strade asfaltate, sia in salita che in discesa,in tratti con piet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9720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316080"/>
            <a:ext cx="953928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riath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triathlon è uno sport individuale. È articolato su tre prove che si svolgono in immediata successione e sono basate su diverse distanze a seconda della categoria. Lo sport nasce come individuale: sono state quindi dapprima vietate forme di collaborazione tra atlet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180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720" y="539640"/>
            <a:ext cx="85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iclismo è uno degli sport più popolari del mondo e consiste nel gareggiare correndo su una biciclet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ll'ambito del ciclismo classico esistono tre specialità principali: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iclismo su pist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che si corre all'interno de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elodrom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iclismo su strad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iclocros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 Dagli anni ottanta ha avuto molta diffusione anche il ciclismo fuoristrada, il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mountain biking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 Esistono poi anche le competizioni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MX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che ricordano le gare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otocros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e quelle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bike trial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 Nel panorama rientrano infine le gare d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iclismo indoor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suddivise in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ciclismo artistic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cycle ball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539640"/>
            <a:ext cx="918072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Numerosi sport sono praticati con i vari tipi di biciclett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Bike trial   BM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Ciclismo Ciclocro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400" spc="-1" strike="noStrike">
                <a:solidFill>
                  <a:srgbClr val="663366"/>
                </a:solidFill>
                <a:latin typeface="Arial"/>
              </a:rPr>
              <a:t>Mountain bike Triathl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9280" y="900000"/>
            <a:ext cx="6119640" cy="67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Bike tr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Bike Trial è uno sport ciclistico in cui l'atleta affronta un percorso ad ostacoli senza poggiare a terra i pied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biciclette da trial sono caratterizzate da freni molto potenti, con pinze ad un solo pistone, e alleggerite da cerchi forati. Il rocchetto posteriore è singolo, fissato alla ruota, mentre quello centrale è a ruota libera. Il sottocoppa  protegge la corona e tutto il movimento centrale e serve anche ad agganciare ostacoli abbastanza al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60" y="363600"/>
            <a:ext cx="10079280" cy="6804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19280" y="1050840"/>
            <a:ext cx="630072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iclism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intende l'uso della bicicletta a scopo sportivo o come mezzo di traspor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iclismo è uno degli sport più popolari del mondo e consiste nel gareggiare pedalando su una bicicletta, ma viene usata  anche  come spost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bicicletta è il principale mezzo di trasporto in molti paesi in cui la motorizzazione di massa non si è ancora sviluppata, e in modo crescente in paesi in cui questo processo è già avvenuto e, a causa delle conseguenze negative si è avviato un processo di riduzione e uscita dall'automob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360" y="-1584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720" y="900000"/>
            <a:ext cx="918036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iclocr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ciclocross è un particolare tipo di attività ciclistica, praticata abitualmente in autunno e nei mesi invernali. Le competizion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sistono in circuiti fuori strada. La distanza della gara non è prefissata: viene stabilita dalla giuria, sulla base del temp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primi due giri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percorsi sono generalmente in prati e boschi, con brevissim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ratti in asfalto, salite e discese brevi e molto ripide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molte curve angolate e talvolta tratti su sentiero stretto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ove passa una sola bicicletta per vol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0360" y="360360"/>
            <a:ext cx="97203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M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BMX  è una disciplina ciclistica nata negli Stati Uniti nel 1968 e rapidamente diffusasi nel resto del mondo nel corso del decennio successivo.Le biciclette per BMX sono monomarcia, piuttosto piccole e leggere, ma solide. Il percorso è caratterizzato da dossi, curve paraboliche e altri ostacoli simili a quelli dei tracciati da motocros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1000" y="2649600"/>
            <a:ext cx="9369360" cy="4730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360" y="2298600"/>
            <a:ext cx="10079280" cy="6710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8:23:46Z</dcterms:created>
  <dc:creator/>
  <dc:description/>
  <dc:language>en-US</dc:language>
  <cp:lastModifiedBy>Santaera</cp:lastModifiedBy>
  <dcterms:modified xsi:type="dcterms:W3CDTF">2013-11-10T19:14:28Z</dcterms:modified>
  <cp:revision>2</cp:revision>
  <dc:subject/>
  <dc:title>Presentazione standard di PowerPoint</dc:title>
</cp:coreProperties>
</file>