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9C7-FDC8-4ACD-A487-E1AE2AA3399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D9B-1832-4D93-BBDF-E7CBD076B4A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4F4-ABE5-491A-8EAB-C97EE5C9C99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124-4B23-4DE8-8881-FBC9AD455B2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6E3-994A-4BD6-AE76-42E0DA3B76C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C2BD-1932-4668-AADB-BB8B68D1185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23D-9BB4-497F-95AD-DC8DEEA8581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A21C-FF37-4743-BBEC-19FBAA53695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60EA-34CE-4114-9B71-3027A2AB789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25A-7272-4626-8EE3-E430F17681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22A-5276-401E-B870-C9951D0EB13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8A30-0351-4170-AE6F-26020B8ED8E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7F28-566A-4B91-A810-C7AD380B31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C77-1D8D-45A4-863F-92EF149D155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6CD-BDCC-45CB-B2BC-0A928D4A868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B8AB-7E8B-432E-A25B-13C06033E0D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543-C466-4504-AE8C-AFFF7CA3061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9D3-BA60-42D5-9A68-6BA28E5BD3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DEA-CBBB-4325-9D29-E764333E97D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08C6-E6C6-4EC5-A71A-3E5BB228DB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4B3-388E-42B2-8A37-ED2782F5C51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D7B-2869-407D-9D1F-4F72D6A447E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93D6-0C3A-4256-9DA2-F13ED3E8FB3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5C8-2B70-4683-B87A-C947CF92377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0281-77BC-4EE2-8F21-36EE8A85E5F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4F1-621A-4007-A412-18C0DDE389D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4B4-9898-4944-87F0-405ACB730E9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1335-1178-4B0C-923D-B5E276A4DAB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148-72F0-44A6-A5FE-F3217C3615C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EC0D-1401-4E08-B149-42A36D25277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C0E6-EE59-4255-B1CD-6E3F281DD03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8F4-5EE8-4791-96FC-F8F03256616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52B-D392-4332-82B9-50E6869C009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603-56C5-4B97-BF39-963AA6031B0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F2EF-69B4-4F8D-90FB-82B9A359D35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2D9-8395-4D05-BFDD-ECAE66F9B30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6349-BFED-41CC-97B6-B9CC9505449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A5DB-A8BD-4560-A8FC-B5E25F2231E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E987-A0F1-4CE4-89D5-924EA27E0D4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67B-F21E-459B-B32C-87E1F389CE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D48-C343-481F-B905-B9B61C98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F64-3735-44EF-8ACB-FA77AFC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209-367A-42A5-9856-9BCB2387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445-5810-4F2F-B0A5-BD41B5D5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40A-50CA-4C81-B322-835EB6C0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B4E-4F1E-4A0A-B4C6-3E5CA3AD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830-8364-4A2B-B322-06E50CD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B86-5EF4-4FEA-A06A-EAA5CF5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049-6337-4163-9C22-4DA41FD0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64C-99FD-480A-A57F-FEC8F53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CFD-DA1A-4591-BD62-D9D6E87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313-6314-4E9E-8E3D-A6174B5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6DA-1C29-4E73-B12C-F10A9406D8E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02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5218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25892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INFANCIA ROB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29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1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295"/>
          <p:cNvPicPr/>
          <p:nvPr/>
        </p:nvPicPr>
        <p:blipFill>
          <a:blip r:embed="rId1"/>
          <a:stretch/>
        </p:blipFill>
        <p:spPr>
          <a:xfrm>
            <a:off x="1476360" y="2023920"/>
            <a:ext cx="533412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319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31"/>
          <p:cNvPicPr/>
          <p:nvPr/>
        </p:nvPicPr>
        <p:blipFill>
          <a:blip r:embed="rId1"/>
          <a:stretch/>
        </p:blipFill>
        <p:spPr>
          <a:xfrm>
            <a:off x="2124000" y="981000"/>
            <a:ext cx="60800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00019896"/>
          <p:cNvPicPr/>
          <p:nvPr/>
        </p:nvPicPr>
        <p:blipFill>
          <a:blip r:embed="rId1"/>
          <a:stretch/>
        </p:blipFill>
        <p:spPr>
          <a:xfrm>
            <a:off x="1809720" y="1647720"/>
            <a:ext cx="6865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37129"/>
          <p:cNvPicPr/>
          <p:nvPr/>
        </p:nvPicPr>
        <p:blipFill>
          <a:blip r:embed="rId1"/>
          <a:stretch/>
        </p:blipFill>
        <p:spPr>
          <a:xfrm>
            <a:off x="468360" y="720720"/>
            <a:ext cx="69897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35622_320px"/>
          <p:cNvPicPr/>
          <p:nvPr/>
        </p:nvPicPr>
        <p:blipFill>
          <a:blip r:embed="rId1"/>
          <a:stretch/>
        </p:blipFill>
        <p:spPr>
          <a:xfrm>
            <a:off x="2484360" y="476280"/>
            <a:ext cx="3959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35633_320px"/>
          <p:cNvPicPr/>
          <p:nvPr/>
        </p:nvPicPr>
        <p:blipFill>
          <a:blip r:embed="rId1"/>
          <a:stretch/>
        </p:blipFill>
        <p:spPr>
          <a:xfrm>
            <a:off x="3048120" y="657360"/>
            <a:ext cx="3047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15002"/>
          <p:cNvPicPr/>
          <p:nvPr/>
        </p:nvPicPr>
        <p:blipFill>
          <a:blip r:embed="rId1"/>
          <a:stretch/>
        </p:blipFill>
        <p:spPr>
          <a:xfrm>
            <a:off x="730080" y="888840"/>
            <a:ext cx="76838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4"/>
          <p:cNvPicPr/>
          <p:nvPr/>
        </p:nvPicPr>
        <p:blipFill>
          <a:blip r:embed="rId1"/>
          <a:stretch/>
        </p:blipFill>
        <p:spPr>
          <a:xfrm>
            <a:off x="75564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21059"/>
          <p:cNvPicPr/>
          <p:nvPr/>
        </p:nvPicPr>
        <p:blipFill>
          <a:blip r:embed="rId1"/>
          <a:stretch/>
        </p:blipFill>
        <p:spPr>
          <a:xfrm>
            <a:off x="2981160" y="1047600"/>
            <a:ext cx="37069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02590"/>
          <p:cNvPicPr/>
          <p:nvPr/>
        </p:nvPicPr>
        <p:blipFill>
          <a:blip r:embed="rId1"/>
          <a:stretch/>
        </p:blipFill>
        <p:spPr>
          <a:xfrm>
            <a:off x="2390760" y="1089000"/>
            <a:ext cx="5781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524730"/>
          <p:cNvPicPr/>
          <p:nvPr/>
        </p:nvPicPr>
        <p:blipFill>
          <a:blip r:embed="rId1"/>
          <a:stretch/>
        </p:blipFill>
        <p:spPr>
          <a:xfrm>
            <a:off x="2781360" y="809640"/>
            <a:ext cx="3581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06520"/>
          <p:cNvPicPr/>
          <p:nvPr/>
        </p:nvPicPr>
        <p:blipFill>
          <a:blip r:embed="rId1"/>
          <a:stretch/>
        </p:blipFill>
        <p:spPr>
          <a:xfrm>
            <a:off x="2771640" y="692280"/>
            <a:ext cx="40071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8608"/>
          <p:cNvPicPr/>
          <p:nvPr/>
        </p:nvPicPr>
        <p:blipFill>
          <a:blip r:embed="rId1"/>
          <a:stretch/>
        </p:blipFill>
        <p:spPr>
          <a:xfrm>
            <a:off x="539640" y="130320"/>
            <a:ext cx="66517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35626_320px"/>
          <p:cNvPicPr/>
          <p:nvPr/>
        </p:nvPicPr>
        <p:blipFill>
          <a:blip r:embed="rId1"/>
          <a:stretch/>
        </p:blipFill>
        <p:spPr>
          <a:xfrm>
            <a:off x="1908000" y="333360"/>
            <a:ext cx="4397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725454"/>
          <p:cNvPicPr/>
          <p:nvPr/>
        </p:nvPicPr>
        <p:blipFill>
          <a:blip r:embed="rId1"/>
          <a:stretch/>
        </p:blipFill>
        <p:spPr>
          <a:xfrm>
            <a:off x="324000" y="596880"/>
            <a:ext cx="71056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DSC03222"/>
          <p:cNvPicPr/>
          <p:nvPr/>
        </p:nvPicPr>
        <p:blipFill>
          <a:blip r:embed="rId1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740704"/>
          <p:cNvPicPr/>
          <p:nvPr/>
        </p:nvPicPr>
        <p:blipFill>
          <a:blip r:embed="rId1"/>
          <a:stretch/>
        </p:blipFill>
        <p:spPr>
          <a:xfrm>
            <a:off x="179280" y="558720"/>
            <a:ext cx="73072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686022"/>
          <p:cNvPicPr/>
          <p:nvPr/>
        </p:nvPicPr>
        <p:blipFill>
          <a:blip r:embed="rId1"/>
          <a:stretch/>
        </p:blipFill>
        <p:spPr>
          <a:xfrm>
            <a:off x="2690640" y="809640"/>
            <a:ext cx="3762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9"/>
          <p:cNvPicPr/>
          <p:nvPr/>
        </p:nvPicPr>
        <p:blipFill>
          <a:blip r:embed="rId1"/>
          <a:stretch/>
        </p:blipFill>
        <p:spPr>
          <a:xfrm>
            <a:off x="1042920" y="1197000"/>
            <a:ext cx="6650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"/>
          <p:cNvPicPr/>
          <p:nvPr/>
        </p:nvPicPr>
        <p:blipFill>
          <a:blip r:embed="rId1"/>
          <a:stretch/>
        </p:blipFill>
        <p:spPr>
          <a:xfrm>
            <a:off x="1042920" y="233280"/>
            <a:ext cx="7058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VIOLENCIA-SIGLO-22-2"/>
          <p:cNvPicPr/>
          <p:nvPr/>
        </p:nvPicPr>
        <p:blipFill>
          <a:blip r:embed="rId1"/>
          <a:stretch/>
        </p:blipFill>
        <p:spPr>
          <a:xfrm>
            <a:off x="324000" y="600120"/>
            <a:ext cx="8280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87280" y="56340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3517"/>
          <p:cNvPicPr/>
          <p:nvPr/>
        </p:nvPicPr>
        <p:blipFill>
          <a:blip r:embed="rId1"/>
          <a:stretch/>
        </p:blipFill>
        <p:spPr>
          <a:xfrm rot="20544000">
            <a:off x="1186920" y="1341360"/>
            <a:ext cx="63309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niños guerra"/>
          <p:cNvPicPr/>
          <p:nvPr/>
        </p:nvPicPr>
        <p:blipFill>
          <a:blip r:embed="rId1"/>
          <a:stretch/>
        </p:blipFill>
        <p:spPr>
          <a:xfrm>
            <a:off x="2071800" y="825480"/>
            <a:ext cx="689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violencia"/>
          <p:cNvPicPr/>
          <p:nvPr/>
        </p:nvPicPr>
        <p:blipFill>
          <a:blip r:embed="rId1"/>
          <a:stretch/>
        </p:blipFill>
        <p:spPr>
          <a:xfrm>
            <a:off x="1908000" y="1332000"/>
            <a:ext cx="5112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bf1"/>
                </a:solidFill>
                <a:latin typeface="Arial"/>
              </a:rPr>
              <a:t>Lo mataron sus padres a gol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1" name="Picture 4" descr="Fondo de escritorio"/>
          <p:cNvPicPr/>
          <p:nvPr/>
        </p:nvPicPr>
        <p:blipFill>
          <a:blip r:embed="rId1"/>
          <a:stretch/>
        </p:blipFill>
        <p:spPr>
          <a:xfrm>
            <a:off x="1981080" y="1905120"/>
            <a:ext cx="6694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DSC04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00"/>
          <p:cNvPicPr/>
          <p:nvPr/>
        </p:nvPicPr>
        <p:blipFill>
          <a:blip r:embed="rId1"/>
          <a:stretch/>
        </p:blipFill>
        <p:spPr>
          <a:xfrm>
            <a:off x="1476360" y="333360"/>
            <a:ext cx="561672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9360">
            <a:solidFill>
              <a:srgbClr val="19e7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6ccff"/>
                </a:solidFill>
                <a:latin typeface="Arial"/>
              </a:rPr>
              <a:t>20 DE NOVIEMBRE</a:t>
            </a:r>
            <a:br>
              <a:rPr sz="28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 DÍA INTERNACIONAL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 LOS DERECHOS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L NIÑO Y DE LA NIÑ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435880" cy="2120760"/>
          </a:xfrm>
          <a:prstGeom prst="rect">
            <a:avLst/>
          </a:prstGeom>
          <a:noFill/>
          <a:ln w="9360">
            <a:solidFill>
              <a:srgbClr val="e44f0c"/>
            </a:solidFill>
            <a:miter/>
          </a:ln>
        </p:spPr>
        <p:txBody>
          <a:bodyPr anchor="t">
            <a:normAutofit fontScale="86000"/>
          </a:bodyPr>
          <a:p>
            <a:pPr marL="294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“</a:t>
            </a: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Dejad que los niños se acerquen a mí.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4000" spc="-1" strike="noStrike">
                <a:solidFill>
                  <a:srgbClr val="ffffff"/>
                </a:solidFill>
                <a:latin typeface="French Script MT"/>
              </a:rPr>
              <a:t>Jesús de Nazaret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9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4"/>
          <p:cNvPicPr/>
          <p:nvPr/>
        </p:nvPicPr>
        <p:blipFill>
          <a:blip r:embed="rId1"/>
          <a:stretch/>
        </p:blipFill>
        <p:spPr>
          <a:xfrm>
            <a:off x="1042920" y="920880"/>
            <a:ext cx="68086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43"/>
          <p:cNvPicPr/>
          <p:nvPr/>
        </p:nvPicPr>
        <p:blipFill>
          <a:blip r:embed="rId1"/>
          <a:stretch/>
        </p:blipFill>
        <p:spPr>
          <a:xfrm>
            <a:off x="1332000" y="1125360"/>
            <a:ext cx="645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73"/>
          <p:cNvPicPr/>
          <p:nvPr/>
        </p:nvPicPr>
        <p:blipFill>
          <a:blip r:embed="rId1"/>
          <a:stretch/>
        </p:blipFill>
        <p:spPr>
          <a:xfrm>
            <a:off x="1619280" y="1125360"/>
            <a:ext cx="5742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213"/>
          <p:cNvPicPr/>
          <p:nvPr/>
        </p:nvPicPr>
        <p:blipFill>
          <a:blip r:embed="rId1"/>
          <a:stretch/>
        </p:blipFill>
        <p:spPr>
          <a:xfrm>
            <a:off x="2593800" y="596880"/>
            <a:ext cx="37879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"/>
          <p:cNvPicPr/>
          <p:nvPr/>
        </p:nvPicPr>
        <p:blipFill>
          <a:blip r:embed="rId1"/>
          <a:stretch/>
        </p:blipFill>
        <p:spPr>
          <a:xfrm>
            <a:off x="1476360" y="747720"/>
            <a:ext cx="61912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21:43:37Z</dcterms:created>
  <dc:creator>La Salle</dc:creator>
  <dc:description/>
  <dc:language>en-US</dc:language>
  <cp:lastModifiedBy>alumno</cp:lastModifiedBy>
  <dcterms:modified xsi:type="dcterms:W3CDTF">2013-06-25T14:22:27Z</dcterms:modified>
  <cp:revision>5</cp:revision>
  <dc:subject/>
  <dc:title>Diapositiva 1</dc:title>
</cp:coreProperties>
</file>