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ca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519D8B8-C107-4361-B926-AF56E8B504F1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7745C82-A4F5-4800-B577-674E4F0D740C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F5A81C4-AC4B-4CFF-9A49-382A00B15DF8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18971DC-2C94-418A-8E65-2A6DB54BB08A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4BD8569-A17D-4E3D-8C19-5B93CB421272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6D68568-2D22-4366-9AC2-F10314BE067E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6EDFDF9-F935-4D19-8114-5CBD1F376416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1B615A2-7D0A-4221-9689-15D73E62F3F2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F468C4B-1191-4BA9-BA6B-02D5BF3A8D26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848F054-7C13-40DB-B7E6-1DAB6A03094E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AAC11A2-5410-4D80-916A-367E3D42CE20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A420B67-E011-4207-8F47-43AA0BAD5339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600" spc="-1" strike="noStrike">
                <a:solidFill>
                  <a:srgbClr val="000000"/>
                </a:solidFill>
                <a:latin typeface="Helvetica-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7DAC-701B-4DE8-908A-3195D25F9DF9}" type="datetime">
              <a:rPr b="0" lang="ca-ES" sz="1600" spc="-1" strike="noStrike">
                <a:solidFill>
                  <a:srgbClr val="000000"/>
                </a:solidFill>
                <a:latin typeface="Helvetica-Bold"/>
              </a:rPr>
              <a:t>31/07/26</a:t>
            </a:fld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edu_portada"/>
          <p:cNvPicPr/>
          <p:nvPr/>
        </p:nvPicPr>
        <p:blipFill>
          <a:blip r:embed="rId2"/>
          <a:stretch/>
        </p:blipFill>
        <p:spPr>
          <a:xfrm>
            <a:off x="-252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5"/>
          <p:cNvSpPr/>
          <p:nvPr/>
        </p:nvSpPr>
        <p:spPr>
          <a:xfrm>
            <a:off x="900000" y="333360"/>
            <a:ext cx="460872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"/>
          <p:cNvPicPr/>
          <p:nvPr/>
        </p:nvPicPr>
        <p:blipFill>
          <a:blip r:embed="rId2"/>
          <a:stretch/>
        </p:blipFill>
        <p:spPr>
          <a:xfrm>
            <a:off x="0" y="23760"/>
            <a:ext cx="9105840" cy="6829560"/>
          </a:xfrm>
          <a:prstGeom prst="rect">
            <a:avLst/>
          </a:prstGeom>
          <a:ln w="0">
            <a:noFill/>
          </a:ln>
        </p:spPr>
      </p:pic>
      <p:sp>
        <p:nvSpPr>
          <p:cNvPr id="40" name="Line 4"/>
          <p:cNvSpPr/>
          <p:nvPr/>
        </p:nvSpPr>
        <p:spPr>
          <a:xfrm>
            <a:off x="762120" y="1066680"/>
            <a:ext cx="7696080" cy="0"/>
          </a:xfrm>
          <a:prstGeom prst="line">
            <a:avLst/>
          </a:prstGeom>
          <a:ln w="28440">
            <a:solidFill>
              <a:srgbClr val="cc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hyperlink" Target="http://www20.gencat.cat/portal/site/queestudiar/menuitem.117f67559502935cd56a1c76b0c0e1a0/?vgnextoid=4ffb37a9f4f2b210VgnVCM2000009b0c1e0aRCRD&amp;vgnextchannel=4ffb37a9f4f2b210VgnVCM2000009b0c1e0aRCRD&amp;vgnextfmt=detall&amp;p_id=382" TargetMode="External"/><Relationship Id="rId10" Type="http://schemas.openxmlformats.org/officeDocument/2006/relationships/hyperlink" Target="http://www20.gencat.cat/portal/site/queestudiar/menuitem.117f67559502935cd56a1c76b0c0e1a0/?vgnextoid=4ffb37a9f4f2b210VgnVCM2000009b0c1e0aRCRD&amp;vgnextchannel=4ffb37a9f4f2b210VgnVCM2000009b0c1e0aRCRD&amp;vgnextfmt=detall&amp;p_id=383" TargetMode="External"/><Relationship Id="rId11" Type="http://schemas.openxmlformats.org/officeDocument/2006/relationships/hyperlink" Target="http://www20.gencat.cat/portal/site/queestudiar/menuitem.e32cbab633a72f5cd56a1c76b0c0e1a0/?vgnextoid=d206e5b683f2b210VgnVCM2000009b0c1e0aRCRD&amp;vgnextchannel=d206e5b683f2b210VgnVCM2000009b0c1e0aRCRD&amp;vgnextfmt=default" TargetMode="External"/><Relationship Id="rId12" Type="http://schemas.openxmlformats.org/officeDocument/2006/relationships/hyperlink" Target="http://www20.gencat.cat/portal/site/queestudiar/menuitem.117f67559502935cd56a1c76b0c0e1a0/?vgnextoid=1d8337a9f4f2b210VgnVCM2000009b0c1e0aRCRD&amp;vgnextchannel=1d8337a9f4f2b210VgnVCM2000009b0c1e0aRCRD&amp;vgnextfmt=detall&amp;p_id=137" TargetMode="External"/><Relationship Id="rId13" Type="http://schemas.openxmlformats.org/officeDocument/2006/relationships/hyperlink" Target="http://www20.gencat.cat/portal/site/queestudiar/menuitem.117f67559502935cd56a1c76b0c0e1a0/?vgnextoid=1d8337a9f4f2b210VgnVCM2000009b0c1e0aRCRD&amp;vgnextchannel=1d8337a9f4f2b210VgnVCM2000009b0c1e0aRCRD&amp;vgnextfmt=detall&amp;p_id=68" TargetMode="External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2997360"/>
            <a:ext cx="846468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INFORMACIÓ PER A LA TRIA DE LA FORMACIÓ  POSTOBLIGATÒRIA</a:t>
            </a:r>
            <a:br>
              <a:rPr sz="2800"/>
            </a:br>
            <a:br>
              <a:rPr sz="2000"/>
            </a:br>
            <a:br>
              <a:rPr sz="20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6" descr="dA"/>
          <p:cNvPicPr/>
          <p:nvPr/>
        </p:nvPicPr>
        <p:blipFill>
          <a:blip r:embed="rId1"/>
          <a:stretch/>
        </p:blipFill>
        <p:spPr>
          <a:xfrm>
            <a:off x="7380360" y="189000"/>
            <a:ext cx="1508040" cy="828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H:\ARXIUS COMPARTITS\LOGOS\logo ensenyament 4.jpg"/>
          <p:cNvPicPr/>
          <p:nvPr/>
        </p:nvPicPr>
        <p:blipFill>
          <a:blip r:embed="rId2"/>
          <a:stretch/>
        </p:blipFill>
        <p:spPr>
          <a:xfrm>
            <a:off x="179280" y="436680"/>
            <a:ext cx="259740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6910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Helvetica-Bold"/>
              </a:rPr>
              <a:t>RELACIÓ D’ENTORNS I ÀRE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84000" y="1557360"/>
            <a:ext cx="78865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6" descr="dA"/>
          <p:cNvPicPr/>
          <p:nvPr/>
        </p:nvPicPr>
        <p:blipFill>
          <a:blip r:embed="rId1"/>
          <a:stretch/>
        </p:blipFill>
        <p:spPr>
          <a:xfrm>
            <a:off x="7380360" y="189000"/>
            <a:ext cx="1508040" cy="828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6910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Helvetica-Bold"/>
              </a:rPr>
              <a:t>RELACIÓ D’ENTORNS I ÀRE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4000" y="1557360"/>
            <a:ext cx="78865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6" descr="dA"/>
          <p:cNvPicPr/>
          <p:nvPr/>
        </p:nvPicPr>
        <p:blipFill>
          <a:blip r:embed="rId1"/>
          <a:stretch/>
        </p:blipFill>
        <p:spPr>
          <a:xfrm>
            <a:off x="7380360" y="189000"/>
            <a:ext cx="1508040" cy="82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1403280" y="1773360"/>
          <a:ext cx="6730920" cy="4248000"/>
        </p:xfrm>
        <a:graphic>
          <a:graphicData uri="http://schemas.openxmlformats.org/drawingml/2006/table">
            <a:tbl>
              <a:tblPr/>
              <a:tblGrid>
                <a:gridCol w="2870280"/>
                <a:gridCol w="3860640"/>
              </a:tblGrid>
              <a:tr h="4888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ENTORN ECONÒMIC I EMPRESARIAL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8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ca-E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REA PROFESSIONAL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57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àrqueting i relacions públiques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58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Compra venda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gística comercial i gestió del transport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8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teleria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33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urisme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6910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Helvetica-Bold"/>
              </a:rPr>
              <a:t>RELACIÓ D’ENTORNS I ÀRE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84000" y="1557360"/>
            <a:ext cx="78865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6" descr="dA"/>
          <p:cNvPicPr/>
          <p:nvPr/>
        </p:nvPicPr>
        <p:blipFill>
          <a:blip r:embed="rId1"/>
          <a:stretch/>
        </p:blipFill>
        <p:spPr>
          <a:xfrm>
            <a:off x="7380360" y="189000"/>
            <a:ext cx="1508040" cy="828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6000" spc="-1" strike="noStrike">
                <a:solidFill>
                  <a:srgbClr val="000000"/>
                </a:solidFill>
                <a:latin typeface="Calibri"/>
                <a:ea typeface="Calibri"/>
              </a:rPr>
              <a:t>Projectes en elabor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Helvetica-Bold"/>
              </a:rPr>
              <a:t>INFORMACIÓ PROFESSIONAL AFEG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4000" y="1557360"/>
            <a:ext cx="78865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Calibri"/>
                <a:ea typeface="Calibri"/>
              </a:rPr>
              <a:t>I) Curt termini: Document PDF annex a la pàgina Estudiar a Cataluny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Calibri"/>
                <a:ea typeface="Calibri"/>
              </a:rPr>
              <a:t>Opcions acadèmiques en funció de l’edat i els estudis assol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Calibri"/>
                <a:ea typeface="Calibri"/>
              </a:rPr>
              <a:t>Relació Entorns / Famílies professio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Calibri"/>
                <a:ea typeface="Calibri"/>
              </a:rPr>
              <a:t>La Família professional com a concepte aglutinador de l’oferta formativ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Calibri"/>
                <a:ea typeface="Calibri"/>
              </a:rPr>
              <a:t>La informació integral vinculada d’estudis i d’oferta form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Calibri"/>
                <a:ea typeface="Calibri"/>
              </a:rPr>
              <a:t>II) Mig termini: Documents en elaboració pel grup de tre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Calibri"/>
                <a:ea typeface="Calibri"/>
              </a:rPr>
              <a:t>e. Document síntesi de l’opció tri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Calibri"/>
                <a:ea typeface="Calibri"/>
              </a:rPr>
              <a:t>f. Proposta de model integrat d’orientació acadèmica i professional des de 3er d’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Calibri"/>
                <a:ea typeface="Calibri"/>
              </a:rPr>
              <a:t>g. Itineraris combinats de cicles i batxiller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Calibri"/>
                <a:ea typeface="Calibri"/>
              </a:rPr>
              <a:t>h. Procés per al tractament orientatiu del Retorn a la formació des del Món lab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dA"/>
          <p:cNvPicPr/>
          <p:nvPr/>
        </p:nvPicPr>
        <p:blipFill>
          <a:blip r:embed="rId1"/>
          <a:stretch/>
        </p:blipFill>
        <p:spPr>
          <a:xfrm>
            <a:off x="7380360" y="189000"/>
            <a:ext cx="150804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Contenidor de contingut 3" descr=""/>
          <p:cNvPicPr/>
          <p:nvPr/>
        </p:nvPicPr>
        <p:blipFill>
          <a:blip r:embed="rId1"/>
          <a:stretch/>
        </p:blipFill>
        <p:spPr>
          <a:xfrm>
            <a:off x="703440" y="333360"/>
            <a:ext cx="77371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Contenidor de contingut 3" descr=""/>
          <p:cNvPicPr/>
          <p:nvPr/>
        </p:nvPicPr>
        <p:blipFill>
          <a:blip r:embed="rId1"/>
          <a:stretch/>
        </p:blipFill>
        <p:spPr>
          <a:xfrm>
            <a:off x="703440" y="333360"/>
            <a:ext cx="77371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Contenidor de contingut 3" descr=""/>
          <p:cNvPicPr/>
          <p:nvPr/>
        </p:nvPicPr>
        <p:blipFill>
          <a:blip r:embed="rId1"/>
          <a:stretch/>
        </p:blipFill>
        <p:spPr>
          <a:xfrm>
            <a:off x="703440" y="333360"/>
            <a:ext cx="77371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Helvetica-Bold"/>
              </a:rPr>
              <a:t>L’orientació acadèmica i professional (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4000" y="1557360"/>
            <a:ext cx="78865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 u="sng">
                <a:solidFill>
                  <a:srgbClr val="000000"/>
                </a:solidFill>
                <a:uFillTx/>
                <a:latin typeface="Helvetica-Bold"/>
              </a:rPr>
              <a:t>3er 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Helvetica-Bold"/>
              </a:rPr>
              <a:t>Tenir consciència de les activitats que li agraden o li agradaria desenvolupar,  (QUÈ M’AGRADA FER?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Helvetica-Bold"/>
              </a:rPr>
              <a:t>Tenir informació del tipus d’activitats que es desenvolupen a nivell professional per a ocupacions relacionades amb l’apartat anterior. Per exemple per tenir cura dels animals, veure ocupacions de veterinari, ajudant de veterinari, etc. (QUINES OCUPACIONS A TALL D’EXEMPLE HI HA EN EL MERCAT DE TREBALL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Helvetica-Bold"/>
              </a:rPr>
              <a:t>Tenir consciència d’aquelles habilitats que tinc, per exemple per als números, o per als idiomes, i allò que tinc dificultats per desenvolupar. (QUÈ SER FER I QUÈ CAL MILLORAR?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Helvetica-Bold"/>
              </a:rPr>
              <a:t>Identificar els diferents entorns professionals que més s’aproximen als meus interessos i capacitats. (COM ES PODRIA RESUMIR EL MEU BAGATGE INICIAL D’INTERESSOS I CAPACITATS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Helvetica-Bold"/>
              </a:rPr>
              <a:t>Conèixer els itineraris formatius potencials existents en el Sistema formatiu i llur concreció en la Família Professional relacionada amb l’entorn profession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Helvetica-Bold"/>
              </a:rPr>
              <a:t>Accedir a 4art d’ESO amb les idees clares de quines podrien ser les matèries que millor permetrien preparar el terreny per accedir a la secundària postobligatoria. (COM HE D’ENFOCAR EL TRÀNSIT CAP A LA SECUNDÀRIA POSTOBLIGATORIA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Helvetica-Bold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Helvetica-Bold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6" descr="dA"/>
          <p:cNvPicPr/>
          <p:nvPr/>
        </p:nvPicPr>
        <p:blipFill>
          <a:blip r:embed="rId1"/>
          <a:stretch/>
        </p:blipFill>
        <p:spPr>
          <a:xfrm>
            <a:off x="7380360" y="189000"/>
            <a:ext cx="150804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Helvetica-Bold"/>
              </a:rPr>
              <a:t>L’orientació acadèmica i professional (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4000" y="1557360"/>
            <a:ext cx="78865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Helvetica-Bold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 u="sng">
                <a:solidFill>
                  <a:srgbClr val="000000"/>
                </a:solidFill>
                <a:uFillTx/>
                <a:latin typeface="Helvetica-Bold"/>
              </a:rPr>
              <a:t>4art 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Helvetica-Bold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Helvetica-Bold"/>
              </a:rPr>
              <a:t>Identificar si el currículum de quart que estic cursant em portarà a assolir les 8 competències clau per a l’aprenentatge permanent definides a nivell europeu. (ENCAIX DEL CURRICULUM AMB LES COMPETÈNCIES CLAU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Helvetica-Bold"/>
              </a:rPr>
              <a:t>Identificar les ocupacions i la formació associada per anar dibuixant els itineraris formatius més adients. (QUINS PODRIEN SER EL ITINERARIS FORMATIUS MÉS ADIENTS A CURT I MIG TERMINI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Helvetica-Bold"/>
              </a:rPr>
              <a:t>Concretar l’itinerari més adient en funció de la disponibilitat d’oferta i personal i del suport de la família i el centre. (QUÈ OPINA LA FAMÍLIA I EL CENTRE SOBRE L’ITINERARI FORMATIU PRESELECCIONAT?) I (QUINES OPCIONS EM QUEDAN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6" descr="dA"/>
          <p:cNvPicPr/>
          <p:nvPr/>
        </p:nvPicPr>
        <p:blipFill>
          <a:blip r:embed="rId1"/>
          <a:stretch/>
        </p:blipFill>
        <p:spPr>
          <a:xfrm>
            <a:off x="7380360" y="189000"/>
            <a:ext cx="150804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Helvetica-Bold"/>
              </a:rPr>
              <a:t>RETORN AL SISTEMA EDUCAT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4000" y="1557360"/>
            <a:ext cx="78865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Helvetica-Bold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6" descr="dA"/>
          <p:cNvPicPr/>
          <p:nvPr/>
        </p:nvPicPr>
        <p:blipFill>
          <a:blip r:embed="rId1"/>
          <a:stretch/>
        </p:blipFill>
        <p:spPr>
          <a:xfrm>
            <a:off x="7380360" y="189000"/>
            <a:ext cx="1508040" cy="828720"/>
          </a:xfrm>
          <a:prstGeom prst="rect">
            <a:avLst/>
          </a:prstGeom>
          <a:ln w="0">
            <a:noFill/>
          </a:ln>
        </p:spPr>
      </p:pic>
      <p:sp>
        <p:nvSpPr>
          <p:cNvPr id="137" name="QuadreDeText 1"/>
          <p:cNvSpPr/>
          <p:nvPr/>
        </p:nvSpPr>
        <p:spPr>
          <a:xfrm>
            <a:off x="3913200" y="1413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Arial"/>
              </a:rPr>
              <a:t>RETORN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QuadreDeText 5"/>
          <p:cNvSpPr/>
          <p:nvPr/>
        </p:nvSpPr>
        <p:spPr>
          <a:xfrm>
            <a:off x="1679400" y="2271600"/>
            <a:ext cx="1548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Arial"/>
              </a:rPr>
              <a:t>Acollida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QuadreDeText 6"/>
          <p:cNvSpPr/>
          <p:nvPr/>
        </p:nvSpPr>
        <p:spPr>
          <a:xfrm>
            <a:off x="2916360" y="3125880"/>
            <a:ext cx="2495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Arial"/>
              </a:rPr>
              <a:t>Assessorament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QuadreDeText 7"/>
          <p:cNvSpPr/>
          <p:nvPr/>
        </p:nvSpPr>
        <p:spPr>
          <a:xfrm>
            <a:off x="3881520" y="3944880"/>
            <a:ext cx="2882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Arial"/>
              </a:rPr>
              <a:t>Acompanyament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QuadreDeText 9"/>
          <p:cNvSpPr/>
          <p:nvPr/>
        </p:nvSpPr>
        <p:spPr>
          <a:xfrm>
            <a:off x="5713560" y="4941720"/>
            <a:ext cx="1954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Arial"/>
              </a:rPr>
              <a:t>Acreditació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QuadreDeText 10"/>
          <p:cNvSpPr/>
          <p:nvPr/>
        </p:nvSpPr>
        <p:spPr>
          <a:xfrm>
            <a:off x="6691320" y="5805360"/>
            <a:ext cx="18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Arial"/>
              </a:rPr>
              <a:t>Formació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onnector recte 3"/>
          <p:cNvSpPr/>
          <p:nvPr/>
        </p:nvSpPr>
        <p:spPr>
          <a:xfrm>
            <a:off x="3227400" y="2502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Connector de fletxa recta 11"/>
          <p:cNvCxnSpPr>
            <a:endCxn id="139" idx="0"/>
          </p:cNvCxnSpPr>
          <p:nvPr/>
        </p:nvCxnSpPr>
        <p:spPr>
          <a:xfrm>
            <a:off x="4163760" y="2501640"/>
            <a:ext cx="1080" cy="6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5" name="Connector recte 13"/>
          <p:cNvSpPr/>
          <p:nvPr/>
        </p:nvSpPr>
        <p:spPr>
          <a:xfrm>
            <a:off x="5411880" y="3357720"/>
            <a:ext cx="38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Connector de fletxa recta 15"/>
          <p:cNvCxnSpPr/>
          <p:nvPr/>
        </p:nvCxnSpPr>
        <p:spPr>
          <a:xfrm>
            <a:off x="5795640" y="3357360"/>
            <a:ext cx="1080" cy="58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7" name="Connector recte 18"/>
          <p:cNvSpPr/>
          <p:nvPr/>
        </p:nvSpPr>
        <p:spPr>
          <a:xfrm>
            <a:off x="6764400" y="4176720"/>
            <a:ext cx="32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Connector de fletxa recta 20"/>
          <p:cNvCxnSpPr/>
          <p:nvPr/>
        </p:nvCxnSpPr>
        <p:spPr>
          <a:xfrm>
            <a:off x="7092720" y="4176360"/>
            <a:ext cx="10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9" name="Connector recte 22"/>
          <p:cNvSpPr/>
          <p:nvPr/>
        </p:nvSpPr>
        <p:spPr>
          <a:xfrm>
            <a:off x="4572000" y="4406760"/>
            <a:ext cx="0" cy="16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Connector de fletxa recta 25"/>
          <p:cNvCxnSpPr>
            <a:endCxn id="142" idx="1"/>
          </p:cNvCxnSpPr>
          <p:nvPr/>
        </p:nvCxnSpPr>
        <p:spPr>
          <a:xfrm>
            <a:off x="4571640" y="6035400"/>
            <a:ext cx="21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1" name="Connector recte 27"/>
          <p:cNvSpPr/>
          <p:nvPr/>
        </p:nvSpPr>
        <p:spPr>
          <a:xfrm>
            <a:off x="7667640" y="51721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Connector de fletxa recta 29"/>
          <p:cNvCxnSpPr/>
          <p:nvPr/>
        </p:nvCxnSpPr>
        <p:spPr>
          <a:xfrm>
            <a:off x="7956360" y="5221440"/>
            <a:ext cx="1080" cy="58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SPECTES PRINCIP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4000" y="1557360"/>
            <a:ext cx="78865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Primer nivell: Dels interessos i capacitats als entorns professionals que més s’ajus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Segon nivel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4360" indent="-57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Dels entorns a les famílies professionals més af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4360" indent="-57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Dels entorns a les àrees profess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Tercer nivel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4360" indent="-57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De la família professional als PQPI, als Títols de GM, als Títols de BAT, al Títols de GS i posteriorment a possibles sortides universitàries af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4360" indent="-57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De l’àrea professional a l’oferta form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Quart nivell: Característiques de cada oferta formativa</a:t>
            </a: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6" descr="dA"/>
          <p:cNvPicPr/>
          <p:nvPr/>
        </p:nvPicPr>
        <p:blipFill>
          <a:blip r:embed="rId1"/>
          <a:stretch/>
        </p:blipFill>
        <p:spPr>
          <a:xfrm>
            <a:off x="7380360" y="189000"/>
            <a:ext cx="150804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imer nivell (I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dA"/>
          <p:cNvPicPr/>
          <p:nvPr/>
        </p:nvPicPr>
        <p:blipFill>
          <a:blip r:embed="rId1"/>
          <a:stretch/>
        </p:blipFill>
        <p:spPr>
          <a:xfrm>
            <a:off x="7380360" y="189000"/>
            <a:ext cx="1508040" cy="828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1870200" y="1557360"/>
            <a:ext cx="540216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imer nivell (II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6" descr="dA"/>
          <p:cNvPicPr/>
          <p:nvPr/>
        </p:nvPicPr>
        <p:blipFill>
          <a:blip r:embed="rId1"/>
          <a:stretch/>
        </p:blipFill>
        <p:spPr>
          <a:xfrm>
            <a:off x="7380360" y="189000"/>
            <a:ext cx="1508040" cy="828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1332000" y="1636560"/>
            <a:ext cx="68022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84978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187280" y="836640"/>
          <a:ext cx="7056720" cy="5192640"/>
        </p:xfrm>
        <a:graphic>
          <a:graphicData uri="http://schemas.openxmlformats.org/drawingml/2006/table">
            <a:tbl>
              <a:tblPr/>
              <a:tblGrid>
                <a:gridCol w="1587600"/>
                <a:gridCol w="1119240"/>
                <a:gridCol w="216000"/>
                <a:gridCol w="217440"/>
                <a:gridCol w="217440"/>
                <a:gridCol w="1368360"/>
                <a:gridCol w="1163880"/>
                <a:gridCol w="1166760"/>
              </a:tblGrid>
              <a:tr h="420840">
                <a:tc gridSpan="3"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mília Professional: COMERÇ I MÀRQUETING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torns: ECONÒMIC I EMPRESARIAL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752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ÀREA PROFESSIONAL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grama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ualificació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icial. 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 gridSpan="3"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ITULACIONS DE GRAU MITJ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ODALITAT DE BATXILLERAT</a:t>
                      </a:r>
                      <a:endParaRPr b="1" i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RECOMANABLE)</a:t>
                      </a:r>
                      <a:endParaRPr b="1" i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ITULACIONS DE GRAU SUPERIOR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ORTIDES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VERSITAT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677880"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àrqueting i relacions públiques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7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auxiliar de comerç i atenció al públic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7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10"/>
                        </a:rPr>
                        <a:t>aux. de vendes, oficina i atenció al públic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 gridSpan="3">
                  <a:txBody>
                    <a:bodyPr lIns="46440" rIns="46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a-ES" sz="7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11"/>
                        </a:rPr>
                        <a:t>Humanitats i ciències socials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7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12"/>
                        </a:rPr>
                        <a:t>Gestió comercial i màrqueting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 rowSpan="3"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ER A L’ACCÉS ALS GRAUS UNIVERSITÀRIS 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veure nota final 1  )  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677880"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ra venda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6440" rIns="46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7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13"/>
                        </a:rPr>
                        <a:t>Comerç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7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comerç internacional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7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Serveis al consumidor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7880"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ogística comercial i gestió del transport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7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Transport i logística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5880">
                <a:tc gridSpan="8"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A MODALITAT D’HUMANITATS I CIÈNCIES SOCIALS S’ADREÇA a l’alumnat amb inquietuds relacionades amb els estudis lingüístics i literaris, la filosofia, les manifestacions culturals, les ciències socials, jurídiques, polítiques i econòmiques, la gestió i administració pública, la comunicació, les relacions públiques, la publicitat, el turisme i altres serveis d’oci.</a:t>
                      </a:r>
                      <a:endParaRPr b="1" i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44760">
                <a:tc gridSpan="4"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a-ES" sz="7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MATÈRIES DE MODALITAT D’HUMANITATS I CIÈNCIES SOCIALS: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latí I i II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temàtiques aplicades a les ciències socials I i II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conomia de l'empresa I i II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rec I i II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conomia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ografia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istòria de l'art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istòria del món contemporani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iteratura catalana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iteratura castellana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iteratura universal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a-ES" sz="7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MATÈRIES OPTATIVES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egona llengua estrangera 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stada a l'empresa 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sicologia i sociologia 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tèries d’altres modalitats 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tèries dissenyades pel centre educatiu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TA: L’alumnat ha de triar un mínim de sis matèries de modalitat al llarg dels dos cursos, de les quals cinc han de ser  de la modalitat escollida. A més ha de completar-ne l’horari amb altes assignatures  de la mateixa modalitat, d’altres modalitats o amb matèries optatives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11:22:10Z</dcterms:created>
  <dc:creator>E00CAB</dc:creator>
  <dc:description/>
  <dc:language>en-US</dc:language>
  <cp:lastModifiedBy>usuari</cp:lastModifiedBy>
  <cp:lastPrinted>2013-02-25T10:57:58Z</cp:lastPrinted>
  <dcterms:modified xsi:type="dcterms:W3CDTF">2013-02-28T12:44:11Z</dcterms:modified>
  <cp:revision>218</cp:revision>
  <dc:subject/>
  <dc:title>Diapositiva 1</dc:title>
</cp:coreProperties>
</file>