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501D2F-8F4F-4712-8182-E96809A07AA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4930CB4-F4DF-4D8C-8FB8-BC2056F45AA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6B6841-74D8-4C6E-B1F5-3942758648F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8CDC8AB-532F-4945-B005-88722F5FFC7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14CD09-543F-45F6-93B9-13213414E79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632FBF2-F3D0-4B36-8434-02F987FEB45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71D9BF-632B-404A-8973-BA46C2EC0FA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4275376-39C5-4D7A-8A4F-B9EAD5A5D9C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7DF0CE6-B24B-472F-B4FB-427F6A849F4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FEC073-EA08-491E-A92D-12F9012D5D7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9567F52-93AD-4925-AAA0-53E5F76F151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C8E0E4-A87C-429B-BD1C-6A9CBE48456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600" spc="-1" strike="noStrike">
                <a:solidFill>
                  <a:srgbClr val="000000"/>
                </a:solidFill>
                <a:latin typeface="Helvetica-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E6A-9CB5-4278-B319-E60FDAC393B0}" type="datetime"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30/07/26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edu_portada"/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5"/>
          <p:cNvSpPr/>
          <p:nvPr/>
        </p:nvSpPr>
        <p:spPr>
          <a:xfrm>
            <a:off x="900000" y="333360"/>
            <a:ext cx="4608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23760"/>
            <a:ext cx="9105840" cy="6829560"/>
          </a:xfrm>
          <a:prstGeom prst="rect">
            <a:avLst/>
          </a:prstGeom>
          <a:ln w="0">
            <a:noFill/>
          </a:ln>
        </p:spPr>
      </p:pic>
      <p:sp>
        <p:nvSpPr>
          <p:cNvPr id="40" name="Line 4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2" TargetMode="External"/><Relationship Id="rId10" Type="http://schemas.openxmlformats.org/officeDocument/2006/relationships/hyperlink" Target="http://www20.gencat.cat/portal/site/queestudiar/menuitem.117f67559502935cd56a1c76b0c0e1a0/?vgnextoid=4ffb37a9f4f2b210VgnVCM2000009b0c1e0aRCRD&amp;vgnextchannel=4ffb37a9f4f2b210VgnVCM2000009b0c1e0aRCRD&amp;vgnextfmt=detall&amp;p_id=383" TargetMode="External"/><Relationship Id="rId11" Type="http://schemas.openxmlformats.org/officeDocument/2006/relationships/hyperlink" Target="http://www20.gencat.cat/portal/site/queestudiar/menuitem.e32cbab633a72f5cd56a1c76b0c0e1a0/?vgnextoid=d206e5b683f2b210VgnVCM2000009b0c1e0aRCRD&amp;vgnextchannel=d206e5b683f2b210VgnVCM2000009b0c1e0aRCRD&amp;vgnextfmt=default" TargetMode="External"/><Relationship Id="rId12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137" TargetMode="External"/><Relationship Id="rId13" Type="http://schemas.openxmlformats.org/officeDocument/2006/relationships/hyperlink" Target="http://www20.gencat.cat/portal/site/queestudiar/menuitem.117f67559502935cd56a1c76b0c0e1a0/?vgnextoid=1d8337a9f4f2b210VgnVCM2000009b0c1e0aRCRD&amp;vgnextchannel=1d8337a9f4f2b210VgnVCM2000009b0c1e0aRCRD&amp;vgnextfmt=detall&amp;p_id=68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997360"/>
            <a:ext cx="84646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ORMACIÓ PER A LA TRIA DE LA FORMACIÓ  POSTOBLIGATÒRIA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:\ARXIUS COMPARTITS\LOGOS\logo ensenyament 4.jpg"/>
          <p:cNvPicPr/>
          <p:nvPr/>
        </p:nvPicPr>
        <p:blipFill>
          <a:blip r:embed="rId2"/>
          <a:stretch/>
        </p:blipFill>
        <p:spPr>
          <a:xfrm>
            <a:off x="179280" y="436680"/>
            <a:ext cx="25974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403280" y="1773360"/>
          <a:ext cx="6730920" cy="4248000"/>
        </p:xfrm>
        <a:graphic>
          <a:graphicData uri="http://schemas.openxmlformats.org/drawingml/2006/table">
            <a:tbl>
              <a:tblPr/>
              <a:tblGrid>
                <a:gridCol w="2870280"/>
                <a:gridCol w="3860640"/>
              </a:tblGrid>
              <a:tr h="488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NTORN ECONÒMIC I EMPRESARI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REA PROFESSIONAL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àrqueting i relacions públiques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mpra vend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gística comercial i gestió del transport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teleri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rism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1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RELACIÓ D’ENTORNS I À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0000"/>
                </a:solidFill>
                <a:latin typeface="Calibri"/>
                <a:ea typeface="Calibri"/>
              </a:rPr>
              <a:t>Projectes en elabor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Helvetica-Bold"/>
              </a:rPr>
              <a:t>INFORMACIÓ PROFESSIONAL AFEG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) Curt termini: Document PDF annex a la pàgina Estudiar a Catalu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pcions acadèmiques en funció de l’edat i els estudis asso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Relació Entorns / Famílies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Família professional com a concepte aglutinador de l’oferta form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ormació integral vinculada d’estudis i d’oferta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I) Mig termini: Documents en elaboració pel grup de tr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. Document síntesi de l’opció tr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f. Proposta de model integrat d’orientació acadèmica i professional des de 3er d’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. Itineraris combinats de cicles i batxiller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alibri"/>
                <a:ea typeface="Calibri"/>
              </a:rPr>
              <a:t>h. Procés per al tractament orientatiu del Retorn a la formació des del Món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idor de contingut 3" descr=""/>
          <p:cNvPicPr/>
          <p:nvPr/>
        </p:nvPicPr>
        <p:blipFill>
          <a:blip r:embed="rId1"/>
          <a:stretch/>
        </p:blipFill>
        <p:spPr>
          <a:xfrm>
            <a:off x="703440" y="333360"/>
            <a:ext cx="7737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3er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e les activitats que li agraden o li agradaria desenvolupar,  (QUÈ M’AGRADA FE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informació del tipus d’activitats que es desenvolupen a nivell professional per a ocupacions relacionades amb l’apartat anterior. Per exemple per tenir cura dels animals, veure ocupacions de veterinari, ajudant de veterinari, etc. (QUINES OCUPACIONS A TALL D’EXEMPLE HI HA EN EL MERCAT DE TREBALL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Tenir consciència d’aquelles habilitats que tinc, per exemple per als números, o per als idiomes, i allò que tinc dificultats per desenvolupar. (QUÈ SER FER I QUÈ CAL MILLORAR?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els diferents entorns professionals que més s’aproximen als meus interessos i capacitats. (COM ES PODRIA RESUMIR EL MEU BAGATGE INICIAL D’INTERESSOS I CAPACITATS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èixer els itineraris formatius potencials existents en el Sistema formatiu i llur concreció en la Família Professional relacionada amb l’entorn profes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Accedir a 4art d’ESO amb les idees clares de quines podrien ser les matèries que millor permetrien preparar el terreny per accedir a la secundària postobligatoria. (COM HE D’ENFOCAR EL TRÀNSIT CAP A LA SECUNDÀRIA POSTOBLIGATORIA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L’orientació acadèmica i professional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 u="sng">
                <a:solidFill>
                  <a:srgbClr val="000000"/>
                </a:solidFill>
                <a:uFillTx/>
                <a:latin typeface="Helvetica-Bold"/>
              </a:rPr>
              <a:t>4art 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si el currículum de quart que estic cursant em portarà a assolir les 8 competències clau per a l’aprenentatge permanent definides a nivell europeu. (ENCAIX DEL CURRICULUM AMB LES COMPETÈNCIES CLA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Identificar les ocupacions i la formació associada per anar dibuixant els itineraris formatius més adients. (QUINS PODRIEN SER EL ITINERARIS FORMATIUS MÉS ADIENTS A CURT I MIG TERMINI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Concretar l’itinerari més adient en funció de la disponibilitat d’oferta i personal i del suport de la família i el centre. (QUÈ OPINA LA FAMÍLIA I EL CENTRE SOBRE L’ITINERARI FORMATIU PRESELECCIONAT?) I (QUINES OPCIONS EM QUEDAN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Helvetica-Bold"/>
              </a:rPr>
              <a:t>RETORN AL SISTEMA EDUCAT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Helvetica-Bold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sp>
        <p:nvSpPr>
          <p:cNvPr id="137" name="QuadreDeText 1"/>
          <p:cNvSpPr/>
          <p:nvPr/>
        </p:nvSpPr>
        <p:spPr>
          <a:xfrm>
            <a:off x="39132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RETOR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QuadreDeText 5"/>
          <p:cNvSpPr/>
          <p:nvPr/>
        </p:nvSpPr>
        <p:spPr>
          <a:xfrm>
            <a:off x="1679400" y="2271600"/>
            <a:ext cx="15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lli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QuadreDeText 6"/>
          <p:cNvSpPr/>
          <p:nvPr/>
        </p:nvSpPr>
        <p:spPr>
          <a:xfrm>
            <a:off x="2916360" y="3125880"/>
            <a:ext cx="24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ssessor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QuadreDeText 7"/>
          <p:cNvSpPr/>
          <p:nvPr/>
        </p:nvSpPr>
        <p:spPr>
          <a:xfrm>
            <a:off x="3881520" y="3944880"/>
            <a:ext cx="288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ompanya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QuadreDeText 9"/>
          <p:cNvSpPr/>
          <p:nvPr/>
        </p:nvSpPr>
        <p:spPr>
          <a:xfrm>
            <a:off x="5713560" y="4941720"/>
            <a:ext cx="195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Acredit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QuadreDeText 10"/>
          <p:cNvSpPr/>
          <p:nvPr/>
        </p:nvSpPr>
        <p:spPr>
          <a:xfrm>
            <a:off x="6691320" y="5805360"/>
            <a:ext cx="18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</a:rPr>
              <a:t>Formació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nector recte 3"/>
          <p:cNvSpPr/>
          <p:nvPr/>
        </p:nvSpPr>
        <p:spPr>
          <a:xfrm>
            <a:off x="3227400" y="2502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nector de fletxa recta 11"/>
          <p:cNvCxnSpPr>
            <a:endCxn id="139" idx="0"/>
          </p:cNvCxnSpPr>
          <p:nvPr/>
        </p:nvCxnSpPr>
        <p:spPr>
          <a:xfrm>
            <a:off x="4163760" y="2501640"/>
            <a:ext cx="108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Connector recte 13"/>
          <p:cNvSpPr/>
          <p:nvPr/>
        </p:nvSpPr>
        <p:spPr>
          <a:xfrm>
            <a:off x="5411880" y="33577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or de fletxa recta 15"/>
          <p:cNvCxnSpPr/>
          <p:nvPr/>
        </p:nvCxnSpPr>
        <p:spPr>
          <a:xfrm>
            <a:off x="5795640" y="3357360"/>
            <a:ext cx="1080" cy="58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Connector recte 18"/>
          <p:cNvSpPr/>
          <p:nvPr/>
        </p:nvSpPr>
        <p:spPr>
          <a:xfrm>
            <a:off x="6764400" y="417672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nector de fletxa recta 20"/>
          <p:cNvCxnSpPr/>
          <p:nvPr/>
        </p:nvCxnSpPr>
        <p:spPr>
          <a:xfrm>
            <a:off x="7092720" y="4176360"/>
            <a:ext cx="10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Connector recte 22"/>
          <p:cNvSpPr/>
          <p:nvPr/>
        </p:nvSpPr>
        <p:spPr>
          <a:xfrm>
            <a:off x="4572000" y="4406760"/>
            <a:ext cx="0" cy="16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 de fletxa recta 25"/>
          <p:cNvCxnSpPr>
            <a:endCxn id="142" idx="1"/>
          </p:cNvCxnSpPr>
          <p:nvPr/>
        </p:nvCxnSpPr>
        <p:spPr>
          <a:xfrm>
            <a:off x="4571640" y="6035400"/>
            <a:ext cx="21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Connector recte 27"/>
          <p:cNvSpPr/>
          <p:nvPr/>
        </p:nvSpPr>
        <p:spPr>
          <a:xfrm>
            <a:off x="7667640" y="51721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Connector de fletxa recta 29"/>
          <p:cNvCxnSpPr/>
          <p:nvPr/>
        </p:nvCxnSpPr>
        <p:spPr>
          <a:xfrm>
            <a:off x="7956360" y="5221440"/>
            <a:ext cx="108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ECTES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86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rimer nivell: Dels interessos i capacitats als entorns professionals que més s’aju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Segon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famílies professionals més a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ls entorns a les àrees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Tercer nive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a família professional als PQPI, als Títols de GM, als Títols de BAT, al Títols de GS i posteriorment a possibles sortides universitàries af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436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l’àrea professional a l’oferta f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Quart nivell: Característiques de cada oferta formativa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870200" y="1557360"/>
            <a:ext cx="5402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imer nivell (I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dA"/>
          <p:cNvPicPr/>
          <p:nvPr/>
        </p:nvPicPr>
        <p:blipFill>
          <a:blip r:embed="rId1"/>
          <a:stretch/>
        </p:blipFill>
        <p:spPr>
          <a:xfrm>
            <a:off x="7380360" y="189000"/>
            <a:ext cx="1508040" cy="82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332000" y="1636560"/>
            <a:ext cx="6802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87280" y="836640"/>
          <a:ext cx="7056720" cy="5192640"/>
        </p:xfrm>
        <a:graphic>
          <a:graphicData uri="http://schemas.openxmlformats.org/drawingml/2006/table">
            <a:tbl>
              <a:tblPr/>
              <a:tblGrid>
                <a:gridCol w="1587600"/>
                <a:gridCol w="1119240"/>
                <a:gridCol w="216000"/>
                <a:gridCol w="217440"/>
                <a:gridCol w="217440"/>
                <a:gridCol w="1368360"/>
                <a:gridCol w="1163880"/>
                <a:gridCol w="1166760"/>
              </a:tblGrid>
              <a:tr h="420840"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mília Professional: COMERÇ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torns: ECONÒMIC I EMPRESARI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ÀREA PROFESS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lificació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icial. 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MITJ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DALITAT DE BATXILLERAT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RECOMANABLE)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TULACIONS DE GRAU SUPERI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RTID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SITA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àrqueting i relacions públiqu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auxiliar de comerç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aux. de vendes, oficina i atenció al públic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umanitats i ciències social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Gestió comercial i màrqueting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A L’ACCÉS ALS GRAUS UNIVERSITÀRI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eure nota final 1  ) 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ra vend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omerç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comerç internacional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Serveis al consumidor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gística comercial i gestió del transport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7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Transport i logística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gridSpan="8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MODALITAT D’HUMANITATS I CIÈNCIES SOCIALS S’ADREÇA a l’alumnat amb inquietuds relacionades amb els estudis lingüístics i literaris, la filosofia, les manifestacions culturals, les ciències socials, jurídiques, polítiques i econòmiques, la gestió i administració pública, la comunicació, les relacions públiques, la publicitat, el turisme i altres serveis d’oci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4760"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DE MODALITAT D’HUMANITATS I CIÈNCIES SOCIALS: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latí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emàtiques aplicades a les ciències socials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 de l'empresa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c I i I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ografi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 l'art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stòria del món contemporani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ta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castellana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universal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a-ES" sz="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MATÈRIES OPTATIVES</a:t>
                      </a:r>
                      <a:endParaRPr b="1" i="1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gona llengua estranger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da a l'empres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icologia i sociologia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’altres modalitats 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tèries dissenyades pel centre educatiu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: L’alumnat ha de triar un mínim de sis matèries de modalitat al llarg dels dos cursos, de les quals cinc han de ser  de la modalitat escollida. A més ha de completar-ne l’horari amb altes assignatures  de la mateixa modalitat, d’altres modalitats o amb matèries optatives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i="1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1:22:10Z</dcterms:created>
  <dc:creator>E00CAB</dc:creator>
  <dc:description/>
  <dc:language>en-US</dc:language>
  <cp:lastModifiedBy>usuari</cp:lastModifiedBy>
  <cp:lastPrinted>2013-02-25T10:57:58Z</cp:lastPrinted>
  <dcterms:modified xsi:type="dcterms:W3CDTF">2013-02-28T12:44:11Z</dcterms:modified>
  <cp:revision>218</cp:revision>
  <dc:subject/>
  <dc:title>Diapositiva 1</dc:title>
</cp:coreProperties>
</file>