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0EA2549-0B63-4621-B45D-9137B0892AE4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BA83D86-9C39-4F2B-BF1D-D41E1D2839C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641EFC4-B50E-4431-B498-82D5AB0920D8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F582234-6C06-4BF7-81CB-6F716829A648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D133E79-2C57-4F34-ADFE-10B43F4051DD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54A4E24-17C0-48B6-8B40-B0CBE4D553F9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F8D1199-2146-4DEA-8084-4041B9A5132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596E075-2DB4-4EEC-A4F7-6FF81A46B0BC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1683D06-B47B-4B3B-801A-F55345800FB9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CC2940E-9A96-440B-A4CB-CF9811D6A52C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1B5A482-E3A3-480A-AD87-E8771F334679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FD71256-D940-48B3-8B50-4D1FA4EB2AA4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600" spc="-1" strike="noStrike">
                <a:solidFill>
                  <a:srgbClr val="000000"/>
                </a:solidFill>
                <a:latin typeface="Helvetica-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EB01-7F5D-464F-B23A-3F425D0C2B46}" type="datetime"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31/07/26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edu_portada"/>
          <p:cNvPicPr/>
          <p:nvPr/>
        </p:nvPicPr>
        <p:blipFill>
          <a:blip r:embed="rId2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5"/>
          <p:cNvSpPr/>
          <p:nvPr/>
        </p:nvSpPr>
        <p:spPr>
          <a:xfrm>
            <a:off x="900000" y="333360"/>
            <a:ext cx="4608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23760"/>
            <a:ext cx="9105840" cy="6829560"/>
          </a:xfrm>
          <a:prstGeom prst="rect">
            <a:avLst/>
          </a:prstGeom>
          <a:ln w="0">
            <a:noFill/>
          </a:ln>
        </p:spPr>
      </p:pic>
      <p:sp>
        <p:nvSpPr>
          <p:cNvPr id="40" name="Line 4"/>
          <p:cNvSpPr/>
          <p:nvPr/>
        </p:nvSpPr>
        <p:spPr>
          <a:xfrm>
            <a:off x="762120" y="1066680"/>
            <a:ext cx="7696080" cy="0"/>
          </a:xfrm>
          <a:prstGeom prst="line">
            <a:avLst/>
          </a:prstGeom>
          <a:ln w="28440">
            <a:solidFill>
              <a:srgbClr val="cc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hyperlink" Target="http://www20.gencat.cat/portal/site/queestudiar/menuitem.117f67559502935cd56a1c76b0c0e1a0/?vgnextoid=4ffb37a9f4f2b210VgnVCM2000009b0c1e0aRCRD&amp;vgnextchannel=4ffb37a9f4f2b210VgnVCM2000009b0c1e0aRCRD&amp;vgnextfmt=detall&amp;p_id=382" TargetMode="External"/><Relationship Id="rId10" Type="http://schemas.openxmlformats.org/officeDocument/2006/relationships/hyperlink" Target="http://www20.gencat.cat/portal/site/queestudiar/menuitem.117f67559502935cd56a1c76b0c0e1a0/?vgnextoid=4ffb37a9f4f2b210VgnVCM2000009b0c1e0aRCRD&amp;vgnextchannel=4ffb37a9f4f2b210VgnVCM2000009b0c1e0aRCRD&amp;vgnextfmt=detall&amp;p_id=383" TargetMode="External"/><Relationship Id="rId11" Type="http://schemas.openxmlformats.org/officeDocument/2006/relationships/hyperlink" Target="http://www20.gencat.cat/portal/site/queestudiar/menuitem.e32cbab633a72f5cd56a1c76b0c0e1a0/?vgnextoid=d206e5b683f2b210VgnVCM2000009b0c1e0aRCRD&amp;vgnextchannel=d206e5b683f2b210VgnVCM2000009b0c1e0aRCRD&amp;vgnextfmt=default" TargetMode="External"/><Relationship Id="rId12" Type="http://schemas.openxmlformats.org/officeDocument/2006/relationships/hyperlink" Target="http://www20.gencat.cat/portal/site/queestudiar/menuitem.117f67559502935cd56a1c76b0c0e1a0/?vgnextoid=1d8337a9f4f2b210VgnVCM2000009b0c1e0aRCRD&amp;vgnextchannel=1d8337a9f4f2b210VgnVCM2000009b0c1e0aRCRD&amp;vgnextfmt=detall&amp;p_id=137" TargetMode="External"/><Relationship Id="rId13" Type="http://schemas.openxmlformats.org/officeDocument/2006/relationships/hyperlink" Target="http://www20.gencat.cat/portal/site/queestudiar/menuitem.117f67559502935cd56a1c76b0c0e1a0/?vgnextoid=1d8337a9f4f2b210VgnVCM2000009b0c1e0aRCRD&amp;vgnextchannel=1d8337a9f4f2b210VgnVCM2000009b0c1e0aRCRD&amp;vgnextfmt=detall&amp;p_id=68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997360"/>
            <a:ext cx="84646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FORMACIÓ PER A LA TRIA DE LA FORMACIÓ  POSTOBLIGATÒRIA</a:t>
            </a:r>
            <a:br>
              <a:rPr sz="2800"/>
            </a:br>
            <a:br>
              <a:rPr sz="2000"/>
            </a:br>
            <a:br>
              <a:rPr sz="20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:\ARXIUS COMPARTITS\LOGOS\logo ensenyament 4.jpg"/>
          <p:cNvPicPr/>
          <p:nvPr/>
        </p:nvPicPr>
        <p:blipFill>
          <a:blip r:embed="rId2"/>
          <a:stretch/>
        </p:blipFill>
        <p:spPr>
          <a:xfrm>
            <a:off x="179280" y="436680"/>
            <a:ext cx="25974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6910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Helvetica-Bold"/>
              </a:rPr>
              <a:t>RELACIÓ D’ENTORNS I ÀR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6910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Helvetica-Bold"/>
              </a:rPr>
              <a:t>RELACIÓ D’ENTORNS I ÀR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1403280" y="1773360"/>
          <a:ext cx="6730920" cy="4248000"/>
        </p:xfrm>
        <a:graphic>
          <a:graphicData uri="http://schemas.openxmlformats.org/drawingml/2006/table">
            <a:tbl>
              <a:tblPr/>
              <a:tblGrid>
                <a:gridCol w="2870280"/>
                <a:gridCol w="3860640"/>
              </a:tblGrid>
              <a:tr h="4888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ENTORN ECONÒMIC I EMPRESARIAL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REA PROFESSIONAL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àrqueting i relacions públiques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Compra venda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gística comercial i gestió del transport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teleria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urisme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6910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Helvetica-Bold"/>
              </a:rPr>
              <a:t>RELACIÓ D’ENTORNS I ÀR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6000" spc="-1" strike="noStrike">
                <a:solidFill>
                  <a:srgbClr val="000000"/>
                </a:solidFill>
                <a:latin typeface="Calibri"/>
                <a:ea typeface="Calibri"/>
              </a:rPr>
              <a:t>Projectes en elabor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Helvetica-Bold"/>
              </a:rPr>
              <a:t>INFORMACIÓ PROFESSIONAL AFEG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I) Curt termini: Document PDF annex a la pàgina Estudiar a Catalun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Opcions acadèmiques en funció de l’edat i els estudis assol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Relació Entorns / Famílies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La Família professional com a concepte aglutinador de l’oferta forma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La informació integral vinculada d’estudis i d’oferta form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II) Mig termini: Documents en elaboració pel grup de tr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e. Document síntesi de l’opció tri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f. Proposta de model integrat d’orientació acadèmica i professional des de 3er d’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g. Itineraris combinats de cicles i batxiller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h. Procés per al tractament orientatiu del Retorn a la formació des del Món lab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idor de contingut 3" descr=""/>
          <p:cNvPicPr/>
          <p:nvPr/>
        </p:nvPicPr>
        <p:blipFill>
          <a:blip r:embed="rId1"/>
          <a:stretch/>
        </p:blipFill>
        <p:spPr>
          <a:xfrm>
            <a:off x="703440" y="333360"/>
            <a:ext cx="77371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idor de contingut 3" descr=""/>
          <p:cNvPicPr/>
          <p:nvPr/>
        </p:nvPicPr>
        <p:blipFill>
          <a:blip r:embed="rId1"/>
          <a:stretch/>
        </p:blipFill>
        <p:spPr>
          <a:xfrm>
            <a:off x="703440" y="333360"/>
            <a:ext cx="77371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Contenidor de contingut 3" descr=""/>
          <p:cNvPicPr/>
          <p:nvPr/>
        </p:nvPicPr>
        <p:blipFill>
          <a:blip r:embed="rId1"/>
          <a:stretch/>
        </p:blipFill>
        <p:spPr>
          <a:xfrm>
            <a:off x="703440" y="333360"/>
            <a:ext cx="77371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Helvetica-Bold"/>
              </a:rPr>
              <a:t>L’orientació acadèmica i professional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 u="sng">
                <a:solidFill>
                  <a:srgbClr val="000000"/>
                </a:solidFill>
                <a:uFillTx/>
                <a:latin typeface="Helvetica-Bold"/>
              </a:rPr>
              <a:t>3er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Tenir consciència de les activitats que li agraden o li agradaria desenvolupar,  (QUÈ M’AGRADA FER?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Tenir informació del tipus d’activitats que es desenvolupen a nivell professional per a ocupacions relacionades amb l’apartat anterior. Per exemple per tenir cura dels animals, veure ocupacions de veterinari, ajudant de veterinari, etc. (QUINES OCUPACIONS A TALL D’EXEMPLE HI HA EN EL MERCAT DE TREBALL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Tenir consciència d’aquelles habilitats que tinc, per exemple per als números, o per als idiomes, i allò que tinc dificultats per desenvolupar. (QUÈ SER FER I QUÈ CAL MILLORAR?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Identificar els diferents entorns professionals que més s’aproximen als meus interessos i capacitats. (COM ES PODRIA RESUMIR EL MEU BAGATGE INICIAL D’INTERESSOS I CAPACITATS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Conèixer els itineraris formatius potencials existents en el Sistema formatiu i llur concreció en la Família Professional relacionada amb l’entorn professi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Accedir a 4art d’ESO amb les idees clares de quines podrien ser les matèries que millor permetrien preparar el terreny per accedir a la secundària postobligatoria. (COM HE D’ENFOCAR EL TRÀNSIT CAP A LA SECUNDÀRIA POSTOBLIGATORIA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Helvetica-Bold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Helvetica-Bold"/>
              </a:rPr>
              <a:t>L’orientació acadèmica i professional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 u="sng">
                <a:solidFill>
                  <a:srgbClr val="000000"/>
                </a:solidFill>
                <a:uFillTx/>
                <a:latin typeface="Helvetica-Bold"/>
              </a:rPr>
              <a:t>4art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Identificar si el currículum de quart que estic cursant em portarà a assolir les 8 competències clau per a l’aprenentatge permanent definides a nivell europeu. (ENCAIX DEL CURRICULUM AMB LES COMPETÈNCIES CLAU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Identificar les ocupacions i la formació associada per anar dibuixant els itineraris formatius més adients. (QUINS PODRIEN SER EL ITINERARIS FORMATIUS MÉS ADIENTS A CURT I MIG TERMINI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Concretar l’itinerari més adient en funció de la disponibilitat d’oferta i personal i del suport de la família i el centre. (QUÈ OPINA LA FAMÍLIA I EL CENTRE SOBRE L’ITINERARI FORMATIU PRESELECCIONAT?) I (QUINES OPCIONS EM QUEDAN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Helvetica-Bold"/>
              </a:rPr>
              <a:t>RETORN AL SISTEMA EDUCAT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sp>
        <p:nvSpPr>
          <p:cNvPr id="137" name="QuadreDeText 1"/>
          <p:cNvSpPr/>
          <p:nvPr/>
        </p:nvSpPr>
        <p:spPr>
          <a:xfrm>
            <a:off x="3913200" y="141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RETOR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QuadreDeText 5"/>
          <p:cNvSpPr/>
          <p:nvPr/>
        </p:nvSpPr>
        <p:spPr>
          <a:xfrm>
            <a:off x="1679400" y="2271600"/>
            <a:ext cx="154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Acollid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QuadreDeText 6"/>
          <p:cNvSpPr/>
          <p:nvPr/>
        </p:nvSpPr>
        <p:spPr>
          <a:xfrm>
            <a:off x="2916360" y="3125880"/>
            <a:ext cx="249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Assessoramen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QuadreDeText 7"/>
          <p:cNvSpPr/>
          <p:nvPr/>
        </p:nvSpPr>
        <p:spPr>
          <a:xfrm>
            <a:off x="3881520" y="3944880"/>
            <a:ext cx="2882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Acompanyamen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QuadreDeText 9"/>
          <p:cNvSpPr/>
          <p:nvPr/>
        </p:nvSpPr>
        <p:spPr>
          <a:xfrm>
            <a:off x="5713560" y="4941720"/>
            <a:ext cx="1954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Acreditació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QuadreDeText 10"/>
          <p:cNvSpPr/>
          <p:nvPr/>
        </p:nvSpPr>
        <p:spPr>
          <a:xfrm>
            <a:off x="6691320" y="5805360"/>
            <a:ext cx="18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Formació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onnector recte 3"/>
          <p:cNvSpPr/>
          <p:nvPr/>
        </p:nvSpPr>
        <p:spPr>
          <a:xfrm>
            <a:off x="3227400" y="2502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Connector de fletxa recta 11"/>
          <p:cNvCxnSpPr>
            <a:endCxn id="139" idx="0"/>
          </p:cNvCxnSpPr>
          <p:nvPr/>
        </p:nvCxnSpPr>
        <p:spPr>
          <a:xfrm>
            <a:off x="4163760" y="2501640"/>
            <a:ext cx="1080" cy="6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Connector recte 13"/>
          <p:cNvSpPr/>
          <p:nvPr/>
        </p:nvSpPr>
        <p:spPr>
          <a:xfrm>
            <a:off x="5411880" y="335772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Connector de fletxa recta 15"/>
          <p:cNvCxnSpPr/>
          <p:nvPr/>
        </p:nvCxnSpPr>
        <p:spPr>
          <a:xfrm>
            <a:off x="5795640" y="3357360"/>
            <a:ext cx="1080" cy="58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Connector recte 18"/>
          <p:cNvSpPr/>
          <p:nvPr/>
        </p:nvSpPr>
        <p:spPr>
          <a:xfrm>
            <a:off x="6764400" y="417672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Connector de fletxa recta 20"/>
          <p:cNvCxnSpPr/>
          <p:nvPr/>
        </p:nvCxnSpPr>
        <p:spPr>
          <a:xfrm>
            <a:off x="7092720" y="4176360"/>
            <a:ext cx="10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Connector recte 22"/>
          <p:cNvSpPr/>
          <p:nvPr/>
        </p:nvSpPr>
        <p:spPr>
          <a:xfrm>
            <a:off x="4572000" y="4406760"/>
            <a:ext cx="0" cy="16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Connector de fletxa recta 25"/>
          <p:cNvCxnSpPr>
            <a:endCxn id="142" idx="1"/>
          </p:cNvCxnSpPr>
          <p:nvPr/>
        </p:nvCxnSpPr>
        <p:spPr>
          <a:xfrm>
            <a:off x="4571640" y="6035400"/>
            <a:ext cx="21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Connector recte 27"/>
          <p:cNvSpPr/>
          <p:nvPr/>
        </p:nvSpPr>
        <p:spPr>
          <a:xfrm>
            <a:off x="7667640" y="51721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Connector de fletxa recta 29"/>
          <p:cNvCxnSpPr/>
          <p:nvPr/>
        </p:nvCxnSpPr>
        <p:spPr>
          <a:xfrm>
            <a:off x="7956360" y="5221440"/>
            <a:ext cx="1080" cy="5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PECTES PRINCIP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Primer nivell: Dels interessos i capacitats als entorns professionals que més s’aju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Segon nivel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436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ls entorns a les famílies professionals més af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436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ls entorns a les àrees 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Tercer nivel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436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 la família professional als PQPI, als Títols de GM, als Títols de BAT, al Títols de GS i posteriorment a possibles sortides universitàries af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436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 l’àrea professional a l’oferta form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Quart nivell: Característiques de cada oferta formativa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imer nivell (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870200" y="1557360"/>
            <a:ext cx="54021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imer nivell (I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1332000" y="1636560"/>
            <a:ext cx="68022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497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187280" y="836640"/>
          <a:ext cx="7056720" cy="5192640"/>
        </p:xfrm>
        <a:graphic>
          <a:graphicData uri="http://schemas.openxmlformats.org/drawingml/2006/table">
            <a:tbl>
              <a:tblPr/>
              <a:tblGrid>
                <a:gridCol w="1587600"/>
                <a:gridCol w="1119240"/>
                <a:gridCol w="216000"/>
                <a:gridCol w="217440"/>
                <a:gridCol w="217440"/>
                <a:gridCol w="1368360"/>
                <a:gridCol w="1163880"/>
                <a:gridCol w="1166760"/>
              </a:tblGrid>
              <a:tr h="420840">
                <a:tc gridSpan="3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mília Professional: COMERÇ I MÀRQUETING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torns: ECONÒMIC I EMPRESARIAL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52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ÀREA PROFESSIONAL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a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alificació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icial. 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gridSpan="3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ITULACIONS DE GRAU MITJ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DALITAT DE BATXILLERAT</a:t>
                      </a:r>
                      <a:endParaRPr b="1" i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RECOMANABLE)</a:t>
                      </a:r>
                      <a:endParaRPr b="1" i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ITULACIONS DE GRAU SUPERIOR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RTIDES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SITAT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67788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àrqueting i relacions públiques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auxiliar de comerç i atenció al públic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aux. de vendes, oficina i atenció al públic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a-ES" sz="7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Humanitats i ciències socials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Gestió comercial i màrqueting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 rowSpan="3"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 A L’ACCÉS ALS GRAUS UNIVERSITÀRIS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veure nota final 1  ) 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67788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ra venda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Comerç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comerç internacional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Serveis al consumidor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gística comercial i gestió del transport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Transport i logística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 gridSpan="8"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MODALITAT D’HUMANITATS I CIÈNCIES SOCIALS S’ADREÇA a l’alumnat amb inquietuds relacionades amb els estudis lingüístics i literaris, la filosofia, les manifestacions culturals, les ciències socials, jurídiques, polítiques i econòmiques, la gestió i administració pública, la comunicació, les relacions públiques, la publicitat, el turisme i altres serveis d’oci.</a:t>
                      </a:r>
                      <a:endParaRPr b="1" i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4760">
                <a:tc gridSpan="4"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a-ES" sz="7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MATÈRIES DE MODALITAT D’HUMANITATS I CIÈNCIES SOCIALS: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latí I i II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temàtiques aplicades a les ciències socials I i II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conomia de l'empresa I i II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ec I i II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conomia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ografia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istòria de l'art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istòria del món contemporani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teratura catalana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teratura castellana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teratura universal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a-ES" sz="7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MATÈRIES OPTATIVES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gona llengua estrangera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tada a l'empresa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sicologia i sociologia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tèries d’altres modalitats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tèries dissenyades pel centre educatiu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: L’alumnat ha de triar un mínim de sis matèries de modalitat al llarg dels dos cursos, de les quals cinc han de ser  de la modalitat escollida. A més ha de completar-ne l’horari amb altes assignatures  de la mateixa modalitat, d’altres modalitats o amb matèries optatives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1:22:10Z</dcterms:created>
  <dc:creator>E00CAB</dc:creator>
  <dc:description/>
  <dc:language>en-US</dc:language>
  <cp:lastModifiedBy>usuari</cp:lastModifiedBy>
  <cp:lastPrinted>2013-02-25T10:57:58Z</cp:lastPrinted>
  <dcterms:modified xsi:type="dcterms:W3CDTF">2013-02-28T12:44:11Z</dcterms:modified>
  <cp:revision>218</cp:revision>
  <dc:subject/>
  <dc:title>Diapositiva 1</dc:title>
</cp:coreProperties>
</file>