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D84D-50A6-4FB2-8A29-6D209AC0D7DB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993D-408B-4667-90FD-4C452C61BFE5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AA59-E6FD-4D29-AD3E-215E8C0826F3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629D-6276-414E-B29F-CADC90A53031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6143-D067-4C94-8085-FE0B85FBB457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A930-F8CF-4C7F-A6D6-B319E3F58CC7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C34D-41B8-425A-9D8D-575693195FB7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C8D0-288E-49BE-82B7-66F4B78F9B7B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2F8E-5B37-4574-8A68-A82AF64A0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777384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2974680"/>
            <a:ext cx="777384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7079-6153-47A0-87EC-8EB289729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119B-624C-447A-B0A9-D26CFD751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74312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2880" y="174312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297468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297468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2880" y="297468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835B-E366-4C52-8642-1BEDF7A2D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743120"/>
            <a:ext cx="777384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777384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2200" y="189000"/>
            <a:ext cx="77742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43120"/>
            <a:ext cx="777384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DEAB1-0D8A-4D0D-8D33-91CC584AE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92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2974680"/>
            <a:ext cx="777384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777384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2974680"/>
            <a:ext cx="777384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92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4520" y="174312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2880" y="174312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297468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4520" y="297468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2880" y="297468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777384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0825-F191-4E1F-80D7-7F1CC9E9A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2EDE-438E-4C6A-A140-9F0345CD4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D88D-3682-4C77-92BE-1635048F2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200" y="189000"/>
            <a:ext cx="77742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1A41-0F78-4746-8410-A714EEC1E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4940-3817-42D2-BC7C-9875E8824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0A4A5-E51A-46F5-9FC0-D744A76D9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2974680"/>
            <a:ext cx="777384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CA3BD-8B93-4DB7-AC52-097AD7D57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43120"/>
            <a:ext cx="777384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7"/>
          <p:cNvSpPr/>
          <p:nvPr/>
        </p:nvSpPr>
        <p:spPr>
          <a:xfrm>
            <a:off x="762120" y="1197000"/>
            <a:ext cx="769608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10C8-EA91-4D21-9C4D-D3C3062AEEEB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0" descr="DGESOB_c"/>
          <p:cNvPicPr/>
          <p:nvPr/>
        </p:nvPicPr>
        <p:blipFill>
          <a:blip r:embed="rId3"/>
          <a:stretch/>
        </p:blipFill>
        <p:spPr>
          <a:xfrm>
            <a:off x="423720" y="6073920"/>
            <a:ext cx="3164040" cy="62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DGESOB_centrat_c"/>
          <p:cNvPicPr/>
          <p:nvPr/>
        </p:nvPicPr>
        <p:blipFill>
          <a:blip r:embed="rId3"/>
          <a:stretch/>
        </p:blipFill>
        <p:spPr>
          <a:xfrm>
            <a:off x="1676520" y="692280"/>
            <a:ext cx="5659200" cy="1857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43120"/>
            <a:ext cx="777384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encat.cat/preinscripci&#243;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3573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c00000"/>
                </a:solidFill>
                <a:latin typeface="Arial"/>
              </a:rPr>
              <a:t>Educació d’adults</a:t>
            </a:r>
            <a:endParaRPr b="1" lang="en-US" sz="36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299280" y="602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Febrer 20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38DA-07F9-4E84-8851-215FA2B21E94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4360" y="324000"/>
            <a:ext cx="803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om s’organitza el cicle de formació instrument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35080" y="1413000"/>
            <a:ext cx="890892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’objectiu d’aquest cicle és que els adults aprenguin a  llegir, escriure i fer càlculs elemental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’alumnat que assoleix els continguts d’aquest cicle obté el certificat de formació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instrumental. (En disseny nou currículum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Decret 213/2002 de 1 d’agost. Capítol 2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S’estructura en tres nivells i cada nivell en àrees de coneixement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À. de llengua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À. de matemàtiq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À. de ciències socials i natural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1er nivell: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adquisició dels mecanismes fonamentals de lectura, escriptura, càlcul i nocions fonamental sobre l’entorn social i natural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2on nivell: 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consolidar els mecanismes anteriors i coneixements que expliquen l’entor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3er nivell: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s’amplien els coneixements anterior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a durada aproximada d’aquesta formació és de 1.100 hores. L’alumnat quan acaba pot seguir amb els ensenyaments GES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4DD4-D2F4-4FDB-9228-0B50CE99882D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187280" y="260280"/>
            <a:ext cx="859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om s’organitza l’ensenyament d’educació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secundària obligatòria (GES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755640" y="1341360"/>
            <a:ext cx="7777080" cy="26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950760" y="1484280"/>
            <a:ext cx="754704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Objectiu: que les persones adultes puguin aconseguir el títol de GES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bans de la matrícula hi ha la prova d’avaluació inicial on es valoren els antecedents acadèmics i competències que te assolides. Si escau, pot acreditar i/o convalidar alguns mòduls, àmbits o nivell compl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826920" y="4508640"/>
            <a:ext cx="767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Decret 161/2009 de 27 d’octubre de 2009. DOGC 5496-2.11.2009. Ordenació dels ensenyament de l’educació secundària obligatòria per a persones adul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55640" y="4221000"/>
            <a:ext cx="7777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D982-1D88-4DEC-A85E-6C91CD997573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879480" y="447840"/>
            <a:ext cx="7580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0000"/>
                </a:solidFill>
                <a:latin typeface="Arial"/>
              </a:rPr>
              <a:t>Com s’organitza l’ensenyament d’educació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0000"/>
                </a:solidFill>
                <a:latin typeface="Arial"/>
              </a:rPr>
              <a:t>secundària obligatòria (GESO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808200" y="971640"/>
            <a:ext cx="805968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6000" y="1197000"/>
            <a:ext cx="890748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urrículum: 3 àmbit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- A. Comunicació: llengua catalana i literatura, llengua castellana i literatura i llengua estranger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- A. Cientificotecnològic: ciències de la naturalesa, matemàtiques, tecnologies i aspectes relacionats amb la salut i medi ambie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- A. Social ciències socials, geografia i història, educació per a la ciutadania i  aspectes d’educació visual, plàstica i mús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El àmbits s’organitzen en mòduls. Mòduls comuns i opcional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l mòduls comuns els han de cursar, convalidar o acreditar tot l’alumna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ls mòduls opcionals: l’alumne pot escollir segons els seus interessos i necessitats dins de l’oferta que té el centre de formació d’adul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84320" y="1341360"/>
            <a:ext cx="878508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ECE8-3F30-492E-9F63-AC8C08612184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023840" y="303120"/>
            <a:ext cx="743580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0000"/>
                </a:solidFill>
                <a:latin typeface="Arial"/>
              </a:rPr>
              <a:t>Com s’organitza l’ensenyament d’educació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0000"/>
                </a:solidFill>
                <a:latin typeface="Arial"/>
              </a:rPr>
              <a:t>secundària obligatòria (GESO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71640" y="1484280"/>
            <a:ext cx="779760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Àmbit de la comunicació: 12 mòduls comu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Àmbit cientificotècnològic: 10 mòduls comu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Àmbit social: 6 mòduls comu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Mòduls opcionals: 6 mòdu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826920" y="1341360"/>
            <a:ext cx="799308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826920" y="3141720"/>
            <a:ext cx="80661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26920" y="4581360"/>
            <a:ext cx="80661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26920" y="4076640"/>
            <a:ext cx="73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er a l’obtenció del títol l’alumna ha d’haver superat els 34 mòdu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826920" y="5157720"/>
            <a:ext cx="80661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881280" y="5227560"/>
            <a:ext cx="180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875880" y="5157720"/>
            <a:ext cx="762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Si es superen els mòduls A i B PQPI i es cursen els 7 mòduls C del GESO, l’alumne po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obtenir el títol de GESO.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(Decret 140/2009 de 8 de setembre. DOGC 14.9.2009). Puntuació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onderada entre 70% dels mòduls A i B i 30 % del mòduls 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900000" y="4282920"/>
            <a:ext cx="516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826920" y="4005360"/>
            <a:ext cx="80661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755640" y="4653000"/>
            <a:ext cx="444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Modalitats presencial o semipresencial (IO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826920" y="314172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Importància de l’acció tutorial: accions educatives adreçades a l’alumnat per tal d’orientar-lo i assessorar-lo en el seu procés d’aprenentatge, per establir el seu itinerari educati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2872-50C6-4718-87C8-A548CE9D18FB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826920" y="189000"/>
            <a:ext cx="76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om s’organitza el curs de formació específic per a l’accés als cicles formatius de G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24000" y="1268280"/>
            <a:ext cx="8640720" cy="468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68360" y="1268280"/>
            <a:ext cx="8424720" cy="41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Per a persones que no posseeixen el títol de GESO o equivalent acadèmi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Durada: 600 hores. 18 hores setma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ff"/>
                </a:solidFill>
                <a:latin typeface="Arial"/>
              </a:rPr>
              <a:t>Estructura del cur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- Àmbit de  la comunicació(COM). Llengües: catalana, castellana, angle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- Àmbit social (SOC). Ciències socials i ciutadania, tutoria i orientaci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- Àmbit cientificotecnològic (CTE). Matemàtiques, tecnologia o ciènc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Natur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Accés directe a qualsevol CFGM. En el cas dels ensenyaments  d’arts plàstiques i disseny i esportius de règim especial l’alumne ha de superar la part específ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ff"/>
                </a:solidFill>
                <a:latin typeface="Arial"/>
              </a:rPr>
              <a:t>Preu públic: 190 €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a-E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a-E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ca-ES" sz="1200" spc="-1" strike="noStrike">
                <a:solidFill>
                  <a:srgbClr val="0000ff"/>
                </a:solidFill>
                <a:latin typeface="Arial"/>
              </a:rPr>
              <a:t>Resolució ENS/1245/2012, de 13 de juny (DOGC 6158 de 27/06/201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3D85-A8C8-41B9-A8DB-3FD83179B2F5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79280" y="237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  <a:ea typeface="宋体"/>
              </a:rPr>
              <a:t>Com s’organitzen els ensenyaments corresponents a llengua catalana/arane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ca-ES" sz="2400" spc="-1" strike="noStrike">
                <a:solidFill>
                  <a:srgbClr val="ff0000"/>
                </a:solidFill>
                <a:latin typeface="Arial"/>
                <a:ea typeface="宋体"/>
              </a:rPr>
              <a:t>i castellana, i de llengua estrangera</a:t>
            </a:r>
            <a:r>
              <a:rPr b="1" lang="ca-ES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24000" y="1679400"/>
          <a:ext cx="8424720" cy="2865600"/>
        </p:xfrm>
        <a:graphic>
          <a:graphicData uri="http://schemas.openxmlformats.org/drawingml/2006/table">
            <a:tbl>
              <a:tblPr/>
              <a:tblGrid>
                <a:gridCol w="3247920"/>
                <a:gridCol w="2254320"/>
                <a:gridCol w="1164960"/>
                <a:gridCol w="17575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locs d’ensenyaments d’educació d’adul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lengu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ivells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         </a:t>
                      </a:r>
                      <a:r>
                        <a:rPr b="1" lang="ca-E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urad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senyaments inicials i bàsic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Llengua catalana/occitana (aranè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1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2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3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05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40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40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Llengua castellan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1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2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3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05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40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40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Llengua estranger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1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05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petències per a la societat de la informació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Llengua estranger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2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3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05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05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Line 255"/>
          <p:cNvSpPr/>
          <p:nvPr/>
        </p:nvSpPr>
        <p:spPr>
          <a:xfrm>
            <a:off x="8748720" y="1916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8"/>
          <p:cNvSpPr/>
          <p:nvPr/>
        </p:nvSpPr>
        <p:spPr>
          <a:xfrm>
            <a:off x="874872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59"/>
          <p:cNvSpPr/>
          <p:nvPr/>
        </p:nvSpPr>
        <p:spPr>
          <a:xfrm>
            <a:off x="179280" y="4956480"/>
            <a:ext cx="896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  <a:ea typeface="宋体"/>
              </a:rPr>
              <a:t>La superació de cadascun dels nivells dóna dret a l’obtenció d’un certificat acreditatiu, en què 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  <a:ea typeface="宋体"/>
              </a:rPr>
              <a:t>farà constar, si s’escau, la correspondència del nivell assolit amb el seu equivalent segons 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Marc Europeu Comú de Referència per a les Llengü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1F69-35C0-46CE-AE9B-C4CB02426C58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023840" y="15876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5360" y="208080"/>
            <a:ext cx="88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om s’organitzen els ensenyaments de competència dig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50920" y="1341360"/>
            <a:ext cx="889308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nsenyaments per adquirir les competències bàsiques en tecnologies de la informació i la comunicació: Competència digital (COMPETI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urso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ompetència digital inicial   (105 h/curs)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C2 tecnologia, C4 tractament de text, C3 navegació i comunicació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ompetència digital nivell 1 (105 h/curs)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C6 full de càlcul, C5 multimèdia, C1 participació dig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ompetència digital nivell 2 (140 h/curs)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C1 participació digital, C2 tecnologia, C3 navegació i comunicació C4 tractament de text, C5 multimèdia, C6 full de càlcul, C7 base de dades, C8 presentac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ompetència digital nivell 3 (105 h/curs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) 3 competències (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Tractament de text, multimèdia, full de càlcul, base de dades, presentacion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El currículum d’aquests cursos correspon a les competències desenvolupades als tres nivells de l’ACTIC (Departament d’Empresa i Ocupació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49BE-EFEF-4C51-9B39-1F489F57B59F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879480" y="304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39640" y="231840"/>
            <a:ext cx="838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om s’organitzen la formació per a proves d’accés a grau mitjà, grau superior, i majors de 25 an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79280" y="1413000"/>
            <a:ext cx="87138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49440" y="1413000"/>
            <a:ext cx="824364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Formació per a les proves d’accés a cicles formatius de grau mitjà (330 h/cur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Formació per a les proves d’accés a cicles formatius de grau superior (300 h/curs + 99 h/c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er matèria específic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Resolució EDU/3983/2010, de 9 de desembre (DOGC núm 5778- 20/12/2010) on s’estableixen els temaris i els criteris d’avaluació de la prova d’accés als cicles formati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Formació per a l’accés a la Universitat per a majors de 25 anys (230 h/cur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Reial Decret 1892/2008 de 14 de novembre, BOE 283 de 24/11/2008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736560" y="524988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58FD-820C-4B2E-ACCA-29BC1916DC09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755640" y="189000"/>
            <a:ext cx="8209080" cy="51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om s’organitzen les proves lliures CFI i GES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roves lliures per a majors de 18 any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l Departament d’Ensenyament convoca proves lliures dues vegades a l’any 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er a l’obtenció del Certificat de formació instrument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er a l’obtenció del títol de Graduat/ada en educació secundària obligatò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Referències curriculars : ORDRE BEF/267/2003, de 3 de juny (</a:t>
            </a:r>
            <a:r>
              <a:rPr b="0" i="1" lang="ca-ES" sz="1600" spc="-1" strike="noStrike">
                <a:solidFill>
                  <a:srgbClr val="000000"/>
                </a:solidFill>
                <a:latin typeface="Arial"/>
              </a:rPr>
              <a:t>DOGC núm. 3909 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Arial"/>
              </a:rPr>
              <a:t>20/06/2003) i EDU/18/2010, de 15 de gener (DOGC núm. 5551 – 22.1.201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0A2A-F709-4F73-93A0-EBE073D2699C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187280" y="447840"/>
            <a:ext cx="7129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0000"/>
                </a:solidFill>
                <a:latin typeface="Arial"/>
              </a:rPr>
              <a:t>Com s’organitzen les proves lliures CFI i GESO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738360" y="1311120"/>
            <a:ext cx="8071920" cy="49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Arial"/>
              </a:rPr>
              <a:t>Requisit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Tenir 18</a:t>
            </a:r>
            <a:r>
              <a:rPr b="1" lang="ca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nys el dia de realització de l’exam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resentar sol·licitud dins del període previst a través de la pàgina web 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Departament d’Ensenyament (l’alumne pot acreditar la presentació de la sol·licitu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mb la impressió de la pantalla de confirmació del tràmit a l’aplicació informàtic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(opció resguard) on consta el número de registre d’entrada de la sol·licitu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Comprovar la inscripció a les llistes provisionals i definitives de persones inscri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 través del web del departament i tauler d’anuncis del centre on es realitzen les prov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ersones aspirants amb </a:t>
            </a:r>
            <a:r>
              <a:rPr b="0" i="1" lang="ca-ES" sz="1600" spc="-1" strike="noStrike">
                <a:solidFill>
                  <a:srgbClr val="000000"/>
                </a:solidFill>
                <a:latin typeface="Arial"/>
              </a:rPr>
              <a:t>NEE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derivades de discapacitats físiques, psíquiques o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sensorials o altres trastorns greus amb reconeixement oficial poden sol·licitar recurs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ddicionals per a realitzar les prov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resentar el DNI o document acreditatiu el dia o dies de l’exam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Contenidor de número de diapositiva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73AF-F6D3-485C-98DA-DA39A33969BF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84360" y="1773360"/>
            <a:ext cx="7775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6407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Educació d’adults: Quina és la finalitat, objecte i àmbit?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324000" y="2492280"/>
            <a:ext cx="8496000" cy="17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Formar a l’alumnat en els ensenyaments obligatori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reparar a l’alumnat per a l’accés al sistema educatiu de règim gener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ossibilitar a totes les persones el desenvolupament del projecte pers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i professional i facilitar-los la participació soci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Informar i orientar a l’alumnat sobre les accions formatives més adequad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Validar competències adquirides per altres vies formativ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3111480" y="15764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3851280" y="1484280"/>
            <a:ext cx="98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Finalit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539640" y="162864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Fer efectiu el dret a l’educació en qualsevol etapa de la vid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539640" y="5013360"/>
            <a:ext cx="799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2"/>
          <p:cNvSpPr/>
          <p:nvPr/>
        </p:nvSpPr>
        <p:spPr>
          <a:xfrm>
            <a:off x="324000" y="4508640"/>
            <a:ext cx="8496000" cy="1441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4"/>
          <p:cNvSpPr/>
          <p:nvPr/>
        </p:nvSpPr>
        <p:spPr>
          <a:xfrm>
            <a:off x="502560" y="2133720"/>
            <a:ext cx="436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Objecti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3635280" y="4221000"/>
            <a:ext cx="192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Àmbits d’actuació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324000" y="4508640"/>
            <a:ext cx="842472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L’educació en general i l’accés al sistema educatiu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L’ adquisició de competències transprofessionals: TIC i llengü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L’educació per la participació i cohesió social: acollida formativa a immigrants adults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iniciació a les llengües oficials i a una llengua estrangera, les TIC, us d’estratègies per adquirir competències bàsiqu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8"/>
          <p:cNvSpPr/>
          <p:nvPr/>
        </p:nvSpPr>
        <p:spPr>
          <a:xfrm>
            <a:off x="2780640" y="1197000"/>
            <a:ext cx="35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LEC:   Capítol IV, articles 69, 70, 7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9"/>
          <p:cNvSpPr/>
          <p:nvPr/>
        </p:nvSpPr>
        <p:spPr>
          <a:xfrm>
            <a:off x="324000" y="1773360"/>
            <a:ext cx="8496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4356000" y="6093000"/>
            <a:ext cx="3816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4397040" y="6164280"/>
            <a:ext cx="354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Pla  del Govern 2011-2014: potenciar l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formació d’ad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3449-D09D-4DA5-B62F-70D3CF09B113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95280" y="1268280"/>
            <a:ext cx="83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24000" y="1413000"/>
            <a:ext cx="856908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Estructura de la prova lliure per a l’obtenció del CF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a prova per a l’obtenció del certificat de formació instrumental és de caràcter global, té una durada 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2 hores i mitja i està estructurada en tres àrees: àrea de llengua, àrea de matemàtiques i àrea de ciènc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socials i natural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24000" y="2637000"/>
            <a:ext cx="8569080" cy="32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Estructura de la prova lliure per a l’obtenció del títol de GES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a prova per a l’obtenció del graduat en educació secundària obligatòria està estructur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en tres àmbit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Àmbit de la comunicació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(4 hor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Àmbit cientificotecnològic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(3 hor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Àmbit social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(2 hor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a persona aspirant es pot presentar a 1, 2 o als tres àmbit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a persona aspirant amb estudis previs té la possibilitat de convalidar 1 o 2 àmbit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a persona aspirant pot demanar l’exempció de la llengua catalan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a persona aspirant pot demanar adaptació per fer la prova (no adaptació curricular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Els àmbits convalidats o aprovats són reconeguts com a tals en posteriors convocatòr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47840" y="504720"/>
            <a:ext cx="83008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0000"/>
                </a:solidFill>
                <a:latin typeface="Arial"/>
              </a:rPr>
              <a:t>Com s’organitzen les proves lliures CFI i GESO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2C6A-3563-4897-A7D6-BC6BDBC512B2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39640" y="1539720"/>
            <a:ext cx="828036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MÉS INFORMACI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roves lliures de CFI i GESO http://gencat.cat/ensenyament &gt; Proves &gt;Prov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lliures per a l’obtenció de títo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Ensenyaments d’ad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http://gencat.cat/ensenyament &gt; Estudiar a Catalunya &gt; Educació d’ad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19120" y="30312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55640" y="374760"/>
            <a:ext cx="770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0000"/>
                </a:solidFill>
                <a:latin typeface="Arial"/>
              </a:rPr>
              <a:t>Com s’organitzen les proves lliures CFI i GESO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468360" y="1341360"/>
            <a:ext cx="8351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87080" y="1339920"/>
            <a:ext cx="781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Formulari nou. Es facilita a la persona un número de sol·licitud, les gestions es poden fer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via telemàtic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8AA1-FC8E-47AE-812D-F22A04980DC0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4963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Quines convocatòries hi ha sobre les proves d’accés a CFI i GESO?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755640" y="1916280"/>
            <a:ext cx="784872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755640" y="256536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3132000" y="1916280"/>
            <a:ext cx="0" cy="360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5867280" y="1916280"/>
            <a:ext cx="0" cy="360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416400" y="191628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Primera convocatò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6224760" y="1916280"/>
            <a:ext cx="19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Segona convocatò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755640" y="371628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5867280" y="3213000"/>
            <a:ext cx="26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ova 13 novembre 20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5867280" y="4653000"/>
            <a:ext cx="28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ova 13 i 14 de Novembre 20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916360" y="3141720"/>
            <a:ext cx="37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ova 23 de maig de 20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3203640" y="4653000"/>
            <a:ext cx="25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ova 23 i 24 de maig 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20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880920" y="2728800"/>
            <a:ext cx="2149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Cicle de Formaci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Instrumen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755640" y="4098960"/>
            <a:ext cx="27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Graduat en Educaci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Secundà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3132000" y="22766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5724360" y="2781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einscripció 9 al 16 d’octub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3124080" y="270828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einscripció 4 al 11 d’abri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3268800" y="414972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einscripció 9 al 16 d’abri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5859720" y="4149720"/>
            <a:ext cx="276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einscripció 9 al 16 d’octub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758160" y="141444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ropo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Conteni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3C3B-4236-48D6-905B-E6438D040746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-243000"/>
            <a:ext cx="777384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Què es pot aconseguir?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21" name="Text Box 133"/>
          <p:cNvSpPr/>
          <p:nvPr/>
        </p:nvSpPr>
        <p:spPr>
          <a:xfrm>
            <a:off x="1600200" y="-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4"/>
          <p:cNvSpPr/>
          <p:nvPr/>
        </p:nvSpPr>
        <p:spPr>
          <a:xfrm>
            <a:off x="179280" y="620640"/>
            <a:ext cx="3745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Formació instrumen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35"/>
          <p:cNvSpPr/>
          <p:nvPr/>
        </p:nvSpPr>
        <p:spPr>
          <a:xfrm>
            <a:off x="179280" y="1268280"/>
            <a:ext cx="475308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Graduat en Educació Secundària Obligatòri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6"/>
          <p:cNvSpPr/>
          <p:nvPr/>
        </p:nvSpPr>
        <p:spPr>
          <a:xfrm>
            <a:off x="179280" y="1773360"/>
            <a:ext cx="381636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7"/>
          <p:cNvSpPr/>
          <p:nvPr/>
        </p:nvSpPr>
        <p:spPr>
          <a:xfrm>
            <a:off x="179280" y="2565360"/>
            <a:ext cx="3816360" cy="576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lengües (català, castellà, aranè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38"/>
          <p:cNvSpPr/>
          <p:nvPr/>
        </p:nvSpPr>
        <p:spPr>
          <a:xfrm>
            <a:off x="179280" y="3284640"/>
            <a:ext cx="3816360" cy="576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Lengua estrange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39"/>
          <p:cNvSpPr/>
          <p:nvPr/>
        </p:nvSpPr>
        <p:spPr>
          <a:xfrm>
            <a:off x="179280" y="4005360"/>
            <a:ext cx="3816360" cy="576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reparació Proves d’accés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Grau Superi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1"/>
          <p:cNvSpPr/>
          <p:nvPr/>
        </p:nvSpPr>
        <p:spPr>
          <a:xfrm>
            <a:off x="108000" y="1773360"/>
            <a:ext cx="38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Arial"/>
              </a:rPr>
              <a:t>Curs de formació específic per a l’accés als CFG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2"/>
          <p:cNvSpPr/>
          <p:nvPr/>
        </p:nvSpPr>
        <p:spPr>
          <a:xfrm>
            <a:off x="179280" y="4724280"/>
            <a:ext cx="3996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reparació provés d’accé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Majors de 25 an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179280" y="5445000"/>
            <a:ext cx="381636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ompetència digital (COMPETI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45"/>
          <p:cNvSpPr/>
          <p:nvPr/>
        </p:nvSpPr>
        <p:spPr>
          <a:xfrm>
            <a:off x="5867280" y="1268280"/>
            <a:ext cx="3024360" cy="4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Batxiller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50"/>
          <p:cNvSpPr/>
          <p:nvPr/>
        </p:nvSpPr>
        <p:spPr>
          <a:xfrm>
            <a:off x="5867280" y="3284640"/>
            <a:ext cx="3097440" cy="504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O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1"/>
          <p:cNvSpPr/>
          <p:nvPr/>
        </p:nvSpPr>
        <p:spPr>
          <a:xfrm>
            <a:off x="4356000" y="3357720"/>
            <a:ext cx="1008000" cy="433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Pro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d’accé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AutoShape 152"/>
          <p:cNvCxnSpPr>
            <a:stCxn id="226" idx="3"/>
            <a:endCxn id="233" idx="1"/>
          </p:cNvCxnSpPr>
          <p:nvPr/>
        </p:nvCxnSpPr>
        <p:spPr>
          <a:xfrm>
            <a:off x="3995280" y="3573000"/>
            <a:ext cx="361080" cy="2520"/>
          </a:xfrm>
          <a:prstGeom prst="bentConnector3">
            <a:avLst>
              <a:gd name="adj1" fmla="val 497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Rectangle 153"/>
          <p:cNvSpPr/>
          <p:nvPr/>
        </p:nvSpPr>
        <p:spPr>
          <a:xfrm>
            <a:off x="4356000" y="4076640"/>
            <a:ext cx="1008000" cy="43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Pro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d’accé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4"/>
          <p:cNvSpPr/>
          <p:nvPr/>
        </p:nvSpPr>
        <p:spPr>
          <a:xfrm>
            <a:off x="5867280" y="3933720"/>
            <a:ext cx="309744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icles formatius d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Grau Superi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AutoShape 155"/>
          <p:cNvCxnSpPr>
            <a:stCxn id="227" idx="3"/>
            <a:endCxn id="235" idx="1"/>
          </p:cNvCxnSpPr>
          <p:nvPr/>
        </p:nvCxnSpPr>
        <p:spPr>
          <a:xfrm>
            <a:off x="3995280" y="4293720"/>
            <a:ext cx="361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Rectangle 156"/>
          <p:cNvSpPr/>
          <p:nvPr/>
        </p:nvSpPr>
        <p:spPr>
          <a:xfrm>
            <a:off x="4356000" y="4797360"/>
            <a:ext cx="1008000" cy="43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Pro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7"/>
          <p:cNvSpPr/>
          <p:nvPr/>
        </p:nvSpPr>
        <p:spPr>
          <a:xfrm>
            <a:off x="5867280" y="4797360"/>
            <a:ext cx="309744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nsenyaments universitar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59"/>
          <p:cNvSpPr/>
          <p:nvPr/>
        </p:nvSpPr>
        <p:spPr>
          <a:xfrm>
            <a:off x="5364000" y="50846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60"/>
          <p:cNvSpPr/>
          <p:nvPr/>
        </p:nvSpPr>
        <p:spPr>
          <a:xfrm>
            <a:off x="5292720" y="42926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61"/>
          <p:cNvSpPr/>
          <p:nvPr/>
        </p:nvSpPr>
        <p:spPr>
          <a:xfrm>
            <a:off x="5364000" y="357336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62"/>
          <p:cNvSpPr/>
          <p:nvPr/>
        </p:nvSpPr>
        <p:spPr>
          <a:xfrm>
            <a:off x="4356000" y="5516640"/>
            <a:ext cx="100800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Superació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treball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63"/>
          <p:cNvSpPr/>
          <p:nvPr/>
        </p:nvSpPr>
        <p:spPr>
          <a:xfrm>
            <a:off x="3995640" y="573408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64"/>
          <p:cNvSpPr/>
          <p:nvPr/>
        </p:nvSpPr>
        <p:spPr>
          <a:xfrm>
            <a:off x="5867280" y="5516640"/>
            <a:ext cx="3097440" cy="57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ertificat equivalència AC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65"/>
          <p:cNvSpPr/>
          <p:nvPr/>
        </p:nvSpPr>
        <p:spPr>
          <a:xfrm>
            <a:off x="5364000" y="580536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66"/>
          <p:cNvSpPr/>
          <p:nvPr/>
        </p:nvSpPr>
        <p:spPr>
          <a:xfrm>
            <a:off x="5867280" y="2637000"/>
            <a:ext cx="3097440" cy="50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Certificat B1 </a:t>
            </a:r>
            <a:r>
              <a:rPr b="0" lang="ca-ES" sz="1200" spc="-1" strike="noStrike">
                <a:solidFill>
                  <a:srgbClr val="000000"/>
                </a:solidFill>
                <a:latin typeface="Arial"/>
              </a:rPr>
              <a:t>(Marc Europeu Com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Arial"/>
              </a:rPr>
              <a:t>de Referència per a les llengü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74"/>
          <p:cNvSpPr/>
          <p:nvPr/>
        </p:nvSpPr>
        <p:spPr>
          <a:xfrm>
            <a:off x="2268360" y="98100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75"/>
          <p:cNvSpPr/>
          <p:nvPr/>
        </p:nvSpPr>
        <p:spPr>
          <a:xfrm>
            <a:off x="3995640" y="278136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AutoShape 176"/>
          <p:cNvCxnSpPr>
            <a:stCxn id="229" idx="3"/>
            <a:endCxn id="238" idx="1"/>
          </p:cNvCxnSpPr>
          <p:nvPr/>
        </p:nvCxnSpPr>
        <p:spPr>
          <a:xfrm>
            <a:off x="4175280" y="5013360"/>
            <a:ext cx="181440" cy="2160"/>
          </a:xfrm>
          <a:prstGeom prst="bentConnector3">
            <a:avLst>
              <a:gd name="adj1" fmla="val 49105"/>
            </a:avLst>
          </a:prstGeom>
          <a:ln w="0">
            <a:noFill/>
          </a:ln>
        </p:spPr>
      </p:cxnSp>
      <p:cxnSp>
        <p:nvCxnSpPr>
          <p:cNvPr id="251" name="AutoShape 177"/>
          <p:cNvCxnSpPr>
            <a:stCxn id="229" idx="3"/>
            <a:endCxn id="238" idx="1"/>
          </p:cNvCxnSpPr>
          <p:nvPr/>
        </p:nvCxnSpPr>
        <p:spPr>
          <a:xfrm>
            <a:off x="4175280" y="5013360"/>
            <a:ext cx="181440" cy="2160"/>
          </a:xfrm>
          <a:prstGeom prst="bentConnector3">
            <a:avLst>
              <a:gd name="adj1" fmla="val 4910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Rectangle 181"/>
          <p:cNvSpPr/>
          <p:nvPr/>
        </p:nvSpPr>
        <p:spPr>
          <a:xfrm>
            <a:off x="3995640" y="2349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82"/>
          <p:cNvSpPr/>
          <p:nvPr/>
        </p:nvSpPr>
        <p:spPr>
          <a:xfrm>
            <a:off x="179280" y="2205000"/>
            <a:ext cx="3816360" cy="28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83"/>
          <p:cNvSpPr/>
          <p:nvPr/>
        </p:nvSpPr>
        <p:spPr>
          <a:xfrm>
            <a:off x="179280" y="21528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Formació preparació P.A. A G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4"/>
          <p:cNvSpPr/>
          <p:nvPr/>
        </p:nvSpPr>
        <p:spPr>
          <a:xfrm>
            <a:off x="4356000" y="2205000"/>
            <a:ext cx="100800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Pro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d’accé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85"/>
          <p:cNvSpPr/>
          <p:nvPr/>
        </p:nvSpPr>
        <p:spPr>
          <a:xfrm>
            <a:off x="3995640" y="234936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AutoShape 189"/>
          <p:cNvCxnSpPr/>
          <p:nvPr/>
        </p:nvCxnSpPr>
        <p:spPr>
          <a:xfrm>
            <a:off x="5292720" y="1483920"/>
            <a:ext cx="288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8" name="AutoShape 191"/>
          <p:cNvCxnSpPr>
            <a:stCxn id="224" idx="3"/>
          </p:cNvCxnSpPr>
          <p:nvPr/>
        </p:nvCxnSpPr>
        <p:spPr>
          <a:xfrm flipV="1">
            <a:off x="3995280" y="1915560"/>
            <a:ext cx="1081800" cy="38520"/>
          </a:xfrm>
          <a:prstGeom prst="bentConnector3">
            <a:avLst>
              <a:gd name="adj1" fmla="val 49900"/>
            </a:avLst>
          </a:prstGeom>
          <a:ln w="0">
            <a:noFill/>
          </a:ln>
        </p:spPr>
      </p:cxnSp>
      <p:cxnSp>
        <p:nvCxnSpPr>
          <p:cNvPr id="259" name="AutoShape 192"/>
          <p:cNvCxnSpPr/>
          <p:nvPr/>
        </p:nvCxnSpPr>
        <p:spPr>
          <a:xfrm>
            <a:off x="4571640" y="1341000"/>
            <a:ext cx="864360" cy="7380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260" name="AutoShape 194"/>
          <p:cNvCxnSpPr/>
          <p:nvPr/>
        </p:nvCxnSpPr>
        <p:spPr>
          <a:xfrm>
            <a:off x="5940000" y="1412640"/>
            <a:ext cx="72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61" name="AutoShape 195"/>
          <p:cNvCxnSpPr>
            <a:stCxn id="224" idx="3"/>
          </p:cNvCxnSpPr>
          <p:nvPr/>
        </p:nvCxnSpPr>
        <p:spPr>
          <a:xfrm flipV="1">
            <a:off x="3995280" y="1915560"/>
            <a:ext cx="1872360" cy="38520"/>
          </a:xfrm>
          <a:prstGeom prst="bentConnector3">
            <a:avLst>
              <a:gd name="adj1" fmla="val 49942"/>
            </a:avLst>
          </a:prstGeom>
          <a:ln w="0">
            <a:noFill/>
          </a:ln>
        </p:spPr>
      </p:cxnSp>
      <p:cxnSp>
        <p:nvCxnSpPr>
          <p:cNvPr id="262" name="AutoShape 196"/>
          <p:cNvCxnSpPr>
            <a:stCxn id="224" idx="3"/>
          </p:cNvCxnSpPr>
          <p:nvPr/>
        </p:nvCxnSpPr>
        <p:spPr>
          <a:xfrm>
            <a:off x="3995280" y="1953720"/>
            <a:ext cx="1872360" cy="251640"/>
          </a:xfrm>
          <a:prstGeom prst="bentConnector3">
            <a:avLst>
              <a:gd name="adj1" fmla="val 49942"/>
            </a:avLst>
          </a:prstGeom>
          <a:ln w="0">
            <a:noFill/>
          </a:ln>
        </p:spPr>
      </p:cxnSp>
      <p:sp>
        <p:nvSpPr>
          <p:cNvPr id="263" name="Rectangle 197"/>
          <p:cNvSpPr/>
          <p:nvPr/>
        </p:nvSpPr>
        <p:spPr>
          <a:xfrm>
            <a:off x="5867280" y="1844640"/>
            <a:ext cx="3024360" cy="57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ccés a cicles formatius d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grau mitj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99"/>
          <p:cNvSpPr/>
          <p:nvPr/>
        </p:nvSpPr>
        <p:spPr>
          <a:xfrm>
            <a:off x="5219640" y="148428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01"/>
          <p:cNvCxnSpPr>
            <a:stCxn id="224" idx="3"/>
            <a:endCxn id="263" idx="1"/>
          </p:cNvCxnSpPr>
          <p:nvPr/>
        </p:nvCxnSpPr>
        <p:spPr>
          <a:xfrm>
            <a:off x="3995280" y="1954080"/>
            <a:ext cx="1872360" cy="178200"/>
          </a:xfrm>
          <a:prstGeom prst="bentConnector3">
            <a:avLst>
              <a:gd name="adj1" fmla="val 4994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6" name="AutoShape 202"/>
          <p:cNvCxnSpPr>
            <a:stCxn id="255" idx="3"/>
            <a:endCxn id="263" idx="1"/>
          </p:cNvCxnSpPr>
          <p:nvPr/>
        </p:nvCxnSpPr>
        <p:spPr>
          <a:xfrm flipV="1">
            <a:off x="5364000" y="2131200"/>
            <a:ext cx="504000" cy="291240"/>
          </a:xfrm>
          <a:prstGeom prst="bentConnector3">
            <a:avLst>
              <a:gd name="adj1" fmla="val 49821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203"/>
          <p:cNvCxnSpPr>
            <a:stCxn id="223" idx="3"/>
          </p:cNvCxnSpPr>
          <p:nvPr/>
        </p:nvCxnSpPr>
        <p:spPr>
          <a:xfrm>
            <a:off x="4932000" y="1483920"/>
            <a:ext cx="864360" cy="3610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9E09-79D7-4B14-8C50-62F4A9BC648B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24000" y="-171360"/>
            <a:ext cx="8497800" cy="51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On trobar la informació de l'oferta educativa i altres informacions sobre educació d’adul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onsulta de centres i oferta formativ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 través del portal Estudiar a Cataluny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Arial"/>
              </a:rPr>
              <a:t>Estudiar a Catalunya &gt;Estudis&gt; Mapa Escol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 les publicacions del Departament d’Ensenyamen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Arial"/>
              </a:rPr>
              <a:t>Estudiar a Catalunya&gt;Estudis&gt;Educació d’adults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Arial"/>
              </a:rPr>
              <a:t>Estudis&gt;Qualsevol ensenyament&gt;Fullets informatius&gt;”Formació de Pers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Arial"/>
              </a:rPr>
              <a:t>adultes 2013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324000" y="4653000"/>
            <a:ext cx="49640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Informació general sobre educació d’adults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http://www.xtec.cat/curriculum/personesadul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6"/>
          <p:cNvSpPr/>
          <p:nvPr/>
        </p:nvSpPr>
        <p:spPr>
          <a:xfrm>
            <a:off x="3708360" y="3398760"/>
            <a:ext cx="201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Arial"/>
              </a:rPr>
              <a:t>GRÀC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Conteni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8035-8627-4285-8BD2-9B819DB268EC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Qui pot accedir a l’educació d’adults?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179280" y="1266840"/>
            <a:ext cx="8964720" cy="50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Amb caràcter general: tenir 18 anys o complir-los durant l’any natural en que s’inicia la formaci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ersones majors de 16 anys o que els compleixen durant l’any natural en que inicien la formació si tenen: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- Si tenen un contracte laboral que els impedeix assistir als centres educatius de règim ordinari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- Si es troben en procés d’obtenció d’un permís de trebal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- Si són esportistes d’alt rendime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- Si estan cursant, o han cursat els mòduls obligatoris dels PQPI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- Si volen cursar la formació per a les proves d’accés a CFGM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0" lang="ca-ES" sz="16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1" lang="ca-ES" sz="1600" spc="-1" strike="noStrike">
                <a:solidFill>
                  <a:srgbClr val="0000ff"/>
                </a:solidFill>
                <a:latin typeface="Arial"/>
              </a:rPr>
              <a:t>Si són persones joves acollides al programa “joves per l’ocupació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xcepcionalment el director del centre pot autoritzar la incorporació d’alumnes que no reuneixen aquest requisits quan circumstancies singulars ho justifiquin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Si els alumnes són menors de 18 anys es requereix el consentiment del pare, mare o tutor leg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ff"/>
                </a:solidFill>
                <a:latin typeface="Arial"/>
              </a:rPr>
              <a:t>Si volen accedir al curs específic per a l’accés al cicles de grau mitjà han de complir 17 anys al llarg de l’any natural en que s’inicia el cu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Contenidor de número de diapositiva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A2A6-C4E7-4809-9C1E-E6536906A948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200" y="188640"/>
            <a:ext cx="77742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Quins aspectes es tenen en compte per a l’alumnat?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879480" y="123984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179280" y="1195560"/>
            <a:ext cx="8569440" cy="50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Acollida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Cada centre informa a l’alumne sobre l’organització del centre, l’oferta educativa. Facilita orientació acadèmica i l’avaluació inic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Avaluació inicial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Procés previ a la matrícula per conèixer els interessos, disponibilitat personal i antecedents acadèmics. Consisteix en una entrevista i, si és necessari, una prova escrit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ermanència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Els alumnes poden repetir dues vegades qualsevol nivell. El director del centre excepcionalment pot autoritzar repetir una tercera vegada, si es disposa de places lliures i després de prioritzar l’alumne que hi accedeix per primera vegada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Assistència de l’alumne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La no assistència durant deu dies lectius consecutius sense justificació comportarà la baixa de l’alum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6B1A-B02C-4DC8-99EA-4ADE36EE618F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020240" y="351000"/>
            <a:ext cx="75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entres de formació d’adults.  On es pot estudia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47840" y="5013360"/>
            <a:ext cx="8300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entres de suport IOC: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s realitza el procés de tutoria i orientació a l’alumnat.(49 centres i 7 centres penitenciaris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7"/>
          <p:cNvGraphicFramePr/>
          <p:nvPr/>
        </p:nvGraphicFramePr>
        <p:xfrm>
          <a:off x="361800" y="1268280"/>
          <a:ext cx="8420400" cy="38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268280"/>
                    <a:ext cx="842040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250920" y="5950080"/>
            <a:ext cx="3673440" cy="8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682560" y="189000"/>
            <a:ext cx="7774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Quants alumnes cursen educació d’adul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173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800" y="46998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762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62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0" y="-16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481640" y="6591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8000" y="1268280"/>
          <a:ext cx="8856720" cy="5145120"/>
        </p:xfrm>
        <a:graphic>
          <a:graphicData uri="http://schemas.openxmlformats.org/drawingml/2006/table">
            <a:tbl>
              <a:tblPr/>
              <a:tblGrid>
                <a:gridCol w="1960560"/>
                <a:gridCol w="725400"/>
                <a:gridCol w="871560"/>
                <a:gridCol w="871560"/>
                <a:gridCol w="942840"/>
                <a:gridCol w="943200"/>
                <a:gridCol w="798480"/>
                <a:gridCol w="819000"/>
                <a:gridCol w="92412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 16 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 18 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 25 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 30 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 40 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 50 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5 any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 ny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4 any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 any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 any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 any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4 any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 mé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lengua catalan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5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5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7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8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7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lengua castellan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3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8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4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6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Calibri"/>
                          <a:ea typeface="Arial"/>
                        </a:rPr>
                        <a:t>8.1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lengua estrangera anglè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7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2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02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9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8.5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lengua estrangera francè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Calibri"/>
                          <a:ea typeface="Arial"/>
                        </a:rPr>
                        <a:t>56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mpetència digit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3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.9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6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11.26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ormació instrument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3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5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6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94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9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Calibri"/>
                          <a:ea typeface="Arial"/>
                        </a:rPr>
                        <a:t>11.06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raduat en educació secundàri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4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.4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9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4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9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9.26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ormació accés a CF grau mitjà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3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5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6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4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Calibri"/>
                          <a:ea typeface="Arial"/>
                        </a:rPr>
                        <a:t>3.2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ormació accés a CF grau superio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23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8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7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8.79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ajors de 25 anys universita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5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8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Calibri"/>
                          <a:ea typeface="Arial"/>
                        </a:rPr>
                        <a:t>2.6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.39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4C9B-B43D-4340-B849-CAE1FA9BC86B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11280" y="1484280"/>
            <a:ext cx="8047080" cy="52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La sol·licitud de preinscripció:     </a:t>
            </a:r>
            <a:r>
              <a:rPr b="1" lang="ca-ES" sz="16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gencat.cat/preinscripció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Lloc de presentació de la sol·licitud i documentació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n els centres i aules de formació d’adults de primera elecció. No en altres ofici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ublicació de l’oferta d’ensenyaments per part de cada centre: 17 de mai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ublicació de vacants per part de cada centre: 19 de jun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reinscripció d'alumnat nou: del 20 al 28 de juny de 2013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ublicació de les llistes d’admesos i exclosos: 12 de julio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Matrícula de l’alumnat admès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: del 2 al 6 de setembre de 2013. Cada centre publica les dades de matrícula de cada ensenyament al tauler d’anunci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19120" y="47628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om es pot accedir? Preincripció i matrícu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6A3C-AECB-4D4E-8599-6A90F8F2B429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35120" y="476280"/>
            <a:ext cx="76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Quins altres aspectes s’han de tenir en comp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735120" y="131112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79280" y="1341360"/>
            <a:ext cx="8713800" cy="48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om s’assignen les place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S’assigna aleatòriament un número a cada sol·licitu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S’efectua un sorteig públic per determinar el número a partir del que s’estableix l’ordre d’admissió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Té preferència l’alumna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- Que resideix o treballa en el mateix municipi on està situat el centre o l’aula, o en un municipi proper on no hi hagi oferta pública d’educació dels ensenyaments que se sol·liciten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ff"/>
                </a:solidFill>
                <a:latin typeface="Arial"/>
              </a:rPr>
              <a:t>- Que cursa o ha cursat els mòduls A i B de PQPI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ff"/>
                </a:solidFill>
                <a:latin typeface="Arial"/>
              </a:rPr>
              <a:t>Que forma part del programa d’experiència professional per a l’ocupació juvenil a Catalunya “joves per l’ocupació”. (</a:t>
            </a:r>
            <a:r>
              <a:rPr b="0" lang="ca-ES" sz="1200" spc="-1" strike="noStrike">
                <a:solidFill>
                  <a:srgbClr val="0000ff"/>
                </a:solidFill>
                <a:latin typeface="Arial"/>
              </a:rPr>
              <a:t>Ordre EMO/293/2012, de 25 de setembre. DOGC 09.10.201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s publiquen les llistes d’alumnat amb plaça assignad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Cada centre gestiona la seva pròpis llista d’esper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Matrícula al llarg de c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Cada centre fa públics els criteris per resoldre l’ordre d’admissió en el cas que tingui més sol·licituds que places disponibles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En alguns ensenyaments hi ha matrícula viv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Conteni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15DB-A51B-47FF-8951-A57235912E21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7738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Quins ensenyaments s’ofereixen?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197000"/>
          <a:ext cx="8280360" cy="4800600"/>
        </p:xfrm>
        <a:graphic>
          <a:graphicData uri="http://schemas.openxmlformats.org/drawingml/2006/table">
            <a:tbl>
              <a:tblPr/>
              <a:tblGrid>
                <a:gridCol w="2737080"/>
                <a:gridCol w="2784240"/>
                <a:gridCol w="275904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SENYAM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VEL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ROPOSTA 2013/201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LENGUA CATALANA,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CITANA (ARANES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LOC LLENGÜ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LENGUA CASTELLA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LENGUA ESTRANGERA (ANGLÈS, FRANCÈS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ETÈNCIA DIGITAL (COMPETIC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LOC COMPETÈNCIES PER 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A SOCIETAT DE LA INFORMACI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VES D’ACCÉ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ors 25 any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LOC PROVES D’ACCÉ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paració CFG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paració CFG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ACIÓ INSTRUMENT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LOC FORMACIÓ BÀSI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UAT EN EDUCACIÓ SECUNDÀ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CURS D’ACCÉS A CFGM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0:26:56Z</dcterms:created>
  <dc:creator>Noemi Palet</dc:creator>
  <dc:description/>
  <dc:language>en-US</dc:language>
  <cp:lastModifiedBy>usuari</cp:lastModifiedBy>
  <dcterms:modified xsi:type="dcterms:W3CDTF">2013-02-28T14:29:32Z</dcterms:modified>
  <cp:revision>97</cp:revision>
  <dc:subject/>
  <dc:title>Diapositiva 1</dc:title>
</cp:coreProperties>
</file>