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890280" y="733320"/>
            <a:ext cx="488772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77820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E914-DB5A-4176-9DE9-E2B57A3125D6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72B45-DF4A-4CE3-A360-3327C933037D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A9B06-C58F-435F-B964-51534D5B48BE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50FCF-A670-4652-B9C9-64F79BBF8D81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73E41-22A3-4F24-81CB-75E88AE2D4D5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63C0A-5A0B-4FFB-AACC-8210F4AD2D8B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5FD1B-40B7-4773-8515-D82DA4438591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16EDE-46A4-4DDB-97DA-2D022531C559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D8C87-FE0E-4F83-8B88-1199319470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2200" y="189000"/>
            <a:ext cx="77742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43120"/>
            <a:ext cx="777384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2974680"/>
            <a:ext cx="777384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3D043-1689-45AB-8763-2228F15FCB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200" y="189000"/>
            <a:ext cx="77742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43120"/>
            <a:ext cx="379332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200" y="1743120"/>
            <a:ext cx="379332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2974680"/>
            <a:ext cx="379332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200" y="2974680"/>
            <a:ext cx="379332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A8BE3-B217-49A3-9322-E20F3867A8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2200" y="189000"/>
            <a:ext cx="77742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43120"/>
            <a:ext cx="250308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4520" y="1743120"/>
            <a:ext cx="250308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2880" y="1743120"/>
            <a:ext cx="250308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2974680"/>
            <a:ext cx="250308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4520" y="2974680"/>
            <a:ext cx="250308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2880" y="2974680"/>
            <a:ext cx="250308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8F6C4-2ADD-4606-AB56-2DD5EBC697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2200" y="189000"/>
            <a:ext cx="77742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743120"/>
            <a:ext cx="777384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2200" y="189000"/>
            <a:ext cx="77742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743120"/>
            <a:ext cx="7773840" cy="23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2200" y="189000"/>
            <a:ext cx="77742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43120"/>
            <a:ext cx="3793320" cy="23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9200" y="1743120"/>
            <a:ext cx="3793320" cy="23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200" y="189000"/>
            <a:ext cx="77742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2200" y="189000"/>
            <a:ext cx="77742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2200" y="189000"/>
            <a:ext cx="77742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43120"/>
            <a:ext cx="379332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743120"/>
            <a:ext cx="3793320" cy="23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2974680"/>
            <a:ext cx="379332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2200" y="189000"/>
            <a:ext cx="77742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43120"/>
            <a:ext cx="777384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EF798-6EF6-443D-854C-6EA9FE674B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2200" y="189000"/>
            <a:ext cx="77742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43120"/>
            <a:ext cx="3793320" cy="23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743120"/>
            <a:ext cx="379332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9200" y="2974680"/>
            <a:ext cx="379332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200" y="189000"/>
            <a:ext cx="77742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43120"/>
            <a:ext cx="379332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9200" y="1743120"/>
            <a:ext cx="379332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2974680"/>
            <a:ext cx="777384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200" y="189000"/>
            <a:ext cx="77742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743120"/>
            <a:ext cx="777384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2974680"/>
            <a:ext cx="777384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2200" y="189000"/>
            <a:ext cx="77742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43120"/>
            <a:ext cx="379332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200" y="1743120"/>
            <a:ext cx="379332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2974680"/>
            <a:ext cx="379332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9200" y="2974680"/>
            <a:ext cx="379332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200" y="189000"/>
            <a:ext cx="77742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743120"/>
            <a:ext cx="250308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4520" y="1743120"/>
            <a:ext cx="250308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2880" y="1743120"/>
            <a:ext cx="250308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2974680"/>
            <a:ext cx="250308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4520" y="2974680"/>
            <a:ext cx="250308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2880" y="2974680"/>
            <a:ext cx="250308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2200" y="189000"/>
            <a:ext cx="77742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43120"/>
            <a:ext cx="7773840" cy="23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DF832-7E75-43D9-9C12-DCF9911914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2200" y="189000"/>
            <a:ext cx="77742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43120"/>
            <a:ext cx="3793320" cy="23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200" y="1743120"/>
            <a:ext cx="3793320" cy="23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971AC-C57E-49A4-B09B-3AA25718AC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200" y="189000"/>
            <a:ext cx="77742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826C5-DF75-42ED-A925-418427314C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2200" y="189000"/>
            <a:ext cx="77742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DDF35-B5E9-412F-ACAC-1B359A282D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2200" y="189000"/>
            <a:ext cx="77742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43120"/>
            <a:ext cx="379332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200" y="1743120"/>
            <a:ext cx="3793320" cy="23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2974680"/>
            <a:ext cx="379332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13BF1-10BC-4406-BAB9-0B645E5A2E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2200" y="189000"/>
            <a:ext cx="77742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43120"/>
            <a:ext cx="3793320" cy="23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200" y="1743120"/>
            <a:ext cx="379332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200" y="2974680"/>
            <a:ext cx="379332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95DA5-B9D9-48C0-AA69-DA9C686433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2200" y="189000"/>
            <a:ext cx="77742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43120"/>
            <a:ext cx="379332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200" y="1743120"/>
            <a:ext cx="379332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2974680"/>
            <a:ext cx="777384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1682E-0DC1-474E-AB2E-566507B027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2200" y="189000"/>
            <a:ext cx="77742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43120"/>
            <a:ext cx="7773840" cy="23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7"/>
          <p:cNvSpPr/>
          <p:nvPr/>
        </p:nvSpPr>
        <p:spPr>
          <a:xfrm>
            <a:off x="762120" y="1197000"/>
            <a:ext cx="7696080" cy="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BA346-0022-43FE-BAB3-677F00EBC326}" type="slidenum"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20" descr="DGESOB_c"/>
          <p:cNvPicPr/>
          <p:nvPr/>
        </p:nvPicPr>
        <p:blipFill>
          <a:blip r:embed="rId3"/>
          <a:stretch/>
        </p:blipFill>
        <p:spPr>
          <a:xfrm>
            <a:off x="423720" y="6073920"/>
            <a:ext cx="3164040" cy="628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7" descr="DGESOB_centrat_c"/>
          <p:cNvPicPr/>
          <p:nvPr/>
        </p:nvPicPr>
        <p:blipFill>
          <a:blip r:embed="rId3"/>
          <a:stretch/>
        </p:blipFill>
        <p:spPr>
          <a:xfrm>
            <a:off x="1676520" y="692280"/>
            <a:ext cx="5659200" cy="1857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2200" y="189000"/>
            <a:ext cx="77742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43120"/>
            <a:ext cx="7773840" cy="23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encat.cat/preinscripci&#243;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3573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c00000"/>
                </a:solidFill>
                <a:latin typeface="Arial"/>
              </a:rPr>
              <a:t>Educació d’adults</a:t>
            </a:r>
            <a:endParaRPr b="1" lang="en-US" sz="36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6299280" y="6021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Febrer 201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Contenidor de número de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01368-649F-4AF7-82C5-D71D3A90589F}" type="slidenum">
              <a:rPr b="0" lang="ca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684360" y="324000"/>
            <a:ext cx="803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0000"/>
                </a:solidFill>
                <a:latin typeface="Arial"/>
              </a:rPr>
              <a:t>Com s’organitza el cicle de formació instrumental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235080" y="1413000"/>
            <a:ext cx="8908920" cy="48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L’objectiu d’aquest cicle és que els adults aprenguin a  llegir, escriure i fer càlculs elementals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L’alumnat que assoleix els continguts d’aquest cicle obté el certificat de formació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instrumental. (En disseny nou currículum)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Decret 213/2002 de 1 d’agost. Capítol 2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S’estructura en tres nivells i cada nivell en àrees de coneixement: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À. de llengua,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À. de matemàtiqu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À. de ciències socials i natural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1er nivell: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 adquisició dels mecanismes fonamentals de lectura, escriptura, càlcul i nocions fonamental sobre l’entorn social i natural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2on nivell:  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consolidar els mecanismes anteriors i coneixements que expliquen l’entorn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3er nivell: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 s’amplien els coneixements anteriors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La durada aproximada d’aquesta formació és de 1.100 hores. L’alumnat quan acaba pot seguir amb els ensenyaments GES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Contenidor de número de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9FC25-CD2D-4BF2-86CC-38BEC97D87C0}" type="slidenum">
              <a:rPr b="0" lang="ca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1187280" y="260280"/>
            <a:ext cx="859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0000"/>
                </a:solidFill>
                <a:latin typeface="Arial"/>
              </a:rPr>
              <a:t>Com s’organitza l’ensenyament d’educació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0000"/>
                </a:solidFill>
                <a:latin typeface="Arial"/>
              </a:rPr>
              <a:t>secundària obligatòria (GESO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755640" y="1341360"/>
            <a:ext cx="7777080" cy="266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950760" y="1484280"/>
            <a:ext cx="7547040" cy="21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Objectiu: que les persones adultes puguin aconseguir el títol de GES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Abans de la matrícula hi ha la prova d’avaluació inicial on es valoren els antecedents acadèmics i competències que te assolides. Si escau, pot acreditar i/o convalidar alguns mòduls, àmbits o nivell comple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826920" y="4508640"/>
            <a:ext cx="7672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Decret 161/2009 de 27 d’octubre de 2009. DOGC 5496-2.11.2009. Ordenació dels ensenyament de l’educació secundària obligatòria per a persones adult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755640" y="4221000"/>
            <a:ext cx="777708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Contenidor de número de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BD9DA-AA4A-494B-B9F5-EEBA8D3E702C}" type="slidenum">
              <a:rPr b="0" lang="ca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879480" y="447840"/>
            <a:ext cx="7580160" cy="7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0000"/>
                </a:solidFill>
                <a:latin typeface="Arial"/>
              </a:rPr>
              <a:t>Com s’organitza l’ensenyament d’educació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0000"/>
                </a:solidFill>
                <a:latin typeface="Arial"/>
              </a:rPr>
              <a:t>secundària obligatòria (GESO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808200" y="971640"/>
            <a:ext cx="805968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216000" y="1197000"/>
            <a:ext cx="890748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Currículum: 3 àmbit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- A. Comunicació: llengua catalana i literatura, llengua castellana i literatura i llengua estranger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- A. Cientificotecnològic: ciències de la naturalesa, matemàtiques, tecnologies i aspectes relacionats amb la salut i medi ambien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- A. Social ciències socials, geografia i història, educació per a la ciutadania i  aspectes d’educació visual, plàstica i músic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El àmbits s’organitzen en mòduls. Mòduls comuns i opcionals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El mòduls comuns els han de cursar, convalidar o acreditar tot l’alumna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Els mòduls opcionals: l’alumne pot escollir segons els seus interessos i necessitats dins de l’oferta que té el centre de formació d’adul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184320" y="1341360"/>
            <a:ext cx="8785080" cy="273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Contenidor de número de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4168C-BD0E-4754-88A4-00F5526423A6}" type="slidenum">
              <a:rPr b="0" lang="ca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1023840" y="303120"/>
            <a:ext cx="7435800" cy="9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0000"/>
                </a:solidFill>
                <a:latin typeface="Arial"/>
              </a:rPr>
              <a:t>Com s’organitza l’ensenyament d’educació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0000"/>
                </a:solidFill>
                <a:latin typeface="Arial"/>
              </a:rPr>
              <a:t>secundària obligatòria (GESO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971640" y="1484280"/>
            <a:ext cx="7797600" cy="21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Àmbit de la comunicació: 12 mòduls comu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Àmbit cientificotècnològic: 10 mòduls comu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Àmbit social: 6 mòduls comu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Mòduls opcionals: 6 mòdu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826920" y="1341360"/>
            <a:ext cx="7993080" cy="16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826920" y="3141720"/>
            <a:ext cx="806616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826920" y="4581360"/>
            <a:ext cx="80661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826920" y="4076640"/>
            <a:ext cx="734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Per a l’obtenció del títol l’alumna ha d’haver superat els 34 mòdu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2"/>
          <p:cNvSpPr/>
          <p:nvPr/>
        </p:nvSpPr>
        <p:spPr>
          <a:xfrm>
            <a:off x="826920" y="5157720"/>
            <a:ext cx="80661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3"/>
          <p:cNvSpPr/>
          <p:nvPr/>
        </p:nvSpPr>
        <p:spPr>
          <a:xfrm>
            <a:off x="881280" y="5227560"/>
            <a:ext cx="180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4"/>
          <p:cNvSpPr/>
          <p:nvPr/>
        </p:nvSpPr>
        <p:spPr>
          <a:xfrm>
            <a:off x="875880" y="5157720"/>
            <a:ext cx="7622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Si es superen els mòduls A i B PQPI i es cursen els 7 mòduls C del GESO, l’alumne pot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obtenir el títol de GESO. 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(Decret 140/2009 de 8 de setembre. DOGC 14.9.2009). Puntuació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ponderada entre 70% dels mòduls A i B i 30 % del mòduls 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5"/>
          <p:cNvSpPr/>
          <p:nvPr/>
        </p:nvSpPr>
        <p:spPr>
          <a:xfrm>
            <a:off x="900000" y="4282920"/>
            <a:ext cx="516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6"/>
          <p:cNvSpPr/>
          <p:nvPr/>
        </p:nvSpPr>
        <p:spPr>
          <a:xfrm>
            <a:off x="826920" y="4005360"/>
            <a:ext cx="80661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7"/>
          <p:cNvSpPr/>
          <p:nvPr/>
        </p:nvSpPr>
        <p:spPr>
          <a:xfrm>
            <a:off x="755640" y="4653000"/>
            <a:ext cx="444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Modalitats presencial o semipresencial (IOC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8"/>
          <p:cNvSpPr/>
          <p:nvPr/>
        </p:nvSpPr>
        <p:spPr>
          <a:xfrm>
            <a:off x="826920" y="3141720"/>
            <a:ext cx="784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Importància de l’acció tutorial: accions educatives adreçades a l’alumnat per tal d’orientar-lo i assessorar-lo en el seu procés d’aprenentatge, per establir el seu itinerari educati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Contenidor de número de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25EDA-1207-4351-A6D2-C4BBB931C5D3}" type="slidenum">
              <a:rPr b="0" lang="ca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826920" y="189000"/>
            <a:ext cx="765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0000"/>
                </a:solidFill>
                <a:latin typeface="Arial"/>
              </a:rPr>
              <a:t>Com s’organitza el curs de formació específic per a l’accés als cicles formatius de G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324000" y="1268280"/>
            <a:ext cx="8640720" cy="468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468360" y="1268280"/>
            <a:ext cx="8424720" cy="41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ff"/>
                </a:solidFill>
                <a:latin typeface="Arial"/>
              </a:rPr>
              <a:t>Per a persones que no posseeixen el títol de GESO o equivalent acadèmi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ff"/>
                </a:solidFill>
                <a:latin typeface="Arial"/>
              </a:rPr>
              <a:t>Durada: 600 hores. 18 hores setma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ff"/>
                </a:solidFill>
                <a:latin typeface="Arial"/>
              </a:rPr>
              <a:t>Estructura del cur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ca-ES" sz="1600" spc="-1" strike="noStrike">
                <a:solidFill>
                  <a:srgbClr val="0000ff"/>
                </a:solidFill>
                <a:latin typeface="Arial"/>
              </a:rPr>
              <a:t>- Àmbit de  la comunicació(COM). Llengües: catalana, castellana, angles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ca-ES" sz="1600" spc="-1" strike="noStrike">
                <a:solidFill>
                  <a:srgbClr val="0000ff"/>
                </a:solidFill>
                <a:latin typeface="Arial"/>
              </a:rPr>
              <a:t>- Àmbit social (SOC). Ciències socials i ciutadania, tutoria i orientació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ca-ES" sz="1600" spc="-1" strike="noStrike">
                <a:solidFill>
                  <a:srgbClr val="0000ff"/>
                </a:solidFill>
                <a:latin typeface="Arial"/>
              </a:rPr>
              <a:t>- Àmbit cientificotecnològic (CTE). Matemàtiques, tecnologia o ciènc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ca-ES" sz="1600" spc="-1" strike="noStrike">
                <a:solidFill>
                  <a:srgbClr val="0000ff"/>
                </a:solidFill>
                <a:latin typeface="Arial"/>
              </a:rPr>
              <a:t>Natur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ff"/>
                </a:solidFill>
                <a:latin typeface="Arial"/>
              </a:rPr>
              <a:t>Accés directe a qualsevol CFGM. En el cas dels ensenyaments  d’arts plàstiques i disseny i esportius de règim especial l’alumne ha de superar la part específic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ff"/>
                </a:solidFill>
                <a:latin typeface="Arial"/>
              </a:rPr>
              <a:t>Preu públic: 190 €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ca-E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ca-E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ca-ES" sz="1200" spc="-1" strike="noStrike">
                <a:solidFill>
                  <a:srgbClr val="0000ff"/>
                </a:solidFill>
                <a:latin typeface="Arial"/>
              </a:rPr>
              <a:t>Resolució ENS/1245/2012, de 13 de juny (DOGC 6158 de 27/06/201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Contenidor de número de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686EE-CE6B-4256-B2FD-0AC08359C6FA}" type="slidenum">
              <a:rPr b="0" lang="ca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179280" y="2376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0000"/>
                </a:solidFill>
                <a:latin typeface="Arial"/>
                <a:ea typeface="宋体"/>
              </a:rPr>
              <a:t>Com s’organitzen els ensenyaments corresponents a llengua catalana/aranes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ca-ES" sz="2400" spc="-1" strike="noStrike">
                <a:solidFill>
                  <a:srgbClr val="ff0000"/>
                </a:solidFill>
                <a:latin typeface="Arial"/>
                <a:ea typeface="宋体"/>
              </a:rPr>
              <a:t>i castellana, i de llengua estrangera</a:t>
            </a:r>
            <a:r>
              <a:rPr b="1" lang="ca-ES" sz="2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24000" y="1679400"/>
          <a:ext cx="8424720" cy="2865600"/>
        </p:xfrm>
        <a:graphic>
          <a:graphicData uri="http://schemas.openxmlformats.org/drawingml/2006/table">
            <a:tbl>
              <a:tblPr/>
              <a:tblGrid>
                <a:gridCol w="3247920"/>
                <a:gridCol w="2254320"/>
                <a:gridCol w="1164960"/>
                <a:gridCol w="17575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locs d’ensenyaments d’educació d’adult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Llengua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ivells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              </a:t>
                      </a:r>
                      <a:r>
                        <a:rPr b="1" lang="ca-E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urada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nsenyaments inicials i bàsic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Llengua catalana/occitana (aranès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Nivell 1 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Nivell 2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Nivell 3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105 h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140 h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140 h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Llengua castellan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Nivell 1 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Nivell 2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Nivell 3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105 h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140 h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140 h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Llengua estranger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Nivell 1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105 h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mpetències per a la societat de la informació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Llengua estranger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Nivell 2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Nivell 3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105 h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105 h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Line 255"/>
          <p:cNvSpPr/>
          <p:nvPr/>
        </p:nvSpPr>
        <p:spPr>
          <a:xfrm>
            <a:off x="8748720" y="191628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58"/>
          <p:cNvSpPr/>
          <p:nvPr/>
        </p:nvSpPr>
        <p:spPr>
          <a:xfrm>
            <a:off x="8748720" y="3645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59"/>
          <p:cNvSpPr/>
          <p:nvPr/>
        </p:nvSpPr>
        <p:spPr>
          <a:xfrm>
            <a:off x="179280" y="4956480"/>
            <a:ext cx="896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  <a:ea typeface="宋体"/>
              </a:rPr>
              <a:t>La superació de cadascun dels nivells dóna dret a l’obtenció d’un certificat acreditatiu, en què 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  <a:ea typeface="宋体"/>
              </a:rPr>
              <a:t>farà constar, si s’escau, la correspondència del nivell assolit amb el seu equivalent segons 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Marc Europeu Comú de Referència per a les Llengü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Contenidor de número de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1B6CC-4587-49BC-AE68-B952277DBB1D}" type="slidenum">
              <a:rPr b="0" lang="ca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1023840" y="158760"/>
            <a:ext cx="184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45360" y="208080"/>
            <a:ext cx="882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0000"/>
                </a:solidFill>
                <a:latin typeface="Arial"/>
              </a:rPr>
              <a:t>Com s’organitzen els ensenyaments de competència digit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250920" y="1341360"/>
            <a:ext cx="8893080" cy="45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Ensenyaments per adquirir les competències bàsiques en tecnologies de la informació i la comunicació: Competència digital (COMPETIC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Curso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Competència digital inicial   (105 h/curs):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C2 tecnologia, C4 tractament de text, C3 navegació i comunicació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Competència digital nivell 1 (105 h/curs):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C6 full de càlcul, C5 multimèdia, C1 participació digit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Competència digital nivell 2 (140 h/curs):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C1 participació digital, C2 tecnologia, C3 navegació i comunicació C4 tractament de text, C5 multimèdia, C6 full de càlcul, C7 base de dades, C8 presentacion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Competència digital nivell 3 (105 h/curs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) 3 competències (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Tractament de text, multimèdia, full de càlcul, base de dades, presentacion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El currículum d’aquests cursos correspon a les competències desenvolupades als tres nivells de l’ACTIC (Departament d’Empresa i Ocupació)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Contenidor de número de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ED4AC-CD18-4940-BA45-DC0446CF02B0}" type="slidenum">
              <a:rPr b="0" lang="ca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879480" y="3049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539640" y="231840"/>
            <a:ext cx="838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0000"/>
                </a:solidFill>
                <a:latin typeface="Arial"/>
              </a:rPr>
              <a:t>Com s’organitzen la formació per a proves d’accés a grau mitjà, grau superior, i majors de 25 an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179280" y="1413000"/>
            <a:ext cx="87138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649440" y="1413000"/>
            <a:ext cx="8243640" cy="36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Formació per a les proves d’accés a cicles formatius de grau mitjà (330 h/cur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Formació per a les proves d’accés a cicles formatius de grau superior (300 h/curs + 99 h/cu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per matèria específic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Resolució EDU/3983/2010, de 9 de desembre (DOGC núm 5778- 20/12/2010) on s’estableixen els temaris i els criteris d’avaluació de la prova d’accés als cicles formatiu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Formació per a l’accés a la Universitat per a majors de 25 anys (230 h/cur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Reial Decret 1892/2008 de 14 de novembre, BOE 283 de 24/11/2008</a:t>
            </a: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736560" y="5249880"/>
            <a:ext cx="200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a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Contenidor de número de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2E1A-72B8-4178-B39E-E1638A9672D6}" type="slidenum">
              <a:rPr b="0" lang="ca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755640" y="189000"/>
            <a:ext cx="8209080" cy="51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0000"/>
                </a:solidFill>
                <a:latin typeface="Arial"/>
              </a:rPr>
              <a:t>Com s’organitzen les proves lliures CFI i GESO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Proves lliures per a majors de 18 any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El Departament d’Ensenyament convoca proves lliures dues vegades a l’any 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Per a l’obtenció del Certificat de formació instrumental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Per a l’obtenció del títol de Graduat/ada en educació secundària obligatòr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Referències curriculars : ORDRE BEF/267/2003, de 3 de juny (</a:t>
            </a:r>
            <a:r>
              <a:rPr b="0" i="1" lang="ca-ES" sz="1600" spc="-1" strike="noStrike">
                <a:solidFill>
                  <a:srgbClr val="000000"/>
                </a:solidFill>
                <a:latin typeface="Arial"/>
              </a:rPr>
              <a:t>DOGC núm. 3909 -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600" spc="-1" strike="noStrike">
                <a:solidFill>
                  <a:srgbClr val="000000"/>
                </a:solidFill>
                <a:latin typeface="Arial"/>
              </a:rPr>
              <a:t>20/06/2003) i EDU/18/2010, de 15 de gener (DOGC núm. 5551 – 22.1.2010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Contenidor de número de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54267-B847-4617-BCB0-F1D1A34EB0AF}" type="slidenum">
              <a:rPr b="0" lang="ca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1187280" y="447840"/>
            <a:ext cx="71298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0000"/>
                </a:solidFill>
                <a:latin typeface="Arial"/>
              </a:rPr>
              <a:t>Com s’organitzen les proves lliures CFI i GESO?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738360" y="1311120"/>
            <a:ext cx="8071920" cy="49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Arial"/>
              </a:rPr>
              <a:t>Requisits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Tenir 18</a:t>
            </a:r>
            <a:r>
              <a:rPr b="1" lang="ca-E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anys el dia de realització de l’exam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Presentar sol·licitud dins del període previst a través de la pàgina web 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Departament d’Ensenyament (l’alumne pot acreditar la presentació de la sol·licitud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amb la impressió de la pantalla de confirmació del tràmit a l’aplicació informàtica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(opció resguard) on consta el número de registre d’entrada de la sol·licitu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Comprovar la inscripció a les llistes provisionals i definitives de persones inscrit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a través del web del departament i tauler d’anuncis del centre on es realitzen les prov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Persones aspirants amb </a:t>
            </a:r>
            <a:r>
              <a:rPr b="0" i="1" lang="ca-ES" sz="1600" spc="-1" strike="noStrike">
                <a:solidFill>
                  <a:srgbClr val="000000"/>
                </a:solidFill>
                <a:latin typeface="Arial"/>
              </a:rPr>
              <a:t>NEE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derivades de discapacitats físiques, psíquiques o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sensorials o altres trastorns greus amb reconeixement oficial poden sol·licitar recurs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addicionals per a realitzar les prov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Presentar el DNI o document acreditatiu el dia o dies de l’exam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Contenidor de número de diapositiva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1BC7C-787B-4F7F-937D-CA079BD8FDA2}" type="slidenum">
              <a:rPr b="0" lang="ca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684360" y="1773360"/>
            <a:ext cx="7775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640720" cy="50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0000"/>
                </a:solidFill>
                <a:latin typeface="Arial"/>
              </a:rPr>
              <a:t>Educació d’adults: Quina és la finalitat, objecte i àmbit?</a:t>
            </a: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92" name="Rectangle 14"/>
          <p:cNvSpPr/>
          <p:nvPr/>
        </p:nvSpPr>
        <p:spPr>
          <a:xfrm>
            <a:off x="324000" y="2492280"/>
            <a:ext cx="8496000" cy="172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Formar a l’alumnat en els ensenyaments obligatori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Preparar a l’alumnat per a l’accés al sistema educatiu de règim general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Possibilitar a totes les persones el desenvolupament del projecte person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i professional i facilitar-los la participació social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Informar i orientar a l’alumnat sobre les accions formatives més adequade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Validar competències adquirides per altres vies formative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5"/>
          <p:cNvSpPr/>
          <p:nvPr/>
        </p:nvSpPr>
        <p:spPr>
          <a:xfrm>
            <a:off x="3111480" y="157644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8"/>
          <p:cNvSpPr/>
          <p:nvPr/>
        </p:nvSpPr>
        <p:spPr>
          <a:xfrm>
            <a:off x="3851280" y="1484280"/>
            <a:ext cx="98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Finalita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0"/>
          <p:cNvSpPr/>
          <p:nvPr/>
        </p:nvSpPr>
        <p:spPr>
          <a:xfrm>
            <a:off x="539640" y="1628640"/>
            <a:ext cx="792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Fer efectiu el dret a l’educació en qualsevol etapa de la vid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1"/>
          <p:cNvSpPr/>
          <p:nvPr/>
        </p:nvSpPr>
        <p:spPr>
          <a:xfrm>
            <a:off x="539640" y="5013360"/>
            <a:ext cx="7993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2"/>
          <p:cNvSpPr/>
          <p:nvPr/>
        </p:nvSpPr>
        <p:spPr>
          <a:xfrm>
            <a:off x="324000" y="4508640"/>
            <a:ext cx="8496000" cy="1441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4"/>
          <p:cNvSpPr/>
          <p:nvPr/>
        </p:nvSpPr>
        <p:spPr>
          <a:xfrm>
            <a:off x="502560" y="2133720"/>
            <a:ext cx="436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Objectiu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5"/>
          <p:cNvSpPr/>
          <p:nvPr/>
        </p:nvSpPr>
        <p:spPr>
          <a:xfrm>
            <a:off x="3635280" y="4221000"/>
            <a:ext cx="192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Àmbits d’actuació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7"/>
          <p:cNvSpPr/>
          <p:nvPr/>
        </p:nvSpPr>
        <p:spPr>
          <a:xfrm>
            <a:off x="324000" y="4508640"/>
            <a:ext cx="8424720" cy="18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L’educació en general i l’accés al sistema educatiu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L’ adquisició de competències transprofessionals: TIC i llengüe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L’educació per la participació i cohesió social: acollida formativa a immigrants adults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iniciació a les llengües oficials i a una llengua estrangera, les TIC, us d’estratègies per adquirir competències bàsique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8"/>
          <p:cNvSpPr/>
          <p:nvPr/>
        </p:nvSpPr>
        <p:spPr>
          <a:xfrm>
            <a:off x="2780640" y="1197000"/>
            <a:ext cx="35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LEC:   Capítol IV, articles 69, 70, 7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9"/>
          <p:cNvSpPr/>
          <p:nvPr/>
        </p:nvSpPr>
        <p:spPr>
          <a:xfrm>
            <a:off x="324000" y="1773360"/>
            <a:ext cx="8496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4356000" y="6093000"/>
            <a:ext cx="3816360" cy="57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8"/>
          <p:cNvSpPr/>
          <p:nvPr/>
        </p:nvSpPr>
        <p:spPr>
          <a:xfrm>
            <a:off x="4397040" y="6164280"/>
            <a:ext cx="354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Pla  del Govern 2011-2014: potenciar la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formació d’adul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Contenidor de número de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3A11C-03F2-48C3-AB8A-AB7259DFF8EF}" type="slidenum">
              <a:rPr b="0" lang="ca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395280" y="1268280"/>
            <a:ext cx="835344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324000" y="1413000"/>
            <a:ext cx="8569080" cy="1152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Estructura de la prova lliure per a l’obtenció del CF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La prova per a l’obtenció del certificat de formació instrumental és de caràcter global, té una durada d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2 hores i mitja i està estructurada en tres àrees: àrea de llengua, àrea de matemàtiques i àrea de ciènci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socials i naturals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324000" y="2637000"/>
            <a:ext cx="8569080" cy="324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Estructura de la prova lliure per a l’obtenció del títol de GES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La prova per a l’obtenció del graduat en educació secundària obligatòria està estructurad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en tres àmbits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Àmbit de la comunicació 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(4 hor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Àmbit cientificotecnològic 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(3 hor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Àmbit social 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(2 hor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La persona aspirant es pot presentar a 1, 2 o als tres àmbits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La persona aspirant amb estudis previs té la possibilitat de convalidar 1 o 2 àmbits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La persona aspirant pot demanar l’exempció de la llengua catalana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La persona aspirant pot demanar adaptació per fer la prova (no adaptació curricular)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Els àmbits convalidats o aprovats són reconeguts com a tals en posteriors convocatòri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447840" y="504720"/>
            <a:ext cx="830088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0000"/>
                </a:solidFill>
                <a:latin typeface="Arial"/>
              </a:rPr>
              <a:t>Com s’organitzen les proves lliures CFI i GESO?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Contenidor de número de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3E77-B791-417D-B54C-C127CBA5717D}" type="slidenum">
              <a:rPr b="0" lang="ca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539640" y="1539720"/>
            <a:ext cx="8280360" cy="44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MÉS INFORMACIÓ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Proves lliures de CFI i GESO http://gencat.cat/ensenyament &gt; Proves &gt;Prov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lliures per a l’obtenció de títo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Ensenyaments d’adul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http://gencat.cat/ensenyament &gt; Estudiar a Catalunya &gt; Educació d’adul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519120" y="303120"/>
            <a:ext cx="184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755640" y="374760"/>
            <a:ext cx="77040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0000"/>
                </a:solidFill>
                <a:latin typeface="Arial"/>
              </a:rPr>
              <a:t>Com s’organitzen les proves lliures CFI i GESO?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468360" y="1341360"/>
            <a:ext cx="835164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487080" y="1339920"/>
            <a:ext cx="78159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ff"/>
                </a:solidFill>
                <a:latin typeface="Arial"/>
              </a:rPr>
              <a:t>Formulari nou. Es facilita a la persona un número de sol·licitud, les gestions es poden fer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ff"/>
                </a:solidFill>
                <a:latin typeface="Arial"/>
              </a:rPr>
              <a:t>via telemàtica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Contenidor de número de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2DD28-50C8-4D11-808B-5FE22BC7BF54}" type="slidenum">
              <a:rPr b="0" lang="ca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4963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0000"/>
                </a:solidFill>
                <a:latin typeface="Arial"/>
              </a:rPr>
              <a:t>Quines convocatòries hi ha sobre les proves d’accés a CFI i GESO?</a:t>
            </a: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755640" y="1916280"/>
            <a:ext cx="784872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5"/>
          <p:cNvSpPr/>
          <p:nvPr/>
        </p:nvSpPr>
        <p:spPr>
          <a:xfrm>
            <a:off x="755640" y="256536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6"/>
          <p:cNvSpPr/>
          <p:nvPr/>
        </p:nvSpPr>
        <p:spPr>
          <a:xfrm>
            <a:off x="3132000" y="1916280"/>
            <a:ext cx="0" cy="360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7"/>
          <p:cNvSpPr/>
          <p:nvPr/>
        </p:nvSpPr>
        <p:spPr>
          <a:xfrm>
            <a:off x="5867280" y="1916280"/>
            <a:ext cx="0" cy="360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3416400" y="191628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Primera convocatòr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6224760" y="1916280"/>
            <a:ext cx="198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Segona convocatòr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0"/>
          <p:cNvSpPr/>
          <p:nvPr/>
        </p:nvSpPr>
        <p:spPr>
          <a:xfrm>
            <a:off x="755640" y="371628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5867280" y="3213000"/>
            <a:ext cx="266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a-ES" sz="1400" spc="-1" strike="noStrike">
                <a:solidFill>
                  <a:srgbClr val="0000ff"/>
                </a:solidFill>
                <a:latin typeface="Arial"/>
              </a:rPr>
              <a:t>Prova 13 novembre 201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5867280" y="4653000"/>
            <a:ext cx="288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ff"/>
                </a:solidFill>
                <a:latin typeface="Arial"/>
              </a:rPr>
              <a:t>Prova 13 i 14 de Novembre 201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3"/>
          <p:cNvSpPr/>
          <p:nvPr/>
        </p:nvSpPr>
        <p:spPr>
          <a:xfrm>
            <a:off x="2916360" y="3141720"/>
            <a:ext cx="372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a-ES" sz="1400" spc="-1" strike="noStrike">
                <a:solidFill>
                  <a:srgbClr val="0000ff"/>
                </a:solidFill>
                <a:latin typeface="Arial"/>
              </a:rPr>
              <a:t>Prova 23 de maig de 201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4"/>
          <p:cNvSpPr/>
          <p:nvPr/>
        </p:nvSpPr>
        <p:spPr>
          <a:xfrm>
            <a:off x="3203640" y="4653000"/>
            <a:ext cx="252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a-ES" sz="1400" spc="-1" strike="noStrike">
                <a:solidFill>
                  <a:srgbClr val="0000ff"/>
                </a:solidFill>
                <a:latin typeface="Arial"/>
              </a:rPr>
              <a:t>Prova 23 i 24 de maig d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ca-ES" sz="1400" spc="-1" strike="noStrike">
                <a:solidFill>
                  <a:srgbClr val="0000ff"/>
                </a:solidFill>
                <a:latin typeface="Arial"/>
              </a:rPr>
              <a:t>201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5"/>
          <p:cNvSpPr/>
          <p:nvPr/>
        </p:nvSpPr>
        <p:spPr>
          <a:xfrm>
            <a:off x="880920" y="2728800"/>
            <a:ext cx="21495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Cicle de Formació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Instrument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6"/>
          <p:cNvSpPr/>
          <p:nvPr/>
        </p:nvSpPr>
        <p:spPr>
          <a:xfrm>
            <a:off x="755640" y="4098960"/>
            <a:ext cx="2757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Graduat en Educació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Secundàr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8"/>
          <p:cNvSpPr/>
          <p:nvPr/>
        </p:nvSpPr>
        <p:spPr>
          <a:xfrm>
            <a:off x="3132000" y="2276640"/>
            <a:ext cx="26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9"/>
          <p:cNvSpPr/>
          <p:nvPr/>
        </p:nvSpPr>
        <p:spPr>
          <a:xfrm>
            <a:off x="5724360" y="278136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a-ES" sz="1400" spc="-1" strike="noStrike">
                <a:solidFill>
                  <a:srgbClr val="0000ff"/>
                </a:solidFill>
                <a:latin typeface="Arial"/>
              </a:rPr>
              <a:t>Preinscripció 9 al 16 d’octub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3124080" y="2708280"/>
            <a:ext cx="249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ff"/>
                </a:solidFill>
                <a:latin typeface="Arial"/>
              </a:rPr>
              <a:t>Preinscripció 4 al 11 d’abri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1"/>
          <p:cNvSpPr/>
          <p:nvPr/>
        </p:nvSpPr>
        <p:spPr>
          <a:xfrm>
            <a:off x="3268800" y="4149720"/>
            <a:ext cx="249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ff"/>
                </a:solidFill>
                <a:latin typeface="Arial"/>
              </a:rPr>
              <a:t>Preinscripció 9 al 16 d’abri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2"/>
          <p:cNvSpPr/>
          <p:nvPr/>
        </p:nvSpPr>
        <p:spPr>
          <a:xfrm>
            <a:off x="5859720" y="4149720"/>
            <a:ext cx="276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ff"/>
                </a:solidFill>
                <a:latin typeface="Arial"/>
              </a:rPr>
              <a:t>Preinscripció 9 al 16 d’octub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758160" y="141444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Propo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Contenidor de número de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E8106-C3B6-4087-B3DE-BCAA99135236}" type="slidenum">
              <a:rPr b="0" lang="ca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4360" y="-243000"/>
            <a:ext cx="777384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0000"/>
                </a:solidFill>
                <a:latin typeface="Arial"/>
              </a:rPr>
              <a:t>Què es pot aconseguir?</a:t>
            </a: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21" name="Text Box 133"/>
          <p:cNvSpPr/>
          <p:nvPr/>
        </p:nvSpPr>
        <p:spPr>
          <a:xfrm>
            <a:off x="1600200" y="-7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34"/>
          <p:cNvSpPr/>
          <p:nvPr/>
        </p:nvSpPr>
        <p:spPr>
          <a:xfrm>
            <a:off x="179280" y="620640"/>
            <a:ext cx="3745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Formació instrument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35"/>
          <p:cNvSpPr/>
          <p:nvPr/>
        </p:nvSpPr>
        <p:spPr>
          <a:xfrm>
            <a:off x="179280" y="1268280"/>
            <a:ext cx="4753080" cy="432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Graduat en Educació Secundària Obligatòria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36"/>
          <p:cNvSpPr/>
          <p:nvPr/>
        </p:nvSpPr>
        <p:spPr>
          <a:xfrm>
            <a:off x="179280" y="1773360"/>
            <a:ext cx="3816360" cy="36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37"/>
          <p:cNvSpPr/>
          <p:nvPr/>
        </p:nvSpPr>
        <p:spPr>
          <a:xfrm>
            <a:off x="179280" y="2565360"/>
            <a:ext cx="3816360" cy="57636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Llengües (català, castellà, aranè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38"/>
          <p:cNvSpPr/>
          <p:nvPr/>
        </p:nvSpPr>
        <p:spPr>
          <a:xfrm>
            <a:off x="179280" y="3284640"/>
            <a:ext cx="3816360" cy="576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LLengua estranger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39"/>
          <p:cNvSpPr/>
          <p:nvPr/>
        </p:nvSpPr>
        <p:spPr>
          <a:xfrm>
            <a:off x="179280" y="4005360"/>
            <a:ext cx="3816360" cy="5760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Preparació Proves d’accés a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Grau Superi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41"/>
          <p:cNvSpPr/>
          <p:nvPr/>
        </p:nvSpPr>
        <p:spPr>
          <a:xfrm>
            <a:off x="108000" y="1773360"/>
            <a:ext cx="388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Arial"/>
              </a:rPr>
              <a:t>Curs de formació específic per a l’accés als CFG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42"/>
          <p:cNvSpPr/>
          <p:nvPr/>
        </p:nvSpPr>
        <p:spPr>
          <a:xfrm>
            <a:off x="179280" y="4724280"/>
            <a:ext cx="399600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Preparació provés d’accé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Majors de 25 an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43"/>
          <p:cNvSpPr/>
          <p:nvPr/>
        </p:nvSpPr>
        <p:spPr>
          <a:xfrm>
            <a:off x="179280" y="5445000"/>
            <a:ext cx="3816360" cy="576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Competència digital (COMPETIC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45"/>
          <p:cNvSpPr/>
          <p:nvPr/>
        </p:nvSpPr>
        <p:spPr>
          <a:xfrm>
            <a:off x="5867280" y="1268280"/>
            <a:ext cx="3024360" cy="432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Batxiller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50"/>
          <p:cNvSpPr/>
          <p:nvPr/>
        </p:nvSpPr>
        <p:spPr>
          <a:xfrm>
            <a:off x="5867280" y="3284640"/>
            <a:ext cx="3097440" cy="504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EO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51"/>
          <p:cNvSpPr/>
          <p:nvPr/>
        </p:nvSpPr>
        <p:spPr>
          <a:xfrm>
            <a:off x="4356000" y="3357720"/>
            <a:ext cx="1008000" cy="433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Prov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d’accé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4" name="AutoShape 152"/>
          <p:cNvCxnSpPr>
            <a:stCxn id="226" idx="3"/>
            <a:endCxn id="233" idx="1"/>
          </p:cNvCxnSpPr>
          <p:nvPr/>
        </p:nvCxnSpPr>
        <p:spPr>
          <a:xfrm>
            <a:off x="3995280" y="3573000"/>
            <a:ext cx="361080" cy="2520"/>
          </a:xfrm>
          <a:prstGeom prst="bentConnector3">
            <a:avLst>
              <a:gd name="adj1" fmla="val 497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5" name="Rectangle 153"/>
          <p:cNvSpPr/>
          <p:nvPr/>
        </p:nvSpPr>
        <p:spPr>
          <a:xfrm>
            <a:off x="4356000" y="4076640"/>
            <a:ext cx="1008000" cy="4334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Prov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d’accé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54"/>
          <p:cNvSpPr/>
          <p:nvPr/>
        </p:nvSpPr>
        <p:spPr>
          <a:xfrm>
            <a:off x="5867280" y="3933720"/>
            <a:ext cx="3097440" cy="647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Cicles formatius d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Grau Superi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7" name="AutoShape 155"/>
          <p:cNvCxnSpPr>
            <a:stCxn id="227" idx="3"/>
            <a:endCxn id="235" idx="1"/>
          </p:cNvCxnSpPr>
          <p:nvPr/>
        </p:nvCxnSpPr>
        <p:spPr>
          <a:xfrm>
            <a:off x="3995280" y="4293720"/>
            <a:ext cx="3610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Rectangle 156"/>
          <p:cNvSpPr/>
          <p:nvPr/>
        </p:nvSpPr>
        <p:spPr>
          <a:xfrm>
            <a:off x="4356000" y="4797360"/>
            <a:ext cx="1008000" cy="433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Prov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57"/>
          <p:cNvSpPr/>
          <p:nvPr/>
        </p:nvSpPr>
        <p:spPr>
          <a:xfrm>
            <a:off x="5867280" y="4797360"/>
            <a:ext cx="3097440" cy="504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Ensenyaments universitar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59"/>
          <p:cNvSpPr/>
          <p:nvPr/>
        </p:nvSpPr>
        <p:spPr>
          <a:xfrm>
            <a:off x="5364000" y="5084640"/>
            <a:ext cx="503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60"/>
          <p:cNvSpPr/>
          <p:nvPr/>
        </p:nvSpPr>
        <p:spPr>
          <a:xfrm>
            <a:off x="5292720" y="42926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61"/>
          <p:cNvSpPr/>
          <p:nvPr/>
        </p:nvSpPr>
        <p:spPr>
          <a:xfrm>
            <a:off x="5364000" y="3573360"/>
            <a:ext cx="503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62"/>
          <p:cNvSpPr/>
          <p:nvPr/>
        </p:nvSpPr>
        <p:spPr>
          <a:xfrm>
            <a:off x="4356000" y="5516640"/>
            <a:ext cx="1008000" cy="503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Superació,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treball..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63"/>
          <p:cNvSpPr/>
          <p:nvPr/>
        </p:nvSpPr>
        <p:spPr>
          <a:xfrm>
            <a:off x="3995640" y="5734080"/>
            <a:ext cx="358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64"/>
          <p:cNvSpPr/>
          <p:nvPr/>
        </p:nvSpPr>
        <p:spPr>
          <a:xfrm>
            <a:off x="5867280" y="5516640"/>
            <a:ext cx="3097440" cy="57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Certificat equivalència ACTI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65"/>
          <p:cNvSpPr/>
          <p:nvPr/>
        </p:nvSpPr>
        <p:spPr>
          <a:xfrm>
            <a:off x="5364000" y="5805360"/>
            <a:ext cx="503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66"/>
          <p:cNvSpPr/>
          <p:nvPr/>
        </p:nvSpPr>
        <p:spPr>
          <a:xfrm>
            <a:off x="5867280" y="2637000"/>
            <a:ext cx="3097440" cy="50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Certificat B1 </a:t>
            </a:r>
            <a:r>
              <a:rPr b="0" lang="ca-ES" sz="1200" spc="-1" strike="noStrike">
                <a:solidFill>
                  <a:srgbClr val="000000"/>
                </a:solidFill>
                <a:latin typeface="Arial"/>
              </a:rPr>
              <a:t>(Marc Europeu Comú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Arial"/>
              </a:rPr>
              <a:t>de Referència per a les llengües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74"/>
          <p:cNvSpPr/>
          <p:nvPr/>
        </p:nvSpPr>
        <p:spPr>
          <a:xfrm>
            <a:off x="2268360" y="981000"/>
            <a:ext cx="0" cy="28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75"/>
          <p:cNvSpPr/>
          <p:nvPr/>
        </p:nvSpPr>
        <p:spPr>
          <a:xfrm>
            <a:off x="3995640" y="2781360"/>
            <a:ext cx="1871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0" name="AutoShape 176"/>
          <p:cNvCxnSpPr>
            <a:stCxn id="229" idx="3"/>
            <a:endCxn id="238" idx="1"/>
          </p:cNvCxnSpPr>
          <p:nvPr/>
        </p:nvCxnSpPr>
        <p:spPr>
          <a:xfrm>
            <a:off x="4175280" y="5013360"/>
            <a:ext cx="181440" cy="2160"/>
          </a:xfrm>
          <a:prstGeom prst="bentConnector3">
            <a:avLst>
              <a:gd name="adj1" fmla="val 49105"/>
            </a:avLst>
          </a:prstGeom>
          <a:ln w="0">
            <a:noFill/>
          </a:ln>
        </p:spPr>
      </p:cxnSp>
      <p:cxnSp>
        <p:nvCxnSpPr>
          <p:cNvPr id="251" name="AutoShape 177"/>
          <p:cNvCxnSpPr>
            <a:stCxn id="229" idx="3"/>
            <a:endCxn id="238" idx="1"/>
          </p:cNvCxnSpPr>
          <p:nvPr/>
        </p:nvCxnSpPr>
        <p:spPr>
          <a:xfrm>
            <a:off x="4175280" y="5013360"/>
            <a:ext cx="181440" cy="2160"/>
          </a:xfrm>
          <a:prstGeom prst="bentConnector3">
            <a:avLst>
              <a:gd name="adj1" fmla="val 49105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2" name="Rectangle 181"/>
          <p:cNvSpPr/>
          <p:nvPr/>
        </p:nvSpPr>
        <p:spPr>
          <a:xfrm>
            <a:off x="3995640" y="23493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82"/>
          <p:cNvSpPr/>
          <p:nvPr/>
        </p:nvSpPr>
        <p:spPr>
          <a:xfrm>
            <a:off x="179280" y="2205000"/>
            <a:ext cx="3816360" cy="289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83"/>
          <p:cNvSpPr/>
          <p:nvPr/>
        </p:nvSpPr>
        <p:spPr>
          <a:xfrm>
            <a:off x="179280" y="21528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Formació preparació P.A. A GM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84"/>
          <p:cNvSpPr/>
          <p:nvPr/>
        </p:nvSpPr>
        <p:spPr>
          <a:xfrm>
            <a:off x="4356000" y="2205000"/>
            <a:ext cx="1008000" cy="433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Prov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d’accé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85"/>
          <p:cNvSpPr/>
          <p:nvPr/>
        </p:nvSpPr>
        <p:spPr>
          <a:xfrm>
            <a:off x="3995640" y="2349360"/>
            <a:ext cx="360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7" name="AutoShape 189"/>
          <p:cNvCxnSpPr/>
          <p:nvPr/>
        </p:nvCxnSpPr>
        <p:spPr>
          <a:xfrm>
            <a:off x="5292720" y="1483920"/>
            <a:ext cx="28800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258" name="AutoShape 191"/>
          <p:cNvCxnSpPr>
            <a:stCxn id="224" idx="3"/>
          </p:cNvCxnSpPr>
          <p:nvPr/>
        </p:nvCxnSpPr>
        <p:spPr>
          <a:xfrm flipV="1">
            <a:off x="3995280" y="1915560"/>
            <a:ext cx="1081800" cy="38520"/>
          </a:xfrm>
          <a:prstGeom prst="bentConnector3">
            <a:avLst>
              <a:gd name="adj1" fmla="val 49900"/>
            </a:avLst>
          </a:prstGeom>
          <a:ln w="0">
            <a:noFill/>
          </a:ln>
        </p:spPr>
      </p:cxnSp>
      <p:cxnSp>
        <p:nvCxnSpPr>
          <p:cNvPr id="259" name="AutoShape 192"/>
          <p:cNvCxnSpPr/>
          <p:nvPr/>
        </p:nvCxnSpPr>
        <p:spPr>
          <a:xfrm>
            <a:off x="4571640" y="1341000"/>
            <a:ext cx="864360" cy="73800"/>
          </a:xfrm>
          <a:prstGeom prst="bentConnector3">
            <a:avLst>
              <a:gd name="adj1" fmla="val 50000"/>
            </a:avLst>
          </a:prstGeom>
          <a:ln w="0">
            <a:noFill/>
          </a:ln>
        </p:spPr>
      </p:cxnSp>
      <p:cxnSp>
        <p:nvCxnSpPr>
          <p:cNvPr id="260" name="AutoShape 194"/>
          <p:cNvCxnSpPr/>
          <p:nvPr/>
        </p:nvCxnSpPr>
        <p:spPr>
          <a:xfrm>
            <a:off x="5940000" y="1412640"/>
            <a:ext cx="7236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261" name="AutoShape 195"/>
          <p:cNvCxnSpPr>
            <a:stCxn id="224" idx="3"/>
          </p:cNvCxnSpPr>
          <p:nvPr/>
        </p:nvCxnSpPr>
        <p:spPr>
          <a:xfrm flipV="1">
            <a:off x="3995280" y="1915560"/>
            <a:ext cx="1872360" cy="38520"/>
          </a:xfrm>
          <a:prstGeom prst="bentConnector3">
            <a:avLst>
              <a:gd name="adj1" fmla="val 49942"/>
            </a:avLst>
          </a:prstGeom>
          <a:ln w="0">
            <a:noFill/>
          </a:ln>
        </p:spPr>
      </p:cxnSp>
      <p:cxnSp>
        <p:nvCxnSpPr>
          <p:cNvPr id="262" name="AutoShape 196"/>
          <p:cNvCxnSpPr>
            <a:stCxn id="224" idx="3"/>
          </p:cNvCxnSpPr>
          <p:nvPr/>
        </p:nvCxnSpPr>
        <p:spPr>
          <a:xfrm>
            <a:off x="3995280" y="1953720"/>
            <a:ext cx="1872360" cy="251640"/>
          </a:xfrm>
          <a:prstGeom prst="bentConnector3">
            <a:avLst>
              <a:gd name="adj1" fmla="val 49942"/>
            </a:avLst>
          </a:prstGeom>
          <a:ln w="0">
            <a:noFill/>
          </a:ln>
        </p:spPr>
      </p:cxnSp>
      <p:sp>
        <p:nvSpPr>
          <p:cNvPr id="263" name="Rectangle 197"/>
          <p:cNvSpPr/>
          <p:nvPr/>
        </p:nvSpPr>
        <p:spPr>
          <a:xfrm>
            <a:off x="5867280" y="1844640"/>
            <a:ext cx="3024360" cy="57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Accés a cicles formatius d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grau mitjà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99"/>
          <p:cNvSpPr/>
          <p:nvPr/>
        </p:nvSpPr>
        <p:spPr>
          <a:xfrm>
            <a:off x="5219640" y="1484280"/>
            <a:ext cx="647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5" name="AutoShape 201"/>
          <p:cNvCxnSpPr>
            <a:stCxn id="224" idx="3"/>
            <a:endCxn id="263" idx="1"/>
          </p:cNvCxnSpPr>
          <p:nvPr/>
        </p:nvCxnSpPr>
        <p:spPr>
          <a:xfrm>
            <a:off x="3995280" y="1954080"/>
            <a:ext cx="1872360" cy="178200"/>
          </a:xfrm>
          <a:prstGeom prst="bentConnector3">
            <a:avLst>
              <a:gd name="adj1" fmla="val 49942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6" name="AutoShape 202"/>
          <p:cNvCxnSpPr>
            <a:stCxn id="255" idx="3"/>
            <a:endCxn id="263" idx="1"/>
          </p:cNvCxnSpPr>
          <p:nvPr/>
        </p:nvCxnSpPr>
        <p:spPr>
          <a:xfrm flipV="1">
            <a:off x="5364000" y="2131200"/>
            <a:ext cx="504000" cy="291240"/>
          </a:xfrm>
          <a:prstGeom prst="bentConnector3">
            <a:avLst>
              <a:gd name="adj1" fmla="val 49821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7" name="AutoShape 203"/>
          <p:cNvCxnSpPr>
            <a:stCxn id="223" idx="3"/>
          </p:cNvCxnSpPr>
          <p:nvPr/>
        </p:nvCxnSpPr>
        <p:spPr>
          <a:xfrm>
            <a:off x="4932000" y="1483920"/>
            <a:ext cx="864360" cy="36108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Contenidor de número de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25ADC-9936-49DC-9582-E1F6596A00DD}" type="slidenum">
              <a:rPr b="0" lang="ca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324000" y="-171360"/>
            <a:ext cx="8497800" cy="51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0000"/>
                </a:solidFill>
                <a:latin typeface="Arial"/>
              </a:rPr>
              <a:t>On trobar la informació de l'oferta educativa i altres informacions sobre educació d’adult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Consulta de centres i oferta formativ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A través del portal Estudiar a Catalunya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600" spc="-1" strike="noStrike">
                <a:solidFill>
                  <a:srgbClr val="000000"/>
                </a:solidFill>
                <a:latin typeface="Arial"/>
              </a:rPr>
              <a:t>Estudiar a Catalunya &gt;Estudis&gt; Mapa Escola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A les publicacions del Departament d’Ensenyament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600" spc="-1" strike="noStrike">
                <a:solidFill>
                  <a:srgbClr val="000000"/>
                </a:solidFill>
                <a:latin typeface="Arial"/>
              </a:rPr>
              <a:t>Estudiar a Catalunya&gt;Estudis&gt;Educació d’adults&gt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600" spc="-1" strike="noStrike">
                <a:solidFill>
                  <a:srgbClr val="000000"/>
                </a:solidFill>
                <a:latin typeface="Arial"/>
              </a:rPr>
              <a:t>Estudis&gt;Qualsevol ensenyament&gt;Fullets informatius&gt;”Formació de Perso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600" spc="-1" strike="noStrike">
                <a:solidFill>
                  <a:srgbClr val="000000"/>
                </a:solidFill>
                <a:latin typeface="Arial"/>
              </a:rPr>
              <a:t>adultes 2013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324000" y="4653000"/>
            <a:ext cx="496404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Informació general sobre educació d’adults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http://www.xtec.cat/curriculum/personesadult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6"/>
          <p:cNvSpPr/>
          <p:nvPr/>
        </p:nvSpPr>
        <p:spPr>
          <a:xfrm>
            <a:off x="3708360" y="3398760"/>
            <a:ext cx="201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Arial"/>
              </a:rPr>
              <a:t>GRÀC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Contenidor de número de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0CBCD-0048-441B-8F77-847D46143CF0}" type="slidenum">
              <a:rPr b="0" lang="ca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2200" y="189000"/>
            <a:ext cx="77742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0000"/>
                </a:solidFill>
                <a:latin typeface="Arial"/>
              </a:rPr>
              <a:t>Qui pot accedir a l’educació d’adults?</a:t>
            </a: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07" name="Text Box 24"/>
          <p:cNvSpPr/>
          <p:nvPr/>
        </p:nvSpPr>
        <p:spPr>
          <a:xfrm>
            <a:off x="179280" y="1266840"/>
            <a:ext cx="8964720" cy="50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Amb caràcter general: tenir 18 anys o complir-los durant l’any natural en que s’inicia la formació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Persones majors de 16 anys o que els compleixen durant l’any natural en que inicien la formació si tenen:</a:t>
            </a: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- Si tenen un contracte laboral que els impedeix assistir als centres educatius de règim ordinari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- Si es troben en procés d’obtenció d’un permís de treball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- Si són esportistes d’alt rendimen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- Si estan cursant, o han cursat els mòduls obligatoris dels PQPI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- Si volen cursar la formació per a les proves d’accés a CFGM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6600"/>
                </a:solidFill>
                <a:latin typeface="Arial"/>
              </a:rPr>
              <a:t>     </a:t>
            </a:r>
            <a:r>
              <a:rPr b="0" lang="ca-ES" sz="1600" spc="-1" strike="noStrike">
                <a:solidFill>
                  <a:srgbClr val="ff6600"/>
                </a:solidFill>
                <a:latin typeface="Arial"/>
              </a:rPr>
              <a:t>- </a:t>
            </a:r>
            <a:r>
              <a:rPr b="1" lang="ca-ES" sz="1600" spc="-1" strike="noStrike">
                <a:solidFill>
                  <a:srgbClr val="0000ff"/>
                </a:solidFill>
                <a:latin typeface="Arial"/>
              </a:rPr>
              <a:t>Si són persones joves acollides al programa “joves per l’ocupació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Excepcionalment el director del centre pot autoritzar la incorporació d’alumnes que no reuneixen aquest requisits quan circumstancies singulars ho justifiquin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Si els alumnes són menors de 18 anys es requereix el consentiment del pare, mare o tutor legal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ca-ES" sz="1600" spc="-1" strike="noStrike">
                <a:solidFill>
                  <a:srgbClr val="0000ff"/>
                </a:solidFill>
                <a:latin typeface="Arial"/>
              </a:rPr>
              <a:t>Si volen accedir al curs específic per a l’accés al cicles de grau mitjà han de complir 17 anys al llarg de l’any natural en que s’inicia el cur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Contenidor de número de diapositiva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29101-D092-41A1-89A2-00F6F64D507E}" type="slidenum">
              <a:rPr b="0" lang="ca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200" y="188640"/>
            <a:ext cx="77742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ca-ES" sz="2400" spc="-1" strike="noStrike">
                <a:solidFill>
                  <a:srgbClr val="ff0000"/>
                </a:solidFill>
                <a:latin typeface="Arial"/>
              </a:rPr>
              <a:t>Quins aspectes es tenen en compte per a l’alumnat?</a:t>
            </a: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10" name="Text Box 21"/>
          <p:cNvSpPr/>
          <p:nvPr/>
        </p:nvSpPr>
        <p:spPr>
          <a:xfrm>
            <a:off x="879480" y="1239840"/>
            <a:ext cx="184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7"/>
          <p:cNvSpPr/>
          <p:nvPr/>
        </p:nvSpPr>
        <p:spPr>
          <a:xfrm>
            <a:off x="179280" y="1195560"/>
            <a:ext cx="8569440" cy="50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Acollida: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Cada centre informa a l’alumne sobre l’organització del centre, l’oferta educativa. Facilita orientació acadèmica i l’avaluació inici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Avaluació inicial: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Procés previ a la matrícula per conèixer els interessos, disponibilitat personal i antecedents acadèmics. Consisteix en una entrevista i, si és necessari, una prova escrit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Permanència: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 Els alumnes poden repetir dues vegades qualsevol nivell. El director del centre excepcionalment pot autoritzar repetir una tercera vegada, si es disposa de places lliures i després de prioritzar l’alumne que hi accedeix per primera vegada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Assistència de l’alumne: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La no assistència durant deu dies lectius consecutius sense justificació comportarà la baixa de l’alumn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Contenidor de número de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3CCF8-165A-4FE3-A535-F24762922CC8}" type="slidenum">
              <a:rPr b="0" lang="ca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1020240" y="351000"/>
            <a:ext cx="750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0000"/>
                </a:solidFill>
                <a:latin typeface="Arial"/>
              </a:rPr>
              <a:t>Centres de formació d’adults.  On es pot estudiar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447840" y="5013360"/>
            <a:ext cx="830088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Centres de suport IOC: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Es realitza el procés de tutoria i orientació a l’alumnat.(49 centres i 7 centres penitenciaris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Object 7"/>
          <p:cNvGraphicFramePr/>
          <p:nvPr/>
        </p:nvGraphicFramePr>
        <p:xfrm>
          <a:off x="361800" y="1268280"/>
          <a:ext cx="8420400" cy="388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1800" y="1268280"/>
                    <a:ext cx="8420400" cy="38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250920" y="5950080"/>
            <a:ext cx="3673440" cy="82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682560" y="189000"/>
            <a:ext cx="77742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0000"/>
                </a:solidFill>
                <a:latin typeface="Arial"/>
              </a:rPr>
              <a:t>Quants alumnes cursen educació d’adult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0" y="173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1800" y="46998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5762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62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0" y="-16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4481640" y="659196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08000" y="1268280"/>
          <a:ext cx="8856720" cy="5145120"/>
        </p:xfrm>
        <a:graphic>
          <a:graphicData uri="http://schemas.openxmlformats.org/drawingml/2006/table">
            <a:tbl>
              <a:tblPr/>
              <a:tblGrid>
                <a:gridCol w="1960560"/>
                <a:gridCol w="725400"/>
                <a:gridCol w="871560"/>
                <a:gridCol w="871560"/>
                <a:gridCol w="942840"/>
                <a:gridCol w="943200"/>
                <a:gridCol w="798480"/>
                <a:gridCol w="819000"/>
                <a:gridCol w="924120"/>
              </a:tblGrid>
              <a:tr h="2764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De 16 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De 18 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De 25 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De 30 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De 40 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De 50 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5 any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Total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7 ny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4 any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9 any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9 any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9 any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4 any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 mé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3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3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Llengua catalana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3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33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35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50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77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84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7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92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3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Llengua castellana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7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63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68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40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36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8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5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ff"/>
                          </a:solidFill>
                          <a:latin typeface="Calibri"/>
                          <a:ea typeface="Arial"/>
                        </a:rPr>
                        <a:t>8.11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3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Llengua estrangera anglè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0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0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07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72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.02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29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ff0000"/>
                          </a:solidFill>
                          <a:latin typeface="Calibri"/>
                          <a:ea typeface="Arial"/>
                        </a:rPr>
                        <a:t>8.54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3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Llengua estrangera francè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7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1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ff"/>
                          </a:solidFill>
                          <a:latin typeface="Calibri"/>
                          <a:ea typeface="Arial"/>
                        </a:rPr>
                        <a:t>56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3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ompetència digita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3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1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10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62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.90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86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ff0000"/>
                          </a:solidFill>
                          <a:latin typeface="Calibri"/>
                          <a:ea typeface="Arial"/>
                        </a:rPr>
                        <a:t>11.26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3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3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Formació instrumenta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23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25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60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01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94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92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ff"/>
                          </a:solidFill>
                          <a:latin typeface="Calibri"/>
                          <a:ea typeface="Arial"/>
                        </a:rPr>
                        <a:t>11.06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3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Graduat en educació secundària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4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.40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29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54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9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4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3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ff0000"/>
                          </a:solidFill>
                          <a:latin typeface="Calibri"/>
                          <a:ea typeface="Arial"/>
                        </a:rPr>
                        <a:t>9.26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69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3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Formació accés a CF grau mitjà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3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05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4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6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4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7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ff"/>
                          </a:solidFill>
                          <a:latin typeface="Calibri"/>
                          <a:ea typeface="Arial"/>
                        </a:rPr>
                        <a:t>3.24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3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Formació accés a CF grau superio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.23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08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1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7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ff0000"/>
                          </a:solidFill>
                          <a:latin typeface="Calibri"/>
                          <a:ea typeface="Arial"/>
                        </a:rPr>
                        <a:t>8.79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3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Majors de 25 anys universita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1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5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8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1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1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ff"/>
                          </a:solidFill>
                          <a:latin typeface="Calibri"/>
                          <a:ea typeface="Arial"/>
                        </a:rPr>
                        <a:t>2.61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.39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Contenidor de número de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2C7CD-D031-4654-B641-82F8A3FE7367}" type="slidenum">
              <a:rPr b="0" lang="ca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611280" y="1484280"/>
            <a:ext cx="8047080" cy="52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La sol·licitud de preinscripció:     </a:t>
            </a:r>
            <a:r>
              <a:rPr b="1" lang="ca-ES" sz="16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www.gencat.cat/preinscripció</a:t>
            </a: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Lloc de presentació de la sol·licitud i documentació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En els centres i aules de formació d’adults de primera elecció. No en altres ofici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Publicació de l’oferta d’ensenyaments per part de cada centre: 17 de mai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Publicació de vacants per part de cada centre: 19 de jun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Preinscripció d'alumnat nou: del 20 al 28 de juny de 2013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Publicació de les llistes d’admesos i exclosos: 12 de juliol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Matrícula de l’alumnat admès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: del 2 al 6 de setembre de 2013. Cada centre publica les dades de matrícula de cada ensenyament al tauler d’anunci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519120" y="476280"/>
            <a:ext cx="794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0000"/>
                </a:solidFill>
                <a:latin typeface="Arial"/>
              </a:rPr>
              <a:t>Com es pot accedir? Preincripció i matrícul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Contenidor de número de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E0C80-01D8-47DD-9EDD-D8E139C1566A}" type="slidenum">
              <a:rPr b="0" lang="ca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735120" y="476280"/>
            <a:ext cx="76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0000"/>
                </a:solidFill>
                <a:latin typeface="Arial"/>
              </a:rPr>
              <a:t>Quins altres aspectes s’han de tenir en compt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735120" y="131112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179280" y="1341360"/>
            <a:ext cx="8713800" cy="48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Com s’assignen les place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S’assigna aleatòriament un número a cada sol·licitud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S’efectua un sorteig públic per determinar el número a partir del que s’estableix l’ordre d’admissió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Té preferència l’alumnat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- Que resideix o treballa en el mateix municipi on està situat el centre o l’aula, o en un municipi proper on no hi hagi oferta pública d’educació dels ensenyaments que se sol·liciten.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ff"/>
                </a:solidFill>
                <a:latin typeface="Arial"/>
              </a:rPr>
              <a:t>- Que cursa o ha cursat els mòduls A i B de PQPI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51"/>
              </a:spcBef>
              <a:buClr>
                <a:srgbClr val="0000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ca-ES" sz="1400" spc="-1" strike="noStrike">
                <a:solidFill>
                  <a:srgbClr val="0000ff"/>
                </a:solidFill>
                <a:latin typeface="Arial"/>
              </a:rPr>
              <a:t>Que forma part del programa d’experiència professional per a l’ocupació juvenil a Catalunya “joves per l’ocupació”. (</a:t>
            </a:r>
            <a:r>
              <a:rPr b="0" lang="ca-ES" sz="1200" spc="-1" strike="noStrike">
                <a:solidFill>
                  <a:srgbClr val="0000ff"/>
                </a:solidFill>
                <a:latin typeface="Arial"/>
              </a:rPr>
              <a:t>Ordre EMO/293/2012, de 25 de setembre. DOGC 09.10.201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Es publiquen les llistes d’alumnat amb plaça assignad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Cada centre gestiona la seva pròpis llista d’esper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Matrícula al llarg de cu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Cada centre fa públics els criteris per resoldre l’ordre d’admissió en el cas que tingui més sol·licituds que places disponibles.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En alguns ensenyaments hi ha matrícula viva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Contenidor de número de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BA29D-23E0-4A1E-B479-800223D0ACFD}" type="slidenum">
              <a:rPr b="0" lang="ca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360" y="-171360"/>
            <a:ext cx="777384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0000"/>
                </a:solidFill>
                <a:latin typeface="Arial"/>
              </a:rPr>
              <a:t>Quins ensenyaments s’ofereixen?</a:t>
            </a: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539640" y="1197000"/>
          <a:ext cx="8280360" cy="4800600"/>
        </p:xfrm>
        <a:graphic>
          <a:graphicData uri="http://schemas.openxmlformats.org/drawingml/2006/table">
            <a:tbl>
              <a:tblPr/>
              <a:tblGrid>
                <a:gridCol w="2737080"/>
                <a:gridCol w="2784240"/>
                <a:gridCol w="275904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SENYAMENT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VELL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PROPOSTA 2013/201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4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LENGUA CATALANA,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CCITANA (ARANESA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9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BLOC LLENGÜE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3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74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LENGUA CASTELLAN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74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LENGUA ESTRANGERA (ANGLÈS, FRANCÈS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74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ETÈNCIA DIGITAL (COMPETIC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icial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BLOC COMPETÈNCIES PER A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LA SOCIETAT DE LA INFORMACIÓ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74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VES D’ACCÉ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jors 25 anys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BLOC PROVES D’ACCÉ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paració CFGM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paració CFGS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74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MACIÓ INSTRUMENTAL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BLOC FORMACIÓ BÀSIC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7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ADUAT EN EDUCACIÓ SECUNDÀR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2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CURS D’ACCÉS A CFGM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9T10:26:56Z</dcterms:created>
  <dc:creator>Noemi Palet</dc:creator>
  <dc:description/>
  <dc:language>en-US</dc:language>
  <cp:lastModifiedBy>usuari</cp:lastModifiedBy>
  <dcterms:modified xsi:type="dcterms:W3CDTF">2013-02-28T14:29:32Z</dcterms:modified>
  <cp:revision>97</cp:revision>
  <dc:subject/>
  <dc:title>Diapositiva 1</dc:title>
</cp:coreProperties>
</file>