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91B-339D-43FB-90B1-8D111A0E3BE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D6F-039F-4282-ABDD-D5C844ED0DE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366-47DF-497D-9212-96400DDA84C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487E-705F-4A3A-819E-B1A2F7FFBC2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3E1-7049-4DD8-ABBA-2CDDF78BCB3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469-CC47-4767-8FD7-7E8B9389B0B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B7BB-E232-4DD6-AA71-9867988AA1E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711-C4A5-47ED-8BDA-B67EC63B140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A070-1F68-437D-88C1-9CE863B10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B0E2-1771-46F9-86B6-06E800DF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8286-F206-4E35-B024-EDAE7B6BD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4399-3D6B-4CA7-9428-E3807735E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20B9-9410-42F0-B537-77C2C5C79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451C-BA91-493D-BD27-F63F5D394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A5D0-2DB5-490A-97D5-C7B20547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3A80-DA1A-45F1-BCAF-2FEA32C35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DEC9-F3FB-4B66-A488-8E3EB6867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4BA9-C7C0-494F-9790-8166CD405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F06-452A-403F-8773-2DD19C907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0821-30E2-4987-8E86-D5A8EFB27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762120" y="1197000"/>
            <a:ext cx="7696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2FB4-B0F8-44D3-9345-452E8881F40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" descr="DGESOB_c"/>
          <p:cNvPicPr/>
          <p:nvPr/>
        </p:nvPicPr>
        <p:blipFill>
          <a:blip r:embed="rId3"/>
          <a:stretch/>
        </p:blipFill>
        <p:spPr>
          <a:xfrm>
            <a:off x="423720" y="6073920"/>
            <a:ext cx="316404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DGESOB_centrat_c"/>
          <p:cNvPicPr/>
          <p:nvPr/>
        </p:nvPicPr>
        <p:blipFill>
          <a:blip r:embed="rId3"/>
          <a:stretch/>
        </p:blipFill>
        <p:spPr>
          <a:xfrm>
            <a:off x="1676520" y="692280"/>
            <a:ext cx="5659200" cy="185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cat.cat/preinscripci&#243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c00000"/>
                </a:solidFill>
                <a:latin typeface="Arial"/>
              </a:rPr>
              <a:t>Educació d’adults</a:t>
            </a:r>
            <a:endParaRPr b="1" lang="en-US" sz="36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29928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ebr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72AD-6DAE-4373-B595-8DD026CF0C92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324000"/>
            <a:ext cx="80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icle de formació instrument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35080" y="1413000"/>
            <a:ext cx="89089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objectiu d’aquest cicle és que els adults aprenguin a  llegir, escriure i fer càlculs element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alumnat que assoleix els continguts d’aquest cicle obté el certificat de formació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instrumental. (En disseny nou currículum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ecret 213/2002 de 1 d’agost. Capítol 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structura en tres nivells i cada nivell en àrees de coneixement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llengua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matemàt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ciències socials i natural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1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adquisició dels mecanismes fonamentals de lectura, escriptura, càlcul i nocions fonamental sobre l’entorn social i natur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2on nivell: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onsolidar els mecanismes anteriors i coneixements que expliquen l’entor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3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s’amplien els coneixements anterio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durada aproximada d’aquesta formació és de 1.100 hores. L’alumnat quan acaba pot seguir amb els ensenyaments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4FD9-5F02-4FF7-8DB7-45A8AFEB2DB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87280" y="260280"/>
            <a:ext cx="859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55640" y="1341360"/>
            <a:ext cx="777708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50760" y="1484280"/>
            <a:ext cx="75470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Objectiu: que les persones adultes puguin aconseguir el títol de GE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bans de la matrícula hi ha la prova d’avaluació inicial on es valoren els antecedents acadèmics i competències que te assolides. Si escau, pot acreditar i/o convalidar alguns mòduls, àmbits o nivell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508640"/>
            <a:ext cx="767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cret 161/2009 de 27 d’octubre de 2009. DOGC 5496-2.11.2009. Ordenació dels ensenyament de l’educació secundària obligatòria per a persones 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55640" y="4221000"/>
            <a:ext cx="77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5FD0-E2F1-43E2-8DEC-5AD3A240D2E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9480" y="447840"/>
            <a:ext cx="758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08200" y="971640"/>
            <a:ext cx="80596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6000" y="1197000"/>
            <a:ext cx="890748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rículum: 3 àmbi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omunicació: llengua catalana i literatura, llengua castellana i literatura i llengua estrange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ientificotecnològic: ciències de la naturalesa, matemàtiques, tecnologies i aspectes relacionats amb la salut i medi ambi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Social ciències socials, geografia i història, educació per a la ciutadania i  aspectes d’educació visual, plàstica i mús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l àmbits s’organitzen en mòduls. Mòduls comuns i opcional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mòduls comuns els han de cursar, convalidar o acreditar tot l’alumna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s mòduls opcionals: l’alumne pot escollir segons els seus interessos i necessitats dins de l’oferta que té el centre de formació d’adul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84320" y="1341360"/>
            <a:ext cx="878508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877F-A23B-47FE-B4BD-D6EC6902959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023840" y="303120"/>
            <a:ext cx="74358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71640" y="1484280"/>
            <a:ext cx="77976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de la comunicació: 12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cientificotècnològic: 10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social: 6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òduls opcionals: 6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26920" y="1341360"/>
            <a:ext cx="799308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826920" y="3141720"/>
            <a:ext cx="80661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26920" y="4581360"/>
            <a:ext cx="8066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26920" y="4076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l’alumna ha d’haver superat els 34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826920" y="5157720"/>
            <a:ext cx="80661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881280" y="5227560"/>
            <a:ext cx="18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75880" y="5157720"/>
            <a:ext cx="76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i es superen els mòduls A i B PQPI i es cursen els 7 mòduls C del GESO, l’alumne po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tenir el títol de GESO.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Decret 140/2009 de 8 de setembre. DOGC 14.9.2009). Puntuació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nderada entre 70% dels mòduls A i B i 30 % del mòduls 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900000" y="4282920"/>
            <a:ext cx="51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826920" y="4005360"/>
            <a:ext cx="80661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55640" y="465300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Modalitats presencial o semipresencial (IO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826920" y="3141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mportància de l’acció tutorial: accions educatives adreçades a l’alumnat per tal d’orientar-lo i assessorar-lo en el seu procés d’aprenentatge, per establir el seu itinerari educati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E5E-BCCF-474C-BDD2-C7DF9092ADB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6920" y="189000"/>
            <a:ext cx="76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urs de formació específic per a l’accés als cicles formatius de 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4000" y="1268280"/>
            <a:ext cx="8640720" cy="468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1268280"/>
            <a:ext cx="84247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Per a persones que no posseeixen el títol de GESO o equivalent acadèm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Durada: 600 hores. 18 hores setma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Estructura del cu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de  la comunicació(COM). Llengües: catalana, castellana, angle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social (SOC). Ciències socials i ciutadania, tutoria i orient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cientificotecnològic (CTE). Matemàtiques, tecnologia o cièn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Natur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Accés directe a qualsevol CFGM. En el cas dels ensenyaments  d’arts plàstiques i disseny i esportius de règim especial l’alumne ha de superar la part específ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Preu públic: 190 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ff"/>
                </a:solidFill>
                <a:latin typeface="Arial"/>
              </a:rPr>
              <a:t>Resolució ENS/1245/2012, de 13 de juny (DOGC 6158 de 27/06/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F0F-F37A-4187-948C-2E49DEF9AE57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23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Com s’organitzen els ensenyaments corresponents a llengua catalana/aran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i castellana, i de llengua estrangera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679400"/>
          <a:ext cx="8424720" cy="2865600"/>
        </p:xfrm>
        <a:graphic>
          <a:graphicData uri="http://schemas.openxmlformats.org/drawingml/2006/table">
            <a:tbl>
              <a:tblPr/>
              <a:tblGrid>
                <a:gridCol w="3247920"/>
                <a:gridCol w="2254320"/>
                <a:gridCol w="1164960"/>
                <a:gridCol w="1757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cs d’ensenyaments d’educació d’adul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lengu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ive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urad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senyaments inicials i bàsic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talana/occitana (aranè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stella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ències per a la societat de la informaci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255"/>
          <p:cNvSpPr/>
          <p:nvPr/>
        </p:nvSpPr>
        <p:spPr>
          <a:xfrm>
            <a:off x="8748720" y="19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8"/>
          <p:cNvSpPr/>
          <p:nvPr/>
        </p:nvSpPr>
        <p:spPr>
          <a:xfrm>
            <a:off x="874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9"/>
          <p:cNvSpPr/>
          <p:nvPr/>
        </p:nvSpPr>
        <p:spPr>
          <a:xfrm>
            <a:off x="179280" y="495648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La superació de cadascun dels nivells dóna dret a l’obtenció d’un certificat acreditatiu, en què 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farà constar, si s’escau, la correspondència del nivell assolit amb el seu equivalent segons 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Marc Europeu Comú de Referència per a les Llengü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BAC-0105-460B-AC4B-EE471BA0F93B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23840" y="15876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360" y="20808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els ensenyaments de competència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50920" y="1341360"/>
            <a:ext cx="88930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senyaments per adquirir les competències bàsiques en tecnologies de la informació i la comunicació: Competència digital (COMPET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s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inicial  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2 tecnologia, C4 tractament de text, C3 navegació i comunic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1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6 full de càlcul, C5 multimèdia, C1 participació dig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2 (140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1 participació digital, C2 tecnologia, C3 navegació i comunicació C4 tractament de text, C5 multimèdia, C6 full de càlcul, C7 base de dades, C8 presentac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3 (105 h/cur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) 3 competències (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Tractament de text, multimèdia, full de càlcul, base de dades, presentac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 currículum d’aquests cursos correspon a les competències desenvolupades als tres nivells de l’ACTIC (Departament d’Empresa i Ocupació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6EC-69ED-41D5-9931-CF7D263F19B5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79480" y="304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23184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a formació per a proves d’accés a grau mitjà, grau superior, i majors de 25 an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79280" y="1413000"/>
            <a:ext cx="8713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9440" y="1413000"/>
            <a:ext cx="8243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mitjà (3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superior (300 h/curs + 99 h/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 matèria específic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solució EDU/3983/2010, de 9 de desembre (DOGC núm 5778- 20/12/2010) on s’estableixen els temaris i els criteris d’avaluació de la prova d’accés als cicles formati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’accés a la Universitat per a majors de 25 anys (2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ial Decret 1892/2008 de 14 de novembre, BOE 283 de 24/11/2008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36560" y="5249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28C-12ED-4B25-9909-3FC19EB90A1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55640" y="189000"/>
            <a:ext cx="82090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per a majors de 18 an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Departament d’Ensenyament convoca proves lliures dues vegades a l’any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Certificat de formació instrument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de Graduat/ada en educació secundària obligatò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ferències curriculars : ORDRE BEF/267/2003, de 3 de juny (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DOGC núm. 3909 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20/06/2003) i EDU/18/2010, de 15 de gener (DOGC núm. 5551 – 22.1.201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97D-8BF8-44A2-AAB9-84E95E1D3E61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187280" y="447840"/>
            <a:ext cx="7129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38360" y="1311120"/>
            <a:ext cx="80719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Requisit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enir 18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nys el dia de realització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sol·licitud dins del període previst a través de la pàgina web 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partament d’Ensenyament (l’alumne pot acreditar la presentació de la sol·licitu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mb la impressió de la pantalla de confirmació del tràmit a l’aplicació informàtic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(opció resguard) on consta el número de registre d’entrada de la sol·licitu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omprovar la inscripció a les llistes provisionals i definitives de persones inscr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web del departament i tauler d’anuncis del centre on es realitzen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sones aspirants amb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NEE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rivades de discapacitats físiques, psíquiques 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nsorials o altres trastorns greus amb reconeixement oficial poden sol·licitar recurs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ddicionals per a realitzar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el DNI o document acreditatiu el dia o dies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tenidor de número de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94F5-BAC9-4A37-9454-647EDC1AC5C6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1773360"/>
            <a:ext cx="777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Educació d’adults: Quina és la finalitat, objecte i àmbi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24000" y="2492280"/>
            <a:ext cx="849600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ormar a l’alumnat en els ensenyaments obligator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parar a l’alumnat per a l’accés al sistema educatiu de règim gener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ossibilitar a totes les persones el desenvolupament del projecte pers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 professional i facilitar-los la participació soc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r i orientar a l’alumnat sobre les accions formatives més adequa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Validar competències adquirides per altres vies formativ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111480" y="15764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51280" y="1484280"/>
            <a:ext cx="9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539640" y="162864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er efectiu el dret a l’educació en qualsevol etapa de la vi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539640" y="5013360"/>
            <a:ext cx="79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324000" y="4508640"/>
            <a:ext cx="8496000" cy="144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502560" y="2133720"/>
            <a:ext cx="436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jecti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35280" y="422100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s d’actu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324000" y="4508640"/>
            <a:ext cx="8424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en general i l’accés al sistema educatiu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 adquisició de competències transprofessionals: TIC i llengü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per la participació i cohesió social: acollida formativa a immigrants adult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iciació a les llengües oficials i a una llengua estrangera, les TIC, us d’estratègies per adquirir competències bàsiqu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2780640" y="1197000"/>
            <a:ext cx="35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EC:   Capítol IV, articles 69, 70, 7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324000" y="1773360"/>
            <a:ext cx="849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356000" y="6093000"/>
            <a:ext cx="381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397040" y="6164280"/>
            <a:ext cx="354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la  del Govern 2011-2014: potenciar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ormació d’ad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42D-CE79-4D13-92C8-FA66C1B1BFB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95280" y="1268280"/>
            <a:ext cx="83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24000" y="1413000"/>
            <a:ext cx="856908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CF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certificat de formació instrumental és de caràcter global, té una durada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2 hores i mitja i està estructurada en tres àrees: àrea de llengua, àrea de matemàtiques i àrea de ciènc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ocials i natur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24000" y="2637000"/>
            <a:ext cx="8569080" cy="32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títol de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graduat en educació secundària obligatòria està estructur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tres àmbi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de la comunicació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4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cientificotecnològic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3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social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2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es pot presentar a 1, 2 o als tres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amb estudis previs té la possibilitat de convalidar 1 o 2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l’exempció de la llengua catalan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adaptació per fer la prova (no adaptació curricular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s àmbits convalidats o aprovats són reconeguts com a tals en posteriors convocatò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7840" y="504720"/>
            <a:ext cx="830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855-909C-47F0-B7FE-396E298BC0DE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1539720"/>
            <a:ext cx="828036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ÉS IN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de CFI i GESO http://gencat.cat/ensenyament &gt; Proves &gt;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iures per a l’obtenció de tít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nsenyaments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gencat.cat/ensenyament &gt; Estudiar a Catalunya &gt; Educació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19120" y="3031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55640" y="374760"/>
            <a:ext cx="770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68360" y="1341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87080" y="1339920"/>
            <a:ext cx="781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Formulari nou. Es facilita a la persona un número de sol·licitud, les gestions es poden f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via telemàt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3FF-3AB9-4C28-9424-2A4E2CD9E15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es convocatòries hi ha sobre les proves d’accés a CFI i GESO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55640" y="1916280"/>
            <a:ext cx="78487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5640" y="2565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13200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586728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16400" y="191628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imer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224760" y="191628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egon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755640" y="37162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867280" y="3213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867280" y="465300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i 14 de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16360" y="31417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de maig d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203640" y="4653000"/>
            <a:ext cx="25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i 24 de maig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880920" y="2728800"/>
            <a:ext cx="214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icle de Form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755640" y="4098960"/>
            <a:ext cx="27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raduat en Educ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ecundà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132000" y="22766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5724360" y="2781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3124080" y="270828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4 al 11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3268800" y="41497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5859720" y="414972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758160" y="141444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FD4-3671-41B9-9004-933D0658C61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38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è es pot aconseguir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60020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4"/>
          <p:cNvSpPr/>
          <p:nvPr/>
        </p:nvSpPr>
        <p:spPr>
          <a:xfrm>
            <a:off x="179280" y="620640"/>
            <a:ext cx="3745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5"/>
          <p:cNvSpPr/>
          <p:nvPr/>
        </p:nvSpPr>
        <p:spPr>
          <a:xfrm>
            <a:off x="179280" y="1268280"/>
            <a:ext cx="47530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duat en Educació Secundària Obligatòr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6"/>
          <p:cNvSpPr/>
          <p:nvPr/>
        </p:nvSpPr>
        <p:spPr>
          <a:xfrm>
            <a:off x="179280" y="1773360"/>
            <a:ext cx="3816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7"/>
          <p:cNvSpPr/>
          <p:nvPr/>
        </p:nvSpPr>
        <p:spPr>
          <a:xfrm>
            <a:off x="179280" y="2565360"/>
            <a:ext cx="381636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ües (català, castellà, aranè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8"/>
          <p:cNvSpPr/>
          <p:nvPr/>
        </p:nvSpPr>
        <p:spPr>
          <a:xfrm>
            <a:off x="179280" y="3284640"/>
            <a:ext cx="381636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 estrang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9"/>
          <p:cNvSpPr/>
          <p:nvPr/>
        </p:nvSpPr>
        <p:spPr>
          <a:xfrm>
            <a:off x="179280" y="4005360"/>
            <a:ext cx="381636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es d’accés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108000" y="1773360"/>
            <a:ext cx="38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Curs de formació específic per a l’accés als CFG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2"/>
          <p:cNvSpPr/>
          <p:nvPr/>
        </p:nvSpPr>
        <p:spPr>
          <a:xfrm>
            <a:off x="179280" y="4724280"/>
            <a:ext cx="399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és d’acc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jors de 25 an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179280" y="5445000"/>
            <a:ext cx="3816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petència digital (COMPET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5"/>
          <p:cNvSpPr/>
          <p:nvPr/>
        </p:nvSpPr>
        <p:spPr>
          <a:xfrm>
            <a:off x="5867280" y="1268280"/>
            <a:ext cx="30243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Batxiller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0"/>
          <p:cNvSpPr/>
          <p:nvPr/>
        </p:nvSpPr>
        <p:spPr>
          <a:xfrm>
            <a:off x="5867280" y="3284640"/>
            <a:ext cx="309744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1"/>
          <p:cNvSpPr/>
          <p:nvPr/>
        </p:nvSpPr>
        <p:spPr>
          <a:xfrm>
            <a:off x="4356000" y="3357720"/>
            <a:ext cx="100800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52"/>
          <p:cNvCxnSpPr>
            <a:stCxn id="226" idx="3"/>
            <a:endCxn id="233" idx="1"/>
          </p:cNvCxnSpPr>
          <p:nvPr/>
        </p:nvCxnSpPr>
        <p:spPr>
          <a:xfrm>
            <a:off x="3995280" y="3573000"/>
            <a:ext cx="361080" cy="25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153"/>
          <p:cNvSpPr/>
          <p:nvPr/>
        </p:nvSpPr>
        <p:spPr>
          <a:xfrm>
            <a:off x="4356000" y="4076640"/>
            <a:ext cx="100800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4"/>
          <p:cNvSpPr/>
          <p:nvPr/>
        </p:nvSpPr>
        <p:spPr>
          <a:xfrm>
            <a:off x="5867280" y="3933720"/>
            <a:ext cx="309744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155"/>
          <p:cNvCxnSpPr>
            <a:stCxn id="227" idx="3"/>
            <a:endCxn id="235" idx="1"/>
          </p:cNvCxnSpPr>
          <p:nvPr/>
        </p:nvCxnSpPr>
        <p:spPr>
          <a:xfrm>
            <a:off x="3995280" y="4293720"/>
            <a:ext cx="36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156"/>
          <p:cNvSpPr/>
          <p:nvPr/>
        </p:nvSpPr>
        <p:spPr>
          <a:xfrm>
            <a:off x="4356000" y="479736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7"/>
          <p:cNvSpPr/>
          <p:nvPr/>
        </p:nvSpPr>
        <p:spPr>
          <a:xfrm>
            <a:off x="5867280" y="4797360"/>
            <a:ext cx="309744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senyaments universitar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9"/>
          <p:cNvSpPr/>
          <p:nvPr/>
        </p:nvSpPr>
        <p:spPr>
          <a:xfrm>
            <a:off x="53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0"/>
          <p:cNvSpPr/>
          <p:nvPr/>
        </p:nvSpPr>
        <p:spPr>
          <a:xfrm>
            <a:off x="5292720" y="4292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1"/>
          <p:cNvSpPr/>
          <p:nvPr/>
        </p:nvSpPr>
        <p:spPr>
          <a:xfrm>
            <a:off x="5364000" y="3573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2"/>
          <p:cNvSpPr/>
          <p:nvPr/>
        </p:nvSpPr>
        <p:spPr>
          <a:xfrm>
            <a:off x="4356000" y="5516640"/>
            <a:ext cx="100800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eració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treball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3"/>
          <p:cNvSpPr/>
          <p:nvPr/>
        </p:nvSpPr>
        <p:spPr>
          <a:xfrm>
            <a:off x="3995640" y="57340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4"/>
          <p:cNvSpPr/>
          <p:nvPr/>
        </p:nvSpPr>
        <p:spPr>
          <a:xfrm>
            <a:off x="5867280" y="5516640"/>
            <a:ext cx="309744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ertificat equivalència AC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5"/>
          <p:cNvSpPr/>
          <p:nvPr/>
        </p:nvSpPr>
        <p:spPr>
          <a:xfrm>
            <a:off x="5364000" y="5805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6"/>
          <p:cNvSpPr/>
          <p:nvPr/>
        </p:nvSpPr>
        <p:spPr>
          <a:xfrm>
            <a:off x="5867280" y="2637000"/>
            <a:ext cx="3097440" cy="50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ertificat B1 </a:t>
            </a: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(Marc Europeu Com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de Referència per a les llengü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4"/>
          <p:cNvSpPr/>
          <p:nvPr/>
        </p:nvSpPr>
        <p:spPr>
          <a:xfrm>
            <a:off x="2268360" y="98100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5"/>
          <p:cNvSpPr/>
          <p:nvPr/>
        </p:nvSpPr>
        <p:spPr>
          <a:xfrm>
            <a:off x="3995640" y="278136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76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0">
            <a:noFill/>
          </a:ln>
        </p:spPr>
      </p:cxnSp>
      <p:cxnSp>
        <p:nvCxnSpPr>
          <p:cNvPr id="251" name="AutoShape 177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181"/>
          <p:cNvSpPr/>
          <p:nvPr/>
        </p:nvSpPr>
        <p:spPr>
          <a:xfrm>
            <a:off x="3995640" y="234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2"/>
          <p:cNvSpPr/>
          <p:nvPr/>
        </p:nvSpPr>
        <p:spPr>
          <a:xfrm>
            <a:off x="179280" y="2205000"/>
            <a:ext cx="381636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3"/>
          <p:cNvSpPr/>
          <p:nvPr/>
        </p:nvSpPr>
        <p:spPr>
          <a:xfrm>
            <a:off x="179280" y="2152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preparació P.A. A G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4"/>
          <p:cNvSpPr/>
          <p:nvPr/>
        </p:nvSpPr>
        <p:spPr>
          <a:xfrm>
            <a:off x="4356000" y="2205000"/>
            <a:ext cx="1008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5"/>
          <p:cNvSpPr/>
          <p:nvPr/>
        </p:nvSpPr>
        <p:spPr>
          <a:xfrm>
            <a:off x="3995640" y="2349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89"/>
          <p:cNvCxnSpPr/>
          <p:nvPr/>
        </p:nvCxnSpPr>
        <p:spPr>
          <a:xfrm>
            <a:off x="5292720" y="1483920"/>
            <a:ext cx="288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8" name="AutoShape 191"/>
          <p:cNvCxnSpPr>
            <a:stCxn id="224" idx="3"/>
          </p:cNvCxnSpPr>
          <p:nvPr/>
        </p:nvCxnSpPr>
        <p:spPr>
          <a:xfrm flipV="1">
            <a:off x="3995280" y="1915560"/>
            <a:ext cx="1081800" cy="38520"/>
          </a:xfrm>
          <a:prstGeom prst="bentConnector3">
            <a:avLst>
              <a:gd name="adj1" fmla="val 49900"/>
            </a:avLst>
          </a:prstGeom>
          <a:ln w="0">
            <a:noFill/>
          </a:ln>
        </p:spPr>
      </p:cxnSp>
      <p:cxnSp>
        <p:nvCxnSpPr>
          <p:cNvPr id="259" name="AutoShape 192"/>
          <p:cNvCxnSpPr/>
          <p:nvPr/>
        </p:nvCxnSpPr>
        <p:spPr>
          <a:xfrm>
            <a:off x="4571640" y="1341000"/>
            <a:ext cx="864360" cy="7380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260" name="AutoShape 194"/>
          <p:cNvCxnSpPr/>
          <p:nvPr/>
        </p:nvCxnSpPr>
        <p:spPr>
          <a:xfrm>
            <a:off x="5940000" y="1412640"/>
            <a:ext cx="72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61" name="AutoShape 195"/>
          <p:cNvCxnSpPr>
            <a:stCxn id="224" idx="3"/>
          </p:cNvCxnSpPr>
          <p:nvPr/>
        </p:nvCxnSpPr>
        <p:spPr>
          <a:xfrm flipV="1">
            <a:off x="3995280" y="1915560"/>
            <a:ext cx="1872360" cy="3852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cxnSp>
        <p:nvCxnSpPr>
          <p:cNvPr id="262" name="AutoShape 196"/>
          <p:cNvCxnSpPr>
            <a:stCxn id="224" idx="3"/>
          </p:cNvCxnSpPr>
          <p:nvPr/>
        </p:nvCxnSpPr>
        <p:spPr>
          <a:xfrm>
            <a:off x="3995280" y="1953720"/>
            <a:ext cx="1872360" cy="25164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sp>
        <p:nvSpPr>
          <p:cNvPr id="263" name="Rectangle 197"/>
          <p:cNvSpPr/>
          <p:nvPr/>
        </p:nvSpPr>
        <p:spPr>
          <a:xfrm>
            <a:off x="5867280" y="1844640"/>
            <a:ext cx="302436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ccés a 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mitj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9"/>
          <p:cNvSpPr/>
          <p:nvPr/>
        </p:nvSpPr>
        <p:spPr>
          <a:xfrm>
            <a:off x="5219640" y="14842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01"/>
          <p:cNvCxnSpPr>
            <a:stCxn id="224" idx="3"/>
            <a:endCxn id="263" idx="1"/>
          </p:cNvCxnSpPr>
          <p:nvPr/>
        </p:nvCxnSpPr>
        <p:spPr>
          <a:xfrm>
            <a:off x="3995280" y="1954080"/>
            <a:ext cx="1872360" cy="178200"/>
          </a:xfrm>
          <a:prstGeom prst="bentConnector3">
            <a:avLst>
              <a:gd name="adj1" fmla="val 4994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202"/>
          <p:cNvCxnSpPr>
            <a:stCxn id="255" idx="3"/>
            <a:endCxn id="263" idx="1"/>
          </p:cNvCxnSpPr>
          <p:nvPr/>
        </p:nvCxnSpPr>
        <p:spPr>
          <a:xfrm flipV="1">
            <a:off x="5364000" y="2131200"/>
            <a:ext cx="504000" cy="291240"/>
          </a:xfrm>
          <a:prstGeom prst="bentConnector3">
            <a:avLst>
              <a:gd name="adj1" fmla="val 4982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03"/>
          <p:cNvCxnSpPr>
            <a:stCxn id="223" idx="3"/>
          </p:cNvCxnSpPr>
          <p:nvPr/>
        </p:nvCxnSpPr>
        <p:spPr>
          <a:xfrm>
            <a:off x="4932000" y="1483920"/>
            <a:ext cx="864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4B4-71AB-4AB7-B037-8BF5E246073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24000" y="-171360"/>
            <a:ext cx="849780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On trobar la informació de l'oferta educativa i altres informacions sobre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nsulta de centres i oferta formati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portal Estudiar a Cataluny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 &gt;Estudis&gt; Mapa Esco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les publicacions del Departament d’Ensenyame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&gt;Estudis&gt;Educació d’adult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s&gt;Qualsevol ensenyament&gt;Fullets informatius&gt;”Formació de Pers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adultes 2013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4000" y="4653000"/>
            <a:ext cx="4964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ció general sobre educació d’adult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www.xtec.cat/curriculum/persones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"/>
          <p:cNvSpPr/>
          <p:nvPr/>
        </p:nvSpPr>
        <p:spPr>
          <a:xfrm>
            <a:off x="3708360" y="339876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GRÀ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CAA-AB9F-41B2-85B5-C5E3D9D85F1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 pot accedir a l’educació d’adults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179280" y="1266840"/>
            <a:ext cx="896472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mb caràcter general: tenir 18 anys o complir-los durant l’any natural en que s’inicia la 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sones majors de 16 anys o que els compleixen durant l’any natural en que inicien la formació si tenen: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tenen un contracte laboral que els impedeix assistir als centres educatius de règim ordinar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 troben en procés d’obtenció d’un permís de treb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són esportistes d’alt rendim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tan cursant, o han cursat els mòduls obligatoris dels PQPI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volen cursar la formació per a les proves d’accés a CFGM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són persones joves acollides al programa “joves per l’ocupació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xcepcionalment el director del centre pot autoritzar la incorporació d’alumnes que no reuneixen aquest requisits quan circumstancies singulars ho justifiqu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i els alumnes són menors de 18 anys es requereix el consentiment del pare, mare o tutor leg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volen accedir al curs específic per a l’accés al cicles de grau mitjà han de complir 17 anys al llarg de l’any natural en que s’inicia el c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ontenidor de número de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DA5-E501-4E60-BED3-E184B3F15D9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774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spectes es tenen en compte per a l’alumna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79480" y="12398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79280" y="1195560"/>
            <a:ext cx="85694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collid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Cada centre informa a l’alumne sobre l’organització del centre, l’oferta educativa. Facilita orientació acadèmica i l’avaluació ini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valuació inicial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Procés previ a la matrícula per conèixer els interessos, disponibilitat personal i antecedents acadèmics. Consisteix en una entrevista i, si és necessari, una prova escri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anènci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Els alumnes poden repetir dues vegades qualsevol nivell. El director del centre excepcionalment pot autoritzar repetir una tercera vegada, si es disposa de places lliures i després de prioritzar l’alumne que hi accedeix per primera vegad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sistència de l’alumne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La no assistència durant deu dies lectius consecutius sense justificació comportarà la baixa de l’alum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D5B0-4A33-463E-9F24-C6F4DB19192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20240" y="351000"/>
            <a:ext cx="75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entres de formació d’adults.  On es pot estudi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7840" y="5013360"/>
            <a:ext cx="830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entres de suport IOC: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realitza el procés de tutoria i orientació a l’alumnat.(49 centres i 7 centres penitenciari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361800" y="1268280"/>
          <a:ext cx="84204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268280"/>
                    <a:ext cx="8420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50920" y="5950080"/>
            <a:ext cx="367344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256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ants alumnes cursen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17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800" y="4699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-1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481640" y="6591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268280"/>
          <a:ext cx="8856720" cy="5145120"/>
        </p:xfrm>
        <a:graphic>
          <a:graphicData uri="http://schemas.openxmlformats.org/drawingml/2006/table">
            <a:tbl>
              <a:tblPr/>
              <a:tblGrid>
                <a:gridCol w="1960560"/>
                <a:gridCol w="725400"/>
                <a:gridCol w="871560"/>
                <a:gridCol w="871560"/>
                <a:gridCol w="942840"/>
                <a:gridCol w="943200"/>
                <a:gridCol w="798480"/>
                <a:gridCol w="819000"/>
                <a:gridCol w="92412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6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8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25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3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4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5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ta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stel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8.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angl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0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5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franc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5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petència digi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9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1.2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instrumen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11.0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duat en educació secundàri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4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9.2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mitjà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3.2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superio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2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7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jors de 25 anys universita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2.6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3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F902-44DD-4FBD-853F-01E2411E5817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1280" y="1484280"/>
            <a:ext cx="804708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a sol·licitud de preinscripció:     </a:t>
            </a:r>
            <a:r>
              <a:rPr b="1" lang="ca-ES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encat.cat/preinscripció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oc de presentació de la sol·licitud i documentació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 els centres i aules de formació d’adults de primera elecció. No en altres ofic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’oferta d’ensenyaments per part de cada centre: 17 de ma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vacants per part de cada centre: 19 de ju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einscripció d'alumnat nou: del 20 al 28 de juny de 201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es llistes d’admesos i exclosos: 12 de julio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de l’alumnat admè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 del 2 al 6 de setembre de 2013. Cada centre publica les dades de matrícula de cada ensenyament al tauler d’anunc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19120" y="4762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es pot accedir? Preincripció i matríc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C6E-078A-4D6A-A46A-6ED8E6655ECE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35120" y="47628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ltres aspectes s’han de tenir en comp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5120" y="131112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9280" y="1341360"/>
            <a:ext cx="871380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 s’assignen les plac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’assigna aleatòriament un número a cada sol·licitu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fectua un sorteig públic per determinar el número a partir del que s’estableix l’ordre d’admissi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é preferència l’alumna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- Que resideix o treballa en el mateix municipi on està situat el centre o l’aula, o en un municipi proper on no hi hagi oferta pública d’educació dels ensenyaments que se sol·licite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- Que cursa o ha cursat els mòduls A i B de PQP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Que forma part del programa d’experiència professional per a l’ocupació juvenil a Catalunya “joves per l’ocupació”. (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Ordre EMO/293/2012, de 25 de setembre. DOGC 09.10.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publiquen les llistes d’alumnat amb plaça assign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ada centre gestiona la seva pròpis llista d’espe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al llarg de 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da centre fa públics els criteris per resoldre l’ordre d’admissió en el cas que tingui més sol·licituds que places disponibl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alguns ensenyaments hi ha matrícula viv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E90-0657-46E5-B3CB-2F32DF78BB9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ensenyaments s’ofereixen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197000"/>
          <a:ext cx="8280360" cy="4800600"/>
        </p:xfrm>
        <a:graphic>
          <a:graphicData uri="http://schemas.openxmlformats.org/drawingml/2006/table">
            <a:tbl>
              <a:tblPr/>
              <a:tblGrid>
                <a:gridCol w="2737080"/>
                <a:gridCol w="2784240"/>
                <a:gridCol w="27590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ENYA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POSTA 2013/20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TALANA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ITANA (ARANES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LLENGÜ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STELL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ESTRANGERA (ANGLÈS, FRANCÈ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ETÈNCIA DIGITAL (COMPETIC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COMPETÈNCIES PER 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A SOCIETAT DE LA INFORMACI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ors 25 any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CIÓ INSTRUME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FORMACIÓ BÀS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UAT EN EDUCACIÓ SECUNDÀ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S D’ACCÉS A CFG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0:26:56Z</dcterms:created>
  <dc:creator>Noemi Palet</dc:creator>
  <dc:description/>
  <dc:language>en-US</dc:language>
  <cp:lastModifiedBy>usuari</cp:lastModifiedBy>
  <dcterms:modified xsi:type="dcterms:W3CDTF">2013-02-28T14:29:32Z</dcterms:modified>
  <cp:revision>97</cp:revision>
  <dc:subject/>
  <dc:title>Diapositiva 1</dc:title>
</cp:coreProperties>
</file>