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3B5F-7CB2-4638-8BAF-873382D9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C7BB-1B94-4BDE-B805-EB1E1595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5FF9-4943-4910-9C95-7C770F7C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99CC-D91B-49FD-8519-3742C5D2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4988-DB60-46FA-8DAA-6FF31105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9377-6AD3-4B2A-8819-9D4D9F0A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369F-698A-477B-9877-C0FC0625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47CB-F26D-4298-BE5D-4D112D42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DA2E-BA52-488B-996E-3C698834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1BC2-1104-454D-974D-21FAF57B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D46E-1D7D-477A-8CEC-CB7A0310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7894-454F-4F73-A698-91D2AAAB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CB59-9D29-42D6-9B1B-5E7720CB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FF60-41BF-482E-803D-C8B9E5A5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9673-621E-49E8-AB99-C7923463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4736-1250-44FD-9026-002B3559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E56A-21A7-4DD1-A62E-63A7AB87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4C40-BA7B-4B1B-9A4C-31C7CC05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8B65-0FDA-424E-8B9F-982DDD8D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D288-2150-467A-94DE-D70B6A41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CD92-E031-49F1-AF52-DCA382E8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A991-DE82-4A09-80CC-FFE5F110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2FCC-A9DD-479F-BAF9-EFAE3A0B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B512-C160-4D13-B339-AAE77B4A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43A5-E927-45B0-970A-E0E86680F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0BAC-1A45-4207-9A82-E776755A72A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u5148@tjcu.edu.cn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FE62-2161-4D2D-9348-696CC1A3A3F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信息检索基础知识与信息</a:t>
            </a:r>
            <a:br>
              <a:rPr sz="4400"/>
            </a:b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检索技巧专题讲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天津商学院图书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吴凤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mail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wu5148@tjcu.edu.c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电话：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668401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5CBF-5FF6-426F-8B3E-307917E0BB4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（三）限制检索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限制检索是缩小或约束检索结果的方法，主要是指限定字段检索，即是指定检索词在记录中出现的字段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常用的字段代码有：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TI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题名）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U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作者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文摘）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JN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刊名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Y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年代）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L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语种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如：  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information science/TI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LA=english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文摘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网络信息资源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9A34-5472-43B6-A6F0-6BC76CA5C2B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四、机检系统常用检索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简单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basic search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一种单项检索。一般只需输入一个检索词，辅以相应的途径即可进行检索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二次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在原有简单检索的结果基础上，再进行检索。可反复使用，不断扩大或缩小检索范围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高级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advanced search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一种多项组合检索，一般输入多个检索词进行组配。有的检索系统也称为复杂检索或扩展检索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专家检索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：用多个检索词与各种运算符组成检索式，功能与高级检索相似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DEBA-8052-40CE-A297-6D56AD6E39F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五、检索技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信息检索最重要的两个指标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“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全率”与“检准率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准率：指检出的相关文献量与检出文献总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比率。反应检索结果的准确性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全率：指检出的相 关文献量与检索系统中相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关文献总量的比率。反映检索结果的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全面性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88A6-C269-4A3C-9878-F07F379BF6C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（一）提高检准率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高相关度的检索入口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题名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关键词 ——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文摘 ——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全文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限制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在百度中可以进行多种限制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限定搜索网站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(site:     )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文档格式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filetype:ppt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oc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pdf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xls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反复使用二次检索（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nd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“精确检索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百度中的“”（双引号）与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《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书名号）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维普与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NKI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的“精确检索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F9FC-CB6A-49F6-BD70-68906CBA2A8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（二）提高检全率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用“全文”等低相关度的检索途径进行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同、近义词（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or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“模糊检索”和“截词检索”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利用文献后所附“参考文献”进行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FB66-3DA5-40B8-BF43-46229BC798F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一、信息检索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信息检索是将信息按一定的方式组织和存储起来，并根据信息用户的需要找出有关信息的过程和技术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对于信息用户而言，就是从信息集合中找出所需信息的过程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信息检索基本原理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提问标识（检索式）与文献标识的对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8116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DE20-B065-42FB-B6EF-D60ECD0A0DF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二、信息检索途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检索途径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又称为检索点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依据文献的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外部特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题名、责任者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出版者、出版时间等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内容特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分类号、主题词、关键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或自由词等）来确定，是信息检索的入口点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7E6F-DFB7-4969-9A71-E657EE0CA02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常用检索途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题名（篇名）途径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篇名中的字词或篇名的一部分进行检索。其结果是所有在篇名中出现该字、该词或该部分的文章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著者途径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文献作者名字进行检索。可查到该作者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分类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分类名和分类号进行检索。其结果是该类目所有的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1A45-EFE5-4479-AFFB-EA127BC33AB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主题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与该篇文献主题相关的规范词（主题词）进行检索，其结果是包含该主题词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关键词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与该篇文献主题相关的关键词（自由词）进行检索，其结果是包含该关键词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序号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文献的各种代码、数字编制的索引查找文献，如专利号、技术标准的标准号、科技报告的报告号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其他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文献类型、参考文献、语种、出版（发表）年份、作者机构、出版机构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7600-B69A-45A9-B840-EAB45CA7955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三、信息检索常用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布尔逻辑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用布尔逻辑算符来表达检索词间的逻辑组配关系，是最基本、最常用的检索技术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或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OR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并列关系。可扩大检索范围，提高查全率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+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中含有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都为检索命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2895480" y="4800600"/>
            <a:ext cx="1905120" cy="152388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5105520" y="4800600"/>
            <a:ext cx="1752480" cy="152388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1919-28D2-42A8-B65E-E191E4793D4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71600" y="3049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与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AND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交叉关系。可缩小检索范围，提高查准率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*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必须同时含有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才为命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非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排除关系。可缩小检索范围，提高查准率，但要慎用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-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是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不包含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那部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3733920" y="4724280"/>
            <a:ext cx="2438280" cy="16002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Oval 12"/>
          <p:cNvSpPr/>
          <p:nvPr/>
        </p:nvSpPr>
        <p:spPr>
          <a:xfrm>
            <a:off x="4952880" y="5029200"/>
            <a:ext cx="1143000" cy="9907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Oval 20"/>
          <p:cNvSpPr/>
          <p:nvPr/>
        </p:nvSpPr>
        <p:spPr>
          <a:xfrm>
            <a:off x="2895480" y="1752480"/>
            <a:ext cx="2286000" cy="14479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Oval 21"/>
          <p:cNvSpPr/>
          <p:nvPr/>
        </p:nvSpPr>
        <p:spPr>
          <a:xfrm>
            <a:off x="4495680" y="1752480"/>
            <a:ext cx="2133720" cy="1447920"/>
          </a:xfrm>
          <a:prstGeom prst="ellipse">
            <a:avLst/>
          </a:prstGeom>
          <a:solidFill>
            <a:srgbClr val="ffcc66">
              <a:alpha val="50000"/>
            </a:srgbClr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5583-4BC3-462A-9650-DB3F24D9581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截词检索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又称词干检索、模糊检索。检索时，只需用词干加截词符号，凡是含有与该词干相同的文献均能被检出。该方法能很好避免漏检现象的出现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检索系统不同，截词符也不同，常用的截词符号有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？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分为有限截词（即一个截词符只代表一个字符）和无限截词（一个截词符可代表多个字符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按截断的位置来分，截词可分为后截断、前截断、中截断三种类型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C129-D3BA-4278-844B-B66BB092B4D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7160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举例说明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后截断，前方一致。如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*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mputer,computers,computing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王伟？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可查出所有名字中含“王伟”的作者的文献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前截断，后方一致。如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er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inicomputer,microcompute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截断，中间一致。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*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inicomputer,microcomputers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作者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张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检索出张亚静、张雪静、张宇静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9:52:10Z</dcterms:created>
  <dc:creator>liu</dc:creator>
  <dc:description/>
  <dc:language>en-US</dc:language>
  <cp:lastModifiedBy>jhkou</cp:lastModifiedBy>
  <cp:lastPrinted>1899-12-30T00:00:00Z</cp:lastPrinted>
  <dcterms:modified xsi:type="dcterms:W3CDTF">2013-02-23T08:40:27Z</dcterms:modified>
  <cp:revision>152</cp:revision>
  <dc:subject/>
  <dc:title>信息检索基础知识与信息 检索技巧专题讲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