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62F-306A-411F-B251-25189D62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3F2-EE7B-4289-8BAE-7472275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852-0E48-41A3-9736-F48DFD5A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FBF-EEFC-48F3-8977-8C4F8AF2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A843-FE48-41DB-9BC7-5ABDDF66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BB1C-DBCD-440B-A52E-AD77A33E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DB97-B5FD-4883-8394-9DD53E40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06A3-DBF9-4DFB-A3BD-2A14875C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0B7D-A637-4EB9-8B1C-A1C46AF3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B107-1AD3-4FA7-86EB-BCA79AF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5F0-5D47-41CB-B1D4-410E0DDD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E3D-7D1C-4F65-82B7-48995413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A6D1-A2D9-4357-A39B-AF208BBD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6EC4-9A24-4855-8308-B4ACDDB2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7591-0BE8-48FC-BB21-8A4D3584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94D4-D7C4-4345-B58D-9B1B9DEC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557F-1158-4BCF-B902-4F74E2AB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58C-23B4-43ED-8857-63C18987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2A4-310C-49D8-8853-FE7C032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F16-2772-446A-BE80-EEA93A60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B1A-28F2-4670-AD3C-020FCD43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17C-2FF3-4771-8D40-40216D72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2CB-FAD8-4C84-BD7E-2B090AEE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CC0-B92A-4D22-8E89-F2CC5E68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1379-A6BA-4E8D-B682-3D1D756FE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338A-0056-4B41-B7E3-FAEDB1D0266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5148@tjc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7FAF-37F2-456B-9D99-A8BADAC5DF7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EDB7-DFCE-446D-A5E8-761FAFD1AE5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877-FD6B-4D65-B50C-1F4E9C3F8C5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FE7-62B4-42CE-93A6-DFB6060701F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6958-5C22-45A8-BEC4-771F15F5ED3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高相关度的检索入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题名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键词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文摘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全文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3A1A-8CA9-4FBF-8176-E02E3D9BE8F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用“全文”等低相关度的检索途径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EF8B-4C94-4FBE-9728-A3A062E721E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BC4-4026-4C24-BEF3-E305732C99F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E62A-B9B1-4043-B689-0466576B0B1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E94-8B2D-452B-A626-53D8907634E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D5AD-7C24-413A-A44E-890E7305BC1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F290-0BEF-40C2-81C2-193FF79A3E4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F0E9-9443-492B-B22D-35FF0B582B7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B9D0-011B-45B3-AA81-60447E9B55C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jhkou</cp:lastModifiedBy>
  <cp:lastPrinted>1899-12-30T00:00:00Z</cp:lastPrinted>
  <dcterms:modified xsi:type="dcterms:W3CDTF">2013-02-23T08:40:27Z</dcterms:modified>
  <cp:revision>152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