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C87-8588-4097-B767-DBEF6938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BD44-5654-43B6-B25F-169E0057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64F-3F04-42A5-B765-6F8B4C0AC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7D67-DBE3-4B4B-96B6-7073CAC5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2D85-7698-4C85-B0F2-4B37FC99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5852-0D00-48D3-8927-B6C7D02A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3436-5B33-4DB9-99F0-DD761F6E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2ADE-4D68-46E4-9429-25D9C1AB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3B18-4B7D-4C67-AABA-E2A9CF23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5695-0ED6-4DE2-B9D9-E244875C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2A17-7136-43EC-85B0-958DF609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BEC2-5468-4A72-9080-516D7D8B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CBED-47D9-40D4-A4E5-87141E94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8F19-EFBC-4575-8888-4F2824BA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6F17-815D-445E-B9DC-734A489C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E0AD-4507-499F-83A4-9543483C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F21A-C057-491B-9155-4720AD2D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581-B1BC-4155-AF36-3F66E7B5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380-AEBC-4BDC-876D-CF650DD6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EC0-1DB1-4837-88E7-2074335E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168-DCE3-40D5-B1D4-ECA028503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5E0-4BA7-4D3E-811E-BE7A9D96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D4F-EB59-478B-B5F7-B8EC1244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A760-555A-4B18-B9F9-FDB05D8C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730C-50F3-44F8-8CEF-68EEDC415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F3E9-AB5A-4BDE-B4C2-7CAE656AE7A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u5148@tjcu.edu.c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0ADF-176B-4863-A915-30CCA88BC73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信息检索基础知识与信息</a:t>
            </a:r>
            <a:br>
              <a:rPr sz="4400"/>
            </a:b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检索技巧专题讲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天津商学院图书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吴凤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mail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u5148@tjcu.edu.c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电话：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66840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516B-6FD0-48BC-B9E0-28917F9952A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（三）限制检索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制检索是缩小或约束检索结果的方法，主要是指限定字段检索，即是指定检索词在记录中出现的字段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常用的字段代码有：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题名）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U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作者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文摘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JN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刊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Y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年代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语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如：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information science/TI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LA=english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文摘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网络信息资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47BC-432F-4E93-8085-D28CC163A5E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四、机检系统常用检索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简单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basic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单项检索。一般只需输入一个检索词，辅以相应的途径即可进行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二次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原有简单检索的结果基础上，再进行检索。可反复使用，不断扩大或缩小检索范围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高级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advanced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多项组合检索，一般输入多个检索词进行组配。有的检索系统也称为复杂检索或扩展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专家检索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：用多个检索词与各种运算符组成检索式，功能与高级检索相似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6B5B-3670-4E39-A4D8-AA69D4B4F89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五、检索技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最重要的两个指标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“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”与“检准率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准率：指检出的相关文献量与检出文献总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比率。反应检索结果的准确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：指检出的相 关文献量与检索系统中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关文献总量的比率。反映检索结果的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全面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0DC0-A2EC-4B69-9E0D-282CCE252F0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一）提高检准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高相关度的检索入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题名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关键词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文摘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全文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限制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在百度中可以进行多种限制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定搜索网站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(site:     )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文档格式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iletype:pp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o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df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xl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反复使用二次检索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精确检索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百度中的“”（双引号）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《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书名号）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维普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NK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的“精确检索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E240-4F5F-41C5-A40E-AE08F0BA54D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二）提高检全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用“全文”等低相关度的检索途径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同、近义词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模糊检索”和“截词检索”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利用文献后所附“参考文献”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02D3-209D-452D-A69B-C67C0D2EA72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一、信息检索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是将信息按一定的方式组织和存储起来，并根据信息用户的需要找出有关信息的过程和技术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对于信息用户而言，就是从信息集合中找出所需信息的过程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信息检索基本原理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提问标识（检索式）与文献标识的对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8116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7143-572F-4FB8-ABF6-10CAD5CF7D0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二、信息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检索途径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又称为检索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依据文献的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外部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题名、责任者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出版者、出版时间等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内容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分类号、主题词、关键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或自由词等）来确定，是信息检索的入口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75F0-58A6-4836-9041-7B1E8DE9411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常用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题名（篇名）途径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篇名中的字词或篇名的一部分进行检索。其结果是所有在篇名中出现该字、该词或该部分的文章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著者途径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作者名字进行检索。可查到该作者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分类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分类名和分类号进行检索。其结果是该类目所有的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0C3C-2E26-45B1-84C0-8AECD77480E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主题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规范词（主题词）进行检索，其结果是包含该主题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关键词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关键词（自由词）进行检索，其结果是包含该关键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序号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的各种代码、数字编制的索引查找文献，如专利号、技术标准的标准号、科技报告的报告号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其他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文献类型、参考文献、语种、出版（发表）年份、作者机构、出版机构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438E-504D-412F-BE15-41D794A81FF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三、信息检索常用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布尔逻辑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布尔逻辑算符来表达检索词间的逻辑组配关系，是最基本、最常用的检索技术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或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并列关系。可扩大检索范围，提高查全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中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都为检索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2895480" y="4800600"/>
            <a:ext cx="190512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5105520" y="4800600"/>
            <a:ext cx="175248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F8D1-253E-42B3-BFEB-D32BDD6DE20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与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交叉关系。可缩小检索范围，提高查准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*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必须同时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才为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非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排除关系。可缩小检索范围，提高查准率，但要慎用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-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不包含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那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3733920" y="4724280"/>
            <a:ext cx="2438280" cy="16002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952880" y="5029200"/>
            <a:ext cx="1143000" cy="9907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2895480" y="1752480"/>
            <a:ext cx="2286000" cy="14479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4495680" y="1752480"/>
            <a:ext cx="2133720" cy="1447920"/>
          </a:xfrm>
          <a:prstGeom prst="ellipse">
            <a:avLst/>
          </a:prstGeom>
          <a:solidFill>
            <a:srgbClr val="ffcc66">
              <a:alpha val="50000"/>
            </a:srgbClr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F604-2585-42EB-B164-685B5BB299B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截词检索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又称词干检索、模糊检索。检索时，只需用词干加截词符号，凡是含有与该词干相同的文献均能被检出。该方法能很好避免漏检现象的出现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系统不同，截词符也不同，常用的截词符号有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为有限截词（即一个截词符只代表一个字符）和无限截词（一个截词符可代表多个字符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按截断的位置来分，截词可分为后截断、前截断、中截断三种类型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2897-9BE3-4FE3-8179-73603087130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举例说明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后截断，前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mputer,computers,computin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王伟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可查出所有名字中含“王伟”的作者的文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前截断，后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截断，中间一致。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作者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张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出张亚静、张雪静、张宇静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9:52:10Z</dcterms:created>
  <dc:creator>liu</dc:creator>
  <dc:description/>
  <dc:language>en-US</dc:language>
  <cp:lastModifiedBy>jhkou</cp:lastModifiedBy>
  <cp:lastPrinted>1899-12-30T00:00:00Z</cp:lastPrinted>
  <dcterms:modified xsi:type="dcterms:W3CDTF">2013-02-23T08:40:27Z</dcterms:modified>
  <cp:revision>152</cp:revision>
  <dc:subject/>
  <dc:title>信息检索基础知识与信息 检索技巧专题讲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