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5FC2-8A64-4DAB-8E99-FA356A528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D51D-199A-47D1-9C92-34E3D52C2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17D4-7562-4406-87C8-153A181B9B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80BF-23F2-48C3-B471-669E31236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D372-05E7-4E48-B6CB-83FD75CC72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0178-4CAB-4195-BED9-F7ABABFC4E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CA31-2423-451F-98F3-A12D274BF1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EA67-9AAE-4C04-A474-3AC2754901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7F6A5-A311-40C6-A877-B0F3B002C4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AB61-5D75-4FFD-84B4-BE1C21E432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45F0-19FE-4985-BCAD-90C038ADE5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82F2-E31A-41BD-8A7E-4F0996A1CF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E929-2F5F-40D4-BE28-3A1FE19C6C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B945-E228-478F-8B72-C469E76B22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8E92-A8B4-401D-A8B0-8497D46CEF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6BFA-1164-4DB3-AD1F-8EB1F95D61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5396-9C6C-4352-8C06-5A96C45885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616E-F60E-4581-93D3-90CBFF1FCD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4F30-3B08-4E27-A9BA-16A8214EFF1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BE39-03E0-4F80-9F99-724217565E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5920-5DC6-4DBD-A949-DB558BE792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6B9D-2A1C-462D-8818-3670E9F82E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6B9C-ECA2-4AC8-9238-138C7401AC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0906-75E0-4041-A583-08EFE1F016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34C2-B249-4CE5-A31F-761F9B6E70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600C-F44C-4293-9BC1-CAA7E00530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FB64-ED95-492D-9971-E1158844E8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1076-03F1-4415-9FD2-E4060BE7988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BC0C-795D-471F-954B-BABE530B99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456E-9D07-42FB-B682-0C451B8158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4881-F6D9-4796-BA09-01DD1CAA74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C2D-E748-478D-8CB7-7B386314DD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BF59-49B6-4C70-ACEB-96E21E4935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82CD-080F-4440-A88B-75EFCDF5B4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85CA-253A-4676-9A51-F42B86BBAF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8A21-0C00-4735-B981-EA0C08B9A1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874-2FD1-4F9B-BB38-1FF8546614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345E-177E-4DE9-8B52-D225316009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740-A4A7-4645-81E9-40FE5CC84B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2F33-4BB6-4606-A896-25C87D86A4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FB4-2467-4AF1-83E1-B1C5E4B6F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B96E-0AE9-4D62-9ADB-D16FA98F5B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310D-C616-4C8F-905C-1615B2F95A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68F2-7EDF-4A8A-8844-7880B28372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3EA6-218A-406A-8206-002FFB2BAB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4123-3F3F-4038-AF10-10BFE6C1EB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5FC7-75BA-4D17-986B-68E4632EC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800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5440" y="119664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800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5440" y="3942360"/>
            <a:ext cx="277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4AA2-0547-4DC8-8F9D-FC737B579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A037F-5CA5-4DD2-8B35-58833E157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A807-F3A3-4F2D-B548-7A72E267EC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9A3B-55A4-4250-8511-99D0E4BF7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0E6F1-B83C-44A2-9988-717B43E05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360" y="115560"/>
            <a:ext cx="5759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D157-5434-4A83-8B0B-304AEC81A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650C-0BE9-45B6-A94E-3AEBFCC22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4236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0541-441C-4B00-BA6F-918901E131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196640"/>
            <a:ext cx="421020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42360"/>
            <a:ext cx="8628120" cy="25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BBBA-044D-4873-BD08-B4A1D1408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30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07396f"/>
              </a:gs>
              <a:gs pos="100000">
                <a:srgbClr val="0a4d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" name="Picture 3" descr="ppt内页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8E52-E932-4D16-85F0-B95A00C10C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3F87-9C93-4212-9511-6C98AD18535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1989000"/>
            <a:ext cx="734544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、概念图的理论与方法 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627280" y="4005360"/>
            <a:ext cx="46814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罗辉  四川农业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金教工程总体技术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教育部远程教育专家组成员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中国职教学会信息化委员会常务理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luohui63@sohu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1307-D779-4F73-A6A0-8706B63C12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11F9-BE32-4571-A239-68C385F71C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222200" y="1795320"/>
            <a:ext cx="6653520" cy="18496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230480" y="4125960"/>
            <a:ext cx="6653160" cy="182412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 flipV="1">
            <a:off x="1393920" y="112428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AutoShape 7"/>
          <p:cNvSpPr/>
          <p:nvPr/>
        </p:nvSpPr>
        <p:spPr>
          <a:xfrm flipV="1">
            <a:off x="1349280" y="345816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Picture 8" descr="Picture4"/>
          <p:cNvPicPr/>
          <p:nvPr/>
        </p:nvPicPr>
        <p:blipFill>
          <a:blip r:embed="rId1"/>
          <a:stretch/>
        </p:blipFill>
        <p:spPr>
          <a:xfrm>
            <a:off x="1273320" y="184140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Picture4"/>
          <p:cNvPicPr/>
          <p:nvPr/>
        </p:nvPicPr>
        <p:blipFill>
          <a:blip r:embed="rId2"/>
          <a:stretch/>
        </p:blipFill>
        <p:spPr>
          <a:xfrm>
            <a:off x="1278000" y="4167360"/>
            <a:ext cx="674640" cy="57276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1706400" y="1587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706400" y="390384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630440" y="221472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知识可视化是指应用视觉表征手段促进群体知识的传播和创新，其实质是将人们的个体知识以图解的手段表示出来，形成能够直接作用于人的感官的知识外在表现形式，从而促进知识的传播和创新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1630440" y="451944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知识可视化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(Knowledge Visualization)</a:t>
            </a: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是将人的知识、态度、观点、情感等以图形方式准确而高效地表达出来，被受众正确重构，实现人与人之间的信息交流，从而促进知识在人群之间的传播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087640" y="159696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Times New Roman"/>
              </a:rPr>
              <a:t>北师大赵国庆博士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087640" y="391464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笔者对知识可视化的定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2CC-1A53-43D7-9C80-0E3657AF51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0D8C-D76B-44E9-A882-AE3AC6F88FD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知识可视化两个重要工具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29" name="Group 4"/>
          <p:cNvGrpSpPr/>
          <p:nvPr/>
        </p:nvGrpSpPr>
        <p:grpSpPr>
          <a:xfrm>
            <a:off x="1474920" y="2708280"/>
            <a:ext cx="6284520" cy="1903320"/>
            <a:chOff x="1474920" y="2708280"/>
            <a:chExt cx="6284520" cy="1903320"/>
          </a:xfrm>
        </p:grpSpPr>
        <p:sp>
          <p:nvSpPr>
            <p:cNvPr id="130" name="AutoShape 5"/>
            <p:cNvSpPr/>
            <p:nvPr/>
          </p:nvSpPr>
          <p:spPr>
            <a:xfrm>
              <a:off x="147492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AutoShape 6"/>
            <p:cNvSpPr/>
            <p:nvPr/>
          </p:nvSpPr>
          <p:spPr>
            <a:xfrm>
              <a:off x="3870360" y="2708280"/>
              <a:ext cx="3889080" cy="1903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2" name="Rectangle 7"/>
          <p:cNvSpPr/>
          <p:nvPr/>
        </p:nvSpPr>
        <p:spPr>
          <a:xfrm rot="21475200">
            <a:off x="1692360" y="3213000"/>
            <a:ext cx="208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概念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8"/>
          <p:cNvSpPr/>
          <p:nvPr/>
        </p:nvSpPr>
        <p:spPr>
          <a:xfrm rot="21370200">
            <a:off x="4786200" y="3493800"/>
            <a:ext cx="208944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 anchorCtr="1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</a:rPr>
              <a:t>思维导图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B30A-B235-4D3A-9D9A-1F90D17C197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1765440" y="2200320"/>
            <a:ext cx="482256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140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6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147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9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0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1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2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3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154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5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6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7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8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160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2CCE-B92E-4ECA-B6D2-84969C0554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1B22-B066-4EC9-A168-49FCC58A3D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(Concept Map)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22200" y="152712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概念图是由美国康奈尔大学的诺瓦克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.D.Novak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博士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开发的一种“能形象表达命题网络中一系列概念含义及其关系的图解”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87280" y="2852640"/>
            <a:ext cx="6624720" cy="1197720"/>
          </a:xfrm>
          <a:prstGeom prst="rect">
            <a:avLst/>
          </a:prstGeom>
          <a:noFill/>
          <a:ln w="82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念图（</a:t>
            </a:r>
            <a:r>
              <a:rPr b="1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ncept Map</a:t>
            </a:r>
            <a:r>
              <a:rPr b="1" lang="zh-CN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是用来组织和表征知识的工具。它通常将某一主题的有关概念置于圆圈或方框之中，然后用连线将相关的概念和命题连接，连线上标明两个概念之间的意义关系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诺瓦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807F-2D67-4625-A87C-6B6DCC89E9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7670-EDA9-4FB8-846D-4528686C655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概念图的图表结构组成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60520" y="1916280"/>
            <a:ext cx="8115120" cy="30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591E-DF20-4B57-BE5C-949545301F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7BDE-E3D6-496D-9D8F-26C3C93E89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的价值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219320" y="1868400"/>
            <a:ext cx="6653160" cy="1144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47c9f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22200" y="3378240"/>
            <a:ext cx="6653520" cy="1274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55aee"/>
              </a:gs>
              <a:gs pos="100000">
                <a:srgbClr val="5d3fa6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1230480" y="5032440"/>
            <a:ext cx="6653160" cy="10317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fff99"/>
              </a:gs>
              <a:gs pos="100000">
                <a:srgbClr val="b2b26b"/>
              </a:gs>
            </a:gsLst>
            <a:lin ang="5400000"/>
          </a:gradFill>
          <a:ln w="2556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AutoShape 7"/>
          <p:cNvSpPr/>
          <p:nvPr/>
        </p:nvSpPr>
        <p:spPr>
          <a:xfrm flipV="1">
            <a:off x="1393920" y="2707200"/>
            <a:ext cx="6397560" cy="662040"/>
          </a:xfrm>
          <a:custGeom>
            <a:avLst/>
            <a:gdLst>
              <a:gd name="textAreaLeft" fmla="*/ 1098000 w 6397560"/>
              <a:gd name="textAreaRight" fmla="*/ 5299560 w 6397560"/>
              <a:gd name="textAreaTop" fmla="*/ 113400 h 662040"/>
              <a:gd name="textAreaBottom" fmla="*/ 548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55aee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AutoShape 8"/>
          <p:cNvSpPr/>
          <p:nvPr/>
        </p:nvSpPr>
        <p:spPr>
          <a:xfrm flipV="1">
            <a:off x="1297080" y="1196640"/>
            <a:ext cx="6502320" cy="665280"/>
          </a:xfrm>
          <a:custGeom>
            <a:avLst/>
            <a:gdLst>
              <a:gd name="textAreaLeft" fmla="*/ 1115640 w 6502320"/>
              <a:gd name="textAreaRight" fmla="*/ 5386680 w 6502320"/>
              <a:gd name="textAreaTop" fmla="*/ 114120 h 665280"/>
              <a:gd name="textAreaBottom" fmla="*/ 551160 h 66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9"/>
          <p:cNvSpPr/>
          <p:nvPr/>
        </p:nvSpPr>
        <p:spPr>
          <a:xfrm flipV="1">
            <a:off x="1349280" y="4364640"/>
            <a:ext cx="6475680" cy="664920"/>
          </a:xfrm>
          <a:custGeom>
            <a:avLst/>
            <a:gdLst>
              <a:gd name="textAreaLeft" fmla="*/ 1111320 w 6475680"/>
              <a:gd name="textAreaRight" fmla="*/ 5364360 w 647568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fff99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0" descr="Picture4"/>
          <p:cNvPicPr/>
          <p:nvPr/>
        </p:nvPicPr>
        <p:blipFill>
          <a:blip r:embed="rId1"/>
          <a:stretch/>
        </p:blipFill>
        <p:spPr>
          <a:xfrm>
            <a:off x="1276200" y="1911240"/>
            <a:ext cx="675000" cy="574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Picture4"/>
          <p:cNvPicPr/>
          <p:nvPr/>
        </p:nvPicPr>
        <p:blipFill>
          <a:blip r:embed="rId2"/>
          <a:stretch/>
        </p:blipFill>
        <p:spPr>
          <a:xfrm>
            <a:off x="1273320" y="3424320"/>
            <a:ext cx="676080" cy="5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icture4"/>
          <p:cNvPicPr/>
          <p:nvPr/>
        </p:nvPicPr>
        <p:blipFill>
          <a:blip r:embed="rId3"/>
          <a:stretch/>
        </p:blipFill>
        <p:spPr>
          <a:xfrm>
            <a:off x="1278000" y="5073480"/>
            <a:ext cx="674640" cy="57312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13"/>
          <p:cNvSpPr/>
          <p:nvPr/>
        </p:nvSpPr>
        <p:spPr>
          <a:xfrm>
            <a:off x="1706400" y="164160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AutoShape 14"/>
          <p:cNvSpPr/>
          <p:nvPr/>
        </p:nvSpPr>
        <p:spPr>
          <a:xfrm>
            <a:off x="1706400" y="31701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1706400" y="4809960"/>
            <a:ext cx="5791320" cy="45720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1630440" y="22510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可以将人脑中的隐性知识显性化、可视化，是对大脑存储信息方式的最好模拟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1630440" y="364500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能够以直观形象的方式表达知识结构，还能有效呈现思考的过程及知识的关联。因此，可以通过修正学习者的知识结构而帮助学习者进行有意义学习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1630440" y="532296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宋体"/>
              </a:rPr>
              <a:t>-</a:t>
            </a:r>
            <a:r>
              <a:rPr b="1" lang="zh-CN" sz="1600" spc="-1" strike="noStrike">
                <a:solidFill>
                  <a:srgbClr val="feffff"/>
                </a:solidFill>
                <a:latin typeface="宋体"/>
              </a:rPr>
              <a:t>概念图常用于严密复杂的逻辑关系表达；那些用大段文字难以描述清楚的复杂逻辑关系，却往往能够用概念图轻松表达。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2087640" y="164160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77777"/>
                </a:solidFill>
                <a:latin typeface="宋体"/>
              </a:rPr>
              <a:t>概念图是对人脑存储信息方式的最好模拟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2087640" y="317988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宋体"/>
              </a:rPr>
              <a:t>概念图能有效呈现思考过程与知识关联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2087640" y="4821120"/>
            <a:ext cx="5029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99"/>
                </a:solidFill>
                <a:latin typeface="宋体"/>
              </a:rPr>
              <a:t>概念图擅长描述复杂的逻辑关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C3C6-02FF-42A8-AA27-1609BEB2EB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37C2-BD52-4C90-A615-4134210F80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应用领域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8201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E1CD-ADDC-4FF8-B701-8497F3A99D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1583-A7EF-42A0-970A-F1CCD5E757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概念图示例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19136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2C84-15F0-4B3F-87FB-4BCBB329B8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AutoShape 2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900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355840" y="3573360"/>
            <a:ext cx="452124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4" name="Group 6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205" name="Oval 7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6" name="Oval 8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1" name="Group 13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212" name="Oval 14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4" name="Oval 16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Oval 17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Oval 18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Oval 19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219" name="Oval 21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Oval 22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Oval 23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Oval 24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3" name="Oval 25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4" name="Oval 26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225" name="Picture 27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2B03-39A1-4DDC-A318-B4E4199560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241-9723-4D65-B9D2-FA1574EA2C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（</a:t>
            </a:r>
            <a:r>
              <a:rPr b="1" lang="en-US" sz="2500" spc="-1" strike="noStrike">
                <a:solidFill>
                  <a:srgbClr val="ffffff"/>
                </a:solidFill>
                <a:latin typeface="黑体"/>
              </a:rPr>
              <a:t>Mind Map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250920" y="12682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维导图，又名“心智图”，创始人是英国人托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巴赞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ny Buza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7345440" cy="329868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250920" y="1989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一个中心主题开始，建立与其密切相关的一级概念主题，每个一级主题下面包含若干个二级主题；依次类推，构成一个树状结构，称为思维导图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9A20-8C91-4CB2-B7F2-2F938250977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AutoShape 4"/>
          <p:cNvSpPr/>
          <p:nvPr/>
        </p:nvSpPr>
        <p:spPr>
          <a:xfrm flipH="1" rot="5400000">
            <a:off x="-2016360" y="2062800"/>
            <a:ext cx="4032360" cy="3929040"/>
          </a:xfrm>
          <a:custGeom>
            <a:avLst/>
            <a:gdLst>
              <a:gd name="textAreaLeft" fmla="*/ 360 w 4032360"/>
              <a:gd name="textAreaRight" fmla="*/ 4033080 w 4032360"/>
              <a:gd name="textAreaTop" fmla="*/ 0 h 3929040"/>
              <a:gd name="textAreaBottom" fmla="*/ 1402920 h 3929040"/>
            </a:gdLst>
            <a:ahLst/>
            <a:rect l="textAreaLeft" t="textAreaTop" r="textAreaRight" b="textAreaBottom"/>
            <a:pathLst>
              <a:path w="21600" h="216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952640" y="5013360"/>
            <a:ext cx="456408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思维导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2355840" y="3573360"/>
            <a:ext cx="459252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概念图及其价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1765440" y="2200320"/>
            <a:ext cx="4678200" cy="507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bc"/>
                </a:solidFill>
                <a:latin typeface="Times New Roman"/>
              </a:rPr>
              <a:t>神奇的左右脑分工与知识可视化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1447920" y="2289240"/>
            <a:ext cx="380880" cy="380880"/>
            <a:chOff x="1447920" y="2289240"/>
            <a:chExt cx="380880" cy="380880"/>
          </a:xfrm>
        </p:grpSpPr>
        <p:sp>
          <p:nvSpPr>
            <p:cNvPr id="57" name="Oval 11"/>
            <p:cNvSpPr/>
            <p:nvPr/>
          </p:nvSpPr>
          <p:spPr>
            <a:xfrm>
              <a:off x="1447920" y="22892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1469520" y="23104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1488960" y="23302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1489320" y="23306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1508040" y="23493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2" name="Oval 16"/>
            <p:cNvSpPr/>
            <p:nvPr/>
          </p:nvSpPr>
          <p:spPr>
            <a:xfrm>
              <a:off x="1508760" y="23500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2050920" y="3649680"/>
            <a:ext cx="381240" cy="380880"/>
            <a:chOff x="2050920" y="3649680"/>
            <a:chExt cx="381240" cy="380880"/>
          </a:xfrm>
        </p:grpSpPr>
        <p:sp>
          <p:nvSpPr>
            <p:cNvPr id="64" name="Oval 25"/>
            <p:cNvSpPr/>
            <p:nvPr/>
          </p:nvSpPr>
          <p:spPr>
            <a:xfrm>
              <a:off x="2050920" y="364968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2072520" y="367092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2091960" y="3690720"/>
              <a:ext cx="29880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2092320" y="369108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2111400" y="37098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2112120" y="371052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0" name="Group 31"/>
          <p:cNvGrpSpPr/>
          <p:nvPr/>
        </p:nvGrpSpPr>
        <p:grpSpPr>
          <a:xfrm>
            <a:off x="1616040" y="5114880"/>
            <a:ext cx="380880" cy="380880"/>
            <a:chOff x="1616040" y="5114880"/>
            <a:chExt cx="380880" cy="380880"/>
          </a:xfrm>
        </p:grpSpPr>
        <p:sp>
          <p:nvSpPr>
            <p:cNvPr id="71" name="Oval 32"/>
            <p:cNvSpPr/>
            <p:nvPr/>
          </p:nvSpPr>
          <p:spPr>
            <a:xfrm>
              <a:off x="1616040" y="5114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1637640" y="5136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1657080" y="5155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1657440" y="5156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1676160" y="5175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8a8a53"/>
                </a:gs>
                <a:gs pos="50000">
                  <a:srgbClr val="ffff99"/>
                </a:gs>
                <a:gs pos="100000">
                  <a:srgbClr val="8a8a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1676880" y="5175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77" name="Picture 45" descr=""/>
          <p:cNvPicPr/>
          <p:nvPr/>
        </p:nvPicPr>
        <p:blipFill>
          <a:blip r:embed="rId1"/>
          <a:stretch/>
        </p:blipFill>
        <p:spPr>
          <a:xfrm>
            <a:off x="0" y="3500280"/>
            <a:ext cx="1368360" cy="1116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360" y="123480"/>
            <a:ext cx="3981600" cy="6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纲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248-D668-41DE-A8BA-63A7FFA960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FB56-6FD3-419C-A486-7C56C15DDD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55640" y="5445000"/>
            <a:ext cx="763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思维导图是一种非常有用的图形技术，是打开人类思维的万能钥匙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托尼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巴赞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25" descr=""/>
          <p:cNvPicPr/>
          <p:nvPr/>
        </p:nvPicPr>
        <p:blipFill>
          <a:blip r:embed="rId1"/>
          <a:stretch/>
        </p:blipFill>
        <p:spPr>
          <a:xfrm>
            <a:off x="826920" y="1279440"/>
            <a:ext cx="7054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125B-8B59-440A-9C78-8E8766C77B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77A9-2051-44E9-A6FD-6659BC5BA8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赋予人类“鹰眼”的强大能力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743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03D6-E8DB-4FB7-9C6D-86E4A52DCC6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思维导图有助于人们提高分类思维水平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62812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分类法是人类科学认识世界最重要的基本方法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正确的分类思维是人们正确做事的基本前提之一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良好的分类思维习惯是提高思维品质和创新思维能力的途径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自觉的分类思维是提高工作效率的保障手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思维导图一级节点：对复杂系统分类的几个维度（属性）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属性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二级节点：具有同一亚属性子对象的集合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E105-47DB-47B7-837C-2FBFF1FBEE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EB68-7AFA-4B93-AFCD-592F734FF3E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的应用场合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17272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FC00-C781-4D2B-B5AF-8497FC8E0E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5592-FDB2-4AAB-92E5-B3D1540310A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555300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BCA5-A22A-4A99-92F4-E94A3F6648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A265-D49D-4C16-AAC1-E6D7AE312F0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思维导图示例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411280" y="1125360"/>
            <a:ext cx="4038840" cy="52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9802-F69E-47A0-8519-D5D3F2C4B7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88F7-48DB-4639-AD38-E90FB9C567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447920" y="1405080"/>
            <a:ext cx="6184800" cy="432900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1619280" y="155736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4ea7ea"/>
              </a:gs>
              <a:gs pos="100000">
                <a:srgbClr val="daecf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1547640" y="20145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619280" y="2919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cc99ff"/>
              </a:gs>
              <a:gs pos="100000">
                <a:srgbClr val="f4e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1547640" y="338616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1619280" y="4224240"/>
            <a:ext cx="5908680" cy="135108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93c052"/>
              </a:gs>
              <a:gs pos="100000">
                <a:srgbClr val="e8f2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AutoShape 10"/>
          <p:cNvSpPr/>
          <p:nvPr/>
        </p:nvSpPr>
        <p:spPr>
          <a:xfrm>
            <a:off x="1547640" y="4681440"/>
            <a:ext cx="646200" cy="419040"/>
          </a:xfrm>
          <a:prstGeom prst="rightArrow">
            <a:avLst>
              <a:gd name="adj1" fmla="val 50000"/>
              <a:gd name="adj2" fmla="val 6425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2340000" y="4581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具体的实践应用中，可以将两者“整合”起来，为改进人类的学习和提高绩效做出更大贡献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2340000" y="328464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无论是概念图还是思维导图，都能帮助人直观地思维和记忆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同时开发右半脑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11280" y="1989000"/>
            <a:ext cx="48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爱因斯坦说过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才的思维是直观的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0160-7445-401C-AE4B-58BEC05E9C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2818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把思维导图概念图变成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人人工具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100"/>
            </a:b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100" spc="-1" strike="noStrike">
                <a:solidFill>
                  <a:srgbClr val="ffffff"/>
                </a:solidFill>
                <a:latin typeface="黑体"/>
              </a:rPr>
              <a:t>我们共同的事业理想</a:t>
            </a:r>
            <a:endParaRPr b="1" lang="en-US" sz="21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1280" y="2349000"/>
            <a:ext cx="7921440" cy="28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推广普及思维导图和概念图应用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高我们的工作学习质量与效率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"/>
              </a:rPr>
              <a:t>提升民族的创新能力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A174-FCFB-4911-8FDC-6156B05F45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2050920" y="3573360"/>
            <a:ext cx="4802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00ff00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00ff00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403D-EB33-4E71-A513-4C36097610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C62A-F8A6-428A-9B95-F1E1DFCE4D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神奇的左右脑分工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2" name="Picture 4" descr="左右脑分工_修改版"/>
          <p:cNvPicPr/>
          <p:nvPr/>
        </p:nvPicPr>
        <p:blipFill>
          <a:blip r:embed="rId1"/>
          <a:srcRect l="0" t="5492" r="0" b="5492"/>
          <a:stretch/>
        </p:blipFill>
        <p:spPr>
          <a:xfrm>
            <a:off x="250920" y="1084320"/>
            <a:ext cx="885816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ADE6-FC42-4E31-82F1-292ADAB0407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DE7A-CC8A-4BEC-B8BF-E1D3CDF91F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专长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86" name="Picture 4" descr="右脑的特长"/>
          <p:cNvPicPr/>
          <p:nvPr/>
        </p:nvPicPr>
        <p:blipFill>
          <a:blip r:embed="rId1"/>
          <a:stretch/>
        </p:blipFill>
        <p:spPr>
          <a:xfrm>
            <a:off x="971640" y="1557360"/>
            <a:ext cx="745308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230-5A5D-4856-B619-F3575E17BE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A1F3-8FCD-4C13-9FE3-36A6C9AEF97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从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用进废退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观点看人脑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98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C55A-ADC8-48CC-B2AA-12A89239CE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541-2558-4DCE-B273-3264DA77A6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左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4" name="Picture 4" descr="2"/>
          <p:cNvPicPr/>
          <p:nvPr/>
        </p:nvPicPr>
        <p:blipFill>
          <a:blip r:embed="rId1"/>
          <a:stretch/>
        </p:blipFill>
        <p:spPr>
          <a:xfrm>
            <a:off x="971640" y="2637000"/>
            <a:ext cx="6875280" cy="3493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39640" y="15271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中的数据是一组学生的三科考试成绩，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表格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34C9-EF01-46CD-A494-59E58FC9B4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D843-BFAA-4B9B-B186-5C06F586A6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小测试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右脑的认知加工效率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116000" y="2852640"/>
            <a:ext cx="7345440" cy="34988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539640" y="152712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前面的表格数据转换成图形，同样请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秒钟，从图中找出每科得分最高的学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时开始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882F-0028-4685-AAF2-A7C1C309BDD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B131-D082-4EDF-A832-0B7D6540D80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提倡全脑思维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92360" y="1484280"/>
            <a:ext cx="4895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1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9AF4-D6CA-412F-BF74-7AB286A49E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灯片编号占位符 3"/>
          <p:cNvSpPr/>
          <p:nvPr/>
        </p:nvSpPr>
        <p:spPr>
          <a:xfrm>
            <a:off x="7164360" y="6597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03A2-E153-4E06-810E-F4F53D6D83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92360" y="115560"/>
            <a:ext cx="5759280" cy="86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marL="812880"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知识可视化的价值</a:t>
            </a: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促进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500" spc="-1" strike="noStrike">
                <a:solidFill>
                  <a:srgbClr val="ffffff"/>
                </a:solidFill>
                <a:latin typeface="黑体"/>
              </a:rPr>
              <a:t>全脑思维</a:t>
            </a:r>
            <a:r>
              <a:rPr b="1" lang="zh-CN" sz="25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2500" spc="-1" strike="noStrike">
              <a:solidFill>
                <a:srgbClr val="ffffff"/>
              </a:solidFill>
              <a:latin typeface="黑体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6120000" cy="29923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1258920" y="1268280"/>
            <a:ext cx="6384960" cy="122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933"/>
              </a:gs>
              <a:gs pos="50000">
                <a:srgbClr val="fdba10"/>
              </a:gs>
              <a:gs pos="100000">
                <a:srgbClr val="ff9933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1308240" y="1370160"/>
            <a:ext cx="6238800" cy="1049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50000">
                <a:srgbClr val="ffffff"/>
              </a:gs>
              <a:gs pos="100000">
                <a:srgbClr val="d2d2d2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PMingLiU"/>
              </a:rPr>
              <a:t>     </a:t>
            </a:r>
            <a:r>
              <a:rPr b="1" lang="zh-CN" sz="1800" spc="-1" strike="noStrike">
                <a:solidFill>
                  <a:srgbClr val="800000"/>
                </a:solidFill>
                <a:latin typeface="Arial"/>
              </a:rPr>
              <a:t>知识可视化将认知对象同时以图、文形式表达，可以有效促进全脑思维，提升思维效率和品质。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3:29:06Z</dcterms:created>
  <dc:creator>YN</dc:creator>
  <dc:description/>
  <dc:language>en-US</dc:language>
  <cp:lastModifiedBy>jhkou</cp:lastModifiedBy>
  <dcterms:modified xsi:type="dcterms:W3CDTF">2013-02-23T08:00:47Z</dcterms:modified>
  <cp:revision>66</cp:revision>
  <dc:subject/>
  <dc:title>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1</vt:r8>
  </property>
</Properties>
</file>