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DED0-6DC1-409D-9077-3D19F421F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62DD-A23C-4F86-9F17-039A5B4C24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0073-72CE-4053-812D-9113B20894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B9E9-F644-412F-90B4-53B7118488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D34D-BB6F-4039-8973-996996C8A6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5BE0-C004-4A31-B474-2EB3766B34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7B13-7EE7-4649-BCEA-9BD39C47A8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8538-CB00-4F4D-97A6-034FBE77C2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F4C5-8EC1-4623-B1B8-C9EF35F285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2A50-4F5B-4A70-903A-A55D21ADC7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A2C7-0F78-4DAA-9C3D-2A67D53FAF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5514-2C7B-4D47-909E-D187EFD45E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709E-8684-4509-A110-D1479107AE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E697-D384-460D-98AD-A28A73F3D7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088D-C419-4AF0-B3C8-44F89F96DE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74E7-236B-4602-8E1F-BF87610E2C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0C4E-4074-4C8B-AD10-D6B21D2CBB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8C9C-445E-45AE-AF34-0BFDDF38C4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8B35-6DA2-4133-BAAE-0936C4D88E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5DF9-0D01-4144-9461-2DB5F2A390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6DA7-B9F2-4691-A8A8-54C5F7D10C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1F94-E687-46FC-8D44-08D6761B05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C4D9-3775-4224-8630-37554C1186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FA5D-C324-4AD3-A6CB-791D8BDB81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E1F4-A7ED-454A-BC60-C061552FB8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138E-5AB1-4E26-8DFB-9860319BA3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7435-5B9D-4620-9519-39DC0DC46D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00A2-4F05-4D96-90F7-31CC362DBA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9BFF-7AEB-476C-AE29-AD07CD0F6F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DB11-BEB5-490A-BCE2-D89B450414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D9E8-DB9F-49A6-9969-DAC1EF1A39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5293-2F21-4DCD-99F3-CC3EEE9A08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5638-541B-4A23-8A27-7B9B7F0D8E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7053-7F6A-4CA4-885F-895DC4C28C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0EF7-AFAB-4779-95FA-3A053ACE6B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2941-93ED-4916-9561-ECB09EB90E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7B1A-BF7D-4AE0-BFD7-B856F8AF1B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E1B8-39A2-4A1E-A632-D74F33CF89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154E-EB37-4E72-80FE-0823ADA291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3C1E-9EBB-4432-97D5-B92EBBAC8D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9E03-18C5-4086-B5A6-9004634CAC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EF12-9470-4130-8CBD-7844D7604B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A841-59BF-4656-865D-F957CD8BAF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1FB5-AF52-4FAB-956B-B92AF5E123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2E778-522B-49A3-BFFA-783E2C4C7F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62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42360"/>
            <a:ext cx="862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42C6-3AF5-47A8-8A72-82CA565BCD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4236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4236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3BCB8-D5B0-4E47-8000-64BFF36CB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8000" y="119664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5440" y="119664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4236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8000" y="394236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5440" y="394236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98D58-3DAF-4C81-B2BF-4F5B8F1C14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6281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FA4B3-9CB7-4768-909C-7BEE20BD06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62812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731FA-A049-4F2D-89CD-96BF02B6F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10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196640"/>
            <a:ext cx="4210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2AB57-C58F-4214-B980-A65F10115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1364-BCB6-47E1-B4D7-F59D5C669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360" y="115560"/>
            <a:ext cx="5759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C156A-6B96-4F12-B99B-A3B597F04B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196640"/>
            <a:ext cx="4210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4236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987D2-8CB0-4B11-ACBF-D9CFA1DA7D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10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4236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8C430-B464-4ECE-BBB5-55BDDD04A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42360"/>
            <a:ext cx="862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1B6F5-36F3-42BA-9328-2E2CA2BF4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3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07396f"/>
              </a:gs>
              <a:gs pos="100000">
                <a:srgbClr val="0a4d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" name="Picture 3" descr="ppt内页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50560" y="1196640"/>
            <a:ext cx="862812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7D03-5348-4F6C-8F8F-C6ED3E307B4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93B0-BD4E-42CE-9E00-D13E603E818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1989000"/>
            <a:ext cx="734544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思维导图、概念图的理论与方法 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627280" y="4005360"/>
            <a:ext cx="46814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罗辉  四川农业大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教育部金教工程总体技术专家组成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教育部远程教育专家组成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中国职教学会信息化委员会常务理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luohui63@sohu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0B6E-32BD-4420-968D-2BB501703F3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8A42-1966-4686-9523-6A0D2A6CBAD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1222200" y="1795320"/>
            <a:ext cx="6653520" cy="1849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855aee"/>
              </a:gs>
              <a:gs pos="100000">
                <a:srgbClr val="5d3fa6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230480" y="4125960"/>
            <a:ext cx="6653160" cy="18241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fff99"/>
              </a:gs>
              <a:gs pos="100000">
                <a:srgbClr val="b2b26b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AutoShape 6"/>
          <p:cNvSpPr/>
          <p:nvPr/>
        </p:nvSpPr>
        <p:spPr>
          <a:xfrm flipV="1">
            <a:off x="1393920" y="1124280"/>
            <a:ext cx="6397560" cy="662040"/>
          </a:xfrm>
          <a:custGeom>
            <a:avLst/>
            <a:gdLst>
              <a:gd name="textAreaLeft" fmla="*/ 1098000 w 6397560"/>
              <a:gd name="textAreaRight" fmla="*/ 5299560 w 6397560"/>
              <a:gd name="textAreaTop" fmla="*/ 113400 h 662040"/>
              <a:gd name="textAreaBottom" fmla="*/ 54864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855aee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AutoShape 7"/>
          <p:cNvSpPr/>
          <p:nvPr/>
        </p:nvSpPr>
        <p:spPr>
          <a:xfrm flipV="1">
            <a:off x="1349280" y="3458160"/>
            <a:ext cx="6475680" cy="664920"/>
          </a:xfrm>
          <a:custGeom>
            <a:avLst/>
            <a:gdLst>
              <a:gd name="textAreaLeft" fmla="*/ 1111320 w 6475680"/>
              <a:gd name="textAreaRight" fmla="*/ 5364360 w 6475680"/>
              <a:gd name="textAreaTop" fmla="*/ 114120 h 664920"/>
              <a:gd name="textAreaBottom" fmla="*/ 550800 h 66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99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" name="Picture 8" descr="Picture4"/>
          <p:cNvPicPr/>
          <p:nvPr/>
        </p:nvPicPr>
        <p:blipFill>
          <a:blip r:embed="rId1"/>
          <a:stretch/>
        </p:blipFill>
        <p:spPr>
          <a:xfrm>
            <a:off x="1273320" y="1841400"/>
            <a:ext cx="676080" cy="57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Picture4"/>
          <p:cNvPicPr/>
          <p:nvPr/>
        </p:nvPicPr>
        <p:blipFill>
          <a:blip r:embed="rId2"/>
          <a:stretch/>
        </p:blipFill>
        <p:spPr>
          <a:xfrm>
            <a:off x="1278000" y="4167360"/>
            <a:ext cx="674640" cy="5727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10"/>
          <p:cNvSpPr/>
          <p:nvPr/>
        </p:nvSpPr>
        <p:spPr>
          <a:xfrm>
            <a:off x="1706400" y="158760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1706400" y="390384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1630440" y="221472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fff"/>
                </a:solidFill>
                <a:latin typeface="宋体"/>
              </a:rPr>
              <a:t>知识可视化是指应用视觉表征手段促进群体知识的传播和创新，其实质是将人们的个体知识以图解的手段表示出来，形成能够直接作用于人的感官的知识外在表现形式，从而促进知识的传播和创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1630440" y="451944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知识可视化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(Knowledge Visualization)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是将人的知识、态度、观点、情感等以图形方式准确而高效地表达出来，被受众正确重构，实现人与人之间的信息交流，从而促进知识在人群之间的传播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087640" y="159696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Times New Roman"/>
              </a:rPr>
              <a:t>北师大赵国庆博士对知识可视化的定义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2087640" y="391464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宋体"/>
              </a:rPr>
              <a:t>笔者对知识可视化的定义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7A94-7277-4921-BFB9-57A7AF20BDE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A695-BAA6-4117-B0F6-20355A58098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黑体"/>
              </a:rPr>
              <a:t>知识可视化两个重要工具</a:t>
            </a:r>
            <a:endParaRPr b="1" lang="en-US" sz="21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29" name="Group 4"/>
          <p:cNvGrpSpPr/>
          <p:nvPr/>
        </p:nvGrpSpPr>
        <p:grpSpPr>
          <a:xfrm>
            <a:off x="1474920" y="2708280"/>
            <a:ext cx="6284520" cy="1903320"/>
            <a:chOff x="1474920" y="2708280"/>
            <a:chExt cx="6284520" cy="1903320"/>
          </a:xfrm>
        </p:grpSpPr>
        <p:sp>
          <p:nvSpPr>
            <p:cNvPr id="130" name="AutoShape 5"/>
            <p:cNvSpPr/>
            <p:nvPr/>
          </p:nvSpPr>
          <p:spPr>
            <a:xfrm>
              <a:off x="1474920" y="2708280"/>
              <a:ext cx="3889080" cy="1903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00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" name="AutoShape 6"/>
            <p:cNvSpPr/>
            <p:nvPr/>
          </p:nvSpPr>
          <p:spPr>
            <a:xfrm>
              <a:off x="3870360" y="2708280"/>
              <a:ext cx="3889080" cy="1903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00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2" name="Rectangle 7"/>
          <p:cNvSpPr/>
          <p:nvPr/>
        </p:nvSpPr>
        <p:spPr>
          <a:xfrm rot="21475200">
            <a:off x="1692360" y="3213000"/>
            <a:ext cx="208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概念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Rectangle 8"/>
          <p:cNvSpPr/>
          <p:nvPr/>
        </p:nvSpPr>
        <p:spPr>
          <a:xfrm rot="21370200">
            <a:off x="4786200" y="3493800"/>
            <a:ext cx="20894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t" anchorCtr="1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思维导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A813-9DD0-4BB7-9B4C-554F63CC832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AutoShape 2"/>
          <p:cNvSpPr/>
          <p:nvPr/>
        </p:nvSpPr>
        <p:spPr>
          <a:xfrm flipH="1" rot="5400000">
            <a:off x="-2016360" y="2062800"/>
            <a:ext cx="4032360" cy="3929040"/>
          </a:xfrm>
          <a:custGeom>
            <a:avLst/>
            <a:gdLst>
              <a:gd name="textAreaLeft" fmla="*/ 360 w 4032360"/>
              <a:gd name="textAreaRight" fmla="*/ 403308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1952640" y="5013360"/>
            <a:ext cx="456408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思维导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2355840" y="3573360"/>
            <a:ext cx="459252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概念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1765440" y="2200320"/>
            <a:ext cx="482256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神奇的左右脑分工与知识可视化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Group 6"/>
          <p:cNvGrpSpPr/>
          <p:nvPr/>
        </p:nvGrpSpPr>
        <p:grpSpPr>
          <a:xfrm>
            <a:off x="1447920" y="2289240"/>
            <a:ext cx="380880" cy="380880"/>
            <a:chOff x="1447920" y="2289240"/>
            <a:chExt cx="380880" cy="380880"/>
          </a:xfrm>
        </p:grpSpPr>
        <p:sp>
          <p:nvSpPr>
            <p:cNvPr id="140" name="Oval 7"/>
            <p:cNvSpPr/>
            <p:nvPr/>
          </p:nvSpPr>
          <p:spPr>
            <a:xfrm>
              <a:off x="1447920" y="22892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Oval 8"/>
            <p:cNvSpPr/>
            <p:nvPr/>
          </p:nvSpPr>
          <p:spPr>
            <a:xfrm>
              <a:off x="1469520" y="23104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Oval 9"/>
            <p:cNvSpPr/>
            <p:nvPr/>
          </p:nvSpPr>
          <p:spPr>
            <a:xfrm>
              <a:off x="1488960" y="23302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Oval 10"/>
            <p:cNvSpPr/>
            <p:nvPr/>
          </p:nvSpPr>
          <p:spPr>
            <a:xfrm>
              <a:off x="1489320" y="23306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Oval 11"/>
            <p:cNvSpPr/>
            <p:nvPr/>
          </p:nvSpPr>
          <p:spPr>
            <a:xfrm>
              <a:off x="1508040" y="23493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Oval 12"/>
            <p:cNvSpPr/>
            <p:nvPr/>
          </p:nvSpPr>
          <p:spPr>
            <a:xfrm>
              <a:off x="1508760" y="23500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6" name="Group 13"/>
          <p:cNvGrpSpPr/>
          <p:nvPr/>
        </p:nvGrpSpPr>
        <p:grpSpPr>
          <a:xfrm>
            <a:off x="2050920" y="3649680"/>
            <a:ext cx="381240" cy="380880"/>
            <a:chOff x="2050920" y="3649680"/>
            <a:chExt cx="381240" cy="380880"/>
          </a:xfrm>
        </p:grpSpPr>
        <p:sp>
          <p:nvSpPr>
            <p:cNvPr id="147" name="Oval 14"/>
            <p:cNvSpPr/>
            <p:nvPr/>
          </p:nvSpPr>
          <p:spPr>
            <a:xfrm>
              <a:off x="2050920" y="364968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Oval 15"/>
            <p:cNvSpPr/>
            <p:nvPr/>
          </p:nvSpPr>
          <p:spPr>
            <a:xfrm>
              <a:off x="2072520" y="367092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Oval 16"/>
            <p:cNvSpPr/>
            <p:nvPr/>
          </p:nvSpPr>
          <p:spPr>
            <a:xfrm>
              <a:off x="2091960" y="369072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Oval 17"/>
            <p:cNvSpPr/>
            <p:nvPr/>
          </p:nvSpPr>
          <p:spPr>
            <a:xfrm>
              <a:off x="2092320" y="369108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" name="Oval 18"/>
            <p:cNvSpPr/>
            <p:nvPr/>
          </p:nvSpPr>
          <p:spPr>
            <a:xfrm>
              <a:off x="2111400" y="37098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" name="Oval 19"/>
            <p:cNvSpPr/>
            <p:nvPr/>
          </p:nvSpPr>
          <p:spPr>
            <a:xfrm>
              <a:off x="2112120" y="371052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3" name="Group 20"/>
          <p:cNvGrpSpPr/>
          <p:nvPr/>
        </p:nvGrpSpPr>
        <p:grpSpPr>
          <a:xfrm>
            <a:off x="1616040" y="5114880"/>
            <a:ext cx="380880" cy="380880"/>
            <a:chOff x="1616040" y="5114880"/>
            <a:chExt cx="380880" cy="380880"/>
          </a:xfrm>
        </p:grpSpPr>
        <p:sp>
          <p:nvSpPr>
            <p:cNvPr id="154" name="Oval 21"/>
            <p:cNvSpPr/>
            <p:nvPr/>
          </p:nvSpPr>
          <p:spPr>
            <a:xfrm>
              <a:off x="1616040" y="51148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" name="Oval 22"/>
            <p:cNvSpPr/>
            <p:nvPr/>
          </p:nvSpPr>
          <p:spPr>
            <a:xfrm>
              <a:off x="1637640" y="51361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6" name="Oval 23"/>
            <p:cNvSpPr/>
            <p:nvPr/>
          </p:nvSpPr>
          <p:spPr>
            <a:xfrm>
              <a:off x="1657080" y="515592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7" name="Oval 24"/>
            <p:cNvSpPr/>
            <p:nvPr/>
          </p:nvSpPr>
          <p:spPr>
            <a:xfrm>
              <a:off x="1657440" y="51562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Oval 25"/>
            <p:cNvSpPr/>
            <p:nvPr/>
          </p:nvSpPr>
          <p:spPr>
            <a:xfrm>
              <a:off x="1676160" y="51750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9" name="Oval 26"/>
            <p:cNvSpPr/>
            <p:nvPr/>
          </p:nvSpPr>
          <p:spPr>
            <a:xfrm>
              <a:off x="1676880" y="51757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160" name="Picture 27" descr=""/>
          <p:cNvPicPr/>
          <p:nvPr/>
        </p:nvPicPr>
        <p:blipFill>
          <a:blip r:embed="rId1"/>
          <a:stretch/>
        </p:blipFill>
        <p:spPr>
          <a:xfrm>
            <a:off x="0" y="3500280"/>
            <a:ext cx="13683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4C38-A13C-4A0B-A519-E99C5EBBB55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6244-FAED-4B5E-B6FA-D60CD5DBA49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概念图</a:t>
            </a:r>
            <a:r>
              <a:rPr b="1" lang="en-US" sz="2500" spc="-1" strike="noStrike">
                <a:solidFill>
                  <a:srgbClr val="ffffff"/>
                </a:solidFill>
                <a:latin typeface="黑体"/>
              </a:rPr>
              <a:t>(Concept Map)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22200" y="1527120"/>
            <a:ext cx="82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概念图是由美国康奈尔大学的诺瓦克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.D.Novak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博士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代开发的一种“能形象表达命题网络中一系列概念含义及其关系的图解”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187280" y="2852640"/>
            <a:ext cx="6624720" cy="1197720"/>
          </a:xfrm>
          <a:prstGeom prst="rect">
            <a:avLst/>
          </a:prstGeom>
          <a:noFill/>
          <a:ln w="82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图（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Concept Map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是用来组织和表征知识的工具。它通常将某一主题的有关概念置于圆圈或方框之中，然后用连线将相关的概念和命题连接，连线上标明两个概念之间的意义关系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诺瓦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45FC-1F71-40D9-8DE1-AFD658EFDC2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BF99-50B8-4E58-967C-8FB82D7A656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概念图的图表结构组成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560520" y="1916280"/>
            <a:ext cx="811512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F745-C470-49DA-942F-3536BEA1A4A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01AE-8E80-4F6F-9129-D96AB50F03D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概念图的价值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1219320" y="1868400"/>
            <a:ext cx="6653160" cy="11448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4ab1e4"/>
              </a:gs>
              <a:gs pos="100000">
                <a:srgbClr val="347c9f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1222200" y="3378240"/>
            <a:ext cx="6653520" cy="12747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855aee"/>
              </a:gs>
              <a:gs pos="100000">
                <a:srgbClr val="5d3fa6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1230480" y="5032440"/>
            <a:ext cx="6653160" cy="10317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fff99"/>
              </a:gs>
              <a:gs pos="100000">
                <a:srgbClr val="b2b26b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AutoShape 7"/>
          <p:cNvSpPr/>
          <p:nvPr/>
        </p:nvSpPr>
        <p:spPr>
          <a:xfrm flipV="1">
            <a:off x="1393920" y="2707200"/>
            <a:ext cx="6397560" cy="662040"/>
          </a:xfrm>
          <a:custGeom>
            <a:avLst/>
            <a:gdLst>
              <a:gd name="textAreaLeft" fmla="*/ 1098000 w 6397560"/>
              <a:gd name="textAreaRight" fmla="*/ 5299560 w 6397560"/>
              <a:gd name="textAreaTop" fmla="*/ 113400 h 662040"/>
              <a:gd name="textAreaBottom" fmla="*/ 54864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855aee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AutoShape 8"/>
          <p:cNvSpPr/>
          <p:nvPr/>
        </p:nvSpPr>
        <p:spPr>
          <a:xfrm flipV="1">
            <a:off x="1297080" y="1196640"/>
            <a:ext cx="6502320" cy="665280"/>
          </a:xfrm>
          <a:custGeom>
            <a:avLst/>
            <a:gdLst>
              <a:gd name="textAreaLeft" fmla="*/ 1115640 w 6502320"/>
              <a:gd name="textAreaRight" fmla="*/ 5386680 w 6502320"/>
              <a:gd name="textAreaTop" fmla="*/ 114120 h 665280"/>
              <a:gd name="textAreaBottom" fmla="*/ 551160 h 66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4ab1e4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9"/>
          <p:cNvSpPr/>
          <p:nvPr/>
        </p:nvSpPr>
        <p:spPr>
          <a:xfrm flipV="1">
            <a:off x="1349280" y="4364640"/>
            <a:ext cx="6475680" cy="664920"/>
          </a:xfrm>
          <a:custGeom>
            <a:avLst/>
            <a:gdLst>
              <a:gd name="textAreaLeft" fmla="*/ 1111320 w 6475680"/>
              <a:gd name="textAreaRight" fmla="*/ 5364360 w 6475680"/>
              <a:gd name="textAreaTop" fmla="*/ 114120 h 664920"/>
              <a:gd name="textAreaBottom" fmla="*/ 550800 h 66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99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10" descr="Picture4"/>
          <p:cNvPicPr/>
          <p:nvPr/>
        </p:nvPicPr>
        <p:blipFill>
          <a:blip r:embed="rId1"/>
          <a:stretch/>
        </p:blipFill>
        <p:spPr>
          <a:xfrm>
            <a:off x="1276200" y="1911240"/>
            <a:ext cx="675000" cy="574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Picture4"/>
          <p:cNvPicPr/>
          <p:nvPr/>
        </p:nvPicPr>
        <p:blipFill>
          <a:blip r:embed="rId2"/>
          <a:stretch/>
        </p:blipFill>
        <p:spPr>
          <a:xfrm>
            <a:off x="1273320" y="3424320"/>
            <a:ext cx="676080" cy="57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Picture4"/>
          <p:cNvPicPr/>
          <p:nvPr/>
        </p:nvPicPr>
        <p:blipFill>
          <a:blip r:embed="rId3"/>
          <a:stretch/>
        </p:blipFill>
        <p:spPr>
          <a:xfrm>
            <a:off x="1278000" y="5073480"/>
            <a:ext cx="674640" cy="57312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13"/>
          <p:cNvSpPr/>
          <p:nvPr/>
        </p:nvSpPr>
        <p:spPr>
          <a:xfrm>
            <a:off x="1706400" y="164160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AutoShape 14"/>
          <p:cNvSpPr/>
          <p:nvPr/>
        </p:nvSpPr>
        <p:spPr>
          <a:xfrm>
            <a:off x="1706400" y="317016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15"/>
          <p:cNvSpPr/>
          <p:nvPr/>
        </p:nvSpPr>
        <p:spPr>
          <a:xfrm>
            <a:off x="1706400" y="480996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1630440" y="225108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宋体"/>
              </a:rPr>
              <a:t>-</a:t>
            </a:r>
            <a:r>
              <a:rPr b="1" lang="zh-CN" sz="1600" spc="-1" strike="noStrike">
                <a:solidFill>
                  <a:srgbClr val="feffff"/>
                </a:solidFill>
                <a:latin typeface="宋体"/>
              </a:rPr>
              <a:t>概念图可以将人脑中的隐性知识显性化、可视化，是对大脑存储信息方式的最好模拟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1630440" y="364500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宋体"/>
              </a:rPr>
              <a:t>-</a:t>
            </a:r>
            <a:r>
              <a:rPr b="1" lang="zh-CN" sz="1600" spc="-1" strike="noStrike">
                <a:solidFill>
                  <a:srgbClr val="feffff"/>
                </a:solidFill>
                <a:latin typeface="宋体"/>
              </a:rPr>
              <a:t>概念图能够以直观形象的方式表达知识结构，还能有效呈现思考的过程及知识的关联。因此，可以通过修正学习者的知识结构而帮助学习者进行有意义学习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1630440" y="532296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宋体"/>
              </a:rPr>
              <a:t>-</a:t>
            </a:r>
            <a:r>
              <a:rPr b="1" lang="zh-CN" sz="1600" spc="-1" strike="noStrike">
                <a:solidFill>
                  <a:srgbClr val="feffff"/>
                </a:solidFill>
                <a:latin typeface="宋体"/>
              </a:rPr>
              <a:t>概念图常用于严密复杂的逻辑关系表达；那些用大段文字难以描述清楚的复杂逻辑关系，却往往能够用概念图轻松表达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2087640" y="164160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77777"/>
                </a:solidFill>
                <a:latin typeface="宋体"/>
              </a:rPr>
              <a:t>概念图是对人脑存储信息方式的最好模拟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2087640" y="317988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宋体"/>
              </a:rPr>
              <a:t>概念图能有效呈现思考过程与知识关联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2087640" y="482112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宋体"/>
              </a:rPr>
              <a:t>概念图擅长描述复杂的逻辑关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3790-1C88-4FF8-93CA-B8E8C6992F1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B947-A354-43AA-98CD-B0D57CFE442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概念图应用领域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82012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6089-5C94-4900-9881-7A57836B60E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F88A-D0ED-44F4-83E6-AC971B574BF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概念图示例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19136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C6FC-5FA2-4747-B396-DEA51CAE01E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AutoShape 2"/>
          <p:cNvSpPr/>
          <p:nvPr/>
        </p:nvSpPr>
        <p:spPr>
          <a:xfrm flipH="1" rot="5400000">
            <a:off x="-2016360" y="2062800"/>
            <a:ext cx="4032360" cy="3929040"/>
          </a:xfrm>
          <a:custGeom>
            <a:avLst/>
            <a:gdLst>
              <a:gd name="textAreaLeft" fmla="*/ 360 w 4032360"/>
              <a:gd name="textAreaRight" fmla="*/ 403308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952640" y="5013360"/>
            <a:ext cx="456408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思维导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355840" y="3573360"/>
            <a:ext cx="452124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概念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1765440" y="2200320"/>
            <a:ext cx="467820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神奇的左右脑分工与知识可视化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4" name="Group 6"/>
          <p:cNvGrpSpPr/>
          <p:nvPr/>
        </p:nvGrpSpPr>
        <p:grpSpPr>
          <a:xfrm>
            <a:off x="1447920" y="2289240"/>
            <a:ext cx="380880" cy="380880"/>
            <a:chOff x="1447920" y="2289240"/>
            <a:chExt cx="380880" cy="380880"/>
          </a:xfrm>
        </p:grpSpPr>
        <p:sp>
          <p:nvSpPr>
            <p:cNvPr id="205" name="Oval 7"/>
            <p:cNvSpPr/>
            <p:nvPr/>
          </p:nvSpPr>
          <p:spPr>
            <a:xfrm>
              <a:off x="1447920" y="22892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6" name="Oval 8"/>
            <p:cNvSpPr/>
            <p:nvPr/>
          </p:nvSpPr>
          <p:spPr>
            <a:xfrm>
              <a:off x="1469520" y="23104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7" name="Oval 9"/>
            <p:cNvSpPr/>
            <p:nvPr/>
          </p:nvSpPr>
          <p:spPr>
            <a:xfrm>
              <a:off x="1488960" y="23302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8" name="Oval 10"/>
            <p:cNvSpPr/>
            <p:nvPr/>
          </p:nvSpPr>
          <p:spPr>
            <a:xfrm>
              <a:off x="1489320" y="23306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9" name="Oval 11"/>
            <p:cNvSpPr/>
            <p:nvPr/>
          </p:nvSpPr>
          <p:spPr>
            <a:xfrm>
              <a:off x="1508040" y="23493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0" name="Oval 12"/>
            <p:cNvSpPr/>
            <p:nvPr/>
          </p:nvSpPr>
          <p:spPr>
            <a:xfrm>
              <a:off x="1508760" y="23500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1" name="Group 13"/>
          <p:cNvGrpSpPr/>
          <p:nvPr/>
        </p:nvGrpSpPr>
        <p:grpSpPr>
          <a:xfrm>
            <a:off x="2050920" y="3649680"/>
            <a:ext cx="381240" cy="380880"/>
            <a:chOff x="2050920" y="3649680"/>
            <a:chExt cx="381240" cy="380880"/>
          </a:xfrm>
        </p:grpSpPr>
        <p:sp>
          <p:nvSpPr>
            <p:cNvPr id="212" name="Oval 14"/>
            <p:cNvSpPr/>
            <p:nvPr/>
          </p:nvSpPr>
          <p:spPr>
            <a:xfrm>
              <a:off x="2050920" y="364968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" name="Oval 15"/>
            <p:cNvSpPr/>
            <p:nvPr/>
          </p:nvSpPr>
          <p:spPr>
            <a:xfrm>
              <a:off x="2072520" y="367092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4" name="Oval 16"/>
            <p:cNvSpPr/>
            <p:nvPr/>
          </p:nvSpPr>
          <p:spPr>
            <a:xfrm>
              <a:off x="2091960" y="369072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5" name="Oval 17"/>
            <p:cNvSpPr/>
            <p:nvPr/>
          </p:nvSpPr>
          <p:spPr>
            <a:xfrm>
              <a:off x="2092320" y="369108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6" name="Oval 18"/>
            <p:cNvSpPr/>
            <p:nvPr/>
          </p:nvSpPr>
          <p:spPr>
            <a:xfrm>
              <a:off x="2111400" y="37098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7" name="Oval 19"/>
            <p:cNvSpPr/>
            <p:nvPr/>
          </p:nvSpPr>
          <p:spPr>
            <a:xfrm>
              <a:off x="2112120" y="371052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8" name="Group 20"/>
          <p:cNvGrpSpPr/>
          <p:nvPr/>
        </p:nvGrpSpPr>
        <p:grpSpPr>
          <a:xfrm>
            <a:off x="1616040" y="5114880"/>
            <a:ext cx="380880" cy="380880"/>
            <a:chOff x="1616040" y="5114880"/>
            <a:chExt cx="380880" cy="380880"/>
          </a:xfrm>
        </p:grpSpPr>
        <p:sp>
          <p:nvSpPr>
            <p:cNvPr id="219" name="Oval 21"/>
            <p:cNvSpPr/>
            <p:nvPr/>
          </p:nvSpPr>
          <p:spPr>
            <a:xfrm>
              <a:off x="1616040" y="51148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" name="Oval 22"/>
            <p:cNvSpPr/>
            <p:nvPr/>
          </p:nvSpPr>
          <p:spPr>
            <a:xfrm>
              <a:off x="1637640" y="51361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" name="Oval 23"/>
            <p:cNvSpPr/>
            <p:nvPr/>
          </p:nvSpPr>
          <p:spPr>
            <a:xfrm>
              <a:off x="1657080" y="515592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" name="Oval 24"/>
            <p:cNvSpPr/>
            <p:nvPr/>
          </p:nvSpPr>
          <p:spPr>
            <a:xfrm>
              <a:off x="1657440" y="51562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Oval 25"/>
            <p:cNvSpPr/>
            <p:nvPr/>
          </p:nvSpPr>
          <p:spPr>
            <a:xfrm>
              <a:off x="1676160" y="51750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Oval 26"/>
            <p:cNvSpPr/>
            <p:nvPr/>
          </p:nvSpPr>
          <p:spPr>
            <a:xfrm>
              <a:off x="1676880" y="51757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225" name="Picture 27" descr=""/>
          <p:cNvPicPr/>
          <p:nvPr/>
        </p:nvPicPr>
        <p:blipFill>
          <a:blip r:embed="rId1"/>
          <a:stretch/>
        </p:blipFill>
        <p:spPr>
          <a:xfrm>
            <a:off x="0" y="3500280"/>
            <a:ext cx="13683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B28C-D3AE-45FA-A906-C7942391B97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3B21-33DB-4CFB-9F77-564FA7A4AB2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思维导图（</a:t>
            </a:r>
            <a:r>
              <a:rPr b="1" lang="en-US" sz="2500" spc="-1" strike="noStrike">
                <a:solidFill>
                  <a:srgbClr val="ffffff"/>
                </a:solidFill>
                <a:latin typeface="黑体"/>
              </a:rPr>
              <a:t>Mind Map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250920" y="12682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思维导图，又名“心智图”，创始人是英国人托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巴赞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ny Buza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826920" y="2997360"/>
            <a:ext cx="7345440" cy="32986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6"/>
          <p:cNvSpPr/>
          <p:nvPr/>
        </p:nvSpPr>
        <p:spPr>
          <a:xfrm>
            <a:off x="250920" y="198900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从一个中心主题开始，建立与其密切相关的一级概念主题，每个一级主题下面包含若干个二级主题；依次类推，构成一个树状结构，称为思维导图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E4EE-84FB-4752-8A89-D38CE861A2C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AutoShape 4"/>
          <p:cNvSpPr/>
          <p:nvPr/>
        </p:nvSpPr>
        <p:spPr>
          <a:xfrm flipH="1" rot="5400000">
            <a:off x="-2016360" y="2062800"/>
            <a:ext cx="4032360" cy="3929040"/>
          </a:xfrm>
          <a:custGeom>
            <a:avLst/>
            <a:gdLst>
              <a:gd name="textAreaLeft" fmla="*/ 360 w 4032360"/>
              <a:gd name="textAreaRight" fmla="*/ 403308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1952640" y="5013360"/>
            <a:ext cx="456408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思维导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2355840" y="3573360"/>
            <a:ext cx="459252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概念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1765440" y="2200320"/>
            <a:ext cx="467820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神奇的左右脑分工与知识可视化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6" name="Group 10"/>
          <p:cNvGrpSpPr/>
          <p:nvPr/>
        </p:nvGrpSpPr>
        <p:grpSpPr>
          <a:xfrm>
            <a:off x="1447920" y="2289240"/>
            <a:ext cx="380880" cy="380880"/>
            <a:chOff x="1447920" y="2289240"/>
            <a:chExt cx="380880" cy="380880"/>
          </a:xfrm>
        </p:grpSpPr>
        <p:sp>
          <p:nvSpPr>
            <p:cNvPr id="57" name="Oval 11"/>
            <p:cNvSpPr/>
            <p:nvPr/>
          </p:nvSpPr>
          <p:spPr>
            <a:xfrm>
              <a:off x="1447920" y="22892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" name="Oval 12"/>
            <p:cNvSpPr/>
            <p:nvPr/>
          </p:nvSpPr>
          <p:spPr>
            <a:xfrm>
              <a:off x="1469520" y="23104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1488960" y="23302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Oval 14"/>
            <p:cNvSpPr/>
            <p:nvPr/>
          </p:nvSpPr>
          <p:spPr>
            <a:xfrm>
              <a:off x="1489320" y="23306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Oval 15"/>
            <p:cNvSpPr/>
            <p:nvPr/>
          </p:nvSpPr>
          <p:spPr>
            <a:xfrm>
              <a:off x="1508040" y="23493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Oval 16"/>
            <p:cNvSpPr/>
            <p:nvPr/>
          </p:nvSpPr>
          <p:spPr>
            <a:xfrm>
              <a:off x="1508760" y="23500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3" name="Group 24"/>
          <p:cNvGrpSpPr/>
          <p:nvPr/>
        </p:nvGrpSpPr>
        <p:grpSpPr>
          <a:xfrm>
            <a:off x="2050920" y="3649680"/>
            <a:ext cx="381240" cy="380880"/>
            <a:chOff x="2050920" y="3649680"/>
            <a:chExt cx="381240" cy="380880"/>
          </a:xfrm>
        </p:grpSpPr>
        <p:sp>
          <p:nvSpPr>
            <p:cNvPr id="64" name="Oval 25"/>
            <p:cNvSpPr/>
            <p:nvPr/>
          </p:nvSpPr>
          <p:spPr>
            <a:xfrm>
              <a:off x="2050920" y="364968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Oval 26"/>
            <p:cNvSpPr/>
            <p:nvPr/>
          </p:nvSpPr>
          <p:spPr>
            <a:xfrm>
              <a:off x="2072520" y="367092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2091960" y="369072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2092320" y="369108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2111400" y="37098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Oval 30"/>
            <p:cNvSpPr/>
            <p:nvPr/>
          </p:nvSpPr>
          <p:spPr>
            <a:xfrm>
              <a:off x="2112120" y="371052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0" name="Group 31"/>
          <p:cNvGrpSpPr/>
          <p:nvPr/>
        </p:nvGrpSpPr>
        <p:grpSpPr>
          <a:xfrm>
            <a:off x="1616040" y="5114880"/>
            <a:ext cx="380880" cy="380880"/>
            <a:chOff x="1616040" y="5114880"/>
            <a:chExt cx="380880" cy="380880"/>
          </a:xfrm>
        </p:grpSpPr>
        <p:sp>
          <p:nvSpPr>
            <p:cNvPr id="71" name="Oval 32"/>
            <p:cNvSpPr/>
            <p:nvPr/>
          </p:nvSpPr>
          <p:spPr>
            <a:xfrm>
              <a:off x="1616040" y="51148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Oval 33"/>
            <p:cNvSpPr/>
            <p:nvPr/>
          </p:nvSpPr>
          <p:spPr>
            <a:xfrm>
              <a:off x="1637640" y="51361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" name="Oval 34"/>
            <p:cNvSpPr/>
            <p:nvPr/>
          </p:nvSpPr>
          <p:spPr>
            <a:xfrm>
              <a:off x="1657080" y="515592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1657440" y="51562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1676160" y="51750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1676880" y="51757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77" name="Picture 45" descr=""/>
          <p:cNvPicPr/>
          <p:nvPr/>
        </p:nvPicPr>
        <p:blipFill>
          <a:blip r:embed="rId1"/>
          <a:stretch/>
        </p:blipFill>
        <p:spPr>
          <a:xfrm>
            <a:off x="0" y="3500280"/>
            <a:ext cx="1368360" cy="1116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0360" y="123480"/>
            <a:ext cx="3981600" cy="65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提纲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1DC6-8406-4DB9-9039-6A00AB40421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2B5D-0D0F-4BF8-B3A2-92F190F28E6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755640" y="544500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思维导图是一种非常有用的图形技术，是打开人类思维的万能钥匙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托尼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·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巴赞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25" descr=""/>
          <p:cNvPicPr/>
          <p:nvPr/>
        </p:nvPicPr>
        <p:blipFill>
          <a:blip r:embed="rId1"/>
          <a:stretch/>
        </p:blipFill>
        <p:spPr>
          <a:xfrm>
            <a:off x="826920" y="1279440"/>
            <a:ext cx="7054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0A77-BF62-415E-8793-489AA53176B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AE03-933E-4E95-AA56-3312A121608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思维导图赋予人类“鹰眼”的强大能力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7438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6C6C-BD93-4FD6-BF5D-030D40282D5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思维导图有助于人们提高分类思维水平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62812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分类法是人类科学认识世界最重要的基本方法之一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正确的分类思维是人们正确做事的基本前提之一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良好的分类思维习惯是提高思维品质和创新思维能力的途径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自觉的分类思维是提高工作效率的保障手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思维导图一级节点：对复杂系统分类的几个维度（属性）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二级节点：具有同一属性对象的集合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二级节点：具有同一亚属性子对象的集合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80D9-A4AE-4FBE-9560-715FE97FF12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9E00-7469-420E-A2C3-EB2C4D1FFD2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思维导图的应用场合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172720" cy="40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8928-02A5-4662-A42C-507C88E87ED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D379-DD69-4B77-ABBF-8A750F9759A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思维导图示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5553000" cy="50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18D5-6CA7-4DF0-9326-E0838BFDD08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A3F1-ED9F-42F8-9E08-EF0CB038A81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思维导图示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2411280" y="1125360"/>
            <a:ext cx="4038840" cy="52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F5AD-786A-4B34-94B4-A3523579E54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2234-5245-4E06-B59F-E659079A1EF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447920" y="1405080"/>
            <a:ext cx="6184800" cy="432900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1619280" y="1557360"/>
            <a:ext cx="5908680" cy="13510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4ea7ea"/>
              </a:gs>
              <a:gs pos="100000">
                <a:srgbClr val="daec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1547640" y="2014560"/>
            <a:ext cx="646200" cy="419040"/>
          </a:xfrm>
          <a:prstGeom prst="rightArrow">
            <a:avLst>
              <a:gd name="adj1" fmla="val 50000"/>
              <a:gd name="adj2" fmla="val 6425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1619280" y="2919240"/>
            <a:ext cx="5908680" cy="13510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cc99ff"/>
              </a:gs>
              <a:gs pos="100000">
                <a:srgbClr val="f4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1547640" y="3386160"/>
            <a:ext cx="646200" cy="419040"/>
          </a:xfrm>
          <a:prstGeom prst="rightArrow">
            <a:avLst>
              <a:gd name="adj1" fmla="val 50000"/>
              <a:gd name="adj2" fmla="val 6425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AutoShape 9"/>
          <p:cNvSpPr/>
          <p:nvPr/>
        </p:nvSpPr>
        <p:spPr>
          <a:xfrm>
            <a:off x="1619280" y="4224240"/>
            <a:ext cx="5908680" cy="13510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93c052"/>
              </a:gs>
              <a:gs pos="100000">
                <a:srgbClr val="e8f2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10"/>
          <p:cNvSpPr/>
          <p:nvPr/>
        </p:nvSpPr>
        <p:spPr>
          <a:xfrm>
            <a:off x="1547640" y="4681440"/>
            <a:ext cx="646200" cy="419040"/>
          </a:xfrm>
          <a:prstGeom prst="rightArrow">
            <a:avLst>
              <a:gd name="adj1" fmla="val 50000"/>
              <a:gd name="adj2" fmla="val 6425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340000" y="4581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具体的实践应用中，可以将两者“整合”起来，为改进人类的学习和提高绩效做出更大贡献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2340000" y="328464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无论是概念图还是思维导图，都能帮助人直观地思维和记忆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同时开发右半脑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2411280" y="1989000"/>
            <a:ext cx="488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爱因斯坦说过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天才的思维是直观的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A4C0-5B8E-4242-82FC-2F46F9CA7EC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28180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黑体"/>
              </a:rPr>
              <a:t>把思维导图概念图变成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</a:rPr>
              <a:t>人人工具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”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</a:rPr>
              <a:t>我们共同的事业理想</a:t>
            </a:r>
            <a:endParaRPr b="1" lang="en-US" sz="21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7921440" cy="28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"/>
              </a:rPr>
              <a:t>推广普及思维导图和概念图应用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"/>
              </a:rPr>
              <a:t>提高我们的工作学习质量与效率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"/>
              </a:rPr>
              <a:t>提升民族的创新能力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75A9-F90A-478B-889C-03BA0AAEB5D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WordArt 9"/>
          <p:cNvSpPr txBox="1"/>
          <p:nvPr/>
        </p:nvSpPr>
        <p:spPr>
          <a:xfrm>
            <a:off x="2050920" y="3573360"/>
            <a:ext cx="48024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00ff00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00ff00"/>
                  </a:gs>
                </a:gsLst>
                <a:lin ang="0"/>
              </a:gra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3791-3FE4-40AA-B94C-40E42E640AC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2308-0A3F-4525-8A8D-F7E948BBA7D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神奇的左右脑分工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82" name="Picture 4" descr="左右脑分工_修改版"/>
          <p:cNvPicPr/>
          <p:nvPr/>
        </p:nvPicPr>
        <p:blipFill>
          <a:blip r:embed="rId1"/>
          <a:srcRect l="0" t="5492" r="0" b="5492"/>
          <a:stretch/>
        </p:blipFill>
        <p:spPr>
          <a:xfrm>
            <a:off x="250920" y="1084320"/>
            <a:ext cx="885816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8EF2-8ABB-4EA8-A7D5-A88B5ABFB7B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EC64-37EA-40A4-A559-9226A099BB3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右脑的专长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86" name="Picture 4" descr="右脑的特长"/>
          <p:cNvPicPr/>
          <p:nvPr/>
        </p:nvPicPr>
        <p:blipFill>
          <a:blip r:embed="rId1"/>
          <a:stretch/>
        </p:blipFill>
        <p:spPr>
          <a:xfrm>
            <a:off x="971640" y="1557360"/>
            <a:ext cx="7453080" cy="44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7024-DFBA-40E9-8B47-7D0B617462B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1034-1552-43D4-8570-3648D84D3BF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从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用进废退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观点看人脑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985080" cy="498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F018-EA6E-4019-B0CE-C8A59971BB4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2BEB-A0BE-422F-8C6F-F17D458EC7F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小测试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左脑的认知加工效率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94" name="Picture 4" descr="2"/>
          <p:cNvPicPr/>
          <p:nvPr/>
        </p:nvPicPr>
        <p:blipFill>
          <a:blip r:embed="rId1"/>
          <a:stretch/>
        </p:blipFill>
        <p:spPr>
          <a:xfrm>
            <a:off x="971640" y="2637000"/>
            <a:ext cx="6875280" cy="3493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539640" y="152712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格中的数据是一组学生的三科考试成绩，请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秒钟，从表格中找出每科得分最高的学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时开始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4105-ACB9-46F2-A85A-84034C484A0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09FC-87D4-4277-B87F-581C03ADE35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小测试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右脑的认知加工效率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99" name="Picture 4" descr="2"/>
          <p:cNvPicPr/>
          <p:nvPr/>
        </p:nvPicPr>
        <p:blipFill>
          <a:blip r:embed="rId1"/>
          <a:stretch/>
        </p:blipFill>
        <p:spPr>
          <a:xfrm>
            <a:off x="1116000" y="2852640"/>
            <a:ext cx="7345440" cy="34988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539640" y="152712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前面的表格数据转换成图形，同样请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秒钟，从图中找出每科得分最高的学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时开始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0104-7B5C-452D-8780-5CA0E12A4EB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37FB-5D8E-4A92-A874-F1D5F3BDDC3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提倡全脑思维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4895640" cy="47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8498-C020-4ACB-BF18-F0D96295FB0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757B-2EE5-441E-A15D-C8F7B2B71A1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知识可视化的价值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促进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全脑思维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6120000" cy="29923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5"/>
          <p:cNvSpPr/>
          <p:nvPr/>
        </p:nvSpPr>
        <p:spPr>
          <a:xfrm>
            <a:off x="1258920" y="1268280"/>
            <a:ext cx="6384960" cy="1224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933"/>
              </a:gs>
              <a:gs pos="50000">
                <a:srgbClr val="fdba10"/>
              </a:gs>
              <a:gs pos="100000">
                <a:srgbClr val="ff9933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1308240" y="1370160"/>
            <a:ext cx="6238800" cy="1049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50000">
                <a:srgbClr val="ffffff"/>
              </a:gs>
              <a:gs pos="100000">
                <a:srgbClr val="d2d2d2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PMingLiU"/>
              </a:rPr>
              <a:t>     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知识可视化将认知对象同时以图、文形式表达，可以有效促进全脑思维，提升思维效率和品质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3:29:06Z</dcterms:created>
  <dc:creator>YN</dc:creator>
  <dc:description/>
  <dc:language>en-US</dc:language>
  <cp:lastModifiedBy>jhkou</cp:lastModifiedBy>
  <dcterms:modified xsi:type="dcterms:W3CDTF">2013-02-23T08:00:47Z</dcterms:modified>
  <cp:revision>66</cp:revision>
  <dc:subject/>
  <dc:title>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2052</vt:r8>
  </property>
  <property fmtid="{D5CDD505-2E9C-101B-9397-08002B2CF9AE}" pid="3" name="Version">
    <vt:r8>1</vt:r8>
  </property>
</Properties>
</file>