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B234-1943-4454-BC7F-EECD42C2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F00C-7882-445A-A355-9C97EF8D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C00D-04B9-4845-B7CF-F4219417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266B-22D6-4E17-9349-2CDFB380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D210-3E4C-4B4A-8419-91ECABE9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E501-8B9F-49ED-A9C7-AD57869E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E26E-F7D8-4942-9E2F-5C359E8C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4413-271A-4863-9FE4-4C314B7F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5EFA-176A-4FA8-8274-1EDBD4DF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505D-0439-4F50-919A-4E803728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CAE1-2D41-4A79-A20F-B3481110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E66-E407-4186-80CF-E83E31F7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B932-6D28-42E6-A0D8-674343AC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8217-1052-4993-BBA1-1E1F55D0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37A2-66CC-4393-9258-ADB95FA7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3E25-C76E-4094-9E91-1FAE8565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6B00-60E8-491F-8FA2-789A615D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3DC-941F-46AF-A259-3625780F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6D42-100F-4688-A36F-0B4E5E3D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532C-2274-46FA-B1C9-78C84232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B3BB-C9AE-43CE-86D4-24327A3D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A12A-77BA-4245-9C8E-E62C4DFE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8A2A-E7D7-4117-95AD-D560BD09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AC8-E0D1-4934-8846-0E1AEF1E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1321-7BCC-4565-A0D7-390D3CE4BA1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0D1F-0E90-4A60-9FAB-8F3A5ED548C5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Valors ocupacion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ls valors ocupacionals són les expectatives positives que tenim de la nostra feina, és a dir, tot allò que els produirà satisfacció d'una ocupació. Alguns dels valors ocupacionals són: seguretat econòmica, estabilitat laboral, relacions interpersonals, realització personal, èxit, responsabilitat, disponibilitat geogràfica, disponibilitat horària, desig de promoció i aspiracions econòmiques,..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23:54:03Z</dcterms:created>
  <dc:creator>pc</dc:creator>
  <dc:description/>
  <dc:language>en-US</dc:language>
  <cp:lastModifiedBy>pc</cp:lastModifiedBy>
  <dcterms:modified xsi:type="dcterms:W3CDTF">2013-01-08T23:56:05Z</dcterms:modified>
  <cp:revision>1</cp:revision>
  <dc:subject/>
  <dc:title>Valors ocupacionals</dc:title>
</cp:coreProperties>
</file>