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E28-75EF-4310-871A-15FD4258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8F2-477C-43AD-ABE4-A500188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FBE-CB26-4EB7-A775-74E1FCE7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BDE-1355-4276-B35A-F6FAC556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100F-5A8A-4543-98F1-21B8BF24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DEA-6757-4650-B12C-907DA60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29E2-3F9D-4923-A180-8C1C12F8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22A0-4B32-4F5B-8D7E-5C3EE52D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45A2-849E-40C5-A1CE-B7FA512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EE06-4D69-4B14-8817-4BDB7A3A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6963-58A5-439D-8FAD-6C59631B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682-A15F-4590-89ED-87FC2801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5EB2-0295-49A7-BE26-8DC29C3B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BF0-0DBA-4DD2-900D-6EAC452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2B21-69DF-49D1-BA77-0F7C27F9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96B-926A-4567-ACFA-6954392C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B420-1B32-4BFC-A49B-32AE32DD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17A-4181-414A-B564-C949AA4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470-C7B0-46C5-A29B-B653317A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28F-85E8-4441-8B87-7BDBE93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347-70FB-4BD7-BEB0-3963C716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BF9-F1D4-4986-B1CE-102517DA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0B2-EE3B-4C6B-8E47-86D53AAF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942-0008-4753-9688-4199013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F259-6899-4140-B282-C3DCD89A52D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2A18-FAA7-4E96-B6CF-7E969EBA2A8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alors ocupac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s valors ocupacionals són les expectatives positives que tenim de la nostra feina, és a dir, tot allò que els produirà satisfacció d'una ocupació. Alguns dels valors ocupacionals són: seguretat econòmica, estabilitat laboral, relacions interpersonals, realització personal, èxit, responsabilitat, disponibilitat geogràfica, disponibilitat horària, desig de promoció i aspiracions econòmiques,..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4:03Z</dcterms:created>
  <dc:creator>pc</dc:creator>
  <dc:description/>
  <dc:language>en-US</dc:language>
  <cp:lastModifiedBy>pc</cp:lastModifiedBy>
  <dcterms:modified xsi:type="dcterms:W3CDTF">2013-01-08T23:56:05Z</dcterms:modified>
  <cp:revision>1</cp:revision>
  <dc:subject/>
  <dc:title>Valors ocupacionals</dc:title>
</cp:coreProperties>
</file>