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607-2D10-4197-B63F-C12046A7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022-3346-4AFA-A495-4990A090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911-D404-4130-9390-BAB5216E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CE4-6AB3-4E33-B8C1-1BDF2A04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88C6-D094-4803-94D3-E0563F8C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8B2D-DFFE-4325-9BB3-0A3AA0D3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6D81-664C-4AF7-A46B-0A9D7D0A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1C61-2515-49BF-813A-F3F2A1A4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CC9E-D5CD-40C4-9537-74FAC903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5030-5C70-413D-A881-391841E2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1D85-06D0-4D8A-8651-A42DA039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B2F-D6A6-46F0-9617-59E24987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AF8D-2442-4B86-B842-3FE2EAB6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A7DB-931D-4EBB-963E-72DD06B7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DAF0-8BAF-46D5-BFA2-F85C3E06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95F7-15BA-43B5-AFC6-4B4FEFFD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CE41-5E92-47DC-A3B5-AC058376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4C2-9131-4C58-8644-F0F4B9C8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4FB-1779-485D-A2B6-6D9B8998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69A-4A5E-407D-84C7-0FCBCAF0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2D8-2208-49C9-8C5B-6ACC5BE5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4E4-69BD-422C-B7F1-1B976284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E96-17EF-41BA-B65C-E0597828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857-91F1-40B1-8DEE-FFF1A6D7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4590-DE4B-4534-8F92-AEBEA82AE5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CD2F-9BF1-4770-AADA-3F8DCF372D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400" spc="-1" strike="noStrike">
                <a:solidFill>
                  <a:srgbClr val="dbbd71"/>
                </a:solidFill>
                <a:latin typeface="Arial"/>
              </a:rPr>
              <a:t>Interesso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Els interessos són les preferències que tenim per a determinats àmbits i activitats. Per exemple, quan a una persona li agrada un determinat esport diem que aquesta persona té interès per aquest espor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39:06Z</dcterms:created>
  <dc:creator>pc</dc:creator>
  <dc:description/>
  <dc:language>en-US</dc:language>
  <cp:lastModifiedBy>pc</cp:lastModifiedBy>
  <dcterms:modified xsi:type="dcterms:W3CDTF">2013-01-08T23:47:04Z</dcterms:modified>
  <cp:revision>1</cp:revision>
  <dc:subject/>
  <dc:title>Interessos</dc:title>
</cp:coreProperties>
</file>