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50DB-F41D-4261-93D0-FB44C535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E74-BFAD-48BA-8AF3-B96859A9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D295-1B95-4DA0-9933-7AD9470D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1414-F26B-4F95-A00A-4ED74D0D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8443-8AB6-4A79-B3DA-AD8D85F6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B935-239B-4904-A4BA-8F3CA017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F256-3A67-4E03-882A-E1D06FEB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7B5C-4F9C-472C-8A79-12F94F8E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E179-8D79-43B6-8154-E33A1486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6A1B-1AE3-41B2-9F93-87CB75BC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62C3-7834-4B47-BE1D-65A20992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A353-22A9-43D5-BB90-DFF8CC70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FCB4-5728-4A9C-96C0-1C49D722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1D36-0D0D-408F-837B-3AB26BD9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03FD-3BE9-4C4D-A5A4-2DBA881F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C541-D012-40DD-9C63-E6767D22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894C-125E-42D1-8662-E218695C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D30-73F6-482C-B6C6-EC09317D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BD11-41E7-4020-B116-E4A503C6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217-5F86-4F7C-AF49-7CA29B09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C565-8CB1-4A8F-899E-FF268999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A22-A0CF-490C-856D-5061669F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8EE-8616-462C-B1DB-95006493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2AB0-C3FA-476D-839F-99847E32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04DA-8FE9-4D61-A093-DCA10FFC56F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3961-7D4F-489F-A8E3-B766D3F593A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5400" spc="-1" strike="noStrike">
                <a:solidFill>
                  <a:srgbClr val="dbbd71"/>
                </a:solidFill>
                <a:latin typeface="Arial"/>
              </a:rPr>
              <a:t>Interesso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Els interessos són les preferències que tenim per a determinats àmbits i activitats. Per exemple, quan a una persona li agrada un determinat esport diem que aquesta persona té interès per aquest espor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23:39:06Z</dcterms:created>
  <dc:creator>pc</dc:creator>
  <dc:description/>
  <dc:language>en-US</dc:language>
  <cp:lastModifiedBy>pc</cp:lastModifiedBy>
  <dcterms:modified xsi:type="dcterms:W3CDTF">2013-01-08T23:47:04Z</dcterms:modified>
  <cp:revision>1</cp:revision>
  <dc:subject/>
  <dc:title>Interessos</dc:title>
</cp:coreProperties>
</file>