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78B-CEB3-4D9D-8F4F-1EADD82C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AFF-1139-466F-9752-8F66D32F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477-F822-4AC1-856A-4DC2378D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84B-F5C4-43B9-8F6F-46D0DA3B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59FE-3F69-46F9-85E3-8C942DEF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B2D6-1A0B-447D-8CF9-50BC048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CF0A-F127-4B85-B98B-4772AF4E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4D64-D170-4AAD-BBC8-BAC989D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1BC0-286F-41DC-861A-895C81D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88B-6381-44C6-826F-D54D4E3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E4D-FBD0-4A74-A032-D99D34D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1BF-A12D-4AAB-8479-8A137BFD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0AA9-4534-487D-BD5C-AA19241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8A1E-D98E-4158-82E2-A436B3C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EDD5-FAD8-4F6D-8443-2D17F35A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3703-D340-48AC-8375-0F673C69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8B15-F17D-4A62-B583-58943413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05B-4FC0-4265-ADF7-340C87BA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3F0-FF1B-4463-A473-F6484B4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C8E-0BB0-4C9B-B22C-31D4F808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116-122E-42D3-B521-3BBB1BF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278-5791-431E-8BB3-75A572D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89C-98E1-430A-A915-02A55E95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4BE-5482-4D0F-AF43-C6EEB53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CAE8-4FD1-438E-9E5E-476563B374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1DAC-7DB5-43DF-88BD-B575F36C05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dbbd71"/>
                </a:solidFill>
                <a:latin typeface="Arial"/>
              </a:rPr>
              <a:t>Interesso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Els interessos són les preferències que tenim per a determinats àmbits i activitats. Per exemple, quan a una persona li agrada un determinat esport diem que aquesta persona té interès per aquest espor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39:06Z</dcterms:created>
  <dc:creator>pc</dc:creator>
  <dc:description/>
  <dc:language>en-US</dc:language>
  <cp:lastModifiedBy>pc</cp:lastModifiedBy>
  <dcterms:modified xsi:type="dcterms:W3CDTF">2013-01-08T23:47:04Z</dcterms:modified>
  <cp:revision>1</cp:revision>
  <dc:subject/>
  <dc:title>Interessos</dc:title>
</cp:coreProperties>
</file>