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143-A140-414E-8BC5-44B3B7A78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E2FF-486F-4D00-84F2-A4F1AAF19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C9B-848D-4B67-BA07-97843116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0EA-5B68-4843-870A-1E650743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9E8-5898-493D-94B7-E4F96193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8E8-9F9E-4AE9-9BBF-3258AFDE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9C0-47D7-4A69-B88A-B21D90B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B76-972B-4066-8969-2A7C51D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4BA-30F5-4913-B5CA-69D4940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4BE-0F35-41B1-89B6-6B3A39B4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EC0-A015-474C-9526-81F61FE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FDB-FCC7-4A0B-8021-6DF575C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46B-8DA1-4ACB-A442-1692E57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9AF-F6F9-4535-990D-FF7889A1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BE0-C4B3-4980-82D4-41763FBAF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 of Gaps Identified b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533520"/>
          <a:ext cx="8229600" cy="631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ttle Rhy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sion Center Miss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Plan/Policy/S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Mapp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endar / Meeting Manag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COM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SUM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h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s Learn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 Cost Effective Metho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a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ing Collaborative Tool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tive Document Sh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F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Med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plication  of Effort &amp; Redund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 loca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lture/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/Information Visibil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g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icit Knowle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ion of Video and Audio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 (NIPR &amp; SIP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 L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Individual /Organizational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 Incentiv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boarding- Men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-Cross Trainin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ing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1:14Z</dcterms:created>
  <dc:creator>jill.m.powell</dc:creator>
  <dc:description/>
  <dc:language>en-US</dc:language>
  <cp:lastModifiedBy>jill.m.powell</cp:lastModifiedBy>
  <dcterms:modified xsi:type="dcterms:W3CDTF">2012-09-26T15:41:54Z</dcterms:modified>
  <cp:revision>1</cp:revision>
  <dc:subject/>
  <dc:title>List of Gaps Identified by Assessment</dc:title>
</cp:coreProperties>
</file>