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5FC6-72F9-42DF-A502-3065949CD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4E1-1273-4F6D-BC58-A3FDA560C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8DF-D617-4B4F-B6A3-CE7F1E3D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472-D39B-4186-8B3A-9B4DAF30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1DA-FE83-4A1F-8527-1A3C6AE0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E00-2EF1-4666-A978-272FDC74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1E3-C8A8-42F8-B055-51656C2C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BA9-E56F-4F2C-9942-7B6956F2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0AD-B058-4E29-8D5C-6AECEC05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5F5-3827-4918-B5BA-0BFBEAC2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E14-51E0-4DDA-BCA6-D047745F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920-A709-4422-9C38-EC88A02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2FC-614B-4C77-ADB5-7A63782E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BCF-A7EB-4D49-A8EE-07DEA15D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24D0-6705-4A6D-80FD-EFD468628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 of Gaps Identified b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533520"/>
          <a:ext cx="8229600" cy="6318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ttle Rhy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ab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sion Center Miss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Plan/Policy/S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Mapp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endar / Meeting Manag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COM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SUM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sh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s Learn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Cost Effective Metho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Over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Usa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standing Collaborative Tool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tive Document Sh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F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Medi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plication  of Effort &amp; Redund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flow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t loca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lture/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/Information Visibil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s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g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icit Knowle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cription of Video and Audio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 (NIPR &amp; SIP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L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Individual /Organizational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Incentiv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boarding- Men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-Cross Train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1:14Z</dcterms:created>
  <dc:creator>jill.m.powell</dc:creator>
  <dc:description/>
  <dc:language>en-US</dc:language>
  <cp:lastModifiedBy>jill.m.powell</cp:lastModifiedBy>
  <dcterms:modified xsi:type="dcterms:W3CDTF">2012-09-26T15:41:54Z</dcterms:modified>
  <cp:revision>1</cp:revision>
  <dc:subject/>
  <dc:title>List of Gaps Identified by Assessment</dc:title>
</cp:coreProperties>
</file>