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462-8D37-4CC1-952C-55C85D6F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EFD-5CF5-4705-A6E6-4C515B80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202-43E1-4301-8F5A-2D447963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61C-13A0-4ED3-9F7C-787AC1E3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097-4B5B-4448-BF77-7CFBD30E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80B-2A36-463C-9C73-55BE263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6E2-A47D-43CA-8DAF-74364A95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ED6-0854-4BBF-A12D-7C182BDA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309-55E7-45DB-89CC-3F7C7E8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B1-47DC-43DC-9CAD-CC51963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8B7-D4B2-4966-ADB1-48F7978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437-1363-4C6A-B2F5-9295492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0740F-03DA-4741-8100-BAD98356111A}" type="slidenum"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755964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1247760"/>
            <a:ext cx="45003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4000" spc="-1" strike="noStrike">
                <a:solidFill>
                  <a:srgbClr val="c5000b"/>
                </a:solidFill>
                <a:latin typeface="Berlin Sans FB Demi"/>
              </a:rPr>
              <a:t>Amar para cres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21:30:51Z</dcterms:created>
  <dc:creator>p p</dc:creator>
  <dc:description/>
  <dc:language>en-US</dc:language>
  <cp:lastModifiedBy>p p</cp:lastModifiedBy>
  <dcterms:modified xsi:type="dcterms:W3CDTF">2012-06-19T21:43:08Z</dcterms:modified>
  <cp:revision>2</cp:revision>
  <dc:subject/>
  <dc:title/>
</cp:coreProperties>
</file>