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2FC-83EE-4CC5-AB1A-652D86D5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4EB1-9227-4F24-A413-3768DDD9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651-2FEA-4D90-87FD-94C8C584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7B0-5B45-45F2-A0DF-FF08CC36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23A-6FAF-4562-A21D-F3C2E512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F19-57EF-49CB-8500-0936C88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4475-9776-4B96-8D8C-7CCD8FCF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B5A-D011-49AA-8CFB-6CA595F2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F1C-E938-40E8-AF2C-41D0E2B5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C82-1B41-4ACD-AD6F-826872B9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8D5-43D4-4953-9F2A-9233EC0A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5C30-0791-4395-8512-41262FC2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87F89-8BA3-4E27-9360-EAE4A0832BC7}" type="slidenum"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0000" y="900000"/>
            <a:ext cx="7559640" cy="6120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1247760"/>
            <a:ext cx="45003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24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4000" spc="-1" strike="noStrike">
                <a:solidFill>
                  <a:srgbClr val="c5000b"/>
                </a:solidFill>
                <a:latin typeface="Berlin Sans FB Demi"/>
              </a:rPr>
              <a:t>Amar para cres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9T21:30:51Z</dcterms:created>
  <dc:creator>p p</dc:creator>
  <dc:description/>
  <dc:language>en-US</dc:language>
  <cp:lastModifiedBy>p p</cp:lastModifiedBy>
  <dcterms:modified xsi:type="dcterms:W3CDTF">2012-06-19T21:43:08Z</dcterms:modified>
  <cp:revision>2</cp:revision>
  <dc:subject/>
  <dc:title/>
</cp:coreProperties>
</file>