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015-77B4-4FA9-A817-23D41621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628-588D-4251-BCD0-B45480AC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982-1F1F-42F4-8A0D-20B0BB53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B97-E3B1-4B8B-AA3E-17FD9B56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2E8-EAA2-470A-913A-C7FE4482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7EA-5FCD-4ED9-846D-9197D055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6EC-DFA0-4445-96D9-AEEEEFE5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90B-3DCA-42EA-BB20-595A5EBE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AD4-A9CB-4C31-A8C9-ACFEB123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6C8-F354-492B-8FD9-D33F4321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E79-ABEC-40BF-B3D7-63944294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AFA-3CD2-4D28-A4F1-29844A4D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25AFD-711E-42C8-9BA3-A0F91F52707C}" type="slidenum">
              <a: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95280" y="863640"/>
            <a:ext cx="7559640" cy="5580000"/>
            <a:chOff x="1295280" y="863640"/>
            <a:chExt cx="7559640" cy="5580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295280" y="863640"/>
              <a:ext cx="719928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087640" y="971640"/>
              <a:ext cx="67672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02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PT" sz="4000" spc="-1" strike="noStrike">
                  <a:solidFill>
                    <a:srgbClr val="b3b300"/>
                  </a:solidFill>
                  <a:latin typeface="Arial"/>
                </a:rPr>
                <a:t>Obediência...dá-te </a:t>
              </a:r>
              <a:r>
                <a:rPr b="1" lang="pt-PT" sz="4000" spc="-1" strike="noStrike">
                  <a:solidFill>
                    <a:srgbClr val="280099"/>
                  </a:solidFill>
                  <a:latin typeface="Arial"/>
                </a:rPr>
                <a:t>asas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21:17:51Z</dcterms:created>
  <dc:creator>p p</dc:creator>
  <dc:description/>
  <dc:language>en-US</dc:language>
  <cp:lastModifiedBy/>
  <cp:revision>1</cp:revision>
  <dc:subject/>
  <dc:title/>
</cp:coreProperties>
</file>