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4A17-A51E-4FB5-B6C2-C549545B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D22-0A1C-4628-91EB-5641B045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247-61B4-4B76-95C6-834F1F26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460-BB7B-47CA-ABFE-2765A1E5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62B9-3C0B-4D98-9498-653FAE5D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06B-2F72-4DE6-B855-C9C7D9A4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CB14-51AF-4A7A-BF8F-C806C62A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715E-BF3E-405A-B485-B9106422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A43B-2F7F-4D01-8F40-330820E7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C927-EEEA-4C00-8BAF-657E2724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325-1870-4EA2-AF11-81C73EB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CF5A-BD08-41F4-82BD-CE6B0349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08006-9DE9-4A3B-A832-E77F3FDCF9F8}" type="slidenum">
              <a:rPr b="0" lang="pt-P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95280" y="863640"/>
            <a:ext cx="7559640" cy="5580000"/>
            <a:chOff x="1295280" y="863640"/>
            <a:chExt cx="7559640" cy="558000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295280" y="863640"/>
              <a:ext cx="719928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087640" y="971640"/>
              <a:ext cx="67672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02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pt-PT" sz="4000" spc="-1" strike="noStrike">
                  <a:solidFill>
                    <a:srgbClr val="b3b300"/>
                  </a:solidFill>
                  <a:latin typeface="Arial"/>
                </a:rPr>
                <a:t>Obediência...dá-te </a:t>
              </a:r>
              <a:r>
                <a:rPr b="1" lang="pt-PT" sz="4000" spc="-1" strike="noStrike">
                  <a:solidFill>
                    <a:srgbClr val="280099"/>
                  </a:solidFill>
                  <a:latin typeface="Arial"/>
                </a:rPr>
                <a:t>asas!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2T21:17:51Z</dcterms:created>
  <dc:creator>p p</dc:creator>
  <dc:description/>
  <dc:language>en-US</dc:language>
  <cp:lastModifiedBy/>
  <cp:revision>1</cp:revision>
  <dc:subject/>
  <dc:title/>
</cp:coreProperties>
</file>