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C1F-147B-4885-8CAF-594EB2DD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9D8-E657-4329-816C-D0EE1C6D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05F-FA9D-4D61-96CF-38588B30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478-05B0-4FDF-B9C6-129FB0CB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69F-9F2C-40C2-91C6-8A54DE46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DFBD-1808-4DDC-94AC-6A5D205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C27-46D2-4D22-8C43-1B5A0CE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C44-94B7-489D-AA44-67EA2F9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9CED-ECA8-47DB-AE74-05E3793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215-C60D-47B7-B320-D00442C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32C5-89B9-4A6E-B77E-C4BD89B5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E4C-351F-4EA4-B4A4-90B63711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01D-D60D-4409-8F29-634555A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378A-26F7-4A53-8666-9D1A4D4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D36-EC44-44BC-B5BA-186574E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FA3D-5FAE-4993-AB67-C4AF60F5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E99-0324-4406-AEA9-B05B15BB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C79-720A-40DF-9E52-F4336E0D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B9E-4352-4D39-AE0E-97BB5A7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FF7-36B2-41D1-B5D7-95F5F38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B0F-6F93-4B76-99B0-EAE008F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185-A9C4-4D0B-A39A-9183B2D1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02B-0CBA-47B1-BD94-055D9C0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FFB-8F72-449B-84E3-2748C7B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6FF4-16CC-49F9-9E3A-401F492720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A462-DD75-4210-A50F-5B73198DDC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Funciones y Grafic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Ejemplos de fun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nción lineal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 y = m x+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1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1405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419640" y="1962000"/>
            <a:ext cx="49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819440" cy="302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014160" y="36180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 +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638160" y="5543640"/>
            <a:ext cx="180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2x –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3x +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9000" y="277920"/>
            <a:ext cx="361008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cuadrátic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(y = 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+b x+c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35280" y="1514520"/>
            <a:ext cx="4680000" cy="2874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755640" y="1730520"/>
            <a:ext cx="1805040" cy="2665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781200" y="120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981080" y="12175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998680" y="19890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51280" y="5084640"/>
            <a:ext cx="316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– 2 x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 3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+2 x +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35280" y="277920"/>
            <a:ext cx="3251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40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polinom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75880" y="40831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395280" y="1274760"/>
            <a:ext cx="396072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3905280" cy="2411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6034320" y="408312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+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3708360" y="5013360"/>
                <a:ext cx="3527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5904000" cy="3627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0" y="43920"/>
            <a:ext cx="32511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definidas por pa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76280" y="161280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926160" y="1895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Cos[x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47240" y="3911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H="1">
            <a:off x="609480" y="422100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H="1">
            <a:off x="1331640" y="191628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4858920" y="227664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6084720" y="1557360"/>
                <a:ext cx="2951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900000" y="5300640"/>
                <a:ext cx="3097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18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4716360" y="4869000"/>
                <a:ext cx="338472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CT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978280" y="5135400"/>
                <a:ext cx="2135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305080" y="1647720"/>
            <a:ext cx="4498920" cy="31194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29" name="Rectangle 5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ARÁBOL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494320" y="5373720"/>
                <a:ext cx="2519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5373720"/>
                <a:ext cx="256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329000" y="1647720"/>
            <a:ext cx="4346640" cy="30132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51280" cy="256716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35" name="WordArt 7"/>
          <p:cNvSpPr txBox="1"/>
          <p:nvPr/>
        </p:nvSpPr>
        <p:spPr>
          <a:xfrm>
            <a:off x="971640" y="4869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orizo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6070680" y="486900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Vert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9dab1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ones de uso práct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funciones se utilizan en todas las ramas de la ingeniería para describir el comportamiento de una variable con respecto a otra. Entre algunas de las aplicaciones podemos mencionar los circuitos eléctricos, mecánica de fluidos, transferencia de calor y electrón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57920" y="115920"/>
            <a:ext cx="3106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Funciones de uso práctico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 (Graficar V vs d y V vs t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 de la gravitación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2916360" y="1628640"/>
                <a:ext cx="22320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979640" y="4653000"/>
                <a:ext cx="3673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Ejempl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idere la siguiente función cuadr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ín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da la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áx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627280" y="1773360"/>
                <a:ext cx="38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3203640" y="115920"/>
            <a:ext cx="5843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Valores extremos de funciones cuadrátic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3348000" y="4005360"/>
                <a:ext cx="338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alor máximo y mínimo de una función cuadrá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valor máximo o mínimo de una función cuadrátic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(x)=ax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+bx+c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urre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ín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l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áx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6672240" y="4005360"/>
                <a:ext cx="995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3780000" y="2781360"/>
                <a:ext cx="1434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659640" y="4941720"/>
                <a:ext cx="1081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05264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21200" y="105264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7640" y="105264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95"/>
          <p:cNvSpPr/>
          <p:nvPr/>
        </p:nvSpPr>
        <p:spPr>
          <a:xfrm>
            <a:off x="324000" y="4363920"/>
            <a:ext cx="844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Después de observar las tablas anteriores trata de encontra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la regla de correspondencia que relaciona las columnas en cad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Tab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140360" y="5873760"/>
            <a:ext cx="136836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4436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70028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1200" y="170028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227640" y="170028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laciones de correspondencia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8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9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4"/>
          <p:cNvSpPr/>
          <p:nvPr/>
        </p:nvSpPr>
        <p:spPr>
          <a:xfrm>
            <a:off x="280080" y="4722840"/>
            <a:ext cx="889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a Figura 1 muestra la expresión que resulta de extraerle la raíz cuadrada a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úmero real positivo o cero. La Figura 2 representa el resultado de elevar al c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lquier númer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Te fijaste en cuantos la recta vertical anaranjada corta a la grafica de la Figura 1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En cuantos corta a la grafica de la Figura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Podrías concluir al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1600920" y="40194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6012720" y="40705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2368440" y="148428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7135920" y="146988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 continuación se te presentan ejemplos de relaciones de correspondencia que son funciones y otros que no lo son, observa bien las características de los ejemplos, semejanzas y diferencias y trata de expresar con tus propias palabras qué es lo que hace que una correspondencia sea una fun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>
            <a:off x="2627280" y="981000"/>
            <a:ext cx="1513080" cy="180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748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6400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59280" y="1270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91456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21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05480" y="112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218200" y="17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05480" y="2270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490920" y="1486080"/>
            <a:ext cx="165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3490920" y="2133720"/>
            <a:ext cx="1655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778560" y="54936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i es fu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30760" y="3375000"/>
            <a:ext cx="88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Una vez analizados los ejemplos anteriores ¿podrías  identificar cuáles de las tabla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guientes representan funcion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4148280"/>
          <a:ext cx="2660400" cy="207324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1200" y="4148280"/>
          <a:ext cx="2890800" cy="20732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27640" y="4148280"/>
          <a:ext cx="2602080" cy="207324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328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771640" y="150012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7524720" y="250812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44440" y="1890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 Y de estas gráficas habrá alguna que no sea funció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584440" y="77940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7351560" y="76500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6516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547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50920" y="5373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(-2, 4), (0, -1), (1, 3), (2, 5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59280" y="537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 (-1, 0), (2, 6), (4, 9), (-1, -1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86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116000" y="5924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8360" y="416880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finalizar te presentamos ejemplos de conjuntos de pares ordenados, uno de los cuales es función y el otro 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0480" y="-11160"/>
            <a:ext cx="2027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hora el momento importante ha llegado,  te toca a ti decirnos qué es una funció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Definición de 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n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una regla de correspondencia que asigna a cada eleme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un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,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xactamente un único elemento,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,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otro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706920" y="4437000"/>
            <a:ext cx="1944720" cy="1008000"/>
          </a:xfrm>
          <a:custGeom>
            <a:avLst/>
            <a:gdLst>
              <a:gd name="textAreaLeft" fmla="*/ 118800 w 1944720"/>
              <a:gd name="textAreaRight" fmla="*/ 1825920 w 194472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416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8065" y="21600"/>
                </a:lnTo>
                <a:arcTo wR="3600" hR="3600" stAng="10800000" swAng="5400000"/>
                <a:lnTo>
                  <a:pt x="4166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6160" y="481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55420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487760" y="4724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572292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894280" y="494172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14:37Z</dcterms:created>
  <dc:creator>Ruben Domínguez Maldonado</dc:creator>
  <dc:description/>
  <dc:language>en-US</dc:language>
  <cp:lastModifiedBy>margot hdez lópez</cp:lastModifiedBy>
  <dcterms:modified xsi:type="dcterms:W3CDTF">2012-06-03T17:06:58Z</dcterms:modified>
  <cp:revision>48</cp:revision>
  <dc:subject/>
  <dc:title>Funciones y Graficas</dc:title>
</cp:coreProperties>
</file>