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0DD-ADDE-42EE-980C-492A3F4F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315-2BC2-4466-B34A-C19DC2F4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45D-7A4F-4AD7-BEDB-A40F5443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FFEF-B40C-41DE-9758-F2B343E1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F86D-5B1F-4270-A501-8ADDFCA4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45BE-1C43-4F8A-B239-C4FBA004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D3D1-171A-4453-96D0-00A93058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7851-A386-4E2A-8741-B238153E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919E-B2DB-44E1-884F-89C003FE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EE6D-AE9C-4F07-AFB0-CCE10C29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5CC0-193F-4D5F-8D02-5E0253B3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87E-F92E-41BC-9A12-5B3A74BA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62CF-0936-4D1C-951D-0E43BE96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3F70-4CEF-4BFD-8B77-04DD9B55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B915-7AE9-4B60-BDA2-079EF352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2A6E-BAE7-4926-B895-DD848D96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1E7E-9506-49CF-A432-1B56E077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FF4C-0313-4F3B-94A7-2E4B55D0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524D-6BC0-4194-BA4B-86B0885B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1D5-D5C2-4C2A-8AD5-54E1E535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53D-7FAD-4175-AFC6-E17AC2EE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FDF0-6602-418D-8549-C1420973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976B-BB77-44E8-A17A-FBBC53FA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C81-4052-4FF3-83D1-C0F00EF2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35D5-5E82-4EC8-A275-564942386A4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841C-B7EB-494E-A55F-B61713B72CE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eec94"/>
                </a:solidFill>
                <a:latin typeface="Times New Roman"/>
              </a:rPr>
              <a:t>Funciones y Grafica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Ejemplos de funcione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unción lineal 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( y = m x+b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Otros ejemp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781200" y="1387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981080" y="1405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 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3419640" y="1962000"/>
            <a:ext cx="4968720" cy="3051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1819440" cy="30243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0"/>
          <p:cNvSpPr/>
          <p:nvPr/>
        </p:nvSpPr>
        <p:spPr>
          <a:xfrm>
            <a:off x="6014160" y="3618000"/>
            <a:ext cx="20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y = x + 2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3638160" y="5543640"/>
            <a:ext cx="180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y = 2x –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y = -3x +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99000" y="277920"/>
            <a:ext cx="361008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eec94"/>
                </a:solidFill>
                <a:latin typeface="Times New Roman"/>
              </a:rPr>
              <a:t>Ejemplos de funciones …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unción cuadrática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(y = a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MX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+b x+c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tros ejempl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3635280" y="1514520"/>
            <a:ext cx="4680000" cy="2874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755640" y="1730520"/>
            <a:ext cx="1805040" cy="26654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781200" y="1200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981080" y="12175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 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5998680" y="1989000"/>
            <a:ext cx="13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i="1" lang="es-MX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851280" y="5084640"/>
            <a:ext cx="3168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i="1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  – 2 x +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y = - 3 x</a:t>
            </a:r>
            <a:r>
              <a:rPr b="0" i="1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  +2 x +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35280" y="277920"/>
            <a:ext cx="325116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Ejemplos de funciones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5404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unción polinom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tros ejempl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775880" y="4083120"/>
            <a:ext cx="13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y = x</a:t>
            </a:r>
            <a:r>
              <a:rPr b="0" i="1" lang="es-MX" sz="3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9" descr=""/>
          <p:cNvPicPr/>
          <p:nvPr/>
        </p:nvPicPr>
        <p:blipFill>
          <a:blip r:embed="rId1"/>
          <a:stretch/>
        </p:blipFill>
        <p:spPr>
          <a:xfrm>
            <a:off x="395280" y="1274760"/>
            <a:ext cx="3960720" cy="244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"/>
          <p:cNvPicPr/>
          <p:nvPr/>
        </p:nvPicPr>
        <p:blipFill>
          <a:blip r:embed="rId2"/>
          <a:stretch/>
        </p:blipFill>
        <p:spPr>
          <a:xfrm>
            <a:off x="4932360" y="1346040"/>
            <a:ext cx="3905280" cy="2411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1"/>
          <p:cNvSpPr/>
          <p:nvPr/>
        </p:nvSpPr>
        <p:spPr>
          <a:xfrm>
            <a:off x="6034320" y="408312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y = x</a:t>
            </a:r>
            <a:r>
              <a:rPr b="0" i="1" lang="es-MX" sz="3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 +x</a:t>
            </a:r>
            <a:r>
              <a:rPr b="0" i="1" lang="es-MX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2"/>
              <p:cNvSpPr txBox="1"/>
              <p:nvPr/>
            </p:nvSpPr>
            <p:spPr>
              <a:xfrm>
                <a:off x="3708360" y="5013360"/>
                <a:ext cx="35276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8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5904000" cy="3627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0" y="43920"/>
            <a:ext cx="3251160" cy="3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Ejemplos de funciones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unción definidas por par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tros ejemp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76280" y="1612800"/>
            <a:ext cx="9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3926160" y="189540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y = Cos[x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1047240" y="391176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y = 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10"/>
          <p:cNvSpPr/>
          <p:nvPr/>
        </p:nvSpPr>
        <p:spPr>
          <a:xfrm flipH="1">
            <a:off x="609480" y="4221000"/>
            <a:ext cx="4334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Line 11"/>
          <p:cNvSpPr/>
          <p:nvPr/>
        </p:nvSpPr>
        <p:spPr>
          <a:xfrm flipH="1">
            <a:off x="1331640" y="1916280"/>
            <a:ext cx="93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12"/>
          <p:cNvSpPr/>
          <p:nvPr/>
        </p:nvSpPr>
        <p:spPr>
          <a:xfrm flipH="1">
            <a:off x="4858920" y="2276640"/>
            <a:ext cx="7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3"/>
              <p:cNvSpPr txBox="1"/>
              <p:nvPr/>
            </p:nvSpPr>
            <p:spPr>
              <a:xfrm>
                <a:off x="6084720" y="1557360"/>
                <a:ext cx="295128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Rectangle 16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5"/>
              <p:cNvSpPr txBox="1"/>
              <p:nvPr/>
            </p:nvSpPr>
            <p:spPr>
              <a:xfrm>
                <a:off x="900000" y="5300640"/>
                <a:ext cx="30974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Rectangle 18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7"/>
              <p:cNvSpPr txBox="1"/>
              <p:nvPr/>
            </p:nvSpPr>
            <p:spPr>
              <a:xfrm>
                <a:off x="4716360" y="4869000"/>
                <a:ext cx="3384720" cy="18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RECTA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2978280" y="5135400"/>
                <a:ext cx="2135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2305080" y="1647720"/>
            <a:ext cx="4498920" cy="3119400"/>
          </a:xfrm>
          <a:prstGeom prst="rect">
            <a:avLst/>
          </a:prstGeom>
          <a:ln w="57240">
            <a:solidFill>
              <a:srgbClr val="9dab13"/>
            </a:solidFill>
            <a:miter/>
          </a:ln>
        </p:spPr>
      </p:pic>
      <p:sp>
        <p:nvSpPr>
          <p:cNvPr id="229" name="Rectangle 5"/>
          <p:cNvSpPr/>
          <p:nvPr/>
        </p:nvSpPr>
        <p:spPr>
          <a:xfrm>
            <a:off x="5870520" y="18900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eec94"/>
                </a:solidFill>
                <a:latin typeface="Times New Roman"/>
              </a:rPr>
              <a:t>SECCIONES CÓNICAS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PARÁBOLA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3"/>
              <p:cNvSpPr txBox="1"/>
              <p:nvPr/>
            </p:nvSpPr>
            <p:spPr>
              <a:xfrm>
                <a:off x="5494320" y="5373720"/>
                <a:ext cx="25192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p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684360" y="5373720"/>
                <a:ext cx="2566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4329000" y="1647720"/>
            <a:ext cx="4346640" cy="3013200"/>
          </a:xfrm>
          <a:prstGeom prst="rect">
            <a:avLst/>
          </a:prstGeom>
          <a:ln w="57240">
            <a:solidFill>
              <a:srgbClr val="9dab13"/>
            </a:solidFill>
            <a:miter/>
          </a:ln>
        </p:spPr>
      </p:pic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3851280" cy="2567160"/>
          </a:xfrm>
          <a:prstGeom prst="rect">
            <a:avLst/>
          </a:prstGeom>
          <a:ln w="57240">
            <a:solidFill>
              <a:srgbClr val="9dab13"/>
            </a:solidFill>
            <a:miter/>
          </a:ln>
        </p:spPr>
      </p:pic>
      <p:sp>
        <p:nvSpPr>
          <p:cNvPr id="235" name="WordArt 7"/>
          <p:cNvSpPr txBox="1"/>
          <p:nvPr/>
        </p:nvSpPr>
        <p:spPr>
          <a:xfrm>
            <a:off x="971640" y="4869000"/>
            <a:ext cx="20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Horizont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236" name="WordArt 8"/>
          <p:cNvSpPr txBox="1"/>
          <p:nvPr/>
        </p:nvSpPr>
        <p:spPr>
          <a:xfrm>
            <a:off x="6070680" y="4869000"/>
            <a:ext cx="165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Vert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5870520" y="18900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eec94"/>
                </a:solidFill>
                <a:latin typeface="Times New Roman"/>
              </a:rPr>
              <a:t>SECCIONES CÓNICAS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9dab1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Funciones de uso práctic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s funciones se utilizan en todas las ramas de la ingeniería para describir el comportamiento de una variable con respecto a otra. Entre algunas de las aplicaciones podemos mencionar los circuitos eléctricos, mecánica de fluidos, transferencia de calor y electrón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57920" y="115920"/>
            <a:ext cx="31068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eec94"/>
                </a:solidFill>
                <a:latin typeface="Times New Roman"/>
              </a:rPr>
              <a:t>Funciones de uso práctico …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54900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tros ejemp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locidad (Graficar V vs d y V vs t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ey de la gravitación Univer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16"/>
              <p:cNvSpPr txBox="1"/>
              <p:nvPr/>
            </p:nvSpPr>
            <p:spPr>
              <a:xfrm>
                <a:off x="2916360" y="1628640"/>
                <a:ext cx="2232000" cy="19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8"/>
              <p:cNvSpPr txBox="1"/>
              <p:nvPr/>
            </p:nvSpPr>
            <p:spPr>
              <a:xfrm>
                <a:off x="1979640" y="4653000"/>
                <a:ext cx="36734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Ejemplo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idere la siguiente función cuadrátic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) Exprese la función en su forma está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) Trace la gráfica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) Determine el valor mínimo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8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da la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) Exprese la función en su forma está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) Trace la gráfica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) Determine el valor máximo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6"/>
              <p:cNvSpPr txBox="1"/>
              <p:nvPr/>
            </p:nvSpPr>
            <p:spPr>
              <a:xfrm>
                <a:off x="2627280" y="1773360"/>
                <a:ext cx="38894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Rectangle 7"/>
          <p:cNvSpPr/>
          <p:nvPr/>
        </p:nvSpPr>
        <p:spPr>
          <a:xfrm>
            <a:off x="3203640" y="115920"/>
            <a:ext cx="58435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Valores extremos de funciones cuadráticas …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8"/>
              <p:cNvSpPr txBox="1"/>
              <p:nvPr/>
            </p:nvSpPr>
            <p:spPr>
              <a:xfrm>
                <a:off x="3348000" y="4005360"/>
                <a:ext cx="33847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Valor máximo y mínimo de una función cuadrátic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l valor máximo o mínimo de una función cuadrática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f(x)=ax</a:t>
            </a:r>
            <a:r>
              <a:rPr b="0" i="1" lang="es-MX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+bx+c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curre 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a &gt; 0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, entonces el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valor mínim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a &lt; 0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, entonces el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valor máxim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8"/>
              <p:cNvSpPr txBox="1"/>
              <p:nvPr/>
            </p:nvSpPr>
            <p:spPr>
              <a:xfrm>
                <a:off x="6672240" y="4005360"/>
                <a:ext cx="9954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3780000" y="2781360"/>
                <a:ext cx="14349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10"/>
              <p:cNvSpPr txBox="1"/>
              <p:nvPr/>
            </p:nvSpPr>
            <p:spPr>
              <a:xfrm>
                <a:off x="6659640" y="4941720"/>
                <a:ext cx="10810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76480" y="135000"/>
            <a:ext cx="605952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eec94"/>
                </a:solidFill>
                <a:latin typeface="Times New Roman"/>
              </a:rPr>
              <a:t>Relaciones de correspondencia …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052640"/>
          <a:ext cx="2660400" cy="2952720"/>
        </p:xfrm>
        <a:graphic>
          <a:graphicData uri="http://schemas.openxmlformats.org/drawingml/2006/table">
            <a:tbl>
              <a:tblPr/>
              <a:tblGrid>
                <a:gridCol w="1265040"/>
                <a:gridCol w="1395360"/>
              </a:tblGrid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121200" y="1052640"/>
          <a:ext cx="2890800" cy="295272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227640" y="1052640"/>
          <a:ext cx="2602080" cy="2952720"/>
        </p:xfrm>
        <a:graphic>
          <a:graphicData uri="http://schemas.openxmlformats.org/drawingml/2006/table">
            <a:tbl>
              <a:tblPr/>
              <a:tblGrid>
                <a:gridCol w="1238400"/>
                <a:gridCol w="1363680"/>
              </a:tblGrid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 Box 95"/>
          <p:cNvSpPr/>
          <p:nvPr/>
        </p:nvSpPr>
        <p:spPr>
          <a:xfrm>
            <a:off x="324000" y="4363920"/>
            <a:ext cx="84452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Después de observar las tablas anteriores trata de encontrar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la regla de correspondencia que relaciona las columnas en cada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Tabl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4140360" y="5873760"/>
            <a:ext cx="1368360" cy="650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684360" y="5805360"/>
            <a:ext cx="1511280" cy="649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7093080" y="5877000"/>
            <a:ext cx="1044360" cy="58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250920" y="1700280"/>
          <a:ext cx="2660400" cy="2952720"/>
        </p:xfrm>
        <a:graphic>
          <a:graphicData uri="http://schemas.openxmlformats.org/drawingml/2006/table">
            <a:tbl>
              <a:tblPr/>
              <a:tblGrid>
                <a:gridCol w="1265040"/>
                <a:gridCol w="1395360"/>
              </a:tblGrid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121200" y="1700280"/>
          <a:ext cx="2890800" cy="295272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227640" y="1700280"/>
          <a:ext cx="2602080" cy="2952720"/>
        </p:xfrm>
        <a:graphic>
          <a:graphicData uri="http://schemas.openxmlformats.org/drawingml/2006/table">
            <a:tbl>
              <a:tblPr/>
              <a:tblGrid>
                <a:gridCol w="1238400"/>
                <a:gridCol w="1363680"/>
              </a:tblGrid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6480" y="135000"/>
            <a:ext cx="605952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eec94"/>
                </a:solidFill>
                <a:latin typeface="Times New Roman"/>
              </a:rPr>
              <a:t>Relaciones de correspondencia …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Relaciones de correspondencia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58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032000" cy="2478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9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4032000" cy="247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2" descr=""/>
          <p:cNvPicPr/>
          <p:nvPr/>
        </p:nvPicPr>
        <p:blipFill>
          <a:blip r:embed="rId3"/>
          <a:stretch/>
        </p:blipFill>
        <p:spPr>
          <a:xfrm>
            <a:off x="2556000" y="2205000"/>
            <a:ext cx="1295280" cy="447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3" descr=""/>
          <p:cNvPicPr/>
          <p:nvPr/>
        </p:nvPicPr>
        <p:blipFill>
          <a:blip r:embed="rId4"/>
          <a:stretch/>
        </p:blipFill>
        <p:spPr>
          <a:xfrm>
            <a:off x="7308720" y="3213000"/>
            <a:ext cx="936720" cy="4460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4"/>
          <p:cNvSpPr/>
          <p:nvPr/>
        </p:nvSpPr>
        <p:spPr>
          <a:xfrm>
            <a:off x="280080" y="4722840"/>
            <a:ext cx="8898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La Figura 1 muestra la expresión que resulta de extraerle la raíz cuadrada a u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úmero real positivo o cero. La Figura 2 representa el resultado de elevar al cuad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ualquier número re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¿Te fijaste en cuantos la recta vertical anaranjada corta a la grafica de la Figura 1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¿En cuantos corta a la grafica de la Figura 2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¿Podrías concluir alg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5"/>
          <p:cNvSpPr/>
          <p:nvPr/>
        </p:nvSpPr>
        <p:spPr>
          <a:xfrm>
            <a:off x="1600920" y="401940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igura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66"/>
          <p:cNvSpPr/>
          <p:nvPr/>
        </p:nvSpPr>
        <p:spPr>
          <a:xfrm>
            <a:off x="6012720" y="407052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igura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67"/>
          <p:cNvSpPr/>
          <p:nvPr/>
        </p:nvSpPr>
        <p:spPr>
          <a:xfrm>
            <a:off x="2368440" y="1484280"/>
            <a:ext cx="0" cy="24494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68"/>
          <p:cNvSpPr/>
          <p:nvPr/>
        </p:nvSpPr>
        <p:spPr>
          <a:xfrm>
            <a:off x="7135920" y="1469880"/>
            <a:ext cx="0" cy="24498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Fun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 continuación se te presentan ejemplos de relaciones de correspondencia que son funciones y otros que no lo son, observa bien las características de los ejemplos, semejanzas y diferencias y trata de expresar con tus propias palabras qué es lo que hace que una correspondencia sea una fun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val 4"/>
          <p:cNvSpPr/>
          <p:nvPr/>
        </p:nvSpPr>
        <p:spPr>
          <a:xfrm>
            <a:off x="2627280" y="981000"/>
            <a:ext cx="1513080" cy="1800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057480" y="2852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364000" y="2852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059280" y="12700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914560" y="1773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132000" y="2133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5505480" y="1125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5218200" y="1773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5505480" y="22701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3490920" y="1486080"/>
            <a:ext cx="1655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3490920" y="2133720"/>
            <a:ext cx="165564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3778560" y="54936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i es fun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230760" y="3375000"/>
            <a:ext cx="881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Una vez analizados los ejemplos anteriores ¿podrías  identificar cuáles de las tabla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iguientes representan funcion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50920" y="4148280"/>
          <a:ext cx="2660400" cy="2073240"/>
        </p:xfrm>
        <a:graphic>
          <a:graphicData uri="http://schemas.openxmlformats.org/drawingml/2006/table">
            <a:tbl>
              <a:tblPr/>
              <a:tblGrid>
                <a:gridCol w="1265040"/>
                <a:gridCol w="13953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121200" y="4148280"/>
          <a:ext cx="2890800" cy="207324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227640" y="4148280"/>
          <a:ext cx="2602080" cy="2073240"/>
        </p:xfrm>
        <a:graphic>
          <a:graphicData uri="http://schemas.openxmlformats.org/drawingml/2006/table">
            <a:tbl>
              <a:tblPr/>
              <a:tblGrid>
                <a:gridCol w="1238400"/>
                <a:gridCol w="1363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68840" y="115920"/>
            <a:ext cx="20271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Función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539640" y="779400"/>
            <a:ext cx="4032360" cy="2478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4643280" y="779400"/>
            <a:ext cx="4032360" cy="2478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3"/>
          <a:stretch/>
        </p:blipFill>
        <p:spPr>
          <a:xfrm>
            <a:off x="2771640" y="1500120"/>
            <a:ext cx="1295640" cy="447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4"/>
          <a:stretch/>
        </p:blipFill>
        <p:spPr>
          <a:xfrm>
            <a:off x="7524720" y="2508120"/>
            <a:ext cx="936720" cy="4460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244440" y="1890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¿ Y de estas gráficas habrá alguna que no sea función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2584440" y="779400"/>
            <a:ext cx="0" cy="24494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1"/>
          <p:cNvSpPr/>
          <p:nvPr/>
        </p:nvSpPr>
        <p:spPr>
          <a:xfrm>
            <a:off x="7351560" y="765000"/>
            <a:ext cx="0" cy="24498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5651640" y="3284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Sí es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1547640" y="3284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No es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250920" y="537372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{(-2, 4), (0, -1), (1, 3), (2, 5)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4859280" y="537372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{ (-1, 0), (2, 6), (4, 9), (-1, -1)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5867280" y="5950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No es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1116000" y="59245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Sí es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468360" y="4168800"/>
            <a:ext cx="89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ra finalizar te presentamos ejemplos de conjuntos de pares ordenados, uno de los cuales es función y el otro 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40480" y="-11160"/>
            <a:ext cx="2027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Función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Ahora el momento importante ha llegado,  te toca a ti decirnos qué es una función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7368840" y="115920"/>
            <a:ext cx="20271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Función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Definición de fun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Una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función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 una regla de correspondencia que asigna a cada elemento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de un conjunto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X,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exactamente un único elemento, 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f(x),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 otro conjunto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3706920" y="4437000"/>
            <a:ext cx="1944720" cy="1008000"/>
          </a:xfrm>
          <a:custGeom>
            <a:avLst/>
            <a:gdLst>
              <a:gd name="textAreaLeft" fmla="*/ 118800 w 1944720"/>
              <a:gd name="textAreaRight" fmla="*/ 1825920 w 1944720"/>
              <a:gd name="textAreaTop" fmla="*/ 118800 h 1008000"/>
              <a:gd name="textAreaBottom" fmla="*/ 889200 h 1008000"/>
            </a:gdLst>
            <a:ahLst/>
            <a:rect l="textAreaLeft" t="textAreaTop" r="textAreaRight" b="textAreaBottom"/>
            <a:pathLst>
              <a:path w="4166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8065" y="21600"/>
                </a:lnTo>
                <a:arcTo wR="3600" hR="3600" stAng="10800000" swAng="5400000"/>
                <a:lnTo>
                  <a:pt x="41665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846160" y="4818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2554200" y="4869000"/>
            <a:ext cx="10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487760" y="4724280"/>
            <a:ext cx="4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8"/>
          <p:cNvSpPr/>
          <p:nvPr/>
        </p:nvSpPr>
        <p:spPr>
          <a:xfrm>
            <a:off x="5722920" y="4869000"/>
            <a:ext cx="10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5894280" y="4941720"/>
            <a:ext cx="9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f (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9:14:37Z</dcterms:created>
  <dc:creator>Ruben Domínguez Maldonado</dc:creator>
  <dc:description/>
  <dc:language>en-US</dc:language>
  <cp:lastModifiedBy>margot hdez lópez</cp:lastModifiedBy>
  <dcterms:modified xsi:type="dcterms:W3CDTF">2012-06-03T17:06:58Z</dcterms:modified>
  <cp:revision>48</cp:revision>
  <dc:subject/>
  <dc:title>Funciones y Graficas</dc:title>
</cp:coreProperties>
</file>