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nextslide"/>
          </p:cNvPr>
          <p:cNvSpPr/>
          <p:nvPr/>
        </p:nvSpPr>
        <p:spPr>
          <a:xfrm>
            <a:off x="7086600" y="5562720"/>
            <a:ext cx="684360" cy="662040"/>
          </a:xfrm>
          <a:custGeom>
            <a:avLst/>
            <a:gdLst>
              <a:gd name="textAreaLeft" fmla="*/ 42840 w 684360"/>
              <a:gd name="textAreaRight" fmla="*/ 641520 w 684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28" h="21600">
                <a:moveTo>
                  <a:pt x="0" y="0"/>
                </a:moveTo>
                <a:lnTo>
                  <a:pt x="22328" y="0"/>
                </a:lnTo>
                <a:lnTo>
                  <a:pt x="22328" y="21600"/>
                </a:lnTo>
                <a:lnTo>
                  <a:pt x="0" y="21600"/>
                </a:lnTo>
                <a:close/>
              </a:path>
              <a:path fill="lightenLess" w="22328" h="21600">
                <a:moveTo>
                  <a:pt x="0" y="0"/>
                </a:moveTo>
                <a:lnTo>
                  <a:pt x="22328" y="0"/>
                </a:lnTo>
                <a:lnTo>
                  <a:pt x="20928" y="1400"/>
                </a:lnTo>
                <a:lnTo>
                  <a:pt x="1400" y="1400"/>
                </a:lnTo>
                <a:close/>
              </a:path>
              <a:path fill="darken" w="22328" h="21600">
                <a:moveTo>
                  <a:pt x="22328" y="0"/>
                </a:moveTo>
                <a:lnTo>
                  <a:pt x="22328" y="21600"/>
                </a:lnTo>
                <a:lnTo>
                  <a:pt x="20928" y="20200"/>
                </a:lnTo>
                <a:lnTo>
                  <a:pt x="20928" y="1400"/>
                </a:lnTo>
                <a:close/>
              </a:path>
              <a:path fill="darkenLess" w="22328" h="21600">
                <a:moveTo>
                  <a:pt x="2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8" y="20200"/>
                </a:lnTo>
                <a:close/>
              </a:path>
              <a:path fill="lighten" w="2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8" h="21600">
                <a:moveTo>
                  <a:pt x="4157" y="3794"/>
                </a:moveTo>
                <a:lnTo>
                  <a:pt x="18170" y="10800"/>
                </a:lnTo>
                <a:lnTo>
                  <a:pt x="41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28600" y="3879720"/>
            <a:ext cx="3276720" cy="2190960"/>
          </a:xfrm>
          <a:prstGeom prst="rect">
            <a:avLst/>
          </a:prstGeom>
          <a:ln w="0">
            <a:noFill/>
          </a:ln>
        </p:spPr>
      </p:pic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4952880" y="5562720"/>
            <a:ext cx="684360" cy="662040"/>
          </a:xfrm>
          <a:custGeom>
            <a:avLst/>
            <a:gdLst>
              <a:gd name="textAreaLeft" fmla="*/ 42840 w 684360"/>
              <a:gd name="textAreaRight" fmla="*/ 641520 w 684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28" h="21600">
                <a:moveTo>
                  <a:pt x="0" y="0"/>
                </a:moveTo>
                <a:lnTo>
                  <a:pt x="22328" y="0"/>
                </a:lnTo>
                <a:lnTo>
                  <a:pt x="22328" y="21600"/>
                </a:lnTo>
                <a:lnTo>
                  <a:pt x="0" y="21600"/>
                </a:lnTo>
                <a:close/>
              </a:path>
              <a:path fill="lightenLess" w="22328" h="21600">
                <a:moveTo>
                  <a:pt x="0" y="0"/>
                </a:moveTo>
                <a:lnTo>
                  <a:pt x="22328" y="0"/>
                </a:lnTo>
                <a:lnTo>
                  <a:pt x="20928" y="1400"/>
                </a:lnTo>
                <a:lnTo>
                  <a:pt x="1400" y="1400"/>
                </a:lnTo>
                <a:close/>
              </a:path>
              <a:path fill="darken" w="22328" h="21600">
                <a:moveTo>
                  <a:pt x="22328" y="0"/>
                </a:moveTo>
                <a:lnTo>
                  <a:pt x="22328" y="21600"/>
                </a:lnTo>
                <a:lnTo>
                  <a:pt x="20928" y="20200"/>
                </a:lnTo>
                <a:lnTo>
                  <a:pt x="20928" y="1400"/>
                </a:lnTo>
                <a:close/>
              </a:path>
              <a:path fill="darkenLess" w="22328" h="21600">
                <a:moveTo>
                  <a:pt x="22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8" y="20200"/>
                </a:lnTo>
                <a:close/>
              </a:path>
              <a:path fill="lighten" w="22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8" h="21600">
                <a:moveTo>
                  <a:pt x="11164" y="3837"/>
                </a:moveTo>
                <a:lnTo>
                  <a:pt x="13740" y="6448"/>
                </a:lnTo>
                <a:lnTo>
                  <a:pt x="13740" y="4707"/>
                </a:lnTo>
                <a:lnTo>
                  <a:pt x="15516" y="4707"/>
                </a:lnTo>
                <a:lnTo>
                  <a:pt x="15516" y="8224"/>
                </a:lnTo>
                <a:lnTo>
                  <a:pt x="18127" y="10800"/>
                </a:lnTo>
                <a:lnTo>
                  <a:pt x="16473" y="10800"/>
                </a:lnTo>
                <a:lnTo>
                  <a:pt x="16473" y="17989"/>
                </a:lnTo>
                <a:lnTo>
                  <a:pt x="5855" y="17989"/>
                </a:lnTo>
                <a:lnTo>
                  <a:pt x="5855" y="10800"/>
                </a:lnTo>
                <a:lnTo>
                  <a:pt x="4201" y="10800"/>
                </a:lnTo>
                <a:close/>
              </a:path>
              <a:path fill="darkenLess" w="22328" h="21600">
                <a:moveTo>
                  <a:pt x="13740" y="6448"/>
                </a:moveTo>
                <a:lnTo>
                  <a:pt x="13740" y="4707"/>
                </a:lnTo>
                <a:lnTo>
                  <a:pt x="15516" y="4707"/>
                </a:lnTo>
                <a:lnTo>
                  <a:pt x="15516" y="8224"/>
                </a:lnTo>
                <a:close/>
              </a:path>
              <a:path fill="darkenLess" w="22328" h="21600">
                <a:moveTo>
                  <a:pt x="10241" y="14299"/>
                </a:moveTo>
                <a:lnTo>
                  <a:pt x="12087" y="14299"/>
                </a:lnTo>
                <a:lnTo>
                  <a:pt x="12087" y="17989"/>
                </a:lnTo>
                <a:lnTo>
                  <a:pt x="16473" y="17989"/>
                </a:lnTo>
                <a:lnTo>
                  <a:pt x="16473" y="10800"/>
                </a:lnTo>
                <a:lnTo>
                  <a:pt x="5855" y="10800"/>
                </a:lnTo>
                <a:lnTo>
                  <a:pt x="5855" y="17989"/>
                </a:lnTo>
                <a:lnTo>
                  <a:pt x="1024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6415200" y="5562720"/>
            <a:ext cx="684000" cy="662040"/>
          </a:xfrm>
          <a:custGeom>
            <a:avLst/>
            <a:gdLst>
              <a:gd name="textAreaLeft" fmla="*/ 42840 w 684000"/>
              <a:gd name="textAreaRight" fmla="*/ 641160 w 684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16" h="21600">
                <a:moveTo>
                  <a:pt x="0" y="0"/>
                </a:moveTo>
                <a:lnTo>
                  <a:pt x="22316" y="0"/>
                </a:lnTo>
                <a:lnTo>
                  <a:pt x="22316" y="21600"/>
                </a:lnTo>
                <a:lnTo>
                  <a:pt x="0" y="21600"/>
                </a:lnTo>
                <a:close/>
              </a:path>
              <a:path fill="lightenLess" w="22316" h="21600">
                <a:moveTo>
                  <a:pt x="0" y="0"/>
                </a:moveTo>
                <a:lnTo>
                  <a:pt x="22316" y="0"/>
                </a:lnTo>
                <a:lnTo>
                  <a:pt x="20916" y="1400"/>
                </a:lnTo>
                <a:lnTo>
                  <a:pt x="1400" y="1400"/>
                </a:lnTo>
                <a:close/>
              </a:path>
              <a:path fill="darken" w="22316" h="21600">
                <a:moveTo>
                  <a:pt x="22316" y="0"/>
                </a:moveTo>
                <a:lnTo>
                  <a:pt x="22316" y="21600"/>
                </a:lnTo>
                <a:lnTo>
                  <a:pt x="20916" y="20200"/>
                </a:lnTo>
                <a:lnTo>
                  <a:pt x="20916" y="1400"/>
                </a:lnTo>
                <a:close/>
              </a:path>
              <a:path fill="darkenLess" w="22316" h="21600">
                <a:moveTo>
                  <a:pt x="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6" y="20200"/>
                </a:lnTo>
                <a:close/>
              </a:path>
              <a:path fill="lighten" w="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16" h="21600">
                <a:moveTo>
                  <a:pt x="4152" y="10800"/>
                </a:moveTo>
                <a:lnTo>
                  <a:pt x="18165" y="3794"/>
                </a:lnTo>
                <a:lnTo>
                  <a:pt x="181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5638680" y="556272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8933" y="10800"/>
                </a:moveTo>
                <a:lnTo>
                  <a:pt x="19438" y="3794"/>
                </a:lnTo>
                <a:lnTo>
                  <a:pt x="19438" y="17806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7088" y="3794"/>
                </a:lnTo>
                <a:lnTo>
                  <a:pt x="7088" y="17806"/>
                </a:lnTo>
                <a:lnTo>
                  <a:pt x="5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lastslide"/>
          </p:cNvPr>
          <p:cNvSpPr/>
          <p:nvPr/>
        </p:nvSpPr>
        <p:spPr>
          <a:xfrm>
            <a:off x="7772400" y="556272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14686" y="10800"/>
                </a:moveTo>
                <a:lnTo>
                  <a:pt x="4181" y="17806"/>
                </a:lnTo>
                <a:lnTo>
                  <a:pt x="4181" y="3794"/>
                </a:lnTo>
                <a:close/>
              </a:path>
              <a:path fill="darken" w="22375" h="21600">
                <a:moveTo>
                  <a:pt x="16531" y="3794"/>
                </a:moveTo>
                <a:lnTo>
                  <a:pt x="16531" y="17806"/>
                </a:lnTo>
                <a:lnTo>
                  <a:pt x="18194" y="17806"/>
                </a:lnTo>
                <a:lnTo>
                  <a:pt x="1819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14600" y="609480"/>
            <a:ext cx="5486040" cy="2818800"/>
            <a:chOff x="2514600" y="609480"/>
            <a:chExt cx="5486040" cy="2818800"/>
          </a:xfrm>
        </p:grpSpPr>
        <p:cxnSp>
          <p:nvCxnSpPr>
            <p:cNvPr id="45" name="_s2070"/>
            <p:cNvCxnSpPr>
              <a:stCxn id="46" idx="0"/>
              <a:endCxn id="47" idx="2"/>
            </p:cNvCxnSpPr>
            <p:nvPr/>
          </p:nvCxnSpPr>
          <p:spPr>
            <a:xfrm rot="16200000">
              <a:off x="4370400" y="2547360"/>
              <a:ext cx="3531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66"/>
            <p:cNvCxnSpPr>
              <a:stCxn id="49" idx="0"/>
              <a:endCxn id="50" idx="2"/>
            </p:cNvCxnSpPr>
            <p:nvPr/>
          </p:nvCxnSpPr>
          <p:spPr>
            <a:xfrm rot="16200000">
              <a:off x="2947680" y="2547360"/>
              <a:ext cx="3531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062"/>
            <p:cNvCxnSpPr>
              <a:stCxn id="52" idx="0"/>
              <a:endCxn id="53" idx="2"/>
            </p:cNvCxnSpPr>
            <p:nvPr/>
          </p:nvCxnSpPr>
          <p:spPr>
            <a:xfrm flipV="1" rot="16200000">
              <a:off x="6148080" y="422640"/>
              <a:ext cx="352800" cy="2135160"/>
            </a:xfrm>
            <a:prstGeom prst="bentConnector5">
              <a:avLst>
                <a:gd name="adj1" fmla="val 65781"/>
                <a:gd name="adj2" fmla="val 49983"/>
                <a:gd name="adj3" fmla="val 34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60"/>
            <p:cNvCxnSpPr>
              <a:stCxn id="55" idx="0"/>
              <a:endCxn id="53" idx="2"/>
            </p:cNvCxnSpPr>
            <p:nvPr/>
          </p:nvCxnSpPr>
          <p:spPr>
            <a:xfrm flipV="1" rot="16200000">
              <a:off x="5437080" y="1133640"/>
              <a:ext cx="352800" cy="713160"/>
            </a:xfrm>
            <a:prstGeom prst="bentConnector3">
              <a:avLst>
                <a:gd name="adj1" fmla="val 500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059"/>
            <p:cNvCxnSpPr>
              <a:stCxn id="47" idx="0"/>
              <a:endCxn id="53" idx="2"/>
            </p:cNvCxnSpPr>
            <p:nvPr/>
          </p:nvCxnSpPr>
          <p:spPr>
            <a:xfrm flipH="1" flipV="1" rot="5400000">
              <a:off x="4725360" y="1135080"/>
              <a:ext cx="352800" cy="710280"/>
            </a:xfrm>
            <a:prstGeom prst="bentConnector3">
              <a:avLst>
                <a:gd name="adj1" fmla="val 500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2058"/>
            <p:cNvCxnSpPr>
              <a:stCxn id="50" idx="0"/>
              <a:endCxn id="53" idx="2"/>
            </p:cNvCxnSpPr>
            <p:nvPr/>
          </p:nvCxnSpPr>
          <p:spPr>
            <a:xfrm flipH="1" flipV="1" rot="5400000">
              <a:off x="4014000" y="423720"/>
              <a:ext cx="352800" cy="2133000"/>
            </a:xfrm>
            <a:prstGeom prst="bentConnector5">
              <a:avLst>
                <a:gd name="adj1" fmla="val 65781"/>
                <a:gd name="adj2" fmla="val 50000"/>
                <a:gd name="adj3" fmla="val 34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2054"/>
            <p:cNvSpPr/>
            <p:nvPr/>
          </p:nvSpPr>
          <p:spPr>
            <a:xfrm>
              <a:off x="4647240" y="609480"/>
              <a:ext cx="121932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2514600" y="1666440"/>
              <a:ext cx="121932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6"/>
            <p:cNvSpPr/>
            <p:nvPr/>
          </p:nvSpPr>
          <p:spPr>
            <a:xfrm>
              <a:off x="3937320" y="1666440"/>
              <a:ext cx="121932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7"/>
            <p:cNvSpPr/>
            <p:nvPr/>
          </p:nvSpPr>
          <p:spPr>
            <a:xfrm>
              <a:off x="5360040" y="1666440"/>
              <a:ext cx="121932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61"/>
            <p:cNvSpPr/>
            <p:nvPr/>
          </p:nvSpPr>
          <p:spPr>
            <a:xfrm>
              <a:off x="6782760" y="1666440"/>
              <a:ext cx="121788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C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5"/>
            <p:cNvSpPr/>
            <p:nvPr/>
          </p:nvSpPr>
          <p:spPr>
            <a:xfrm>
              <a:off x="2514600" y="2723760"/>
              <a:ext cx="121932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IC F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9"/>
            <p:cNvSpPr/>
            <p:nvPr/>
          </p:nvSpPr>
          <p:spPr>
            <a:xfrm>
              <a:off x="3937320" y="2723760"/>
              <a:ext cx="1219320" cy="704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IC 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" name="WindowsMediaPlayer1"/>
          <p:cNvGraphicFramePr/>
          <p:nvPr/>
        </p:nvGraphicFramePr>
        <p:xfrm>
          <a:off x="3886200" y="2590920"/>
          <a:ext cx="3733920" cy="28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90920"/>
                    <a:ext cx="373392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WindowsMediaPlayer1"/>
          <p:cNvGraphicFramePr/>
          <p:nvPr/>
        </p:nvGraphicFramePr>
        <p:xfrm>
          <a:off x="4653000" y="2517840"/>
          <a:ext cx="402912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3000" y="2517840"/>
                    <a:ext cx="402912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C 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C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3:58:29Z</dcterms:created>
  <dc:creator>lecturer</dc:creator>
  <dc:description/>
  <dc:language>en-US</dc:language>
  <cp:lastModifiedBy>lecturer</cp:lastModifiedBy>
  <dcterms:modified xsi:type="dcterms:W3CDTF">2011-09-28T04:28:46Z</dcterms:modified>
  <cp:revision>2</cp:revision>
  <dc:subject/>
  <dc:title>Slide 1</dc:title>
</cp:coreProperties>
</file>