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737A-F9E6-4246-A727-F3B8DA332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D2A-9B2E-482F-8D91-4AFF472B4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9AB8-4843-4220-8D87-0C3646A5A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C8CC-96C1-4ADE-AA68-4A7ADC2E6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7C12-1897-4902-9DC0-84E28BDA2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3EE1-02E7-4417-A43B-1C0178AF6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6F5-B34A-4107-AC61-4A90E7AFE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EC37-787E-42D6-B27B-38C2B0D5D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50E4-15DB-4B13-BF1B-5B2FF86FD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9110-F154-405A-85B8-ECD412524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DCB5-D255-4939-9709-A465EC03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37259-4606-435C-B579-48020A443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D52A1-AC9F-46E1-A0E6-A67FF747F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slide" Target="slide6.xml"/><Relationship Id="rId4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CQ on Safe Driv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Basic requirement to drive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2057400"/>
            <a:ext cx="4419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By learning on your ow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28800" y="28954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Have a co-driver sit next to yo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37339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Have a driving instructor sit next to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45720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Have a valid driving licenc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205740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2895480"/>
            <a:ext cx="19051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29400" y="373392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457200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 Done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172200" y="548640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 to Q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ong ! Try 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6172200" y="5486400"/>
            <a:ext cx="259092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 Back to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. What condition below is not safe to drive 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20574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Drive with a co-dr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28800" y="289548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Observing speed lim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0" y="3733920"/>
            <a:ext cx="4419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After heavy dr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4572000"/>
            <a:ext cx="4419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. Drive carefu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" action="ppaction://hlinksldjump"/>
          </p:cNvPr>
          <p:cNvSpPr/>
          <p:nvPr/>
        </p:nvSpPr>
        <p:spPr>
          <a:xfrm>
            <a:off x="6629400" y="205740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2" action="ppaction://hlinksldjump"/>
          </p:cNvPr>
          <p:cNvSpPr/>
          <p:nvPr/>
        </p:nvSpPr>
        <p:spPr>
          <a:xfrm>
            <a:off x="6629400" y="2895480"/>
            <a:ext cx="190512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6629400" y="373392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629400" y="4572000"/>
            <a:ext cx="190512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Sel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ll Done 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81680" y="5486400"/>
            <a:ext cx="19814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rong ! Try agai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>
            <a:hlinkClick r:id="rId1" action="ppaction://hlinksldjump"/>
          </p:cNvPr>
          <p:cNvSpPr/>
          <p:nvPr/>
        </p:nvSpPr>
        <p:spPr>
          <a:xfrm>
            <a:off x="6781680" y="5486400"/>
            <a:ext cx="19814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Back to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400" cy="1069920"/>
          </a:xfrm>
          <a:prstGeom prst="rect">
            <a:avLst/>
          </a:prstGeom>
          <a:solidFill>
            <a:srgbClr val="ccffff"/>
          </a:solidFill>
          <a:ln w="28440">
            <a:solidFill>
              <a:srgbClr val="ff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ll Done !!! You scored 100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781680" y="5486400"/>
            <a:ext cx="198144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ck to MC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24:46Z</dcterms:created>
  <dc:creator>NIE</dc:creator>
  <dc:description/>
  <dc:language>en-US</dc:language>
  <cp:lastModifiedBy>NIE</cp:lastModifiedBy>
  <dcterms:modified xsi:type="dcterms:W3CDTF">2010-01-20T07:53:27Z</dcterms:modified>
  <cp:revision>12</cp:revision>
  <dc:subject/>
  <dc:title>MCO</dc:title>
</cp:coreProperties>
</file>