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560-F3C7-4A96-8A17-6C3C2711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593-AD20-4622-9690-D3800D9D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3D8-3B3E-4F28-BFE3-ABAF7945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A17-B54A-4725-BC95-2DD4792C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0E8-3D30-490C-AA38-7B7ABFC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155-F59C-4B59-B28D-CD8CAB0B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327-03E8-42B8-89C0-E0F9D56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C59-3453-4F4E-B742-0F620670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542-75F2-4351-93FD-0F96E12E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51A-85C2-4024-AB62-DFD11FC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9B9-B645-4C91-9586-5DDA73B6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CC8-719C-4488-8C24-EBC11C10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931-0877-4F11-AD42-6E401965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Q on Safe 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Basic requirement to drive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By learning on your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895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ave a co-driver sit next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733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Have a driving instructor sit next to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572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Have a valid driving lic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0574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2895480"/>
            <a:ext cx="19051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3733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5720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172200" y="54864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ong ! Try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6172200" y="54864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condition below is not safe to drive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057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rive with a co-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895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Observing speed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733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ter heavy d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572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Drive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6629400" y="20574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629400" y="2895480"/>
            <a:ext cx="19051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629400" y="3733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5720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ong ! Try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 Done !!! You scored 10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MC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24:46Z</dcterms:created>
  <dc:creator>NIE</dc:creator>
  <dc:description/>
  <dc:language>en-US</dc:language>
  <cp:lastModifiedBy>NIE</cp:lastModifiedBy>
  <dcterms:modified xsi:type="dcterms:W3CDTF">2010-01-20T07:53:27Z</dcterms:modified>
  <cp:revision>12</cp:revision>
  <dc:subject/>
  <dc:title>MCO</dc:title>
</cp:coreProperties>
</file>