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8FA-435C-4545-BDE0-39C2297E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ACE-FD1B-4741-95F2-554944C2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247-48A9-41C5-9E38-3110FCC3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56B-1B64-4933-B03A-DE9F4355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5BB-04B0-465B-8EC8-5FCECF0E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DAD-DAEF-4A41-955D-1EDF3BE6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1CA-0351-4FEA-A42B-18A024D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3BF-766F-4493-B125-122D0221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89B-9695-45A9-9F12-65692676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6EF-D6C5-411E-8720-A033902E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801-579A-479A-8B3D-5C10F4B4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8BA-7559-4FE5-A1B5-C92AB3DD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E4D5-5B9B-4F79-B31E-B6FD964E8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Q on Safe Dr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Basic requirement to drive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2057400"/>
            <a:ext cx="441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By learning on your 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895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ave a co-driver sit next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37339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Have a driving instructor sit next to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4572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Have a valid driving lic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20574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2895480"/>
            <a:ext cx="19051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373392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5720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 Done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172200" y="54864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ong ! Try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6172200" y="54864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Back to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condition below is not safe to drive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057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rive with a co-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895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Observing speed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7339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fter heavy dr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4572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Drive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6629400" y="20574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6629400" y="2895480"/>
            <a:ext cx="19051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6629400" y="373392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5720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 Done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5486400"/>
            <a:ext cx="1981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ong ! Try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6781680" y="5486400"/>
            <a:ext cx="1981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l Done !!! You scored 10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486400"/>
            <a:ext cx="1981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MC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24:46Z</dcterms:created>
  <dc:creator>NIE</dc:creator>
  <dc:description/>
  <dc:language>en-US</dc:language>
  <cp:lastModifiedBy>NIE</cp:lastModifiedBy>
  <dcterms:modified xsi:type="dcterms:W3CDTF">2010-01-20T07:53:27Z</dcterms:modified>
  <cp:revision>12</cp:revision>
  <dc:subject/>
  <dc:title>MCO</dc:title>
</cp:coreProperties>
</file>