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E8C7-22E3-4B26-A727-36DD6E09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341-5DB8-4343-821B-F72C2E5D7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9BAA-D4C0-4048-AE7C-46E58C8D1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5838-798E-47A8-8094-0171EEEDE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F002-69DB-4F7E-89ED-F7E3C5FB0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74C3-8B14-415E-8B1A-2E6F9C4C9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1D0-5D5F-4C0D-B1CD-88A8E684C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348B-6F45-42E8-B93C-3122A0CFF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CEEE-CED5-4564-BEB3-21ECA68DC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885A-1C35-467A-9C60-4A5704DF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5695-31AC-4B5A-B9A7-AB8D3D7F3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D49-7395-4C8B-9FA6-CAB2FF51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D9BF-4156-4919-A6AA-AC074BB02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cars.st701.com/cars/view/33713?title=used-bmw-3-series-saloon-m3-a-sports&amp;from=%2Fcars%2Fresults%3Fvehicle_type%3Dused" TargetMode="External"/><Relationship Id="rId5" Type="http://schemas.openxmlformats.org/officeDocument/2006/relationships/image" Target="../media/image4.jpeg"/><Relationship Id="rId6" Type="http://schemas.openxmlformats.org/officeDocument/2006/relationships/hyperlink" Target="carshttp://link.brightcove.com/services/player/bcpid1475282987?bclid=1475274950&amp;bctid=47505126001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s.st701.com/cars/view/37556?title=used-mercedesbenz-sclass-s350l-7gtronic-a-luxury&amp;from=%2Fcars%2Fresults%3Fvehicle_type%3Dused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9880" y="609480"/>
            <a:ext cx="464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5909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</a:rPr>
              <a:t>Welcome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3886200" y="1981080"/>
            <a:ext cx="4419360" cy="3809520"/>
            <a:chOff x="3886200" y="1981080"/>
            <a:chExt cx="4419360" cy="3809520"/>
          </a:xfrm>
        </p:grpSpPr>
        <p:cxnSp>
          <p:nvCxnSpPr>
            <p:cNvPr id="50" name="_s2077"/>
            <p:cNvCxnSpPr>
              <a:stCxn id="51" idx="0"/>
              <a:endCxn id="52" idx="2"/>
            </p:cNvCxnSpPr>
            <p:nvPr/>
          </p:nvCxnSpPr>
          <p:spPr>
            <a:xfrm flipV="1" rot="16200000">
              <a:off x="6935040" y="4654800"/>
              <a:ext cx="272880" cy="91116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" name="_s2075"/>
            <p:cNvCxnSpPr>
              <a:stCxn id="54" idx="0"/>
              <a:endCxn id="52" idx="2"/>
            </p:cNvCxnSpPr>
            <p:nvPr/>
          </p:nvCxnSpPr>
          <p:spPr>
            <a:xfrm flipH="1" flipV="1" rot="5400000">
              <a:off x="6024960" y="4656240"/>
              <a:ext cx="272880" cy="9086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5" name="_s2073"/>
            <p:cNvCxnSpPr>
              <a:stCxn id="56" idx="0"/>
              <a:endCxn id="57" idx="2"/>
            </p:cNvCxnSpPr>
            <p:nvPr/>
          </p:nvCxnSpPr>
          <p:spPr>
            <a:xfrm flipV="1" rot="16200000">
              <a:off x="6934320" y="3022200"/>
              <a:ext cx="272880" cy="91008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8" name="_s2071"/>
            <p:cNvCxnSpPr>
              <a:stCxn id="59" idx="0"/>
              <a:endCxn id="57" idx="2"/>
            </p:cNvCxnSpPr>
            <p:nvPr/>
          </p:nvCxnSpPr>
          <p:spPr>
            <a:xfrm flipH="1" flipV="1" rot="5400000">
              <a:off x="6024240" y="3022200"/>
              <a:ext cx="272880" cy="910440"/>
            </a:xfrm>
            <a:prstGeom prst="bentConnector3">
              <a:avLst>
                <a:gd name="adj1" fmla="val 500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0" name="_s2069"/>
            <p:cNvCxnSpPr>
              <a:stCxn id="52" idx="1"/>
              <a:endCxn id="61" idx="2"/>
            </p:cNvCxnSpPr>
            <p:nvPr/>
          </p:nvCxnSpPr>
          <p:spPr>
            <a:xfrm rot="10800000">
              <a:off x="4665960" y="2524680"/>
              <a:ext cx="1170360" cy="2177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2" name="_s2067"/>
            <p:cNvCxnSpPr>
              <a:stCxn id="57" idx="1"/>
              <a:endCxn id="61" idx="2"/>
            </p:cNvCxnSpPr>
            <p:nvPr/>
          </p:nvCxnSpPr>
          <p:spPr>
            <a:xfrm rot="10800000">
              <a:off x="4665960" y="2524680"/>
              <a:ext cx="1170360" cy="544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1" name="_s2063"/>
            <p:cNvSpPr/>
            <p:nvPr/>
          </p:nvSpPr>
          <p:spPr>
            <a:xfrm>
              <a:off x="3886200" y="19810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ypes of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Vehicl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_s2064"/>
            <p:cNvSpPr/>
            <p:nvPr/>
          </p:nvSpPr>
          <p:spPr>
            <a:xfrm>
              <a:off x="5835960" y="279720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_s2066"/>
            <p:cNvSpPr/>
            <p:nvPr/>
          </p:nvSpPr>
          <p:spPr>
            <a:xfrm>
              <a:off x="5835960" y="443016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_s2070"/>
            <p:cNvSpPr/>
            <p:nvPr/>
          </p:nvSpPr>
          <p:spPr>
            <a:xfrm>
              <a:off x="49258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aloon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_s2072"/>
            <p:cNvSpPr/>
            <p:nvPr/>
          </p:nvSpPr>
          <p:spPr>
            <a:xfrm>
              <a:off x="6745680" y="361368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Sports Car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_s2074"/>
            <p:cNvSpPr/>
            <p:nvPr/>
          </p:nvSpPr>
          <p:spPr>
            <a:xfrm>
              <a:off x="4927680" y="5246640"/>
              <a:ext cx="15598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Heavy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_s2076"/>
            <p:cNvSpPr/>
            <p:nvPr/>
          </p:nvSpPr>
          <p:spPr>
            <a:xfrm>
              <a:off x="6747480" y="5246640"/>
              <a:ext cx="1558080" cy="54396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spcBef>
                  <a:spcPts val="1063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3300"/>
                  </a:solidFill>
                  <a:latin typeface="Arial"/>
                </a:rPr>
                <a:t>Light Truck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495680" y="243828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6600"/>
                </a:solidFill>
                <a:latin typeface="Arial"/>
              </a:rPr>
              <a:t>Saloon Car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609480" y="4568760"/>
            <a:ext cx="3200400" cy="108108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219320" y="579132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4.85549E-006 L 0.62916 0.00486 E">
                                      <p:cBhvr>
                                        <p:cTn id="12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8320" y="1752480"/>
            <a:ext cx="3504960" cy="26416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5486400" y="4724280"/>
            <a:ext cx="167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orts C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426708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Click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eblink1</a:t>
            </a:r>
            <a:r>
              <a:rPr b="0" lang="en-US" sz="1800" spc="-1" strike="noStrike" u="sng">
                <a:solidFill>
                  <a:srgbClr val="ff6600"/>
                </a:solidFill>
                <a:uFillTx/>
                <a:latin typeface="Arial"/>
              </a:rPr>
              <a:t> to view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4267080"/>
            <a:ext cx="358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Heavy Tru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48006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more information on Parakeet care, click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link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4114800" y="1676520"/>
            <a:ext cx="40384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48120" y="38098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Light Truck – Pick-u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066680" y="4419720"/>
            <a:ext cx="19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429000" y="1828800"/>
            <a:ext cx="518148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2120" y="1447920"/>
            <a:ext cx="754380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6094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>
            <a:hlinkClick r:id="" action="ppaction://hlinkshowjump?jump=firstslide"/>
          </p:cNvPr>
          <p:cNvSpPr/>
          <p:nvPr/>
        </p:nvSpPr>
        <p:spPr>
          <a:xfrm>
            <a:off x="4191120" y="61722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2697" y="10800"/>
                </a:moveTo>
                <a:lnTo>
                  <a:pt x="23202" y="3794"/>
                </a:lnTo>
                <a:lnTo>
                  <a:pt x="23202" y="17806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10852" y="3794"/>
                </a:lnTo>
                <a:lnTo>
                  <a:pt x="10852" y="17806"/>
                </a:lnTo>
                <a:lnTo>
                  <a:pt x="918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>
            <a:hlinkClick r:id="" action="ppaction://hlinkshowjump?jump=previousslide"/>
          </p:cNvPr>
          <p:cNvSpPr/>
          <p:nvPr/>
        </p:nvSpPr>
        <p:spPr>
          <a:xfrm>
            <a:off x="487692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10800"/>
                </a:moveTo>
                <a:lnTo>
                  <a:pt x="21401" y="3794"/>
                </a:lnTo>
                <a:lnTo>
                  <a:pt x="2140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>
            <a:hlinkClick r:id="" action="ppaction://hlinkshowjump?jump=nextslide"/>
          </p:cNvPr>
          <p:cNvSpPr/>
          <p:nvPr/>
        </p:nvSpPr>
        <p:spPr>
          <a:xfrm>
            <a:off x="5486400" y="617220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7388" y="3794"/>
                </a:moveTo>
                <a:lnTo>
                  <a:pt x="21401" y="10800"/>
                </a:lnTo>
                <a:lnTo>
                  <a:pt x="738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>
            <a:hlinkClick r:id="" action="ppaction://hlinkshowjump?jump=lastslide"/>
          </p:cNvPr>
          <p:cNvSpPr/>
          <p:nvPr/>
        </p:nvSpPr>
        <p:spPr>
          <a:xfrm>
            <a:off x="60958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7902" y="10800"/>
                </a:moveTo>
                <a:lnTo>
                  <a:pt x="7396" y="17806"/>
                </a:lnTo>
                <a:lnTo>
                  <a:pt x="7396" y="3794"/>
                </a:lnTo>
                <a:close/>
              </a:path>
              <a:path fill="darken" w="28806" h="21600">
                <a:moveTo>
                  <a:pt x="19747" y="3794"/>
                </a:moveTo>
                <a:lnTo>
                  <a:pt x="19747" y="17806"/>
                </a:lnTo>
                <a:lnTo>
                  <a:pt x="21409" y="17806"/>
                </a:lnTo>
                <a:lnTo>
                  <a:pt x="21409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>
            <a:hlinkClick r:id="" action="ppaction://hlinkshowjump?jump=firstslide"/>
          </p:cNvPr>
          <p:cNvSpPr/>
          <p:nvPr/>
        </p:nvSpPr>
        <p:spPr>
          <a:xfrm>
            <a:off x="3581280" y="6172200"/>
            <a:ext cx="609840" cy="457200"/>
          </a:xfrm>
          <a:custGeom>
            <a:avLst/>
            <a:gdLst>
              <a:gd name="textAreaLeft" fmla="*/ 29520 w 609840"/>
              <a:gd name="textAreaRight" fmla="*/ 580320 w 60984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806" h="21600">
                <a:moveTo>
                  <a:pt x="0" y="0"/>
                </a:moveTo>
                <a:lnTo>
                  <a:pt x="28806" y="0"/>
                </a:lnTo>
                <a:lnTo>
                  <a:pt x="28806" y="21600"/>
                </a:lnTo>
                <a:lnTo>
                  <a:pt x="0" y="21600"/>
                </a:lnTo>
                <a:close/>
              </a:path>
              <a:path fill="lightenLess" w="28806" h="21600">
                <a:moveTo>
                  <a:pt x="0" y="0"/>
                </a:moveTo>
                <a:lnTo>
                  <a:pt x="28806" y="0"/>
                </a:lnTo>
                <a:lnTo>
                  <a:pt x="27406" y="1400"/>
                </a:lnTo>
                <a:lnTo>
                  <a:pt x="1400" y="1400"/>
                </a:lnTo>
                <a:close/>
              </a:path>
              <a:path fill="darken" w="28806" h="21600">
                <a:moveTo>
                  <a:pt x="28806" y="0"/>
                </a:moveTo>
                <a:lnTo>
                  <a:pt x="28806" y="21600"/>
                </a:lnTo>
                <a:lnTo>
                  <a:pt x="27406" y="20200"/>
                </a:lnTo>
                <a:lnTo>
                  <a:pt x="27406" y="1400"/>
                </a:lnTo>
                <a:close/>
              </a:path>
              <a:path fill="darkenLess" w="28806" h="21600">
                <a:moveTo>
                  <a:pt x="288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6" y="20200"/>
                </a:lnTo>
                <a:close/>
              </a:path>
              <a:path fill="lighten" w="288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6" h="21600">
                <a:moveTo>
                  <a:pt x="14403" y="3837"/>
                </a:moveTo>
                <a:lnTo>
                  <a:pt x="16979" y="6448"/>
                </a:ln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lnTo>
                  <a:pt x="21366" y="10800"/>
                </a:lnTo>
                <a:lnTo>
                  <a:pt x="19712" y="10800"/>
                </a:lnTo>
                <a:lnTo>
                  <a:pt x="19712" y="17989"/>
                </a:lnTo>
                <a:lnTo>
                  <a:pt x="9094" y="17989"/>
                </a:lnTo>
                <a:lnTo>
                  <a:pt x="9094" y="10800"/>
                </a:lnTo>
                <a:lnTo>
                  <a:pt x="7440" y="10800"/>
                </a:lnTo>
                <a:close/>
              </a:path>
              <a:path fill="darkenLess" w="28806" h="21600">
                <a:moveTo>
                  <a:pt x="16979" y="6448"/>
                </a:moveTo>
                <a:lnTo>
                  <a:pt x="16979" y="4707"/>
                </a:lnTo>
                <a:lnTo>
                  <a:pt x="18755" y="4707"/>
                </a:lnTo>
                <a:lnTo>
                  <a:pt x="18755" y="8224"/>
                </a:lnTo>
                <a:close/>
              </a:path>
              <a:path fill="darkenLess" w="28806" h="21600">
                <a:moveTo>
                  <a:pt x="13480" y="14299"/>
                </a:moveTo>
                <a:lnTo>
                  <a:pt x="15325" y="14299"/>
                </a:lnTo>
                <a:lnTo>
                  <a:pt x="15325" y="17989"/>
                </a:lnTo>
                <a:lnTo>
                  <a:pt x="19712" y="17989"/>
                </a:lnTo>
                <a:lnTo>
                  <a:pt x="19712" y="10800"/>
                </a:lnTo>
                <a:lnTo>
                  <a:pt x="9094" y="10800"/>
                </a:lnTo>
                <a:lnTo>
                  <a:pt x="9094" y="17989"/>
                </a:lnTo>
                <a:lnTo>
                  <a:pt x="13480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2971800"/>
            <a:ext cx="6248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6600"/>
                </a:solidFill>
                <a:latin typeface="Arial"/>
              </a:rPr>
              <a:t>Thank You for viewing !!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809880" y="609480"/>
            <a:ext cx="464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Types of Vehic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295280" y="457200"/>
            <a:ext cx="2133720" cy="16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26:42Z</dcterms:created>
  <dc:creator>NIE</dc:creator>
  <dc:description/>
  <dc:language>en-US</dc:language>
  <cp:lastModifiedBy>NIE</cp:lastModifiedBy>
  <dcterms:modified xsi:type="dcterms:W3CDTF">2010-01-20T07:35:35Z</dcterms:modified>
  <cp:revision>16</cp:revision>
  <dc:subject/>
  <dc:title>Slide 1</dc:title>
</cp:coreProperties>
</file>