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191-1512-4E4B-BB7D-ED703103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D49-0C1A-4B0B-B6D4-A64485A7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023-5BCF-4395-96BA-009F7D2C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EDB-6767-48CE-9786-8A0C769D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EE7-25AF-408A-87E1-7732008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ABD-2E0F-46EC-9CAA-64DD3BE6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C20-3518-4549-B0C8-958805F5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331-99C0-4506-8452-1C849A0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D6C-E6A2-4E53-8610-E6610DF5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9ED-6658-4B81-B3B9-9633EF0D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035-D781-4429-BE0F-CC8BF9B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2E0-5C7B-4AC8-8A38-D78C4D07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003A-EF8B-415A-8F69-13395091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cars.st701.com/cars/view/33713?title=used-bmw-3-series-saloon-m3-a-sports&amp;from=%2Fcars%2Fresults%3Fvehicle_type%3Dused" TargetMode="External"/><Relationship Id="rId5" Type="http://schemas.openxmlformats.org/officeDocument/2006/relationships/image" Target="../media/image4.jpeg"/><Relationship Id="rId6" Type="http://schemas.openxmlformats.org/officeDocument/2006/relationships/hyperlink" Target="carshttp://link.brightcove.com/services/player/bcpid1475282987?bclid=1475274950&amp;bctid=47505126001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609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elco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86200" y="1981080"/>
            <a:ext cx="4419360" cy="3809520"/>
            <a:chOff x="3886200" y="1981080"/>
            <a:chExt cx="4419360" cy="3809520"/>
          </a:xfrm>
        </p:grpSpPr>
        <p:cxnSp>
          <p:nvCxnSpPr>
            <p:cNvPr id="50" name="_s2077"/>
            <p:cNvCxnSpPr>
              <a:stCxn id="51" idx="0"/>
              <a:endCxn id="52" idx="2"/>
            </p:cNvCxnSpPr>
            <p:nvPr/>
          </p:nvCxnSpPr>
          <p:spPr>
            <a:xfrm flipV="1" rot="16200000">
              <a:off x="6935040" y="4654800"/>
              <a:ext cx="272880" cy="91116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75"/>
            <p:cNvCxnSpPr>
              <a:stCxn id="54" idx="0"/>
              <a:endCxn id="52" idx="2"/>
            </p:cNvCxnSpPr>
            <p:nvPr/>
          </p:nvCxnSpPr>
          <p:spPr>
            <a:xfrm flipH="1" flipV="1" rot="5400000">
              <a:off x="6024960" y="4656240"/>
              <a:ext cx="272880" cy="90864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73"/>
            <p:cNvCxnSpPr>
              <a:stCxn id="56" idx="0"/>
              <a:endCxn id="57" idx="2"/>
            </p:cNvCxnSpPr>
            <p:nvPr/>
          </p:nvCxnSpPr>
          <p:spPr>
            <a:xfrm flipV="1" rot="16200000">
              <a:off x="6934320" y="3022200"/>
              <a:ext cx="272880" cy="91008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071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6024240" y="3022200"/>
              <a:ext cx="272880" cy="91044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69"/>
            <p:cNvCxnSpPr>
              <a:stCxn id="52" idx="1"/>
              <a:endCxn id="61" idx="2"/>
            </p:cNvCxnSpPr>
            <p:nvPr/>
          </p:nvCxnSpPr>
          <p:spPr>
            <a:xfrm rot="10800000">
              <a:off x="4665960" y="2524680"/>
              <a:ext cx="117036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067"/>
            <p:cNvCxnSpPr>
              <a:stCxn id="57" idx="1"/>
              <a:endCxn id="61" idx="2"/>
            </p:cNvCxnSpPr>
            <p:nvPr/>
          </p:nvCxnSpPr>
          <p:spPr>
            <a:xfrm rot="10800000">
              <a:off x="4665960" y="2524680"/>
              <a:ext cx="1170360" cy="54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2063"/>
            <p:cNvSpPr/>
            <p:nvPr/>
          </p:nvSpPr>
          <p:spPr>
            <a:xfrm>
              <a:off x="3886200" y="19810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Types of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Vehic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64"/>
            <p:cNvSpPr/>
            <p:nvPr/>
          </p:nvSpPr>
          <p:spPr>
            <a:xfrm>
              <a:off x="5835960" y="279720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66"/>
            <p:cNvSpPr/>
            <p:nvPr/>
          </p:nvSpPr>
          <p:spPr>
            <a:xfrm>
              <a:off x="5835960" y="443016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70"/>
            <p:cNvSpPr/>
            <p:nvPr/>
          </p:nvSpPr>
          <p:spPr>
            <a:xfrm>
              <a:off x="4925880" y="36136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Saloon 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72"/>
            <p:cNvSpPr/>
            <p:nvPr/>
          </p:nvSpPr>
          <p:spPr>
            <a:xfrm>
              <a:off x="6745680" y="36136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Sports 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4"/>
            <p:cNvSpPr/>
            <p:nvPr/>
          </p:nvSpPr>
          <p:spPr>
            <a:xfrm>
              <a:off x="4927680" y="524664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Heavy 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76"/>
            <p:cNvSpPr/>
            <p:nvPr/>
          </p:nvSpPr>
          <p:spPr>
            <a:xfrm>
              <a:off x="6747480" y="5246640"/>
              <a:ext cx="15580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Light 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4382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Saloon C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5687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5549E-006 L 0.62916 0.00486 E">
                                      <p:cBhvr>
                                        <p:cTn id="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752480"/>
            <a:ext cx="3504960" cy="2641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8640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s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267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link1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 to view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267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eavy Tr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on Parakeet care,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link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114800" y="16765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8098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Light Truck – Pick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51814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9718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Thank You for viewing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26:42Z</dcterms:created>
  <dc:creator>NIE</dc:creator>
  <dc:description/>
  <dc:language>en-US</dc:language>
  <cp:lastModifiedBy>NIE</cp:lastModifiedBy>
  <dcterms:modified xsi:type="dcterms:W3CDTF">2010-01-20T07:35:35Z</dcterms:modified>
  <cp:revision>16</cp:revision>
  <dc:subject/>
  <dc:title>Slide 1</dc:title>
</cp:coreProperties>
</file>