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603-D955-4EE3-A820-AB6C4E67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F82-76EE-4368-ADA9-8B17F667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F98-3829-4537-BD7E-D94E1DD4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CF5-92E3-4323-AAF6-051F9045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092-4627-48B3-B3FE-CDACCC5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A85-DD06-4CFA-9758-BA83479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340-9318-4853-946D-38145BE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EF0-9B3F-464F-911B-B3A5475F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B88-E5D2-408B-A6E9-4D540A5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ED4-AD04-4B84-A3A5-F4ECA84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773-C212-4B16-859D-D6528E2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4F7-9FE2-46D0-B61A-A4CB409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4AB-42D1-421E-96E9-4213F5BD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cars.st701.com/cars/view/33713?title=used-bmw-3-series-saloon-m3-a-sports&amp;from=%2Fcars%2Fresults%3Fvehicle_type%3Dused" TargetMode="External"/><Relationship Id="rId5" Type="http://schemas.openxmlformats.org/officeDocument/2006/relationships/image" Target="../media/image4.jpeg"/><Relationship Id="rId6" Type="http://schemas.openxmlformats.org/officeDocument/2006/relationships/hyperlink" Target="carshttp://link.brightcove.com/services/player/bcpid1475282987?bclid=1475274950&amp;bctid=47505126001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609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elco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86200" y="1981080"/>
            <a:ext cx="4419360" cy="3809520"/>
            <a:chOff x="3886200" y="1981080"/>
            <a:chExt cx="4419360" cy="3809520"/>
          </a:xfrm>
        </p:grpSpPr>
        <p:cxnSp>
          <p:nvCxnSpPr>
            <p:cNvPr id="50" name="_s2077"/>
            <p:cNvCxnSpPr>
              <a:stCxn id="51" idx="0"/>
              <a:endCxn id="52" idx="2"/>
            </p:cNvCxnSpPr>
            <p:nvPr/>
          </p:nvCxnSpPr>
          <p:spPr>
            <a:xfrm flipV="1" rot="16200000">
              <a:off x="6935040" y="4654800"/>
              <a:ext cx="272880" cy="91116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75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6024960" y="4656240"/>
              <a:ext cx="272880" cy="9086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73"/>
            <p:cNvCxnSpPr>
              <a:stCxn id="56" idx="0"/>
              <a:endCxn id="57" idx="2"/>
            </p:cNvCxnSpPr>
            <p:nvPr/>
          </p:nvCxnSpPr>
          <p:spPr>
            <a:xfrm flipV="1" rot="16200000">
              <a:off x="6934320" y="3022200"/>
              <a:ext cx="272880" cy="91008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71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6024240" y="3022200"/>
              <a:ext cx="272880" cy="9104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69"/>
            <p:cNvCxnSpPr>
              <a:stCxn id="52" idx="1"/>
              <a:endCxn id="61" idx="2"/>
            </p:cNvCxnSpPr>
            <p:nvPr/>
          </p:nvCxnSpPr>
          <p:spPr>
            <a:xfrm rot="10800000">
              <a:off x="4665960" y="2524680"/>
              <a:ext cx="117036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067"/>
            <p:cNvCxnSpPr>
              <a:stCxn id="57" idx="1"/>
              <a:endCxn id="61" idx="2"/>
            </p:cNvCxnSpPr>
            <p:nvPr/>
          </p:nvCxnSpPr>
          <p:spPr>
            <a:xfrm rot="10800000">
              <a:off x="4665960" y="2524680"/>
              <a:ext cx="1170360" cy="54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2063"/>
            <p:cNvSpPr/>
            <p:nvPr/>
          </p:nvSpPr>
          <p:spPr>
            <a:xfrm>
              <a:off x="3886200" y="19810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ypes of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Vehic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4"/>
            <p:cNvSpPr/>
            <p:nvPr/>
          </p:nvSpPr>
          <p:spPr>
            <a:xfrm>
              <a:off x="5835960" y="279720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6"/>
            <p:cNvSpPr/>
            <p:nvPr/>
          </p:nvSpPr>
          <p:spPr>
            <a:xfrm>
              <a:off x="5835960" y="443016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70"/>
            <p:cNvSpPr/>
            <p:nvPr/>
          </p:nvSpPr>
          <p:spPr>
            <a:xfrm>
              <a:off x="49258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aloon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72"/>
            <p:cNvSpPr/>
            <p:nvPr/>
          </p:nvSpPr>
          <p:spPr>
            <a:xfrm>
              <a:off x="67456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ports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4"/>
            <p:cNvSpPr/>
            <p:nvPr/>
          </p:nvSpPr>
          <p:spPr>
            <a:xfrm>
              <a:off x="4927680" y="524664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Heavy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6"/>
            <p:cNvSpPr/>
            <p:nvPr/>
          </p:nvSpPr>
          <p:spPr>
            <a:xfrm>
              <a:off x="6747480" y="5246640"/>
              <a:ext cx="15580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Light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4382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Saloon C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5687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5549E-006 L 0.62916 0.00486 E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752480"/>
            <a:ext cx="3504960" cy="2641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8640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267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link1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 to view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267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eavy Tr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on Parakeet care,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link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114800" y="16765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809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Light Truck – Pick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51814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9718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Thank You for viewing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26:42Z</dcterms:created>
  <dc:creator>NIE</dc:creator>
  <dc:description/>
  <dc:language>en-US</dc:language>
  <cp:lastModifiedBy>NIE</cp:lastModifiedBy>
  <dcterms:modified xsi:type="dcterms:W3CDTF">2010-01-20T07:35:35Z</dcterms:modified>
  <cp:revision>16</cp:revision>
  <dc:subject/>
  <dc:title>Slide 1</dc:title>
</cp:coreProperties>
</file>