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F1B4-6BDD-4C5A-A3EE-F5E0D56A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0EFC-3CAD-4735-A1BD-12D7B5EB4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B579-E555-4F2F-B9F2-5D511D405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268-DA9C-475E-B789-41D4C8F0A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2EDB-E50E-42A4-9E4D-2C6C922F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E7DC-C747-4732-9CD1-B3CFEFEA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FBEB-0034-4076-8B44-049E428B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8655-4521-43DF-84AA-282BAAFD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DD3A-5B1E-4FF3-B754-38F8BC369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861D-9617-4905-9AD6-B0EA40966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4E23-CA15-4B9D-B7C7-FD3B53638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1F9-C1EC-4812-8B73-9874A0CF1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8343-7242-43D3-B5E5-F503744A6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37360" y="1955880"/>
            <a:ext cx="3230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HJ  math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457200" y="274680"/>
          <a:ext cx="8229240" cy="585108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292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1279440" y="156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1" action="ppaction://hlinksldjump"/>
          </p:cNvPr>
          <p:cNvSpPr/>
          <p:nvPr/>
        </p:nvSpPr>
        <p:spPr>
          <a:xfrm>
            <a:off x="1966680" y="1270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1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602100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4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3" action="ppaction://hlinksldjump"/>
          </p:cNvPr>
          <p:cNvSpPr/>
          <p:nvPr/>
        </p:nvSpPr>
        <p:spPr>
          <a:xfrm>
            <a:off x="2058840" y="426708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3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4" action="ppaction://hlinksldjump"/>
          </p:cNvPr>
          <p:cNvSpPr/>
          <p:nvPr/>
        </p:nvSpPr>
        <p:spPr>
          <a:xfrm>
            <a:off x="5868720" y="1219320"/>
            <a:ext cx="1197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Arial"/>
              </a:rPr>
              <a:t>Q2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1: (5 X 9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2: (5 X 5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3: (5 X 7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" action="ppaction://hlinksldjump"/>
          </p:cNvPr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2" action="ppaction://hlinksldjump"/>
          </p:cNvPr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3" action="ppaction://hlinksldjump"/>
          </p:cNvPr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>
            <a:hlinkClick r:id="rId4" action="ppaction://hlinksldjump"/>
          </p:cNvPr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90000" y="380880"/>
            <a:ext cx="520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Q4: (5 X 3) + 5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880" y="220968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) 5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80" y="32004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) 4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80" y="419112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) 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80" y="5257800"/>
            <a:ext cx="133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) 2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4880" y="1600200"/>
            <a:ext cx="740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rong answer!!! Stupid fellow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11640" y="4989600"/>
            <a:ext cx="191808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ease Try A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61880" y="1523880"/>
            <a:ext cx="771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rrect!!! As smart as me… hah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78840" y="5257800"/>
            <a:ext cx="108288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1680" y="4191120"/>
            <a:ext cx="4272840" cy="7034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other ques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059920" y="2971800"/>
            <a:ext cx="475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anks for playing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2:00:08Z</dcterms:created>
  <dc:creator>NIE</dc:creator>
  <dc:description/>
  <dc:language>en-US</dc:language>
  <cp:lastModifiedBy>NIE</cp:lastModifiedBy>
  <dcterms:modified xsi:type="dcterms:W3CDTF">2010-01-20T06:37:06Z</dcterms:modified>
  <cp:revision>2</cp:revision>
  <dc:subject/>
  <dc:title>Slide 1</dc:title>
</cp:coreProperties>
</file>