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017B-400B-4861-9807-E108C1CC2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7764-E504-416F-954D-E143F5018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078D-748D-4BB1-BCC0-E7A5C7351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B1CA-6903-4493-B0A1-2E1F72E5F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43CF-F646-4530-A51F-15644D652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242C-427B-4737-849D-800C8846A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BC5C-5938-49C1-8F40-2A48ABEE8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F291-CA60-4CC4-95E0-D7B191204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01D8-4513-4631-8795-2FBBB6D51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EBF5-7829-4BF6-9F63-3F3DCA1CE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444B-288A-4E6C-909D-DB32E782B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ADE4-5187-4516-91CD-7CCC0C2A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3AB9F-0051-4AC1-B4D6-A0C5316737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37360" y="1955880"/>
            <a:ext cx="323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J  mat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457200" y="274680"/>
          <a:ext cx="8229240" cy="5851080"/>
        </p:xfrm>
        <a:graphic>
          <a:graphicData uri="http://schemas.openxmlformats.org/drawingml/2006/table">
            <a:tbl>
              <a:tblPr/>
              <a:tblGrid>
                <a:gridCol w="4114440"/>
                <a:gridCol w="4114800"/>
              </a:tblGrid>
              <a:tr h="292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1279440" y="15606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1" action="ppaction://hlinksldjump"/>
          </p:cNvPr>
          <p:cNvSpPr/>
          <p:nvPr/>
        </p:nvSpPr>
        <p:spPr>
          <a:xfrm>
            <a:off x="1966680" y="1270080"/>
            <a:ext cx="1197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Q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rId2" action="ppaction://hlinksldjump"/>
          </p:cNvPr>
          <p:cNvSpPr/>
          <p:nvPr/>
        </p:nvSpPr>
        <p:spPr>
          <a:xfrm>
            <a:off x="6021000" y="4267080"/>
            <a:ext cx="1197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Q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3" action="ppaction://hlinksldjump"/>
          </p:cNvPr>
          <p:cNvSpPr/>
          <p:nvPr/>
        </p:nvSpPr>
        <p:spPr>
          <a:xfrm>
            <a:off x="2058840" y="4267080"/>
            <a:ext cx="1197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Q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4" action="ppaction://hlinksldjump"/>
          </p:cNvPr>
          <p:cNvSpPr/>
          <p:nvPr/>
        </p:nvSpPr>
        <p:spPr>
          <a:xfrm>
            <a:off x="5868720" y="1219320"/>
            <a:ext cx="1197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Q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90000" y="380880"/>
            <a:ext cx="520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Q1: (5 X 9) + 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1" action="ppaction://hlinksldjump"/>
          </p:cNvPr>
          <p:cNvSpPr/>
          <p:nvPr/>
        </p:nvSpPr>
        <p:spPr>
          <a:xfrm>
            <a:off x="2880" y="2209680"/>
            <a:ext cx="133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) 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2" action="ppaction://hlinksldjump"/>
          </p:cNvPr>
          <p:cNvSpPr/>
          <p:nvPr/>
        </p:nvSpPr>
        <p:spPr>
          <a:xfrm>
            <a:off x="2880" y="3200400"/>
            <a:ext cx="133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) 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3" action="ppaction://hlinksldjump"/>
          </p:cNvPr>
          <p:cNvSpPr/>
          <p:nvPr/>
        </p:nvSpPr>
        <p:spPr>
          <a:xfrm>
            <a:off x="2880" y="4191120"/>
            <a:ext cx="133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) 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4" action="ppaction://hlinksldjump"/>
          </p:cNvPr>
          <p:cNvSpPr/>
          <p:nvPr/>
        </p:nvSpPr>
        <p:spPr>
          <a:xfrm>
            <a:off x="2880" y="5257800"/>
            <a:ext cx="133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) 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990000" y="380880"/>
            <a:ext cx="520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Q2: (5 X 5) + 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1" action="ppaction://hlinksldjump"/>
          </p:cNvPr>
          <p:cNvSpPr/>
          <p:nvPr/>
        </p:nvSpPr>
        <p:spPr>
          <a:xfrm>
            <a:off x="2880" y="2209680"/>
            <a:ext cx="133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) 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2" action="ppaction://hlinksldjump"/>
          </p:cNvPr>
          <p:cNvSpPr/>
          <p:nvPr/>
        </p:nvSpPr>
        <p:spPr>
          <a:xfrm>
            <a:off x="2880" y="3200400"/>
            <a:ext cx="133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) 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3" action="ppaction://hlinksldjump"/>
          </p:cNvPr>
          <p:cNvSpPr/>
          <p:nvPr/>
        </p:nvSpPr>
        <p:spPr>
          <a:xfrm>
            <a:off x="2880" y="4191120"/>
            <a:ext cx="133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) 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4" action="ppaction://hlinksldjump"/>
          </p:cNvPr>
          <p:cNvSpPr/>
          <p:nvPr/>
        </p:nvSpPr>
        <p:spPr>
          <a:xfrm>
            <a:off x="2880" y="5257800"/>
            <a:ext cx="133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) 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90000" y="380880"/>
            <a:ext cx="520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Q3: (5 X 7) + 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1" action="ppaction://hlinksldjump"/>
          </p:cNvPr>
          <p:cNvSpPr/>
          <p:nvPr/>
        </p:nvSpPr>
        <p:spPr>
          <a:xfrm>
            <a:off x="2880" y="2209680"/>
            <a:ext cx="133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) 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2" action="ppaction://hlinksldjump"/>
          </p:cNvPr>
          <p:cNvSpPr/>
          <p:nvPr/>
        </p:nvSpPr>
        <p:spPr>
          <a:xfrm>
            <a:off x="2880" y="3200400"/>
            <a:ext cx="133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) 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3" action="ppaction://hlinksldjump"/>
          </p:cNvPr>
          <p:cNvSpPr/>
          <p:nvPr/>
        </p:nvSpPr>
        <p:spPr>
          <a:xfrm>
            <a:off x="2880" y="4191120"/>
            <a:ext cx="133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) 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4" action="ppaction://hlinksldjump"/>
          </p:cNvPr>
          <p:cNvSpPr/>
          <p:nvPr/>
        </p:nvSpPr>
        <p:spPr>
          <a:xfrm>
            <a:off x="2880" y="5257800"/>
            <a:ext cx="133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) 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990000" y="380880"/>
            <a:ext cx="520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Q4: (5 X 3) + 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880" y="2209680"/>
            <a:ext cx="133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) 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80" y="3200400"/>
            <a:ext cx="133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) 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80" y="4191120"/>
            <a:ext cx="133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) 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80" y="5257800"/>
            <a:ext cx="133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) 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14880" y="1600200"/>
            <a:ext cx="740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rong answer!!! Stupid fellow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11640" y="4989600"/>
            <a:ext cx="1918080" cy="368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ase 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61880" y="1523880"/>
            <a:ext cx="771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rrect!!! As smart as me… hah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8840" y="5257800"/>
            <a:ext cx="1082880" cy="7034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351680" y="4191120"/>
            <a:ext cx="4272840" cy="7034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y other ques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059920" y="2971800"/>
            <a:ext cx="475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anks for playing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02:00:08Z</dcterms:created>
  <dc:creator>NIE</dc:creator>
  <dc:description/>
  <dc:language>en-US</dc:language>
  <cp:lastModifiedBy>NIE</cp:lastModifiedBy>
  <dcterms:modified xsi:type="dcterms:W3CDTF">2010-01-20T06:37:06Z</dcterms:modified>
  <cp:revision>2</cp:revision>
  <dc:subject/>
  <dc:title>Slide 1</dc:title>
</cp:coreProperties>
</file>