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EE2-5584-4D49-9167-88FA23F2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BB2-BA5C-43DD-92CA-32316BA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633-47B8-44B6-818E-7F84932A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5A1-AAA1-420E-881C-A55CE7AE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CAC-A940-433C-86FA-AEBF928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BAC-E8AC-40FB-9F21-DFD2FAF8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E5B-D69E-47CB-ADAB-A7ED6A4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76E-2726-4ED8-BB8A-F95545F9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9D2-DD53-4168-9D4B-D8D0552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CDA-34AD-4752-8FAD-D2023755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E60-BB73-4609-9D12-6997D3DE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EC4-F2E9-4F46-B448-A06E37B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8F7-E03E-480D-B078-A434E6C8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7360" y="195588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J  ma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9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2794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966680" y="1270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02100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05884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868720" y="12193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1: (5 X 9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2: (5 X 5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3: (5 X 7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4: (5 X 3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4880" y="16002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ong answer!!! Stupid fellow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1640" y="4989600"/>
            <a:ext cx="19180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1880" y="152388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!! As smart as me… ha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8840" y="5257800"/>
            <a:ext cx="108288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1680" y="4191120"/>
            <a:ext cx="427284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othe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920" y="2971800"/>
            <a:ext cx="47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 for play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0:08Z</dcterms:created>
  <dc:creator>NIE</dc:creator>
  <dc:description/>
  <dc:language>en-US</dc:language>
  <cp:lastModifiedBy>NIE</cp:lastModifiedBy>
  <dcterms:modified xsi:type="dcterms:W3CDTF">2010-01-20T06:37:06Z</dcterms:modified>
  <cp:revision>2</cp:revision>
  <dc:subject/>
  <dc:title>Slide 1</dc:title>
</cp:coreProperties>
</file>