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483-8831-48F3-ABC0-988373D4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B2F-E910-4254-9A6E-382F89C5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BD3-369F-485A-AD4A-EDCBFC42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BF1-328C-464C-B252-F024BB37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64A-A30C-4708-BCE1-D66DF528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0B6-7080-4446-A801-47499443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AE8-4B64-4FCF-BD86-CC623BF4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656-C5F2-42BA-AA01-FCCBA6A0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435-1989-4E5E-98AC-9FBD3B60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736-F1A1-4C9A-A19C-61F924C0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468-6969-45E8-BF50-5AE91297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349-1F18-417B-853B-86331CD5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EB66-1328-4EDA-9AED-30CF89F3B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- M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How do you pick up a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By its 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By the skin of the n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By its 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 By its 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8000" y="213372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8000" y="320040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83960" y="441972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3960" y="571500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’s correct! Well 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’s wrong! Try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68840" y="5522760"/>
            <a:ext cx="1867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to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3:57Z</dcterms:created>
  <dc:creator>NIE</dc:creator>
  <dc:description/>
  <dc:language>en-US</dc:language>
  <cp:lastModifiedBy>NIE</cp:lastModifiedBy>
  <dcterms:modified xsi:type="dcterms:W3CDTF">2010-01-20T01:49:53Z</dcterms:modified>
  <cp:revision>3</cp:revision>
  <dc:subject/>
  <dc:title>Quiz- MCQ</dc:title>
</cp:coreProperties>
</file>