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3C9B2-B51B-42FB-8953-C9A83AA16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98EFB-3B22-40AD-B91B-A37CBFD3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C65D0-CE00-499F-BF03-BBE8E83B7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0863-42BD-43FF-9656-2D684983C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E276-F0B8-41DF-92EE-1C777BABC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3EFF-07F9-4A57-B034-4EF14D2D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14AA-23AC-4262-BF29-1847B3995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3554-846D-4ABD-B4A7-6E4C61FFB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B5C0-7774-41DE-989F-D656C93D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EEDF0-120D-499C-AB8A-681C8149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2F8E-719F-48A8-ADB1-1097F8E2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DBB-7498-4CDA-BD72-7E0D5DB3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4CE0A-CAD6-4736-A832-D87179E7F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iz- MC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How do you pick up a kitt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2895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. By its tai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4038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. By the skin of the nec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752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. By its e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3341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 By its he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8000" y="213372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408000" y="320040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83960" y="441972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3960" y="5715000"/>
            <a:ext cx="1817640" cy="368280"/>
          </a:xfrm>
          <a:prstGeom prst="rect">
            <a:avLst/>
          </a:prstGeom>
          <a:solidFill>
            <a:srgbClr val="ff00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correct! Well 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t’s wrong! Try agai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68840" y="5522760"/>
            <a:ext cx="18676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to ques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3:57Z</dcterms:created>
  <dc:creator>NIE</dc:creator>
  <dc:description/>
  <dc:language>en-US</dc:language>
  <cp:lastModifiedBy>NIE</cp:lastModifiedBy>
  <dcterms:modified xsi:type="dcterms:W3CDTF">2010-01-20T01:49:53Z</dcterms:modified>
  <cp:revision>3</cp:revision>
  <dc:subject/>
  <dc:title>Quiz- MCQ</dc:title>
</cp:coreProperties>
</file>