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05E-7319-4EA2-8DF3-F8A6566F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5D1-601D-4386-B60B-94F2B60F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150-21E4-45F7-92DC-206A9554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EC9B-60F8-4CCC-86B8-20D39781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38F-1EC2-4CBA-A866-C043120A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9BD8-19C1-4926-A746-796292EC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12A-B6B2-4E6D-AC8F-A291A165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475-A570-43F6-A09C-E2185763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D39-9B14-4973-AF8A-D27D04FA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9ED-2E1E-4A92-B30C-288665CE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939-C0F5-448F-8C01-5266713B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78F-CDF6-4870-94D0-310414DC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BF6A-9970-42F7-89A1-5D9E3E233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- M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How do you pick up a k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By its 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038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By the skin of the n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By its 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. By its h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8000" y="2133720"/>
            <a:ext cx="181764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08000" y="3200400"/>
            <a:ext cx="181764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83960" y="4419720"/>
            <a:ext cx="181764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3960" y="5715000"/>
            <a:ext cx="181764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’s correct! Well 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’s wrong! Try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68840" y="5522760"/>
            <a:ext cx="18676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to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3:57Z</dcterms:created>
  <dc:creator>NIE</dc:creator>
  <dc:description/>
  <dc:language>en-US</dc:language>
  <cp:lastModifiedBy>NIE</cp:lastModifiedBy>
  <dcterms:modified xsi:type="dcterms:W3CDTF">2010-01-20T01:49:53Z</dcterms:modified>
  <cp:revision>3</cp:revision>
  <dc:subject/>
  <dc:title>Quiz- MCQ</dc:title>
</cp:coreProperties>
</file>