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606-F5FB-404A-88A9-6EE8744D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254A-0F41-4B96-87B7-E3DB77AB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3338-0059-457D-A53E-694B695D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5F01-95C8-40F2-A547-06F4CAB3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095B-CB44-441A-B250-E688321A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3F6A-EF35-4D83-925B-9106F0F1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BC37-7DB6-41C6-9655-153870F0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0DD7-A1B6-4027-AFB4-E3F1197A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C772-580A-4E5D-BBF6-09E3EA75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26C9-14E7-4768-B9CB-53D8200F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ED68-26F5-4F1E-BC6C-4BDB8D5F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071D-193C-4E12-BAAB-500CA810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ED69-42D3-463A-9D3B-221718351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Siz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lti Poo comes in a wide variety of sizes, but most are 6-15 in (15-38 cm) at the shoulders and weigh 5-15 lbs (2-7 kg). A Malti Poo with more Maltese influence will have a domed skull, whereas a Malti Poo with a higher Poodle influence will have the long, narrow muzzle characteristic of Pood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07:36:34Z</dcterms:created>
  <dc:creator>NIE</dc:creator>
  <dc:description/>
  <dc:language>en-US</dc:language>
  <cp:lastModifiedBy>NIE</cp:lastModifiedBy>
  <dcterms:modified xsi:type="dcterms:W3CDTF">2010-06-16T07:42:21Z</dcterms:modified>
  <cp:revision>2</cp:revision>
  <dc:subject/>
  <dc:title>Size</dc:title>
</cp:coreProperties>
</file>