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1A6-3330-4B3C-88AA-9992E9AD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C7A-5209-4F7A-BAF9-5ADFC893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801-4C1B-4CC3-B239-2C6F927B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108-03B6-451D-9EE3-C4F3F64E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839-35F3-41F2-9E9B-AAA6CDCB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C59-A421-4E30-9EB9-887424A2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557-1A98-4205-A3B1-7366C721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B0BE-60D7-4F1E-B3C5-B78FF4F5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A8F-9FCE-4193-894C-2718FEEF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F40-A767-4627-A722-345D0F88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25A-A414-409D-9B83-FF063250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DB0-75FF-4C84-B4CD-C563BA07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768A-D394-4AD4-ACDF-DC237549D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Siz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lti Poo comes in a wide variety of sizes, but most are 6-15 in (15-38 cm) at the shoulders and weigh 5-15 lbs (2-7 kg). A Malti Poo with more Maltese influence will have a domed skull, whereas a Malti Poo with a higher Poodle influence will have the long, narrow muzzle characteristic of Pood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07:36:34Z</dcterms:created>
  <dc:creator>NIE</dc:creator>
  <dc:description/>
  <dc:language>en-US</dc:language>
  <cp:lastModifiedBy>NIE</cp:lastModifiedBy>
  <dcterms:modified xsi:type="dcterms:W3CDTF">2010-06-16T07:42:21Z</dcterms:modified>
  <cp:revision>2</cp:revision>
  <dc:subject/>
  <dc:title>Size</dc:title>
</cp:coreProperties>
</file>