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9480-0275-4ECC-BE8E-4984D259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D835-5475-4F2F-B3BB-F995FFA72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C3DE-9ABA-4CFB-86FA-EA5DB2DFF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D6FC-5174-454A-A8A8-A9BA34516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C8269-45B1-403F-B170-AAF9251E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AB88-4F77-4146-B691-9238FCEE0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7C91-EBB1-4800-952A-F9D656E66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A2A9-E10F-4B50-A518-472CF3B1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3199-319C-4DC9-8580-7EEB6F488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8F0F9-9050-448D-AE3E-2805FA93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D129-C808-4D2D-8307-075584463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8D4E-6EDF-48E8-B17F-2446B6F5A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FDE5-123E-4FB7-85F5-16C230B21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Arial"/>
              </a:rPr>
              <a:t>Siz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60020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Malti Poo comes in a wide variety of sizes, but most are 6-15 in (15-38 cm) at the shoulders and weigh 5-15 lbs (2-7 kg). A Malti Poo with more Maltese influence will have a domed skull, whereas a Malti Poo with a higher Poodle influence will have the long, narrow muzzle characteristic of Pood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07:36:34Z</dcterms:created>
  <dc:creator>NIE</dc:creator>
  <dc:description/>
  <dc:language>en-US</dc:language>
  <cp:lastModifiedBy>NIE</cp:lastModifiedBy>
  <dcterms:modified xsi:type="dcterms:W3CDTF">2010-06-16T07:42:21Z</dcterms:modified>
  <cp:revision>2</cp:revision>
  <dc:subject/>
  <dc:title>Size</dc:title>
</cp:coreProperties>
</file>