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669B69-52F5-430D-9FA0-72956CBE60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BF0CC-3132-4485-967E-D61629068B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C068A8-0D47-4A62-8C32-DCB66CF0A0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AF9C6A-0D98-4648-8D76-9403636794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F80DE-F15E-404D-A163-5BF297BE28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18CF0-292E-4FF2-8D7D-49B30EA2E2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1D48C-2023-4EC2-B050-BBE6B56BDA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DA6E0-F815-4757-87E7-AFF0A8946F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08B72-44EF-4032-8F1A-01F2A991E9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A9323-24B1-47F8-AE90-52046E691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260135-D55E-42A0-82AC-8D7641C5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70D8C1-25B4-4637-B79F-3538457AC61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E34E2-DD29-417C-96F1-BE4A1D331D7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762120" y="1522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3300"/>
                </a:solidFill>
                <a:latin typeface="Arial"/>
              </a:rPr>
              <a:t>Care</a:t>
            </a:r>
            <a:endParaRPr b="0" lang="en-US" sz="4400" spc="-1" strike="noStrike">
              <a:solidFill>
                <a:srgbClr val="000000"/>
              </a:solidFill>
              <a:latin typeface="Arial"/>
            </a:endParaRPr>
          </a:p>
        </p:txBody>
      </p:sp>
      <p:sp>
        <p:nvSpPr>
          <p:cNvPr id="42" name="PlaceHolder 2"/>
          <p:cNvSpPr>
            <a:spLocks noGrp="1"/>
          </p:cNvSpPr>
          <p:nvPr>
            <p:ph type="subTitle"/>
          </p:nvPr>
        </p:nvSpPr>
        <p:spPr>
          <a:xfrm>
            <a:off x="0" y="1447920"/>
            <a:ext cx="9144000" cy="49528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alti Poo sheds little or no hair. It requires monthly grooming and regular brushing to prevent tangling. The eyes and ears should also be cleaned regularly with stray hairs removed. Bathe only when necessary. Puppies should not be handled constantly as they need time to rest and relax. The Malti Poo has a lifespan of 11-13 years. Malti Poos may be susceptible to health problems affecting the parent breeds, such as heart issues, dental problems (frequent tooth brushing can help), and bloat, though they are somewhat less likely to suffer these conditions then purebred Poodles or Maltese (known as ‘hybrid vigor’). Bloat can be prevented by feeding from a raised dish, spacing meals throughout the day, and avoiding exercise immediately after me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16T07:41:27Z</dcterms:created>
  <dc:creator>NIE</dc:creator>
  <dc:description/>
  <dc:language>en-US</dc:language>
  <cp:lastModifiedBy>NIE</cp:lastModifiedBy>
  <dcterms:modified xsi:type="dcterms:W3CDTF">2010-06-16T07:41:32Z</dcterms:modified>
  <cp:revision>1</cp:revision>
  <dc:subject/>
  <dc:title>Care</dc:title>
</cp:coreProperties>
</file>