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16034-7ABF-4840-B1A9-F806884FE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23644-51EB-4E7E-9B3D-D70CFAB37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8BB77-F0C3-4568-8A1F-0EEBFF99E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394A9-D614-410A-9E30-5CB86A255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C75FE-1FA7-4ADC-939D-EE4D13383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F1749-1EC7-4491-920D-3F0D992A5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C5EEA-9592-41CE-A244-32ABC90AA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0E03E-C942-4369-9E9A-605F199C7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2A51E-7B53-49AC-878B-F630A94C8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E52A2-4ED0-4EDC-9BE9-71E017ED4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C2584-BE0A-4D0C-A99B-D3E9283C1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90C21-D50C-4A1F-A253-D844B1E5A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A83D2-669B-44CD-9E86-537840731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318DB-4EA9-4FFA-AC90-D234B7BDB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59CF0-5F4A-4C69-BD5B-1CA5CEDA2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81E54-6B2B-4F89-88AE-B0972E880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20C5B-39C0-41C2-8258-14AE665F3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2E098-2185-4DCA-AB31-83C9CEE10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9E737-EA7D-4014-9A52-9B61D6757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D9684-FA4F-4B5A-9818-2908580F3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D9A54-9E34-4A8A-A0FE-93306C531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2D17F-2B0F-48C6-9DF5-F824B1BDB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3A578-677C-420A-A657-FA30195EC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A9C2A-8F8F-4733-AB10-7E71F1C7D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BDB18-8291-49E4-B87A-7BA1D0D0E34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2F9E0-0C81-47C2-A58E-9F25AD9DC96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stamp-links.com/Collectors/Paintings+on+Stamps+of+France.htm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ere to collect stamps from?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240" y="2060640"/>
            <a:ext cx="708804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tt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st offic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change with other collectors over onlin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" action="ppaction://hlinkshowjump?jump=nextslide"/>
          </p:cNvPr>
          <p:cNvSpPr/>
          <p:nvPr/>
        </p:nvSpPr>
        <p:spPr>
          <a:xfrm>
            <a:off x="7956720" y="3429000"/>
            <a:ext cx="431640" cy="4316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16080" y="47628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ommended French stamps collectors</a:t>
            </a:r>
            <a:endParaRPr b="0" lang="en-US" sz="32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00"/>
                </a:solidFill>
                <a:uFillTx/>
                <a:latin typeface="Arial"/>
                <a:hlinkClick r:id="rId2"/>
              </a:rPr>
              <a:t>http://www.stamp-links.com/Collectors/Paintings+on+Stamps+of+France.ht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>
            <a:hlinkClick r:id="" action="ppaction://hlinkshowjump?jump=firstslide"/>
          </p:cNvPr>
          <p:cNvSpPr/>
          <p:nvPr/>
        </p:nvSpPr>
        <p:spPr>
          <a:xfrm>
            <a:off x="8532720" y="6524640"/>
            <a:ext cx="611280" cy="333360"/>
          </a:xfrm>
          <a:custGeom>
            <a:avLst/>
            <a:gdLst>
              <a:gd name="textAreaLeft" fmla="*/ 21600 w 611280"/>
              <a:gd name="textAreaRight" fmla="*/ 589680 w 61128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39588" h="21600">
                <a:moveTo>
                  <a:pt x="0" y="0"/>
                </a:moveTo>
                <a:lnTo>
                  <a:pt x="39588" y="0"/>
                </a:lnTo>
                <a:lnTo>
                  <a:pt x="39588" y="21600"/>
                </a:lnTo>
                <a:lnTo>
                  <a:pt x="0" y="21600"/>
                </a:lnTo>
                <a:close/>
              </a:path>
              <a:path fill="lightenLess" w="39588" h="21600">
                <a:moveTo>
                  <a:pt x="0" y="0"/>
                </a:moveTo>
                <a:lnTo>
                  <a:pt x="39588" y="0"/>
                </a:lnTo>
                <a:lnTo>
                  <a:pt x="38188" y="1400"/>
                </a:lnTo>
                <a:lnTo>
                  <a:pt x="1400" y="1400"/>
                </a:lnTo>
                <a:close/>
              </a:path>
              <a:path fill="darken" w="39588" h="21600">
                <a:moveTo>
                  <a:pt x="39588" y="0"/>
                </a:moveTo>
                <a:lnTo>
                  <a:pt x="39588" y="21600"/>
                </a:lnTo>
                <a:lnTo>
                  <a:pt x="38188" y="20200"/>
                </a:lnTo>
                <a:lnTo>
                  <a:pt x="38188" y="1400"/>
                </a:lnTo>
                <a:close/>
              </a:path>
              <a:path fill="darkenLess" w="39588" h="21600">
                <a:moveTo>
                  <a:pt x="395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88" y="20200"/>
                </a:lnTo>
                <a:close/>
              </a:path>
              <a:path fill="lighten" w="395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88" h="21600">
                <a:moveTo>
                  <a:pt x="16295" y="10800"/>
                </a:moveTo>
                <a:lnTo>
                  <a:pt x="26801" y="3794"/>
                </a:lnTo>
                <a:lnTo>
                  <a:pt x="26801" y="17806"/>
                </a:lnTo>
                <a:close/>
              </a:path>
              <a:path fill="darken" w="39588" h="21600">
                <a:moveTo>
                  <a:pt x="12788" y="3794"/>
                </a:moveTo>
                <a:lnTo>
                  <a:pt x="14450" y="3794"/>
                </a:lnTo>
                <a:lnTo>
                  <a:pt x="14450" y="17806"/>
                </a:lnTo>
                <a:lnTo>
                  <a:pt x="12788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7800840" y="0"/>
            <a:ext cx="1343160" cy="895320"/>
          </a:xfrm>
          <a:prstGeom prst="rect">
            <a:avLst/>
          </a:prstGeom>
          <a:ln w="0">
            <a:noFill/>
          </a:ln>
          <a:effectLst>
            <a:outerShdw dist="107932" dir="8100000" blurRad="0" rotWithShape="0">
              <a:srgbClr val="00000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mmon Dary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national Post Offi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" action="ppaction://hlinkshowjump?jump=firstslide"/>
          </p:cNvPr>
          <p:cNvSpPr/>
          <p:nvPr/>
        </p:nvSpPr>
        <p:spPr>
          <a:xfrm>
            <a:off x="8532720" y="6524640"/>
            <a:ext cx="611280" cy="333360"/>
          </a:xfrm>
          <a:custGeom>
            <a:avLst/>
            <a:gdLst>
              <a:gd name="textAreaLeft" fmla="*/ 21600 w 611280"/>
              <a:gd name="textAreaRight" fmla="*/ 589680 w 61128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39588" h="21600">
                <a:moveTo>
                  <a:pt x="0" y="0"/>
                </a:moveTo>
                <a:lnTo>
                  <a:pt x="39588" y="0"/>
                </a:lnTo>
                <a:lnTo>
                  <a:pt x="39588" y="21600"/>
                </a:lnTo>
                <a:lnTo>
                  <a:pt x="0" y="21600"/>
                </a:lnTo>
                <a:close/>
              </a:path>
              <a:path fill="lightenLess" w="39588" h="21600">
                <a:moveTo>
                  <a:pt x="0" y="0"/>
                </a:moveTo>
                <a:lnTo>
                  <a:pt x="39588" y="0"/>
                </a:lnTo>
                <a:lnTo>
                  <a:pt x="38188" y="1400"/>
                </a:lnTo>
                <a:lnTo>
                  <a:pt x="1400" y="1400"/>
                </a:lnTo>
                <a:close/>
              </a:path>
              <a:path fill="darken" w="39588" h="21600">
                <a:moveTo>
                  <a:pt x="39588" y="0"/>
                </a:moveTo>
                <a:lnTo>
                  <a:pt x="39588" y="21600"/>
                </a:lnTo>
                <a:lnTo>
                  <a:pt x="38188" y="20200"/>
                </a:lnTo>
                <a:lnTo>
                  <a:pt x="38188" y="1400"/>
                </a:lnTo>
                <a:close/>
              </a:path>
              <a:path fill="darkenLess" w="39588" h="21600">
                <a:moveTo>
                  <a:pt x="395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88" y="20200"/>
                </a:lnTo>
                <a:close/>
              </a:path>
              <a:path fill="lighten" w="395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88" h="21600">
                <a:moveTo>
                  <a:pt x="16295" y="10800"/>
                </a:moveTo>
                <a:lnTo>
                  <a:pt x="26801" y="3794"/>
                </a:lnTo>
                <a:lnTo>
                  <a:pt x="26801" y="17806"/>
                </a:lnTo>
                <a:close/>
              </a:path>
              <a:path fill="darken" w="39588" h="21600">
                <a:moveTo>
                  <a:pt x="12788" y="3794"/>
                </a:moveTo>
                <a:lnTo>
                  <a:pt x="14450" y="3794"/>
                </a:lnTo>
                <a:lnTo>
                  <a:pt x="14450" y="17806"/>
                </a:lnTo>
                <a:lnTo>
                  <a:pt x="12788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6T06:27:20Z</dcterms:created>
  <dc:creator>NIE</dc:creator>
  <dc:description/>
  <dc:language>en-US</dc:language>
  <cp:lastModifiedBy>NIE</cp:lastModifiedBy>
  <dcterms:modified xsi:type="dcterms:W3CDTF">2010-06-16T07:38:54Z</dcterms:modified>
  <cp:revision>8</cp:revision>
  <dc:subject/>
  <dc:title>Where to collect stamps from?</dc:title>
</cp:coreProperties>
</file>