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09BA9-DE83-4E3D-8E48-78D8CDC8F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14341-EE75-458B-9084-E6E22837A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CF624-DE85-44D8-A643-0AE9ADB69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24E76-6821-4753-9CC8-A0634CE90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F9CC1-AD4E-441E-A6C4-B87255629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26D2B-E958-4BC8-8FAE-D5E6FC421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AB84D-29C9-4F5E-9129-75CE4AEDD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F16AF-304A-428C-856F-E1E94BC8C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F4BB3-D807-47B1-B2EB-1793F3E83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826CF-008B-4264-9370-82B03FD8D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1646A-13DE-4DA4-B6C9-4B6747153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FB66C-F87D-4AA7-BCFB-2B10B7F9D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E31CD-468C-4792-92F4-8076813CB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F7440-95F4-4924-A765-F182D3E4D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E49FB-7803-4EFA-8028-8B94892FE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A3C97-8565-4306-AF87-107171B37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44194-303C-4BB7-A637-748671C79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AC356-9F40-49B5-81AC-19CE3825F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59EA4-4202-4616-9EC6-555FF857B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23E3A-C62C-45A5-A116-2498907BC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8CBB1-073A-46FB-B862-71A1CFEE8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C7905-C314-48B8-9827-686B90C5E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2FD46-C79D-433A-8FA0-24CAAACF4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D6D2D-F619-4587-88B1-5DFB6A24B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7F69B-B3F5-42C3-951D-30B3C9E8EBF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644FB-3494-40D9-AF47-8F8B88CF041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stamp-links.com/Collectors/Paintings+on+Stamps+of+France.htm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ere to collect stamps from?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240" y="2060640"/>
            <a:ext cx="708804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tter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st offic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change with other collectors over onlin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>
            <a:hlinkClick r:id="" action="ppaction://hlinkshowjump?jump=nextslide"/>
          </p:cNvPr>
          <p:cNvSpPr/>
          <p:nvPr/>
        </p:nvSpPr>
        <p:spPr>
          <a:xfrm>
            <a:off x="7956720" y="3429000"/>
            <a:ext cx="431640" cy="431640"/>
          </a:xfrm>
          <a:custGeom>
            <a:avLst/>
            <a:gdLst>
              <a:gd name="textAreaLeft" fmla="*/ 27720 w 431640"/>
              <a:gd name="textAreaRight" fmla="*/ 403920 w 431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16080" y="47628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ommended French stamps collectors</a:t>
            </a:r>
            <a:endParaRPr b="0" lang="en-US" sz="32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00"/>
                </a:solidFill>
                <a:uFillTx/>
                <a:latin typeface="Arial"/>
                <a:hlinkClick r:id="rId2"/>
              </a:rPr>
              <a:t>http://www.stamp-links.com/Collectors/Paintings+on+Stamps+of+France.ht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>
            <a:hlinkClick r:id="" action="ppaction://hlinkshowjump?jump=firstslide"/>
          </p:cNvPr>
          <p:cNvSpPr/>
          <p:nvPr/>
        </p:nvSpPr>
        <p:spPr>
          <a:xfrm>
            <a:off x="8532720" y="6524640"/>
            <a:ext cx="611280" cy="333360"/>
          </a:xfrm>
          <a:custGeom>
            <a:avLst/>
            <a:gdLst>
              <a:gd name="textAreaLeft" fmla="*/ 21600 w 611280"/>
              <a:gd name="textAreaRight" fmla="*/ 589680 w 61128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39588" h="21600">
                <a:moveTo>
                  <a:pt x="0" y="0"/>
                </a:moveTo>
                <a:lnTo>
                  <a:pt x="39588" y="0"/>
                </a:lnTo>
                <a:lnTo>
                  <a:pt x="39588" y="21600"/>
                </a:lnTo>
                <a:lnTo>
                  <a:pt x="0" y="21600"/>
                </a:lnTo>
                <a:close/>
              </a:path>
              <a:path fill="lightenLess" w="39588" h="21600">
                <a:moveTo>
                  <a:pt x="0" y="0"/>
                </a:moveTo>
                <a:lnTo>
                  <a:pt x="39588" y="0"/>
                </a:lnTo>
                <a:lnTo>
                  <a:pt x="38188" y="1400"/>
                </a:lnTo>
                <a:lnTo>
                  <a:pt x="1400" y="1400"/>
                </a:lnTo>
                <a:close/>
              </a:path>
              <a:path fill="darken" w="39588" h="21600">
                <a:moveTo>
                  <a:pt x="39588" y="0"/>
                </a:moveTo>
                <a:lnTo>
                  <a:pt x="39588" y="21600"/>
                </a:lnTo>
                <a:lnTo>
                  <a:pt x="38188" y="20200"/>
                </a:lnTo>
                <a:lnTo>
                  <a:pt x="38188" y="1400"/>
                </a:lnTo>
                <a:close/>
              </a:path>
              <a:path fill="darkenLess" w="39588" h="21600">
                <a:moveTo>
                  <a:pt x="395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88" y="20200"/>
                </a:lnTo>
                <a:close/>
              </a:path>
              <a:path fill="lighten" w="395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88" h="21600">
                <a:moveTo>
                  <a:pt x="16295" y="10800"/>
                </a:moveTo>
                <a:lnTo>
                  <a:pt x="26801" y="3794"/>
                </a:lnTo>
                <a:lnTo>
                  <a:pt x="26801" y="17806"/>
                </a:lnTo>
                <a:close/>
              </a:path>
              <a:path fill="darken" w="39588" h="21600">
                <a:moveTo>
                  <a:pt x="12788" y="3794"/>
                </a:moveTo>
                <a:lnTo>
                  <a:pt x="14450" y="3794"/>
                </a:lnTo>
                <a:lnTo>
                  <a:pt x="14450" y="17806"/>
                </a:lnTo>
                <a:lnTo>
                  <a:pt x="12788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7800840" y="0"/>
            <a:ext cx="1343160" cy="895320"/>
          </a:xfrm>
          <a:prstGeom prst="rect">
            <a:avLst/>
          </a:prstGeom>
          <a:ln w="0">
            <a:noFill/>
          </a:ln>
          <a:effectLst>
            <a:outerShdw dist="107932" dir="8100000" blurRad="0" rotWithShape="0">
              <a:srgbClr val="00000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mmon Dary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rnational Post Offi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>
            <a:hlinkClick r:id="" action="ppaction://hlinkshowjump?jump=firstslide"/>
          </p:cNvPr>
          <p:cNvSpPr/>
          <p:nvPr/>
        </p:nvSpPr>
        <p:spPr>
          <a:xfrm>
            <a:off x="8532720" y="6524640"/>
            <a:ext cx="611280" cy="333360"/>
          </a:xfrm>
          <a:custGeom>
            <a:avLst/>
            <a:gdLst>
              <a:gd name="textAreaLeft" fmla="*/ 21600 w 611280"/>
              <a:gd name="textAreaRight" fmla="*/ 589680 w 611280"/>
              <a:gd name="textAreaTop" fmla="*/ 21600 h 333360"/>
              <a:gd name="textAreaBottom" fmla="*/ 311760 h 333360"/>
            </a:gdLst>
            <a:ahLst/>
            <a:rect l="textAreaLeft" t="textAreaTop" r="textAreaRight" b="textAreaBottom"/>
            <a:pathLst>
              <a:path w="39588" h="21600">
                <a:moveTo>
                  <a:pt x="0" y="0"/>
                </a:moveTo>
                <a:lnTo>
                  <a:pt x="39588" y="0"/>
                </a:lnTo>
                <a:lnTo>
                  <a:pt x="39588" y="21600"/>
                </a:lnTo>
                <a:lnTo>
                  <a:pt x="0" y="21600"/>
                </a:lnTo>
                <a:close/>
              </a:path>
              <a:path fill="lightenLess" w="39588" h="21600">
                <a:moveTo>
                  <a:pt x="0" y="0"/>
                </a:moveTo>
                <a:lnTo>
                  <a:pt x="39588" y="0"/>
                </a:lnTo>
                <a:lnTo>
                  <a:pt x="38188" y="1400"/>
                </a:lnTo>
                <a:lnTo>
                  <a:pt x="1400" y="1400"/>
                </a:lnTo>
                <a:close/>
              </a:path>
              <a:path fill="darken" w="39588" h="21600">
                <a:moveTo>
                  <a:pt x="39588" y="0"/>
                </a:moveTo>
                <a:lnTo>
                  <a:pt x="39588" y="21600"/>
                </a:lnTo>
                <a:lnTo>
                  <a:pt x="38188" y="20200"/>
                </a:lnTo>
                <a:lnTo>
                  <a:pt x="38188" y="1400"/>
                </a:lnTo>
                <a:close/>
              </a:path>
              <a:path fill="darkenLess" w="39588" h="21600">
                <a:moveTo>
                  <a:pt x="395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188" y="20200"/>
                </a:lnTo>
                <a:close/>
              </a:path>
              <a:path fill="lighten" w="395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588" h="21600">
                <a:moveTo>
                  <a:pt x="16295" y="10800"/>
                </a:moveTo>
                <a:lnTo>
                  <a:pt x="26801" y="3794"/>
                </a:lnTo>
                <a:lnTo>
                  <a:pt x="26801" y="17806"/>
                </a:lnTo>
                <a:close/>
              </a:path>
              <a:path fill="darken" w="39588" h="21600">
                <a:moveTo>
                  <a:pt x="12788" y="3794"/>
                </a:moveTo>
                <a:lnTo>
                  <a:pt x="14450" y="3794"/>
                </a:lnTo>
                <a:lnTo>
                  <a:pt x="14450" y="17806"/>
                </a:lnTo>
                <a:lnTo>
                  <a:pt x="12788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6T06:27:20Z</dcterms:created>
  <dc:creator>NIE</dc:creator>
  <dc:description/>
  <dc:language>en-US</dc:language>
  <cp:lastModifiedBy>NIE</cp:lastModifiedBy>
  <dcterms:modified xsi:type="dcterms:W3CDTF">2010-06-16T07:38:54Z</dcterms:modified>
  <cp:revision>8</cp:revision>
  <dc:subject/>
  <dc:title>Where to collect stamps from?</dc:title>
</cp:coreProperties>
</file>