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EAA-365A-4B06-86B7-6E752BEF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3CE-4E81-4D33-ABED-BC9962B6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DDF-C6C0-4AC5-8F1F-3B584B35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8EE-321F-4DA0-9DB4-2A905166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8170-EF73-446F-B2F0-DD31F0C1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D8A9-0938-463D-AFA3-7E52B0E4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243E-2B16-4BD3-9A03-D7F68C06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BE59-C102-4F00-8AB0-EF28BFD8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6693-180F-4A1F-BBE2-A9ADBE37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1EF5-324D-4786-BAED-4F11298F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7B58-1BE0-4D49-9869-6A04B6FB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1B4-62EE-49FA-B1C8-D25B48E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CE58-2721-4D1D-9774-9F2D6616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486D-FE8A-407B-B8A4-5C4FA833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8534-B611-4EAB-90C8-A6B3C3F1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E27F-E9B0-4302-852C-DF7241D8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D3F0-FB62-41C3-9A51-076F39C2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04B-8BFE-4AD7-AAD5-8D66130C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DCB-AD40-489C-98EE-F4D15B87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219-9C41-4C7B-A3A8-AECD157D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E6D-A7A0-4331-A835-5EB530C7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D72-FE20-49D5-B9FC-FE65A8A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C36-DD57-47B9-A673-57976712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C68-58DC-43B5-9E3C-184D4C3C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3D5-AA00-47D7-B09D-C6471A44E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DBC6-1C4D-4610-8E46-E87B6451B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mp-links.com/Collectors/Paintings+on+Stamps+of+France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collect stamps from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2060640"/>
            <a:ext cx="70880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off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with other collectors over on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956720" y="3429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6080" y="476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French stamps collecto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stamp-links.com/Collectors/Paintings+on+Stamps+of+Franc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6295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14450" y="3794"/>
                </a:lnTo>
                <a:lnTo>
                  <a:pt x="14450" y="17806"/>
                </a:lnTo>
                <a:lnTo>
                  <a:pt x="1278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895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mon Dary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Post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6295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14450" y="3794"/>
                </a:lnTo>
                <a:lnTo>
                  <a:pt x="14450" y="17806"/>
                </a:lnTo>
                <a:lnTo>
                  <a:pt x="1278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6:27:20Z</dcterms:created>
  <dc:creator>NIE</dc:creator>
  <dc:description/>
  <dc:language>en-US</dc:language>
  <cp:lastModifiedBy>NIE</cp:lastModifiedBy>
  <dcterms:modified xsi:type="dcterms:W3CDTF">2010-06-16T07:38:54Z</dcterms:modified>
  <cp:revision>8</cp:revision>
  <dc:subject/>
  <dc:title>Where to collect stamps from?</dc:title>
</cp:coreProperties>
</file>