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28A7-02ED-4E7A-B9AE-2CECF4FC3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DF8C-E0DB-4771-907B-A07F7E3D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DD86-A171-4C2F-B92F-FB89C40F5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D53F-C74F-4105-A824-CD0F1324A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F7A13-3AFE-4568-B00E-FCF0D6377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AF1F4-07F8-4577-BC95-CE798635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6ED05-A594-471E-8311-C53532EA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6382-BC79-4D81-92FF-3F4A40251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FC1DE-8708-4C60-B57D-AF243C04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9043-4F00-42F3-A207-F07A3D3DE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28F3E-8FA0-4120-B725-E70945F80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5C9A-1422-4C74-BE05-DE4DCCCDE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32B4-4D52-463A-97B9-9149C76C3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6C30-CEE2-409E-ACAC-D784AFC0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D771A-2233-4A51-AE98-450A70540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3918E-F827-4447-99F8-B093575C1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6B603-3C85-462B-A51E-1B4F06118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1E6DB-3299-4188-98F4-97DB009B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3DA9-7810-4065-8FAC-C33FA35A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910B-62DE-4DE4-A177-C1EC5F03D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6411-0FFF-446F-B849-06E09B67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79EE-3901-410F-9D59-C8844B25B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0EC62-4F4A-479F-AFBE-8B97A676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55143-103E-4BA9-A850-5CA937B93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77A14-66EF-4F6D-A9AE-884A99A1EC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647DF-2A94-45A0-BED8-A341895BB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amp-links.com/Collectors/Paintings+on+Stamps+of+France.htm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Where to collect stamps from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st offi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hange with other collectors over onl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7020000" y="515772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Recommended French stamps collectors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www.stamp-links.com/Collectors/Paintings+on+Stamps+of+France.ht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6295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  <a:path fill="darken" w="39588" h="21600">
                <a:moveTo>
                  <a:pt x="12788" y="3794"/>
                </a:moveTo>
                <a:lnTo>
                  <a:pt x="14450" y="3794"/>
                </a:lnTo>
                <a:lnTo>
                  <a:pt x="14450" y="17806"/>
                </a:lnTo>
                <a:lnTo>
                  <a:pt x="1278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06:27:20Z</dcterms:created>
  <dc:creator>NIE</dc:creator>
  <dc:description/>
  <dc:language>en-US</dc:language>
  <cp:lastModifiedBy>NIE</cp:lastModifiedBy>
  <dcterms:modified xsi:type="dcterms:W3CDTF">2010-06-16T06:34:16Z</dcterms:modified>
  <cp:revision>2</cp:revision>
  <dc:subject/>
  <dc:title>Where to collect stamps from?</dc:title>
</cp:coreProperties>
</file>