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9F8F-C5CA-47DD-A71A-A45BE00BB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4F67-DFA3-4AA2-B4CE-0502785A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7294-E6A6-45D9-9F3B-8B099F75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F08C-94BC-4D52-BC2E-9C708A1B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0E26-0703-4386-AFEE-AB678582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13DC-8446-476D-B847-524D86DE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B8E4-CF29-48B1-BB8E-E65DFE0F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70EE-DB1D-46A6-8518-0B1482D1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B02B-BC22-40A7-A5C7-3D98CE97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3761-B495-4190-A790-D4487CDB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43AF-B4F5-41AC-9067-747A92F5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3405-9048-4475-ACA1-8D6C8EC5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46F0-C20E-4919-96FC-4F3F6007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7C26-5E23-4C59-ACDC-B5C9AEAD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89A6-1346-4610-812D-C4680EAB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FE75-7409-4C72-B0AC-625353B0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3F0E-978B-4819-9D21-691C2342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111A-991D-4D58-AF06-D4BC9352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68B-2839-46E6-80A3-DC9411CD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E368-1B1B-4AEA-8A91-5B2AAF51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D7B-6498-4B13-A338-6D2B28D2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A9CD-8C9E-4B1E-A775-8E3A16AE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76BF-D099-4BFA-8786-64274FB3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642E-02C0-44E4-8DF4-059206BF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D7B5-3190-444C-B46A-AE9DEB05FC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4A2F-A4A2-4617-8B55-03E8EBFB2E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amp-links.com/Collectors/Paintings+on+Stamps+of+France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ere to collect stamps from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t offi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hange with other collectors over on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7020000" y="515772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commended French stamps collecto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www.stamp-links.com/Collectors/Paintings+on+Stamps+of+France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6295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  <a:path fill="darken" w="39588" h="21600">
                <a:moveTo>
                  <a:pt x="12788" y="3794"/>
                </a:moveTo>
                <a:lnTo>
                  <a:pt x="14450" y="3794"/>
                </a:lnTo>
                <a:lnTo>
                  <a:pt x="14450" y="17806"/>
                </a:lnTo>
                <a:lnTo>
                  <a:pt x="1278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06:27:20Z</dcterms:created>
  <dc:creator>NIE</dc:creator>
  <dc:description/>
  <dc:language>en-US</dc:language>
  <cp:lastModifiedBy>NIE</cp:lastModifiedBy>
  <dcterms:modified xsi:type="dcterms:W3CDTF">2010-06-16T06:34:16Z</dcterms:modified>
  <cp:revision>2</cp:revision>
  <dc:subject/>
  <dc:title>Where to collect stamps from?</dc:title>
</cp:coreProperties>
</file>