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04A-CB5E-42EC-9BE0-F45F00F6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9026-0F5F-4A73-81ED-DB856A0A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318-1A35-4403-AD9A-21C3F8AA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3C6-4076-42DA-A922-BA82FC62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8A4C-5A70-49C2-A5E7-A4A1E724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AB27-65E0-4E4A-8800-8A13A6FB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817A-A291-4A42-BD58-5EC51DB4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7E14-FA68-4F0F-AC95-E3D4782E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42F1-1270-4C06-A9BE-2B8DB5DB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3C8F-3B7C-4EE1-8E19-1FC4EE44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F802-D324-4D34-B1E1-C0D3D8A3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97B1-7BE3-4B09-AF9C-509F8A8B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A31E-AB6A-488A-986B-3F7378B7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F2F7-5589-4DAE-9B5D-AC0F2869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3508-08B2-4B32-8D9B-0E94A964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D581-85BD-4906-A48D-6CB89501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EEA3-DD5B-4E28-8424-53987693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CE7-6BFA-4E9F-9BB7-DE25DFC3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7210-3DC1-48F6-975E-A180540A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D85-EA61-4D03-A98B-AEB2FAD4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11B-3764-4970-B943-E61DE99A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E21-E978-4CCE-AC75-B72CCC37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546E-8E59-47C3-823C-D2224778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133-CD56-47FE-B211-053D4355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91E3-4DED-41E9-B26E-926F1BC63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1681-5386-449C-8E7A-ABCA29213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amp-links.com/Collectors/Paintings+on+Stamps+of+France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ere to collect stamps from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t offi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hange with other collectors over on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7020000" y="515772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commended French stamps collecto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ww.stamp-links.com/Collectors/Paintings+on+Stamps+of+France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6295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  <a:path fill="darken" w="39588" h="21600">
                <a:moveTo>
                  <a:pt x="12788" y="3794"/>
                </a:moveTo>
                <a:lnTo>
                  <a:pt x="14450" y="3794"/>
                </a:lnTo>
                <a:lnTo>
                  <a:pt x="14450" y="17806"/>
                </a:lnTo>
                <a:lnTo>
                  <a:pt x="1278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06:27:20Z</dcterms:created>
  <dc:creator>NIE</dc:creator>
  <dc:description/>
  <dc:language>en-US</dc:language>
  <cp:lastModifiedBy>NIE</cp:lastModifiedBy>
  <dcterms:modified xsi:type="dcterms:W3CDTF">2010-06-16T06:34:16Z</dcterms:modified>
  <cp:revision>2</cp:revision>
  <dc:subject/>
  <dc:title>Where to collect stamps from?</dc:title>
</cp:coreProperties>
</file>