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AA8A-FB02-4EA2-B00F-18E64A1CB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EE9D-DEBF-4534-A79F-6CAD4454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9540-5C1E-4680-9999-40DCAC2E6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3F0D-7E61-4465-912B-F3AC624F0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12E3C-FA6A-44A4-8AE7-A40580165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3D6BC-C4C9-450F-A593-65623B9E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762FE-2C13-4D66-A184-13D8A033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DFD06-DE4C-467E-A04F-238CE6B16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9EF3B-A0E1-46EA-A33B-5D01E9488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EA1FC-8855-4CCB-B41F-100C581E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7034-014F-4E3C-BB32-7B7F3CD3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901C-3D8D-49AE-A60C-4BD060B34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9D3B7-7F8F-4DCE-A635-356A79CC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4D40C-E5FB-4C83-B971-F5319A9E5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F61BB-CF8D-4E93-8B2A-93E86D072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B49B4-BED8-4A81-B4E2-39120D663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1C21A-0848-429D-BF40-1FF2D7092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8F88F-274E-4DAA-A8F7-F92630085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BDE-9C0D-46AF-92F5-BD820353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D2B1-4332-4381-9044-C1EDB5E4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31CB-1E25-4953-A5A2-129365516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130C5-6431-40D6-AA89-7D6D3E691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4A80-D4C8-4B0A-802E-D42BC19E0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AE0-0999-488E-A3D8-73E67300A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CDD8-F926-4AE4-9013-1856468955D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D9BDD-14B0-4988-BF14-81BCFF16A1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nfomatasellos.blogspot.com/" TargetMode="External"/><Relationship Id="rId3" Type="http://schemas.openxmlformats.org/officeDocument/2006/relationships/hyperlink" Target="http://infomatasellos.blogspot.com/" TargetMode="External"/><Relationship Id="rId4" Type="http://schemas.openxmlformats.org/officeDocument/2006/relationships/hyperlink" Target="http://infomatasellos.blogspot.com/" TargetMode="External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1680" y="1989000"/>
            <a:ext cx="8540640" cy="442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3"/>
              </a:rPr>
              <a:t>infomatasellos.blogspot.com</a:t>
            </a: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4"/>
              </a:rPr>
              <a:t>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316080" y="62064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Spainish stamps collect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7800840" y="0"/>
            <a:ext cx="1343160" cy="895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4d4d4d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 0.33333 L 3.61111E-006 7.40741E-007 E">
                                      <p:cBhvr>
                                        <p:cTn id="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7:35:37Z</dcterms:modified>
  <cp:revision>8</cp:revision>
  <dc:subject/>
  <dc:title>Where to collect stamps from?</dc:title>
</cp:coreProperties>
</file>