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01B-D9E7-4609-9372-2BA9E1AB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485-74C0-4719-B603-5AC8A596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D0D-AEB6-40AE-A399-C00195A0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0E5-A89C-42DA-BA70-4B6437C2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11B9-5F19-4C61-A07C-46B46D29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3BEA-C5D3-4990-A7FD-3B1F0033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C0DE-A8D4-491B-A7C6-7F8FD418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8E1-10FF-4921-B966-E22D77C5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4DA1-1656-4719-83FE-2142316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051-F2B7-4A05-A8E9-C47C99D2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E8EF-BF5A-4D4C-AF3F-8C4379C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711-2816-438E-9308-336E270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531C-C878-4F13-A180-7C9D6F1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D929-1DFB-48CD-BE07-170FFA82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D69-F0EC-4394-B772-9668E56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35E-567D-4322-9B1E-1BD3B466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4AF0-89DE-4A52-8560-CA907E4C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0E0-3098-4285-B99E-1351A16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D21-2BE4-4785-BC4D-E410A5A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FF0-7A99-4527-8E53-2C3B0D6E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D12-79D4-4E96-A705-55150C31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194-78B6-44FB-9839-22764421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6A2-8896-4C14-A672-2A247C1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104-4586-4ADD-BAD5-B4C3F70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9810-8D13-40F3-A401-ECCBC98B77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8D8-EFE5-4CCB-9AF7-FAC4641E6B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matasellos.blogspot.com/" TargetMode="External"/><Relationship Id="rId3" Type="http://schemas.openxmlformats.org/officeDocument/2006/relationships/hyperlink" Target="http://infomatasellos.blogspot.com/" TargetMode="External"/><Relationship Id="rId4" Type="http://schemas.openxmlformats.org/officeDocument/2006/relationships/hyperlink" Target="http://infomatasellos.blogspo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infomatasellos.blogspot.co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1608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Spainis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0.33333 L 3.61111E-006 7.40741E-007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5:37Z</dcterms:modified>
  <cp:revision>8</cp:revision>
  <dc:subject/>
  <dc:title>Where to collect stamps from?</dc:title>
</cp:coreProperties>
</file>