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636-6A56-4456-8E6B-A966E469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598-4A70-42C8-9713-4EAD5C0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755-4680-4F31-A33E-60FCAD5F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C49-CEF1-47A1-B319-A3DD4F28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7615-C542-4DC6-B0E1-DC799380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21D4-4D4E-4079-A21A-0B47382F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786-AB5A-4FD8-99AA-0D0752E8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3B95-5D98-4796-B840-74C94BA6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AF66-BB33-4BDA-8DFB-6315085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2128-8B67-4FEA-8A24-8616B4B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EBF-8458-4771-B0A0-0EF631D1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A11-34B1-4241-8754-0E77A30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5848-9983-4097-8287-903754D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729D-49E2-4617-BF6C-468D824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52C-C9E4-4FD1-9428-CE1F1903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EAA1-2B83-4D02-8208-442BB4C2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CA4A-F8FE-46FF-8647-E16886E3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A2A-3DA6-41BE-9951-9AC7787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737-212B-40D6-B319-678357C1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894-9A3F-4A92-AC27-E91CD308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EF1-93EF-4D32-9D7F-E75981B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729-72B4-4972-B852-1F1078B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39F-E185-4FD5-BBCF-C16EBEC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423-287B-4D40-9722-BEE14D0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6CE-7E22-47EA-885F-CA5ECCFF0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DF0-BC69-4BC6-9776-BA8D9FC758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matasellos.blogspot.com/" TargetMode="External"/><Relationship Id="rId3" Type="http://schemas.openxmlformats.org/officeDocument/2006/relationships/hyperlink" Target="http://infomatasellos.blogspot.com/" TargetMode="External"/><Relationship Id="rId4" Type="http://schemas.openxmlformats.org/officeDocument/2006/relationships/hyperlink" Target="http://infomatasellos.blogspot.com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989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infomatasellos.blogspot.co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1608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Spainish stamps collect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800840" y="0"/>
            <a:ext cx="1343160" cy="895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0.33333 L 3.61111E-006 7.40741E-007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7:35:37Z</dcterms:modified>
  <cp:revision>8</cp:revision>
  <dc:subject/>
  <dc:title>Where to collect stamps from?</dc:title>
</cp:coreProperties>
</file>