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BB3-A00C-4731-A212-F529116D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4DC-1EF2-42FB-9C5B-DC0951C4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518-8083-41E2-8D42-CC77CF7A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EA0-6A96-4BDB-AF03-748ECF32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0182-007E-4921-886F-ED01D3B3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43D1-6D26-4BD5-85E9-4F846291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27BB-44AA-419A-B7B6-DFEAF11A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6B21-652C-473D-8C33-7AB7F802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1A9D-2C61-4A28-B065-2D18FCFF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B1B4-071A-4278-9902-999C5030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0819-24C2-4C11-90BB-36667D90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F7E-8B4C-4935-A816-A504CB45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3F68-4D03-4D32-85B0-3F642764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1C2A-D43F-4BA8-A54E-3C51C247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6D2-A37B-4A30-9BD6-69A26F5D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45ED-DBCA-4024-B8EC-950BA75C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4820-0313-41E2-940E-625A4741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012-7E34-4D25-82FA-AA416C2D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3AE-7DB0-404C-B43A-94E10EB4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697-9835-4FDF-904F-EF772D07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D11-FBB1-4D6D-AD96-68ACC8B3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E65-BF0E-49E2-A329-7B053E2F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BA5-2335-45E9-B415-ADCC29A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6C5-42FF-44D5-A3D6-C723C8D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3C88-0CB6-4006-AEF8-527D58876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C5A-A5DC-4B49-9785-5520AAA6D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371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1 – Which bicycle can be ride on ro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147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UNI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9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TRI-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672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RACING BIC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2096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NEED TO TRAIN MORE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4114800" y="37339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10805" y="3837"/>
                </a:moveTo>
                <a:lnTo>
                  <a:pt x="13381" y="6448"/>
                </a:ln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4" y="10800"/>
                </a:lnTo>
                <a:lnTo>
                  <a:pt x="16114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0" h="21600">
                <a:moveTo>
                  <a:pt x="13381" y="6448"/>
                </a:move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0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4" y="17989"/>
                </a:lnTo>
                <a:lnTo>
                  <a:pt x="16114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124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ARE CHAMPIO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8:05:24Z</dcterms:created>
  <dc:creator>NIE</dc:creator>
  <dc:description/>
  <dc:language>en-US</dc:language>
  <cp:lastModifiedBy>NIE</cp:lastModifiedBy>
  <dcterms:modified xsi:type="dcterms:W3CDTF">2011-05-05T08:16:54Z</dcterms:modified>
  <cp:revision>6</cp:revision>
  <dc:subject/>
  <dc:title>Slide 1</dc:title>
</cp:coreProperties>
</file>