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A6D6-AE9B-4459-926F-CC3437FB4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5FF4-E97B-495A-86DF-F35C96A1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21C4-D3E8-42E0-BB2C-7A9481C61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91CA-3ECF-486E-9237-D5EE82FF4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62482-93BA-41AD-BD21-6EC4A0C83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8C38-DFB0-45BD-892D-07F75C48A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AE15A-EEAC-454C-B5C8-5B8A52A31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F6FC2-CC36-4FA0-851C-7FA79408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DC21-F45A-4DD9-AD1F-08D02F28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6338-D201-4F30-A685-527D7731B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DDDA7-0A65-4FE3-A31F-3FF55B97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7D13-C74E-45D7-B0EF-B48DAC76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FDDF1-F3FF-45E4-B8FA-7376B17C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663F-BE38-4D3A-B2EA-BE4073AE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4399F-F8FD-4AF8-835F-0AA704C6F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CB14-C63A-4DC5-AF25-308B5910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2D2E1-1561-4915-8B1B-2C9CEE48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C94C-CA3A-4D63-A79D-4D621BA2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6250-9D60-4735-AB45-2B52D06A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068F-C0B6-4226-BE01-9CC17EAB8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1692360"/>
            <a:ext cx="7772400" cy="80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0342-7083-40C6-9539-99929DD1F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11862-E938-4BFE-8BDE-79B7A70B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EB6E-F434-48CA-A26F-F82B8AEA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10AE-7131-472A-9EF2-9493CBC7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9516-8876-41B0-8F81-4654611011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2A39-5138-42D7-8E9D-D6032C7AAB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43000" y="13716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1 – Which bicycle can be ride on roa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43000" y="214776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1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1" action="ppaction://hlinksldjump"/>
              </a:rPr>
              <a:t>UNI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43000" y="29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2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2" action="ppaction://hlinksldjump"/>
              </a:rPr>
              <a:t>TRI-CYC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3000" y="367200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3 – </a:t>
            </a:r>
            <a:r>
              <a:rPr b="0" lang="en-US" sz="2400" spc="-1" strike="noStrike" u="sng">
                <a:solidFill>
                  <a:srgbClr val="99ff99"/>
                </a:solidFill>
                <a:uFillTx/>
                <a:latin typeface="Arial"/>
                <a:hlinkClick r:id="rId3" action="ppaction://hlinksldjump"/>
              </a:rPr>
              <a:t>RACING BIC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219320" y="2209680"/>
            <a:ext cx="6781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NEED TO TRAIN MORE!!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>
            <a:hlinkClick r:id="" action="ppaction://hlinkshowjump?jump=firstslide"/>
          </p:cNvPr>
          <p:cNvSpPr/>
          <p:nvPr/>
        </p:nvSpPr>
        <p:spPr>
          <a:xfrm>
            <a:off x="4114800" y="3733920"/>
            <a:ext cx="762120" cy="761760"/>
          </a:xfrm>
          <a:custGeom>
            <a:avLst/>
            <a:gdLst>
              <a:gd name="textAreaLeft" fmla="*/ 49320 w 762120"/>
              <a:gd name="textAreaRight" fmla="*/ 712800 w 76212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21610" h="21600">
                <a:moveTo>
                  <a:pt x="0" y="0"/>
                </a:moveTo>
                <a:lnTo>
                  <a:pt x="21610" y="0"/>
                </a:lnTo>
                <a:lnTo>
                  <a:pt x="21610" y="21600"/>
                </a:lnTo>
                <a:lnTo>
                  <a:pt x="0" y="21600"/>
                </a:lnTo>
                <a:close/>
              </a:path>
              <a:path fill="lightenLess" w="21610" h="21600">
                <a:moveTo>
                  <a:pt x="0" y="0"/>
                </a:moveTo>
                <a:lnTo>
                  <a:pt x="21610" y="0"/>
                </a:lnTo>
                <a:lnTo>
                  <a:pt x="20210" y="1400"/>
                </a:lnTo>
                <a:lnTo>
                  <a:pt x="1400" y="1400"/>
                </a:lnTo>
                <a:close/>
              </a:path>
              <a:path fill="darken" w="21610" h="21600">
                <a:moveTo>
                  <a:pt x="21610" y="0"/>
                </a:moveTo>
                <a:lnTo>
                  <a:pt x="21610" y="21600"/>
                </a:lnTo>
                <a:lnTo>
                  <a:pt x="20210" y="20200"/>
                </a:lnTo>
                <a:lnTo>
                  <a:pt x="20210" y="1400"/>
                </a:lnTo>
                <a:close/>
              </a:path>
              <a:path fill="darkenLess" w="21610" h="21600">
                <a:moveTo>
                  <a:pt x="21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10" y="20200"/>
                </a:lnTo>
                <a:close/>
              </a:path>
              <a:path fill="lighten" w="21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10" h="21600">
                <a:moveTo>
                  <a:pt x="10805" y="3837"/>
                </a:moveTo>
                <a:lnTo>
                  <a:pt x="13381" y="6448"/>
                </a:ln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lnTo>
                  <a:pt x="17768" y="10800"/>
                </a:lnTo>
                <a:lnTo>
                  <a:pt x="16114" y="10800"/>
                </a:lnTo>
                <a:lnTo>
                  <a:pt x="16114" y="17989"/>
                </a:lnTo>
                <a:lnTo>
                  <a:pt x="5496" y="17989"/>
                </a:lnTo>
                <a:lnTo>
                  <a:pt x="5496" y="10800"/>
                </a:lnTo>
                <a:lnTo>
                  <a:pt x="3842" y="10800"/>
                </a:lnTo>
                <a:close/>
              </a:path>
              <a:path fill="darkenLess" w="21610" h="21600">
                <a:moveTo>
                  <a:pt x="13381" y="6448"/>
                </a:moveTo>
                <a:lnTo>
                  <a:pt x="13381" y="4707"/>
                </a:lnTo>
                <a:lnTo>
                  <a:pt x="15157" y="4707"/>
                </a:lnTo>
                <a:lnTo>
                  <a:pt x="15157" y="8224"/>
                </a:lnTo>
                <a:close/>
              </a:path>
              <a:path fill="darkenLess" w="21610" h="21600">
                <a:moveTo>
                  <a:pt x="9883" y="14299"/>
                </a:moveTo>
                <a:lnTo>
                  <a:pt x="11728" y="14299"/>
                </a:lnTo>
                <a:lnTo>
                  <a:pt x="11728" y="17989"/>
                </a:lnTo>
                <a:lnTo>
                  <a:pt x="16114" y="17989"/>
                </a:lnTo>
                <a:lnTo>
                  <a:pt x="16114" y="10800"/>
                </a:lnTo>
                <a:lnTo>
                  <a:pt x="5496" y="10800"/>
                </a:lnTo>
                <a:lnTo>
                  <a:pt x="5496" y="17989"/>
                </a:lnTo>
                <a:lnTo>
                  <a:pt x="9883" y="17989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8120" y="22860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z – Introduction To Cyc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295280" y="312408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YOU ARE CHAMPIO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5T08:05:24Z</dcterms:created>
  <dc:creator>NIE</dc:creator>
  <dc:description/>
  <dc:language>en-US</dc:language>
  <cp:lastModifiedBy>NIE</cp:lastModifiedBy>
  <dcterms:modified xsi:type="dcterms:W3CDTF">2011-05-05T08:16:54Z</dcterms:modified>
  <cp:revision>6</cp:revision>
  <dc:subject/>
  <dc:title>Slide 1</dc:title>
</cp:coreProperties>
</file>