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2847-AA89-4680-B8A3-B6220560A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2C73-EEA1-432A-94DE-B327B273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3EA8-0618-4223-BECC-3E5034E7D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FF33-8DB9-454F-B51B-CAFF8B63E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EB7D-BEC6-42F2-B476-383077844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7B5E-CF63-4036-B1E1-17CBC71B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AD6E-E5F7-4C9F-BC7B-52AA2381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022D-A395-45B8-8997-463AA69F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9342-03A6-4FCC-A0A6-3404FB03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E270-D6B5-445A-9BB0-2D39A7E6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A569-963D-45C9-A5E4-9C0BA09B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842B-C94B-41DE-AEA5-F003AC81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0990-A9C8-4DAA-8BBA-8A1EFFAD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79D6-5E78-4222-8C61-45A68FCC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C993-9F4E-4BA8-895A-0F183F1E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78DD-F7B1-44F2-AFF6-7836BECB0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A724-DA8C-4B09-B065-5D9463A35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C6C4-17E0-455D-A7EB-269AB2A3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6D85-B7D9-47A3-85A1-25CA05C3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5F6A-8213-4873-8756-023F00EE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1645-397F-44B5-A887-B25B3903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3CDF-84B6-4629-8D77-61A0E02F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F5FF-AABE-4EA9-8182-9C2D5AE5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EA7A-5D27-4793-B275-6D9C82C1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27B3-2026-4DB0-BE5D-0E896F49F0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F05B-2190-4A41-9904-99C26F6187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48120" y="2286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z – Introduction To Cyc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43000" y="1371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1 – Which bicycle can be ride on roa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214776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1 –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UNICY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29098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2 –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TRI-CY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36720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3 –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3" action="ppaction://hlinksldjump"/>
              </a:rPr>
              <a:t>RACING BIC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048120" y="2286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z – Introduction To Cyc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2209680"/>
            <a:ext cx="6781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YOU NEED TO TRAIN MORE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>
            <a:hlinkClick r:id="" action="ppaction://hlinkshowjump?jump=firstslide"/>
          </p:cNvPr>
          <p:cNvSpPr/>
          <p:nvPr/>
        </p:nvSpPr>
        <p:spPr>
          <a:xfrm>
            <a:off x="4114800" y="3733920"/>
            <a:ext cx="762120" cy="7617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0" h="21600">
                <a:moveTo>
                  <a:pt x="10805" y="3837"/>
                </a:moveTo>
                <a:lnTo>
                  <a:pt x="13381" y="6448"/>
                </a:lnTo>
                <a:lnTo>
                  <a:pt x="13381" y="4707"/>
                </a:lnTo>
                <a:lnTo>
                  <a:pt x="15157" y="4707"/>
                </a:lnTo>
                <a:lnTo>
                  <a:pt x="15157" y="8224"/>
                </a:lnTo>
                <a:lnTo>
                  <a:pt x="17768" y="10800"/>
                </a:lnTo>
                <a:lnTo>
                  <a:pt x="16114" y="10800"/>
                </a:lnTo>
                <a:lnTo>
                  <a:pt x="16114" y="17989"/>
                </a:lnTo>
                <a:lnTo>
                  <a:pt x="5496" y="17989"/>
                </a:lnTo>
                <a:lnTo>
                  <a:pt x="5496" y="10800"/>
                </a:lnTo>
                <a:lnTo>
                  <a:pt x="3842" y="10800"/>
                </a:lnTo>
                <a:close/>
              </a:path>
              <a:path fill="darkenLess" w="21610" h="21600">
                <a:moveTo>
                  <a:pt x="13381" y="6448"/>
                </a:moveTo>
                <a:lnTo>
                  <a:pt x="13381" y="4707"/>
                </a:lnTo>
                <a:lnTo>
                  <a:pt x="15157" y="4707"/>
                </a:lnTo>
                <a:lnTo>
                  <a:pt x="15157" y="8224"/>
                </a:lnTo>
                <a:close/>
              </a:path>
              <a:path fill="darkenLess" w="21610" h="21600">
                <a:moveTo>
                  <a:pt x="9883" y="14299"/>
                </a:moveTo>
                <a:lnTo>
                  <a:pt x="11728" y="14299"/>
                </a:lnTo>
                <a:lnTo>
                  <a:pt x="11728" y="17989"/>
                </a:lnTo>
                <a:lnTo>
                  <a:pt x="16114" y="17989"/>
                </a:lnTo>
                <a:lnTo>
                  <a:pt x="16114" y="10800"/>
                </a:lnTo>
                <a:lnTo>
                  <a:pt x="5496" y="10800"/>
                </a:lnTo>
                <a:lnTo>
                  <a:pt x="5496" y="17989"/>
                </a:lnTo>
                <a:lnTo>
                  <a:pt x="9883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048120" y="2286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z – Introduction To Cyc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95280" y="31240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YOU ARE CHAMPION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08:05:24Z</dcterms:created>
  <dc:creator>NIE</dc:creator>
  <dc:description/>
  <dc:language>en-US</dc:language>
  <cp:lastModifiedBy>NIE</cp:lastModifiedBy>
  <dcterms:modified xsi:type="dcterms:W3CDTF">2011-05-05T08:16:54Z</dcterms:modified>
  <cp:revision>6</cp:revision>
  <dc:subject/>
  <dc:title>Slide 1</dc:title>
</cp:coreProperties>
</file>