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847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8640" y="4827240"/>
            <a:ext cx="847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86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02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3520" y="222372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8400" y="222372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8640" y="482724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3520" y="482724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8400" y="4827240"/>
            <a:ext cx="27280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8640" y="2223720"/>
            <a:ext cx="847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847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11700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86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0240" y="482724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86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0240" y="2223720"/>
            <a:ext cx="4134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8640" y="4827240"/>
            <a:ext cx="847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3720"/>
            <a:ext cx="847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992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U.D 4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68000"/>
            <a:ext cx="847728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Times New Roman"/>
              </a:rPr>
              <a:t>EL SALARI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151920"/>
            <a:ext cx="8609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SMI e IPREM</a:t>
            </a:r>
            <a:br>
              <a:rPr sz="4000"/>
            </a:b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SMI: Salario mínimo interprofesional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</a:rPr>
              <a:t>Fijado anualmente por el Gobierno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</a:rPr>
              <a:t>SMI 2011: 641,40 €/mes 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</a:rPr>
              <a:t>Visitar página :</a:t>
            </a:r>
            <a:r>
              <a:rPr b="0" lang="es-ES" sz="2800" spc="-1" strike="noStrike">
                <a:solidFill>
                  <a:srgbClr val="e6e6e6"/>
                </a:solidFill>
                <a:latin typeface="Arial"/>
              </a:rPr>
              <a:t>smi 2011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IPREM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3080" y="216684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Indicador de Precios de Rentas Múltipe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IPREM 2011 Indicador Público de Renta de Efectos Múltiples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SMI INEMBARGABL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El SMI es inembargable por deudas contraídas por el trabajador/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Los salarios superiores al Smi son embargables: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hasta 2 SMI: 30%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hasta 3SMI: 50%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Hasta 4: 60%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Hasta 5: 75%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Cantidades superiores: 90%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FOGASA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Organismo autónomo que tiene atribuido  el abono a los trabajadores de los salarios e indemnizaciones que las empresas para las que trabajan no han podido satisfacer por encontrarse en situación legal insolvencia o por haber sido declaradas en situación de concurso. Abonadas las prestaciones el Fondo de Garantía Salarial se subrogará obligatoriamente en los derechos y acciones de los trabajadores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MÍMITES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Visitar página FOGASA :</a:t>
            </a:r>
            <a:r>
              <a:rPr b="0" lang="es-ES" sz="2200" spc="-1" strike="noStrike">
                <a:solidFill>
                  <a:srgbClr val="ccccff"/>
                </a:solidFill>
                <a:latin typeface="Arial"/>
              </a:rPr>
              <a:t>http://www.mtin.es/fogasa/impresos/Prestaciones_salarios.pdf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ACTIVIDADES</a:t>
            </a:r>
            <a:br>
              <a:rPr sz="4000"/>
            </a:b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0360" y="2257200"/>
            <a:ext cx="413712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GRADO MEDIO CAE</a:t>
            </a: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Pag 68: 1,,2,3 y 4</a:t>
            </a: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Pag 87: 18 y 19</a:t>
            </a: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Pag 89: 1, 7</a:t>
            </a: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GM GA:</a:t>
            </a: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e6e6e6"/>
                </a:solidFill>
                <a:latin typeface="Arial"/>
              </a:rPr>
              <a:t>Pag 98 act.: 15, </a:t>
            </a:r>
            <a:endParaRPr b="0" lang="en-US" sz="3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03600" y="2166840"/>
            <a:ext cx="4136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GRADO SUPERIOR</a:t>
            </a: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Pag. 69: 1, 2, 3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Pag 74: 8, 9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Pag. 79: 12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Pag. 90 y 91: 1, 2, 7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EL RECIBO DE LIQUIDACIÓN DE SALARIO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Veamos primero su estructura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ccff"/>
                </a:solidFill>
                <a:latin typeface="Arial"/>
              </a:rPr>
              <a:t>http://www.javierpelayo.com/unidades-de-trabajo-fol/unidad-3-de-fol-la-jornada-laboral-y-su-retribucion/81-el-cirujano-de-fol-diseccionando-una-nomin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151920"/>
            <a:ext cx="8609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EL RECIBO DE LIQUIDACIÓN DE SALARIO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L= TD – Ret. IRPF – ATSS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D= Sb + Cs + Ce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ret. IRPF = % Sobre TD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ATSS: BC * TC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ATS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ATSS = BC * TC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C=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CC 4,70%; Desempleo 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1,55% (1,60%); FP 0,1 %; HE fm 2%; Resto HE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 4,70%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ccff"/>
                </a:solidFill>
                <a:latin typeface="Arial"/>
              </a:rPr>
              <a:t>http://www.seg-social.es/Internet_1/Trabajadores/CotizacionRecaudaci10777/Basesytiposdecotiza36537/index.htm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BC = Sb + Cs + Prorrata de P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BCCC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BCCP= BCCC + H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e6e6e6"/>
                </a:solidFill>
                <a:latin typeface="Arial"/>
              </a:rPr>
              <a:t>ACTIVIDADES Recibo Liquidación Salarios</a:t>
            </a:r>
            <a:endParaRPr b="1" i="1" lang="en-US" sz="3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9640" y="216072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1.-) Rellena el recibo de liquidación de 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alarios de un trabajador que tiene la siguiente retribución mensual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alariobase: 1,000 €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C. Productividad: 150 €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ransporte: 50 €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iene derecho a 2 pagas extras de 1150 €/cada un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La retención del IRPF es del 5%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151920"/>
            <a:ext cx="8609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EL RECIBO DE LIQUIDACIÓN DE SALARIO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L= TD – Ret. IRPF – ATSS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D= Sb + Cs + Ce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= 1000+150+50=1200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ret. IRPF = % Sobre TD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= 5% s/1,200= 60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ATSS: BC * TC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¿QUÉ ES EL SALARIO?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9000" y="2268000"/>
            <a:ext cx="847728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Times New Roman"/>
              </a:rPr>
              <a:t>El salario es una contraprestación por la prestación laboral, y una de las principales obligaciones del empresari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ATS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BC = Sb + Cs + Prorrata de PE= 1000+150+191,67= 1341,67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BCCC= 1341,67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BCCP= BCCC + HE= 1341,67+0= 1341,67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Prorrata PE = 1150*2/12= 191,67 €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ATS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0">
              <a:lnSpc>
                <a:spcPct val="98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ATSS: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1341,67 * 4,70%= 63,06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1341.67 * 1,55 % = 20,80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1341,67 * 0,1 % = 1,34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otal 85,20 €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otal a deducir: 85,20 + 60 = 145,20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0">
              <a:lnSpc>
                <a:spcPct val="97000"/>
              </a:lnSpc>
              <a:buNone/>
              <a:tabLst>
                <a:tab algn="l" pos="0"/>
                <a:tab algn="l" pos="5014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L= 1200- 145,20= 1054,80 €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94040" y="179280"/>
            <a:ext cx="6127560" cy="738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ACTIVIDAD 1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88640" y="2044440"/>
            <a:ext cx="847404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1.- Rellena la hoja de liquidación de salarios del siguiente trabajador  del mes de NOVIEMBRE DE 2011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Empresa: ITS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Domicilio: Avda. José Carranza 24, Sevil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Código cuenta de cotización: 41/112233445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CIF: A-41.234.567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Nombre del trabajador: Alberto Gómez Gonzále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NIF: 28.490.567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Nº afiliación: 41/99887766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Nº de matrícula: 123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Grupo de cotización: 4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Categoría profesional:  Ayudante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Devengos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Salario base: 1.200 €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Complemento de antigüedad: 95 €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Complemento de transporte:  47 €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Times New Roman"/>
              </a:rPr>
              <a:t>Retención del IRPF: 10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TIPOS DE SALARIO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41371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e6e6e6"/>
                </a:solidFill>
                <a:latin typeface="Arial"/>
              </a:rPr>
              <a:t>SEGÚN EL TIPO DE PERCEPCIÓN:</a:t>
            </a:r>
            <a:r>
              <a:rPr b="0" lang="es-ES" sz="24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En Especie (coche, vivienda ...)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 30% 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En metálico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SEGÚN FORMA DEL CÁLCULO: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Por unidad de obra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Por unidad de tiempo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200" spc="-1" strike="noStrike">
                <a:solidFill>
                  <a:srgbClr val="e6e6e6"/>
                </a:solidFill>
                <a:latin typeface="Arial"/>
              </a:rPr>
              <a:t>Mixto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ABONO DEL SALARIO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Moneda de curso lega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Entrega de recibo NOMINA ( devengos y deducciones)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Pago no superior al mes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Anticipos trabajo ya realizado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e6e6e6"/>
                </a:solidFill>
                <a:latin typeface="Arial"/>
              </a:rPr>
              <a:t>10% demora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ESTRUCTURA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MEDIANTE NEGOCIACIÓN COLECTIVA ( complementos, cuantía, condiciones)</a:t>
            </a:r>
            <a:r>
              <a:rPr b="0" lang="ar-SA" sz="3200" spc="-1" strike="noStrike">
                <a:solidFill>
                  <a:srgbClr val="e6e6e6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Arial"/>
              </a:rPr>
              <a:t>Salario base (para cada categoría)</a:t>
            </a:r>
            <a:r>
              <a:rPr b="0" lang="ar-SA" sz="2600" spc="-1" strike="noStrike">
                <a:solidFill>
                  <a:srgbClr val="e6e6e6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Arial"/>
              </a:rPr>
              <a:t>Complementos salariales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Arial"/>
              </a:rPr>
              <a:t>Personales: Idioma, antigüedad ..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Arial"/>
              </a:rPr>
              <a:t>Puesto de trabajo: nocturnidad, peligrosidad ..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Arial"/>
              </a:rPr>
              <a:t>Calidad, cantidad: primas, incentivos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Arial"/>
              </a:rPr>
              <a:t>Gratificaciones extraordinarias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PAGAS EXTRAORDINARIA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Dos pagas mínimo (Navidad y ...)</a:t>
            </a:r>
            <a:r>
              <a:rPr b="0" lang="ar-SA" sz="3200" spc="-1" strike="noStrike">
                <a:solidFill>
                  <a:srgbClr val="e6e6e6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Prorrateo paga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Formas de devengo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</a:rPr>
              <a:t>SEMESTRAL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</a:rPr>
              <a:t>Anual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151920"/>
            <a:ext cx="8609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Percepciones NO salariales</a:t>
            </a:r>
            <a:br>
              <a:rPr sz="4000"/>
            </a:b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INDEMNIZACIONES O SUPLIDOS: Gastos de la propia actividad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PREST./INDEMN. DE LA SS: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TRASLADO, DESPIDO ..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151920"/>
            <a:ext cx="8609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ESTRUCTURA DEL SALARIO</a:t>
            </a:r>
            <a:br>
              <a:rPr sz="4000"/>
            </a:b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Salario Base +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Complementos Salariales+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percepciones NO salariales -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Descuentos (IRPF, SS....)</a:t>
            </a:r>
            <a:r>
              <a:rPr b="0" lang="ar-SA" sz="3200" spc="-1" strike="noStrike">
                <a:solidFill>
                  <a:srgbClr val="e6e6e6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616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8000"/>
              </a:lnSpc>
              <a:buNone/>
              <a:tabLst>
                <a:tab algn="l" pos="0"/>
                <a:tab algn="l" pos="3571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000" spc="-1" strike="noStrike">
                <a:solidFill>
                  <a:srgbClr val="e6e6e6"/>
                </a:solidFill>
                <a:latin typeface="Arial"/>
              </a:rPr>
              <a:t>GARANTÍAS SALARIALE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Principio de compensación y absorción: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MI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SMI INEMBARGABL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PRIVILEGIOS SALARIALE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e6e6e6"/>
                </a:solidFill>
                <a:latin typeface="Arial"/>
              </a:rPr>
              <a:t>FOGAS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</cp:lastModifiedBy>
  <cp:lastPrinted>2011-10-27T09:19:39Z</cp:lastPrinted>
  <dcterms:modified xsi:type="dcterms:W3CDTF">2011-11-21T17:57:31Z</dcterms:modified>
  <cp:revision>3</cp:revision>
  <dc:subject/>
  <dc:title>U.D 4</dc:title>
</cp:coreProperties>
</file>