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84EE-548F-418A-94B5-EA763175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E091-38C0-4C75-9386-C22BB423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5078-2FDB-409B-8479-DE7D21C1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B64A-96BA-4F25-8448-7DBF2C20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8E78-85F2-4984-A4A0-9D52BDB2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7DE7-C763-453B-9B1E-B23DF44F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DBEB-8B5D-41BD-9AFA-47621A4A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92EB-BCD2-4B86-9203-B87CB950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E9F9-9A76-46EF-8990-823BD950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14AF-CA45-4A6E-BA18-625074F9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D532-EAD0-456C-A8FC-D2C48532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89AE-B866-492D-A72B-326A5ED0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0E4C-7401-4855-A0A4-8B4E2D07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68AF-F84F-478C-9F3C-89BF05D1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8AF1-1BB0-4871-96DC-85F5EF91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8B56-3A42-4897-82A6-A2F08CC7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A0E3-F4ED-4DD4-972B-A5FB3506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E7919-23EA-4341-AEB7-6BA92C45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01167-3721-4809-A65E-AC5A73E9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7DD08-CBC9-4FCA-92E3-9A810C02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DFAF8-A3A4-48D5-970F-0356A446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7AAC4-E71A-445C-BDC4-D02CBDDE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45ED-19F7-476A-A832-AC5BEC8E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5F256-EBD3-4711-9DD9-52A010B3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913C2-114E-44D0-977B-0925C8D1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E209B-E103-44F7-800D-FBE3BA41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9F57A-E47C-4A89-8503-39357D4E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77FDA-9E67-47A2-BCFB-FD4DEC7C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B0D77-DDEF-4D07-BFC0-4F034707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B1109-0CF3-4CF0-9F4A-4DAF31F0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B5FDD-41E1-4335-9472-D4B18207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5D3C4-017A-4911-AAF0-70960690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7FF17-1802-4A34-A8C0-D22424E0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A83D-3A58-44A0-B926-E61CE0B0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1AD2E-7C92-4B24-964E-7FA58D7B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18455-BECC-412A-9150-0A1E4099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33880-E981-4F4F-BB55-3747E52B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E6FE1-3EF0-4A42-8137-34309DDB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08E44-F60C-4E54-AC91-3047C5E3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140F2-D771-4B3F-A7C7-98C1B852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13E75-18B6-4F95-8874-DFD2E4E0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479FA-93E5-4B5E-9720-9626C622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B1B56-8165-4480-BE94-DA959A0A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5A84-52CE-45EA-9DE3-8D2A7FC0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AEA1-B45D-4E80-87C1-65F835B3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D4F5-72AF-489A-9595-F9944225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95D-C05B-457A-8580-C22B53E9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11A2-5ADD-4500-975B-CBD5859E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E4B2-662A-4222-9E7A-FBCA6CDF9183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1437-33B8-4031-B518-5F033E8D73AD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EBB0-9B6E-485A-966E-B49BA5C43DC4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A55D-A17C-4645-9441-56639EFA484A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353880" y="-36360"/>
            <a:ext cx="8508960" cy="190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57120" y="2286000"/>
            <a:ext cx="7858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valuación cualitativ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Currículo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Objetivos de aprendizaj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Plan de enseñanz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Meta educativ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nseñanz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Aprendizaj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Análisis educativo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Modelo sensitivo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Modelo de análisis integrado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valuación Cualitativa (dimensión intencional, estructural, curricular, pedagógica y evaluativa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01:22:06Z</dcterms:created>
  <dc:creator>Liz Morelos</dc:creator>
  <dc:description/>
  <dc:language>en-US</dc:language>
  <cp:lastModifiedBy>Liz Morelos</cp:lastModifiedBy>
  <dcterms:modified xsi:type="dcterms:W3CDTF">2011-10-08T01:28:01Z</dcterms:modified>
  <cp:revision>1</cp:revision>
  <dc:subject/>
  <dc:title>Palabras clave Lectura “Evaluación Cualitativa del Currículo”  EQUIPO 4: Miguel Ángel, Lizette, Eduardo</dc:title>
</cp:coreProperties>
</file>