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B52-7476-4B0D-932B-6755CAE5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44E-568B-4045-A6AE-48240F76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C94-F868-4F7E-870F-59E78976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590-2F59-48A0-AED9-B6052024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A6F6-DC43-4FFE-A0C2-0DBBE32C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D1DB-FA34-496A-A007-7E87CACE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50FE-1FF0-4A48-8C62-90262205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1E68-F5F3-4816-8C7B-1386B0EF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2E09-46AA-4B00-B10C-A7F0B73C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7E26-C80A-4C28-A087-253039C8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C65B-10AD-45C2-A6B2-4390D06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7B9-0AE5-4926-8450-03FC09AF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681D-B90F-45D5-AE08-51761B1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9B39-A6D5-40C2-A890-3E19C393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F6A6-67B5-4CF7-A7F1-04CCF745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17D7-348C-46DA-A4C9-40D54319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3AA9-DE89-4C4A-A52A-610E1E06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1F89-6794-4EC5-ADC6-A2B8175E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D6A5-9512-4C93-910E-9772CC75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0893-A527-41FC-B30E-1620BA02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0B00-5FC4-4E68-B0C9-4AB058CF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C4BE-DAE1-4FE0-8493-20998E1C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34B-A934-4612-82E2-2F86FB78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694D-8D1E-4EAA-ABEE-FB88B76B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3CB7-4CF1-4175-B0D7-E73642C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7701-D591-4BB4-93B1-F4D201B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0736-5A15-4D81-99AE-D12EEAFF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0AED-55A2-4623-B7CE-B9DE347E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1CEB-A339-4483-B4F3-C3AAC7F5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AE76-39A7-447A-981F-0441748A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84439-B5D3-4F8C-9193-E001C773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6A95-6397-4F7A-9BF5-B923B2A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D057-00CB-49FA-8AAA-4F8B5BD6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3D6-5759-45E5-B4B3-D3BBDA96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7531-34F3-4CBE-A776-9168426B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D03A-0838-4749-B108-4AF86E71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A4DB-643F-40EB-A843-59E9712B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44B26-4203-423A-8F56-F5AA925F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8953-C370-460A-BF86-D232006B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1234D-BAD7-48C8-97CF-5B76E57C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EF1C4-F938-4BCE-8D48-6483DEA0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7160E-DDD5-4C1D-AB0F-F7841E03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5956-2451-4C00-9DDF-598B869E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403-ABA8-498C-A126-19DD2FE2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C83-14DB-4787-A909-E998793B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074-4071-4656-8DD7-154D36A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590-A79C-4D95-B3B5-3A3252C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720-7241-47C1-BF5B-A345D7E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D592-B00F-4685-99C5-54A4D87C6ABF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8C7B-4EBF-4D06-9F10-FEDCFAB3BF33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CE1F-E15F-40C2-958D-E05488D0ADAB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617E-5BAA-47AA-8387-339DB13A0664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353880" y="-36360"/>
            <a:ext cx="8508960" cy="190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7120" y="2286000"/>
            <a:ext cx="7858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valuación cualitativ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Currícul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Objetivos de aprendizaj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lan de enseñan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eta educativ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señan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Aprendizaj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Análisis educativ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odelo sensitiv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odelo de análisis integrad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valuación Cualitativa (dimensión intencional, estructural, curricular, pedagógica y evaluativa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1:22:06Z</dcterms:created>
  <dc:creator>Liz Morelos</dc:creator>
  <dc:description/>
  <dc:language>en-US</dc:language>
  <cp:lastModifiedBy>Liz Morelos</cp:lastModifiedBy>
  <dcterms:modified xsi:type="dcterms:W3CDTF">2011-10-08T01:28:01Z</dcterms:modified>
  <cp:revision>1</cp:revision>
  <dc:subject/>
  <dc:title>Palabras clave Lectura “Evaluación Cualitativa del Currículo”  EQUIPO 4: Miguel Ángel, Lizette, Eduardo</dc:title>
</cp:coreProperties>
</file>