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ED8-28E9-420E-BC29-28341465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A05-7DF3-4507-962A-9D1A3533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E8F-B078-41DC-A0EF-A9A37E24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F18-D593-4FEF-A82B-2962ACF8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DEE7-459D-4BEA-97A0-054936EC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CEC8-EA59-4702-B295-2F3A881F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7D47-0250-4CCF-A2E1-5E28B6A0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7DDB-71F3-416E-B24A-2FBD1C57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409A-C131-4C9E-AC0B-1BA630C4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E12B-BE19-4D1D-822B-ABFF5287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4C74-523E-49EB-957A-98A16FAE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A0C-C143-437B-B2C5-DBC36261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1194-5B85-48C7-B008-C7F70F96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B8B2-3490-41FC-9D19-0562B7B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FFB4-29E9-4669-948A-B527DBDE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6BC7-196A-41F5-8644-E1F45ED5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5CA5-1210-4061-8176-069A3C21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F904-8B83-4AD9-A591-271A305E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20809-A0F3-4EC2-A0C2-B5C8AD60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9E09-FF97-4D2E-80ED-C00584AD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BA6D-5C2F-4787-BBE1-F61D5FA7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368F-617D-4116-99C9-203DDF85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15C-28B1-4320-9BCC-9BD67B43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8243-6BF3-4685-847F-B0C02D6D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662EE-389F-44C2-9697-3F0FEF2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9DDF5-C6BA-4D97-B053-D64708BA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930C-F216-4679-9328-CABB628C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ECDA-978A-44B5-B684-FBE9B5CF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E703E-0A64-48D1-B571-765D1400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C1BBB-E173-4B73-9690-13A1605E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B767E-B867-49BB-9406-8738E872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ABEE-F7B9-4D78-9C79-E6577788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28F03-F839-44F7-9DA0-DD993B62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C2C-43B3-4970-8875-256B8058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C02B-3C0B-4BEA-B022-9970F29C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2D5D1-81E4-4653-AE58-63687EF0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4FF69-D3B7-4C4D-B8DC-8E60CACE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56A0E-5054-4388-917D-641CF35B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DA6F-18A6-4841-8B78-DF150D29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881E-37F9-4BD4-867F-16C1A0B4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6B52A-F6F1-4A0D-9873-A31B26BA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809AE-ECA4-4540-BA7B-0AE8A713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6CC8-467E-44C6-8097-C3CE933A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EA8-41DF-480D-BF85-7B29386C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119-315A-4248-8061-E2625D34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DA9-EFD1-4451-BB20-3D526DB6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9A0-7B10-46C0-8FCD-5076259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590-2721-4E0E-BFAB-9B6367C5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D267-3384-4AF3-A954-5CFA9C82FEEF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786D-0C4C-4730-9A34-FC00B221A6B6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8498-6BC3-40E3-B392-67A694164D90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AF6F-9FD1-407E-9CFA-406F6BB31DEF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353880" y="-36360"/>
            <a:ext cx="8508960" cy="190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7120" y="2286000"/>
            <a:ext cx="7858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valuación cualitativ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Currícul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Objetivos de aprendizaj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Plan de enseñan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Meta educativ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nseñan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Aprendizaj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Análisis educativ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Modelo sensitiv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Modelo de análisis integrad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valuación Cualitativa (dimensión intencional, estructural, curricular, pedagógica y evaluativa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1:22:06Z</dcterms:created>
  <dc:creator>Liz Morelos</dc:creator>
  <dc:description/>
  <dc:language>en-US</dc:language>
  <cp:lastModifiedBy>Liz Morelos</cp:lastModifiedBy>
  <dcterms:modified xsi:type="dcterms:W3CDTF">2011-10-08T01:28:01Z</dcterms:modified>
  <cp:revision>1</cp:revision>
  <dc:subject/>
  <dc:title>Palabras clave Lectura “Evaluación Cualitativa del Currículo”  EQUIPO 4: Miguel Ángel, Lizette, Eduardo</dc:title>
</cp:coreProperties>
</file>