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441D4-24BC-4C26-9B6C-DB6350AD6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A5263-501E-4CAF-AFD3-BB81F3EB2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3"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5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CF4443-E6DD-44A6-AB36-2E678E420A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1E0FAC-ABA1-4BB0-967F-A51E6C2482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A6B77B-79F3-4E8E-8501-5EDFAF00B6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5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179E6B-2E2D-4C55-AEF5-63213E59C5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6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4"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DD9BDC-582E-492B-9DCB-8CD799A56F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6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8"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F9BAE1-D303-4D34-A1AE-E3D5E6BA1F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0"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1"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4DD6A9-9E84-44D3-A995-CE57AB8EAF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6"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F5FCB9-1FA7-4923-9DEE-94B77692E4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8"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9"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0"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1"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2"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3"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359E12-C1D7-4DCA-8CE6-76E44CB7C0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9B01CB0-D1AD-49D7-9078-8F1006E78B7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70138-BF6D-4970-91A7-6F4F67D60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2"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3F58844-E695-4818-A960-312259FA90D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C00FB40-FAC1-436D-8C4A-E92EC23448D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6"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9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60541D6-623F-48FD-BD18-D2B1E7579B7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578B540-426A-42CF-870A-3B97A8016E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2B81672-2116-48D4-B93B-E38A9CDFA43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7BA030-86B5-4D4E-84AD-5A7043FFD4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7"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168238-2AF1-4CA1-A6AC-74AC5BDC54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1"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758902-50F6-4E0F-B8DF-AA31C12136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13"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4"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DAB248-C79A-4725-A0EA-EDF7E8CC4DB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9"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6AAE214-B26A-4346-8428-9A2863BAE1B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9"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742D0-2731-4C5A-9719-2E94D5F3B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21"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2"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3"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4"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5"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6"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63D139B-1968-4FDC-BEA2-CE2B722A6A9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E02DC5B-4BE8-4E6E-96FE-37655378761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5"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74CC99-6380-4F5C-B9C8-BF86F5E6A9E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7"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20F6C1-A286-4D77-A261-21783B190D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0"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A5228C-8EE6-4B30-B309-AF4F61E318C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88F0AF4-BFBA-42DA-A779-787F5462877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F6153E9-634A-4D36-A9B3-16B53A5E48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4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5"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6"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9C0A7E-56DF-47B2-8259-3FA407B3AD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4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0"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CC524D-9E74-4674-A3DA-730E6C7563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4"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2F5D85-855B-4F71-981F-43011ED63C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5C5EDD-3D4C-4B1D-9113-CDE7A3CAB2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6"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7"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CFA881-0D82-4761-8B15-9BC5955131C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1"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2"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DC85966-8BD0-44C9-80BD-C0A871EB894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64"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5"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6"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7"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8"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9"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FB1D08E-23B8-4003-8A19-0DBE21FD5E1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06CD5A2-E644-4975-AFF4-4BCE0C88C25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77"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9F21E3E-F587-41B9-8BD6-8FED949278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79"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32184A5-B659-43EA-9713-240109A8A6C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8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AEE3914-BA1D-415F-8DF9-DFC184A5040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DB71A2F-FECD-48B0-A6B8-6E1D8123A6D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4C78B41-600A-43C7-A15E-37013CCAB1B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8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6E4810-3309-4474-9BF1-2716421ED0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20F0E-1F9F-408A-A526-D5346D122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2"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A5CD6A-1C92-451C-B26C-09174CE0F1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6"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8E4A603-E0D6-458F-862F-E9E9ADC2B7D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8"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9"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5C5D49-E172-46EB-87E8-FD27551A115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4"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B72C156-B6DC-4087-B691-C57714D4CCC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06"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7"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8"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9"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10"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11"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811040A-9CDA-4B67-91B4-C4F487B5DF9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1BBE195-85EF-4361-BA4C-C33D8844799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18"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04231EA-AC6D-448D-B561-B618AFE850A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0"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D9D4FB0-B890-453E-A18F-ACF37C42499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3"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6E00AC3-2B76-4863-AF41-E82182BAB59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EF9E81B-ACC9-46AE-B51B-5DAACF8E13E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1"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D5881-999F-4783-BDE0-C4EC55594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22BC0C4-563B-4143-8810-9E9445381C8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7"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8"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9"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13224BE-B066-4FDE-B0D7-1EF3C265CA6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3"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088BF6B-62A3-49C2-9B26-10B50F965A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7"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42A4727-C555-47B9-A00F-2A008869E21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9"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0"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83C7C8C-288D-4F05-A2F3-E36C3D75AAB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4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4"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5"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73251A2-64CD-4D4E-83BB-AF4FCEFF427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47"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8"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9"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0"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1"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2"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F3B951A-CF4A-4349-9156-466E407342B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0ACB712-5A40-4542-BF58-A7DFF3AD82C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1"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381FD57-E8D6-41E4-83FE-F3386EB53CE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3"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16637EE-D183-4255-8166-9319333EA78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532D6-74B9-4378-B5B4-DA0E1D540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6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3F34347-E4D0-4FA8-96AC-3AE5F007C1A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80016D7-CF92-4B07-99F8-0D8A4E83048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2BFCDA1-E14B-450C-9A9A-02C53096496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861F110-9275-424E-BE38-57C3C123116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4"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6"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9AEB3EC-E598-4979-85A4-CBC2777C202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0"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1DBCFCC-7BAE-4C62-92BF-D3DAC65232F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2"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3"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5345EFF-81D8-4896-88D6-B1E1E0895F0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8"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E4EDEA2-A346-476C-81DC-EC4881402D1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90"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1"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2"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3"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4"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5"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A68F612-B507-44F0-B017-EE109941773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770252D-1348-498C-8F56-2C3CB027CCC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1FB44-AC5D-40B8-B522-344CD0408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4"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A3FABCF-F75D-478D-AB72-A30A2EB9821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6"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735BB17-2158-4AF9-9606-281429EB8E6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0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A055F00-D84B-43D2-B457-FF10A734CD7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2EF8828-C3F2-4043-ACA2-5DECBC4F26F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153CE77-0CDB-4A8A-BB74-FA9D3A9D78B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1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A168974-1CC4-47EF-8D6D-C24601119F9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17"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8"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9"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D2D9EF8-D85A-4863-B0B4-B40F107A4A0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3"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814CB4E-C762-4920-9854-A78DBEB20B9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5"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6"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853A241-2831-48D2-8C87-C0F371F54A0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1"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949F0D9-33B0-42A3-9F42-782274C48FE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D21A4-FF00-4F71-82DB-6B0C3C52B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33"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4"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5"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6"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7"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8"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1EA17B4-AF25-4326-9A30-ED524BC19C3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2F72B-203B-4D7C-B8A6-44754901D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A3756-CD4D-4AEA-952A-70E1E281E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4"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FE8E5-D4A8-4C5A-8C1B-2CBEF94A5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8"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5EE60-DAE5-4458-BDEF-EBE5A1C91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0"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1"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086AB-6C18-4C86-9E07-0F122A4DC6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6"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B1ACC9-5D57-4B16-B029-F0C69ED82A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8"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9"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0"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1"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2"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3"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DE03DF-59A2-40EF-BF2C-4BD814B503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2FB760-6FAD-4FEC-812D-8AE5ED20DA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2"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5EFC3C-3CB8-491D-BDD2-0447D967F5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720A84-6DC1-4EC4-A141-F68F15271B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6"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66201F-3D75-4B30-B08F-2D7ACE43A5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B41F54-8714-49E6-BCE6-D0DC1C528A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8"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2DD8D-585B-4608-9F69-5281E7010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504116-59CE-4C98-91E8-EBF65B6C15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44546D-51A6-4468-9DAB-43A2738B91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7"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BB8790-BC77-42E6-9D7B-1D80C9F245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1"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C7251E-EBCE-413A-9DFD-033548ACAC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13"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4"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A2444C-6FAF-4B00-98F4-AFC10D1FB1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9"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E02096-4226-416C-9932-B5EC1066F9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21"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2"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3"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4"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5"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6"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C7FBF3-856A-490B-8F08-7F984A3038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D71C6E-A0CC-460F-AE5D-0B3FDC32CA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5"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E336E2-7690-40EE-A85D-2224A82826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7"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B8CF9A-9EA0-4324-8EB0-5A33B075AA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CB1C4-D925-4090-AD73-61F9A0DC4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0"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72F682-D89C-40E8-A41B-D9B659C129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96BB73-D93D-4146-ABB1-1313A658D0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B44624-7057-434A-97B1-9925E9F937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4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5"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6"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3E5C45-6C26-4980-B114-2DD56DBEAA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4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0"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921CC8-040F-4B1C-8DA3-049C14D4C1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4"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D70473-5B47-41C8-BC90-DA12939DCE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6"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7"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214640-484C-4031-9675-B817F11AD2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1"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2"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E29C47-6204-4E07-80B0-79B33AF935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64"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5"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6"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7"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8"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9"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2C5EE1-B6EF-4F35-93A7-24A27913F1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065ABF-7CF7-49D2-A6AF-BCD7787E03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9B700-9015-47C1-A748-262071515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78"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96AE02-D116-44C8-881F-9DB1C39AD6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0"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D88D87-751A-4706-8392-B27DA5C5A7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3"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622734-8BFC-43CD-8E6B-389A44867A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CCC736-F5CE-4CBA-9A00-30A5B78EDF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1FAE30-CD8C-459E-8D39-0F7DF3F75D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7"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8"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9"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94E6D5-4096-4043-8BF8-52922809CD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3"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5C175E-A58A-4632-A57B-A1C9AAB76F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7"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EF2845-7494-43EC-913D-BF8AF0AF75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9"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0"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D38D23-E79C-4B89-9D97-7417EBD0A5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0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4"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5"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12245A-2850-4E52-927E-D9D161512A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1D89D-EC6B-4B64-96C5-A85280F8E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07"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8"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9"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0"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1"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2"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841B7D-3BB0-4B29-8B30-D1D9540647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FEC6AC-5481-407C-AED9-FBEC1B6E42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1"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124A34-EFE4-42BE-9000-B60B38BCE4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3"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7799E4-F018-410A-BC92-9DDA549BAA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2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8246EA-A58D-47D0-92F0-5B6EB1DD96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21C863-1C77-4261-9106-FA40E3F568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7A6DE5-F525-43C8-A242-EA669EC1BC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DBF616-1D33-45FF-9225-2B04189CBA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4"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6"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ADDCD1-6D7C-4D13-B2E1-FD446B1DC9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0"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D72E6B-4D6A-41D2-838B-0F57AF0EFE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87ADD-CD64-426F-84EC-B795408EA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42"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3"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DC8896-2E45-4DE9-9C74-BEFE7387B0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4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8"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9E4ACD-EF93-4F4F-AA1D-70EA243A8C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50"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1"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2"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3"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4"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5"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70BC1B-5FAB-4AF9-AB71-4236AE2261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D0F7C8-72C2-4019-A7FC-B5122DB10E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4"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63F258-0244-400D-923F-211D6033A9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6"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A8D8F2-1A40-4DA0-B612-8AC67F764F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6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A61FF7-5FD2-4963-B1C5-1E5245D706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D928CD-2009-49C6-B8F0-C239139749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91D725-25BB-47E2-9C06-86D10BA739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52484E-474D-4490-9D7B-7172328AEA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FABCC-A3BE-44DA-971C-70A8D3594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7"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8"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9"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3BA1BF-A6CB-4EEB-9BAF-6C4548FD8F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3"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57318C-18E7-4030-97F0-853E43D6CC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5"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6"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E117D2-BC23-437A-B589-6F81170AB3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1"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B8071E-DE32-43FD-9A39-1A55822645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93"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4"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5"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6"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7"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8"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D3D165-3838-47B7-AD83-5BFDFD3210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5AB5D2-AC17-46BE-B032-736EC90057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7"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D1C9ED-DB11-40AE-96AF-12967AE1D1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9"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1B9B52-5E44-4635-A74B-EFBF37213C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1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D07CAE-90D9-4462-8AB1-2C1B98A652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F30150-2F00-4854-87EC-B97132829C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98DB7-9DF3-489A-9639-FC333E07D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A94249-206D-4EB0-8187-9C7B5AA335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F7F419-2824-4852-9B74-8DECE8DBD1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2"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E00B42-C09F-4482-A59B-5BC55D992C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6"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A893DA-8C51-494B-B992-1B3AAFD251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8"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9"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048C84-9554-4D74-A32A-551598EA04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3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4"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B96F5E-8CDE-400C-9C24-7F3B06D75D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36"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7"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8"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9"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40"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41"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A4EBEB-3A97-4494-83F3-74124D9515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FEE01B-704B-468E-8DBF-EF6E82F5EB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49"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22587F-9EE4-4119-8397-DEC1EC79A9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1"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AC8161-A717-4780-9039-A5498513A7F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 name="PlaceHolder 3"/>
          <p:cNvSpPr>
            <a:spLocks noGrp="1"/>
          </p:cNvSpPr>
          <p:nvPr>
            <p:ph type="dt" idx="1"/>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2EB7A6-3DCC-42CF-8B2F-C25BEF95BE80}"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 name="PlaceHolder 5"/>
          <p:cNvSpPr>
            <a:spLocks noGrp="1"/>
          </p:cNvSpPr>
          <p:nvPr>
            <p:ph type="sldNum" idx="3"/>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7D786E-E998-47E3-9334-8ECB3D03A305}"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4" name="Picture 6" descr="Overlay-FullBackground.jpg"/>
          <p:cNvPicPr/>
          <p:nvPr/>
        </p:nvPicPr>
        <p:blipFill>
          <a:blip r:embed="rId3"/>
          <a:srcRect l="50002" t="0" r="0" b="0"/>
          <a:stretch/>
        </p:blipFill>
        <p:spPr>
          <a:xfrm>
            <a:off x="4572000" y="4680"/>
            <a:ext cx="4572000" cy="6858000"/>
          </a:xfrm>
          <a:prstGeom prst="rect">
            <a:avLst/>
          </a:prstGeom>
          <a:ln w="0">
            <a:noFill/>
          </a:ln>
        </p:spPr>
      </p:pic>
      <p:pic>
        <p:nvPicPr>
          <p:cNvPr id="385" name="Picture 7" descr="overlay-ruleShadow.png"/>
          <p:cNvPicPr/>
          <p:nvPr/>
        </p:nvPicPr>
        <p:blipFill>
          <a:blip r:embed="rId4"/>
          <a:srcRect l="0" t="0" r="25032" b="0"/>
          <a:stretch/>
        </p:blipFill>
        <p:spPr>
          <a:xfrm rot="16200000">
            <a:off x="1086480" y="3364200"/>
            <a:ext cx="6854760" cy="125280"/>
          </a:xfrm>
          <a:prstGeom prst="rect">
            <a:avLst/>
          </a:prstGeom>
          <a:ln w="0">
            <a:noFill/>
          </a:ln>
        </p:spPr>
      </p:pic>
      <p:sp>
        <p:nvSpPr>
          <p:cNvPr id="3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87"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88" name="PlaceHolder 3"/>
          <p:cNvSpPr>
            <a:spLocks noGrp="1"/>
          </p:cNvSpPr>
          <p:nvPr>
            <p:ph type="dt" idx="28"/>
          </p:nvPr>
        </p:nvSpPr>
        <p:spPr>
          <a:xfrm>
            <a:off x="2666520" y="6356520"/>
            <a:ext cx="162252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0D488D-55CA-4CF5-8115-00DA978BDA2E}"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389" name="PlaceHolder 4"/>
          <p:cNvSpPr>
            <a:spLocks noGrp="1"/>
          </p:cNvSpPr>
          <p:nvPr>
            <p:ph type="ftr" idx="29"/>
          </p:nvPr>
        </p:nvSpPr>
        <p:spPr>
          <a:xfrm>
            <a:off x="240840" y="6356520"/>
            <a:ext cx="189252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90" name="PlaceHolder 5"/>
          <p:cNvSpPr>
            <a:spLocks noGrp="1"/>
          </p:cNvSpPr>
          <p:nvPr>
            <p:ph type="sldNum" idx="30"/>
          </p:nvPr>
        </p:nvSpPr>
        <p:spPr>
          <a:xfrm>
            <a:off x="1891800" y="5748480"/>
            <a:ext cx="762120" cy="5760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000000"/>
                </a:solidFill>
                <a:latin typeface="Perpetua Titling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8F641D-FD36-4AA4-A6D0-3827EEC19785}" type="slidenum">
              <a:rPr b="0" lang="en-US" sz="3600" spc="-1" strike="noStrike">
                <a:solidFill>
                  <a:srgbClr val="000000"/>
                </a:solidFill>
                <a:latin typeface="Perpetua Titling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7" name="Picture 6" descr="Overlay-FullBackground.jpg"/>
          <p:cNvPicPr/>
          <p:nvPr/>
        </p:nvPicPr>
        <p:blipFill>
          <a:blip r:embed="rId3"/>
          <a:srcRect l="50002" t="0" r="0" b="0"/>
          <a:stretch/>
        </p:blipFill>
        <p:spPr>
          <a:xfrm>
            <a:off x="4572000" y="4680"/>
            <a:ext cx="4572000" cy="6858000"/>
          </a:xfrm>
          <a:prstGeom prst="rect">
            <a:avLst/>
          </a:prstGeom>
          <a:ln w="0">
            <a:noFill/>
          </a:ln>
        </p:spPr>
      </p:pic>
      <p:pic>
        <p:nvPicPr>
          <p:cNvPr id="428" name="Picture 7" descr="overlay-ruleShadow.png"/>
          <p:cNvPicPr/>
          <p:nvPr/>
        </p:nvPicPr>
        <p:blipFill>
          <a:blip r:embed="rId4"/>
          <a:srcRect l="0" t="0" r="25032" b="0"/>
          <a:stretch/>
        </p:blipFill>
        <p:spPr>
          <a:xfrm rot="16200000">
            <a:off x="1086480" y="3364200"/>
            <a:ext cx="6854760" cy="125280"/>
          </a:xfrm>
          <a:prstGeom prst="rect">
            <a:avLst/>
          </a:prstGeom>
          <a:ln w="0">
            <a:noFill/>
          </a:ln>
        </p:spPr>
      </p:pic>
      <p:sp>
        <p:nvSpPr>
          <p:cNvPr id="4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30"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31" name="PlaceHolder 3"/>
          <p:cNvSpPr>
            <a:spLocks noGrp="1"/>
          </p:cNvSpPr>
          <p:nvPr>
            <p:ph type="dt" idx="31"/>
          </p:nvPr>
        </p:nvSpPr>
        <p:spPr>
          <a:xfrm>
            <a:off x="2670120" y="6356520"/>
            <a:ext cx="162720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9DBED7-E1E0-4299-A090-96693316E076}"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432" name="PlaceHolder 4"/>
          <p:cNvSpPr>
            <a:spLocks noGrp="1"/>
          </p:cNvSpPr>
          <p:nvPr>
            <p:ph type="ftr" idx="32"/>
          </p:nvPr>
        </p:nvSpPr>
        <p:spPr>
          <a:xfrm>
            <a:off x="240840" y="6356520"/>
            <a:ext cx="189396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33" name="PlaceHolder 5"/>
          <p:cNvSpPr>
            <a:spLocks noGrp="1"/>
          </p:cNvSpPr>
          <p:nvPr>
            <p:ph type="sldNum" idx="33"/>
          </p:nvPr>
        </p:nvSpPr>
        <p:spPr>
          <a:xfrm>
            <a:off x="1892160" y="5738760"/>
            <a:ext cx="758880" cy="574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000000"/>
                </a:solidFill>
                <a:latin typeface="Perpetua Titling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0D0955-2D22-4347-BDC8-491D2304CC4B}" type="slidenum">
              <a:rPr b="0" lang="en-US" sz="3600" spc="-1" strike="noStrike">
                <a:solidFill>
                  <a:srgbClr val="000000"/>
                </a:solidFill>
                <a:latin typeface="Perpetua Titling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0" name="Picture 6" descr="Overlay-FullBackground.jpg"/>
          <p:cNvPicPr/>
          <p:nvPr/>
        </p:nvPicPr>
        <p:blipFill>
          <a:blip r:embed="rId3"/>
          <a:stretch/>
        </p:blipFill>
        <p:spPr>
          <a:xfrm>
            <a:off x="0" y="4680"/>
            <a:ext cx="9144000" cy="6858000"/>
          </a:xfrm>
          <a:prstGeom prst="rect">
            <a:avLst/>
          </a:prstGeom>
          <a:ln w="0">
            <a:noFill/>
          </a:ln>
        </p:spPr>
      </p:pic>
      <p:sp>
        <p:nvSpPr>
          <p:cNvPr id="47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72"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73" name="PlaceHolder 3"/>
          <p:cNvSpPr>
            <a:spLocks noGrp="1"/>
          </p:cNvSpPr>
          <p:nvPr>
            <p:ph type="dt" idx="34"/>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17F59B-FFB4-452A-AAA5-4775ABA19C31}"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474" name="PlaceHolder 4"/>
          <p:cNvSpPr>
            <a:spLocks noGrp="1"/>
          </p:cNvSpPr>
          <p:nvPr>
            <p:ph type="ftr" idx="35"/>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75" name="PlaceHolder 5"/>
          <p:cNvSpPr>
            <a:spLocks noGrp="1"/>
          </p:cNvSpPr>
          <p:nvPr>
            <p:ph type="sldNum" idx="3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84D0DC-9F84-439B-8D9C-FF52CC5E637A}"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13"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514" name="PlaceHolder 3"/>
          <p:cNvSpPr>
            <a:spLocks noGrp="1"/>
          </p:cNvSpPr>
          <p:nvPr>
            <p:ph type="dt" idx="37"/>
          </p:nvPr>
        </p:nvSpPr>
        <p:spPr>
          <a:xfrm>
            <a:off x="6732720" y="6356520"/>
            <a:ext cx="213336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ADB929-91BF-4B03-9484-EF46E9BA3B65}"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515" name="PlaceHolder 4"/>
          <p:cNvSpPr>
            <a:spLocks noGrp="1"/>
          </p:cNvSpPr>
          <p:nvPr>
            <p:ph type="ftr" idx="38"/>
          </p:nvPr>
        </p:nvSpPr>
        <p:spPr>
          <a:xfrm>
            <a:off x="241200" y="6356520"/>
            <a:ext cx="28958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516" name="PlaceHolder 5"/>
          <p:cNvSpPr>
            <a:spLocks noGrp="1"/>
          </p:cNvSpPr>
          <p:nvPr>
            <p:ph type="sldNum" idx="39"/>
          </p:nvPr>
        </p:nvSpPr>
        <p:spPr>
          <a:xfrm>
            <a:off x="4267080" y="6356520"/>
            <a:ext cx="6098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53B950-10B2-46B2-9406-A341F6185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53" name="Picture 6" descr="overlay-ruleShadow.png"/>
          <p:cNvPicPr/>
          <p:nvPr/>
        </p:nvPicPr>
        <p:blipFill>
          <a:blip r:embed="rId3"/>
          <a:stretch/>
        </p:blipFill>
        <p:spPr>
          <a:xfrm>
            <a:off x="0" y="1308240"/>
            <a:ext cx="9144000" cy="123840"/>
          </a:xfrm>
          <a:prstGeom prst="rect">
            <a:avLst/>
          </a:prstGeom>
          <a:ln w="0">
            <a:noFill/>
          </a:ln>
        </p:spPr>
      </p:pic>
      <p:pic>
        <p:nvPicPr>
          <p:cNvPr id="554"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5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56"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557" name="PlaceHolder 3"/>
          <p:cNvSpPr>
            <a:spLocks noGrp="1"/>
          </p:cNvSpPr>
          <p:nvPr>
            <p:ph type="dt" idx="40"/>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230825-CDA3-410F-A3AE-66C111B08FB4}"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558" name="PlaceHolder 4"/>
          <p:cNvSpPr>
            <a:spLocks noGrp="1"/>
          </p:cNvSpPr>
          <p:nvPr>
            <p:ph type="ftr" idx="41"/>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559" name="PlaceHolder 5"/>
          <p:cNvSpPr>
            <a:spLocks noGrp="1"/>
          </p:cNvSpPr>
          <p:nvPr>
            <p:ph type="sldNum" idx="4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95B5DB-AF42-4537-A824-D65A69D459F1}"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96" name="Picture 6" descr="Overlay-FullBackground.jpg"/>
          <p:cNvPicPr/>
          <p:nvPr/>
        </p:nvPicPr>
        <p:blipFill>
          <a:blip r:embed="rId3"/>
          <a:srcRect l="0" t="0" r="14720" b="0"/>
          <a:stretch/>
        </p:blipFill>
        <p:spPr>
          <a:xfrm>
            <a:off x="0" y="4680"/>
            <a:ext cx="7797960" cy="6858000"/>
          </a:xfrm>
          <a:prstGeom prst="rect">
            <a:avLst/>
          </a:prstGeom>
          <a:ln w="0">
            <a:noFill/>
          </a:ln>
        </p:spPr>
      </p:pic>
      <p:pic>
        <p:nvPicPr>
          <p:cNvPr id="597" name="Picture 7" descr="overlay-ruleShadow.png"/>
          <p:cNvPicPr/>
          <p:nvPr/>
        </p:nvPicPr>
        <p:blipFill>
          <a:blip r:embed="rId4"/>
          <a:srcRect l="0" t="0" r="25032" b="0"/>
          <a:stretch/>
        </p:blipFill>
        <p:spPr>
          <a:xfrm flipH="1" rot="5400000">
            <a:off x="4421880" y="3364200"/>
            <a:ext cx="6854760" cy="125280"/>
          </a:xfrm>
          <a:prstGeom prst="rect">
            <a:avLst/>
          </a:prstGeom>
          <a:ln w="0">
            <a:noFill/>
          </a:ln>
        </p:spPr>
      </p:pic>
      <p:sp>
        <p:nvSpPr>
          <p:cNvPr id="5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99"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600" name="PlaceHolder 3"/>
          <p:cNvSpPr>
            <a:spLocks noGrp="1"/>
          </p:cNvSpPr>
          <p:nvPr>
            <p:ph type="dt" idx="43"/>
          </p:nvPr>
        </p:nvSpPr>
        <p:spPr>
          <a:xfrm>
            <a:off x="7924680" y="6356520"/>
            <a:ext cx="10670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C98B49-C9CC-4570-B864-F10914DF7B69}"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601" name="PlaceHolder 4"/>
          <p:cNvSpPr>
            <a:spLocks noGrp="1"/>
          </p:cNvSpPr>
          <p:nvPr>
            <p:ph type="ftr" idx="44"/>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602" name="PlaceHolder 5"/>
          <p:cNvSpPr>
            <a:spLocks noGrp="1"/>
          </p:cNvSpPr>
          <p:nvPr>
            <p:ph type="sldNum" idx="45"/>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50006B-8EFD-4408-BC97-4D592C4DF2CF}"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Overlay-FullBackground.jpg"/>
          <p:cNvPicPr/>
          <p:nvPr/>
        </p:nvPicPr>
        <p:blipFill>
          <a:blip r:embed="rId3"/>
          <a:srcRect l="0" t="50005" r="0" b="0"/>
          <a:stretch/>
        </p:blipFill>
        <p:spPr>
          <a:xfrm>
            <a:off x="0" y="3429000"/>
            <a:ext cx="9144000" cy="3429000"/>
          </a:xfrm>
          <a:prstGeom prst="rect">
            <a:avLst/>
          </a:prstGeom>
          <a:ln w="0">
            <a:noFill/>
          </a:ln>
        </p:spPr>
      </p:pic>
      <p:pic>
        <p:nvPicPr>
          <p:cNvPr id="42" name="Picture 7" descr="overlay-ruleShadow.png"/>
          <p:cNvPicPr/>
          <p:nvPr/>
        </p:nvPicPr>
        <p:blipFill>
          <a:blip r:embed="rId4"/>
          <a:stretch/>
        </p:blipFill>
        <p:spPr>
          <a:xfrm>
            <a:off x="0" y="3303720"/>
            <a:ext cx="9144000" cy="125280"/>
          </a:xfrm>
          <a:prstGeom prst="rect">
            <a:avLst/>
          </a:prstGeom>
          <a:ln w="0">
            <a:noFill/>
          </a:ln>
        </p:spPr>
      </p:pic>
      <p:sp>
        <p:nvSpPr>
          <p:cNvPr id="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4"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5" name="PlaceHolder 3"/>
          <p:cNvSpPr>
            <a:spLocks noGrp="1"/>
          </p:cNvSpPr>
          <p:nvPr>
            <p:ph type="dt" idx="4"/>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4CC4C6-B9B5-4530-81A0-8AD156E59E77}"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7" name="PlaceHolder 5"/>
          <p:cNvSpPr>
            <a:spLocks noGrp="1"/>
          </p:cNvSpPr>
          <p:nvPr>
            <p:ph type="sldNum" idx="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B585B6-C0BF-4B2E-B008-8149FCE46F65}"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6" descr="overlay-ruleShadow.png"/>
          <p:cNvPicPr/>
          <p:nvPr/>
        </p:nvPicPr>
        <p:blipFill>
          <a:blip r:embed="rId3"/>
          <a:stretch/>
        </p:blipFill>
        <p:spPr>
          <a:xfrm>
            <a:off x="0" y="1308240"/>
            <a:ext cx="9144000" cy="123840"/>
          </a:xfrm>
          <a:prstGeom prst="rect">
            <a:avLst/>
          </a:prstGeom>
          <a:ln w="0">
            <a:noFill/>
          </a:ln>
        </p:spPr>
      </p:pic>
      <p:pic>
        <p:nvPicPr>
          <p:cNvPr id="85"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87"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88" name="PlaceHolder 3"/>
          <p:cNvSpPr>
            <a:spLocks noGrp="1"/>
          </p:cNvSpPr>
          <p:nvPr>
            <p:ph type="dt" idx="7"/>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1A039D-EF54-4A6B-946E-1C58149649CB}"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90" name="PlaceHolder 5"/>
          <p:cNvSpPr>
            <a:spLocks noGrp="1"/>
          </p:cNvSpPr>
          <p:nvPr>
            <p:ph type="sldNum" idx="9"/>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5C62EA-67EA-4A9F-9FB6-137B8D0833D5}"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7" name="Picture 6" descr="Overlay-FullBackground.jpg"/>
          <p:cNvPicPr/>
          <p:nvPr/>
        </p:nvPicPr>
        <p:blipFill>
          <a:blip r:embed="rId3"/>
          <a:srcRect l="0" t="50005" r="0" b="0"/>
          <a:stretch/>
        </p:blipFill>
        <p:spPr>
          <a:xfrm>
            <a:off x="0" y="3429000"/>
            <a:ext cx="9144000" cy="3429000"/>
          </a:xfrm>
          <a:prstGeom prst="rect">
            <a:avLst/>
          </a:prstGeom>
          <a:ln w="0">
            <a:noFill/>
          </a:ln>
        </p:spPr>
      </p:pic>
      <p:pic>
        <p:nvPicPr>
          <p:cNvPr id="128" name="Picture 7" descr="overlay-ruleShadow.png"/>
          <p:cNvPicPr/>
          <p:nvPr/>
        </p:nvPicPr>
        <p:blipFill>
          <a:blip r:embed="rId4"/>
          <a:stretch/>
        </p:blipFill>
        <p:spPr>
          <a:xfrm>
            <a:off x="0" y="3303720"/>
            <a:ext cx="9144000" cy="125280"/>
          </a:xfrm>
          <a:prstGeom prst="rect">
            <a:avLst/>
          </a:prstGeom>
          <a:ln w="0">
            <a:noFill/>
          </a:ln>
        </p:spPr>
      </p:pic>
      <p:sp>
        <p:nvSpPr>
          <p:cNvPr id="1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30"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131" name="PlaceHolder 3"/>
          <p:cNvSpPr>
            <a:spLocks noGrp="1"/>
          </p:cNvSpPr>
          <p:nvPr>
            <p:ph type="dt" idx="10"/>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58FB0B-17F1-45B7-9025-774ED21FC52E}"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133" name="PlaceHolder 5"/>
          <p:cNvSpPr>
            <a:spLocks noGrp="1"/>
          </p:cNvSpPr>
          <p:nvPr>
            <p:ph type="sldNum" idx="1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8DD94D-253C-42CB-81BC-3E37D59D6C44}"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0" name="Picture 6" descr="overlay-ruleShadow.png"/>
          <p:cNvPicPr/>
          <p:nvPr/>
        </p:nvPicPr>
        <p:blipFill>
          <a:blip r:embed="rId3"/>
          <a:stretch/>
        </p:blipFill>
        <p:spPr>
          <a:xfrm>
            <a:off x="0" y="4446720"/>
            <a:ext cx="9144000" cy="125280"/>
          </a:xfrm>
          <a:prstGeom prst="rect">
            <a:avLst/>
          </a:prstGeom>
          <a:ln w="0">
            <a:noFill/>
          </a:ln>
        </p:spPr>
      </p:pic>
      <p:pic>
        <p:nvPicPr>
          <p:cNvPr id="171" name="Picture 7" descr="Overlay-FullBackground.jpg"/>
          <p:cNvPicPr/>
          <p:nvPr/>
        </p:nvPicPr>
        <p:blipFill>
          <a:blip r:embed="rId4"/>
          <a:srcRect l="0" t="66668" r="0" b="0"/>
          <a:stretch/>
        </p:blipFill>
        <p:spPr>
          <a:xfrm>
            <a:off x="0" y="4572000"/>
            <a:ext cx="9144000" cy="2286000"/>
          </a:xfrm>
          <a:prstGeom prst="rect">
            <a:avLst/>
          </a:prstGeom>
          <a:ln w="0">
            <a:noFill/>
          </a:ln>
        </p:spPr>
      </p:pic>
      <p:sp>
        <p:nvSpPr>
          <p:cNvPr id="1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73"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174" name="PlaceHolder 3"/>
          <p:cNvSpPr>
            <a:spLocks noGrp="1"/>
          </p:cNvSpPr>
          <p:nvPr>
            <p:ph type="dt" idx="13"/>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398CC2-CAAC-4C0D-A007-CF36482877C6}"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175" name="PlaceHolder 4"/>
          <p:cNvSpPr>
            <a:spLocks noGrp="1"/>
          </p:cNvSpPr>
          <p:nvPr>
            <p:ph type="ftr" idx="14"/>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176" name="PlaceHolder 5"/>
          <p:cNvSpPr>
            <a:spLocks noGrp="1"/>
          </p:cNvSpPr>
          <p:nvPr>
            <p:ph type="sldNum" idx="15"/>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2F147D-77AF-438F-A502-169C5F3A824F}"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3" name="Picture 6" descr="overlay-ruleShadow.png"/>
          <p:cNvPicPr/>
          <p:nvPr/>
        </p:nvPicPr>
        <p:blipFill>
          <a:blip r:embed="rId3"/>
          <a:stretch/>
        </p:blipFill>
        <p:spPr>
          <a:xfrm>
            <a:off x="0" y="1308240"/>
            <a:ext cx="9144000" cy="123840"/>
          </a:xfrm>
          <a:prstGeom prst="rect">
            <a:avLst/>
          </a:prstGeom>
          <a:ln w="0">
            <a:noFill/>
          </a:ln>
        </p:spPr>
      </p:pic>
      <p:pic>
        <p:nvPicPr>
          <p:cNvPr id="214"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2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216"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17" name="PlaceHolder 3"/>
          <p:cNvSpPr>
            <a:spLocks noGrp="1"/>
          </p:cNvSpPr>
          <p:nvPr>
            <p:ph type="dt" idx="16"/>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0C73FF-B024-41B6-82CB-BA3EF2F0C888}"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218" name="PlaceHolder 4"/>
          <p:cNvSpPr>
            <a:spLocks noGrp="1"/>
          </p:cNvSpPr>
          <p:nvPr>
            <p:ph type="ftr" idx="17"/>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219" name="PlaceHolder 5"/>
          <p:cNvSpPr>
            <a:spLocks noGrp="1"/>
          </p:cNvSpPr>
          <p:nvPr>
            <p:ph type="sldNum" idx="18"/>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F66285-8C8A-4192-A888-89138D4F60AC}"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6" name="Picture 6" descr="overlay-ruleShadow.png"/>
          <p:cNvPicPr/>
          <p:nvPr/>
        </p:nvPicPr>
        <p:blipFill>
          <a:blip r:embed="rId3"/>
          <a:stretch/>
        </p:blipFill>
        <p:spPr>
          <a:xfrm>
            <a:off x="0" y="1308240"/>
            <a:ext cx="9144000" cy="123840"/>
          </a:xfrm>
          <a:prstGeom prst="rect">
            <a:avLst/>
          </a:prstGeom>
          <a:ln w="0">
            <a:noFill/>
          </a:ln>
        </p:spPr>
      </p:pic>
      <p:pic>
        <p:nvPicPr>
          <p:cNvPr id="257"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2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259"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60" name="PlaceHolder 3"/>
          <p:cNvSpPr>
            <a:spLocks noGrp="1"/>
          </p:cNvSpPr>
          <p:nvPr>
            <p:ph type="dt" idx="19"/>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6519D8-A862-4C54-8471-D479DF7C66DD}"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261" name="PlaceHolder 4"/>
          <p:cNvSpPr>
            <a:spLocks noGrp="1"/>
          </p:cNvSpPr>
          <p:nvPr>
            <p:ph type="ftr" idx="20"/>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262" name="PlaceHolder 5"/>
          <p:cNvSpPr>
            <a:spLocks noGrp="1"/>
          </p:cNvSpPr>
          <p:nvPr>
            <p:ph type="sldNum" idx="21"/>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5EFEEE-E8CA-4DDC-B443-435892F83A74}"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9" name="Picture 6" descr="overlay-ruleShadow.png"/>
          <p:cNvPicPr/>
          <p:nvPr/>
        </p:nvPicPr>
        <p:blipFill>
          <a:blip r:embed="rId3"/>
          <a:stretch/>
        </p:blipFill>
        <p:spPr>
          <a:xfrm>
            <a:off x="0" y="1308240"/>
            <a:ext cx="9144000" cy="123840"/>
          </a:xfrm>
          <a:prstGeom prst="rect">
            <a:avLst/>
          </a:prstGeom>
          <a:ln w="0">
            <a:noFill/>
          </a:ln>
        </p:spPr>
      </p:pic>
      <p:pic>
        <p:nvPicPr>
          <p:cNvPr id="300" name="Picture 7" descr="Overlay-FullBackground.jpg"/>
          <p:cNvPicPr/>
          <p:nvPr/>
        </p:nvPicPr>
        <p:blipFill>
          <a:blip r:embed="rId4"/>
          <a:srcRect l="0" t="21048" r="0" b="0"/>
          <a:stretch/>
        </p:blipFill>
        <p:spPr>
          <a:xfrm>
            <a:off x="0" y="1447920"/>
            <a:ext cx="9144000" cy="5414760"/>
          </a:xfrm>
          <a:prstGeom prst="rect">
            <a:avLst/>
          </a:prstGeom>
          <a:ln w="0">
            <a:noFill/>
          </a:ln>
        </p:spPr>
      </p:pic>
      <p:sp>
        <p:nvSpPr>
          <p:cNvPr id="30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02"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03" name="PlaceHolder 3"/>
          <p:cNvSpPr>
            <a:spLocks noGrp="1"/>
          </p:cNvSpPr>
          <p:nvPr>
            <p:ph type="dt" idx="22"/>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E7053C-3BA2-434C-9CBA-ADDD785B6568}"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05" name="PlaceHolder 5"/>
          <p:cNvSpPr>
            <a:spLocks noGrp="1"/>
          </p:cNvSpPr>
          <p:nvPr>
            <p:ph type="sldNum" idx="24"/>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32E258-D163-4F23-ACF6-983E1C60BC6D}"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2" name="Picture 6" descr="Overlay-FullBackground.jpg"/>
          <p:cNvPicPr/>
          <p:nvPr/>
        </p:nvPicPr>
        <p:blipFill>
          <a:blip r:embed="rId3"/>
          <a:stretch/>
        </p:blipFill>
        <p:spPr>
          <a:xfrm>
            <a:off x="0" y="4680"/>
            <a:ext cx="9144000" cy="6858000"/>
          </a:xfrm>
          <a:prstGeom prst="rect">
            <a:avLst/>
          </a:prstGeom>
          <a:ln w="0">
            <a:noFill/>
          </a:ln>
        </p:spPr>
      </p:pic>
      <p:sp>
        <p:nvSpPr>
          <p:cNvPr id="3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44"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45" name="PlaceHolder 3"/>
          <p:cNvSpPr>
            <a:spLocks noGrp="1"/>
          </p:cNvSpPr>
          <p:nvPr>
            <p:ph type="dt" idx="25"/>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C0F6B6-0E99-44F9-B8EF-7BE460334954}" type="datetime">
              <a:rPr b="0" lang="en-US" sz="1200" spc="-1" strike="noStrike">
                <a:solidFill>
                  <a:srgbClr val="333333"/>
                </a:solidFill>
                <a:latin typeface="Times New Roman"/>
              </a:rPr>
              <a:t>07/29/26</a:t>
            </a:fld>
            <a:endParaRPr b="0" lang="en-US" sz="1200" spc="-1" strike="noStrike">
              <a:solidFill>
                <a:srgbClr val="000000"/>
              </a:solidFill>
              <a:latin typeface="Times New Roman"/>
            </a:endParaRPr>
          </a:p>
        </p:txBody>
      </p:sp>
      <p:sp>
        <p:nvSpPr>
          <p:cNvPr id="346" name="PlaceHolder 4"/>
          <p:cNvSpPr>
            <a:spLocks noGrp="1"/>
          </p:cNvSpPr>
          <p:nvPr>
            <p:ph type="ftr" idx="26"/>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47" name="PlaceHolder 5"/>
          <p:cNvSpPr>
            <a:spLocks noGrp="1"/>
          </p:cNvSpPr>
          <p:nvPr>
            <p:ph type="sldNum" idx="27"/>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00E56A-F6FB-46BB-A6BD-38FFF75EAAD7}"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779040" y="1917360"/>
            <a:ext cx="7583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Format Writing </a:t>
            </a:r>
            <a:br>
              <a:rPr sz="4800"/>
            </a:br>
            <a:r>
              <a:rPr b="0" lang="en-US" sz="4800" spc="-1" strike="noStrike">
                <a:solidFill>
                  <a:srgbClr val="ffffff"/>
                </a:solidFill>
                <a:latin typeface="Perpetua Titling MT"/>
              </a:rPr>
              <a:t>and </a:t>
            </a:r>
            <a:br>
              <a:rPr sz="4800"/>
            </a:br>
            <a:r>
              <a:rPr b="0" lang="en-US" sz="4800" spc="-1" strike="noStrike">
                <a:solidFill>
                  <a:srgbClr val="ffffff"/>
                </a:solidFill>
                <a:latin typeface="Perpetua Titling MT"/>
              </a:rPr>
              <a:t>Social Studies</a:t>
            </a:r>
            <a:endParaRPr b="0" lang="en-US" sz="4800" spc="-1" strike="noStrike">
              <a:solidFill>
                <a:srgbClr val="ffffff"/>
              </a:solidFill>
              <a:latin typeface="Perpetua Titling MT"/>
            </a:endParaRPr>
          </a:p>
        </p:txBody>
      </p:sp>
      <p:sp>
        <p:nvSpPr>
          <p:cNvPr id="640" name="PlaceHolder 2"/>
          <p:cNvSpPr>
            <a:spLocks noGrp="1"/>
          </p:cNvSpPr>
          <p:nvPr>
            <p:ph type="subTitle"/>
          </p:nvPr>
        </p:nvSpPr>
        <p:spPr>
          <a:xfrm>
            <a:off x="779040" y="3478320"/>
            <a:ext cx="75834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alisto MT"/>
              </a:rPr>
              <a:t>Miss Asher</a:t>
            </a:r>
            <a:endParaRPr b="0" lang="en-US" sz="1800" spc="-1" strike="noStrike">
              <a:solidFill>
                <a:srgbClr val="333333"/>
              </a:solidFill>
              <a:latin typeface="Calisto M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alisto MT"/>
              </a:rPr>
              <a:t>English 100 and 116</a:t>
            </a:r>
            <a:endParaRPr b="0" lang="en-US" sz="18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What needs to be considered</a:t>
            </a:r>
            <a:endParaRPr b="0" lang="en-US" sz="4800" spc="-1" strike="noStrike">
              <a:solidFill>
                <a:srgbClr val="ffffff"/>
              </a:solidFill>
              <a:latin typeface="Perpetua Titling MT"/>
            </a:endParaRPr>
          </a:p>
        </p:txBody>
      </p:sp>
      <p:sp>
        <p:nvSpPr>
          <p:cNvPr id="642" name=""/>
          <p:cNvSpPr txBox="1"/>
          <p:nvPr/>
        </p:nvSpPr>
        <p:spPr>
          <a:xfrm>
            <a:off x="779040" y="1828440"/>
            <a:ext cx="7583400" cy="4297320"/>
          </a:xfrm>
          <a:prstGeom prst="rect">
            <a:avLst/>
          </a:prstGeom>
          <a:noFill/>
          <a:ln w="0">
            <a:noFill/>
          </a:ln>
        </p:spPr>
        <p:txBody>
          <a:bodyPr anchor="t">
            <a:normAutofit fontScale="94000"/>
          </a:bodyPr>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Audience:  Who is your audience?  Are you writing for a teacher or is it a larger population?</a:t>
            </a:r>
            <a:endParaRPr b="0" lang="en-US" sz="24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Purpose:  What do you want to accomplish?  There are three purposes for writing- to inform, to entertain, to persuade.</a:t>
            </a:r>
            <a:endParaRPr b="0" lang="en-US" sz="2400" spc="-1" strike="noStrike">
              <a:solidFill>
                <a:srgbClr val="333333"/>
              </a:solidFill>
              <a:latin typeface="Calisto MT"/>
            </a:endParaRPr>
          </a:p>
          <a:p>
            <a:pPr lvl="1" marL="542880" indent="-277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You are writing to inform or persuade!  That means this is FACT based!</a:t>
            </a:r>
            <a:endParaRPr b="0" lang="en-US" sz="22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Occasion: What are you writing?  Is this an essay, test question, or project?</a:t>
            </a:r>
            <a:endParaRPr b="0" lang="en-US" sz="24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Topic Sentence</a:t>
            </a:r>
            <a:endParaRPr b="0" lang="en-US" sz="4800" spc="-1" strike="noStrike">
              <a:solidFill>
                <a:srgbClr val="ffffff"/>
              </a:solidFill>
              <a:latin typeface="Perpetua Titling MT"/>
            </a:endParaRPr>
          </a:p>
        </p:txBody>
      </p:sp>
      <p:sp>
        <p:nvSpPr>
          <p:cNvPr id="644" name=""/>
          <p:cNvSpPr txBox="1"/>
          <p:nvPr/>
        </p:nvSpPr>
        <p:spPr>
          <a:xfrm>
            <a:off x="779040" y="1828440"/>
            <a:ext cx="7583400" cy="4297320"/>
          </a:xfrm>
          <a:prstGeom prst="rect">
            <a:avLst/>
          </a:prstGeom>
          <a:noFill/>
          <a:ln w="0">
            <a:noFill/>
          </a:ln>
        </p:spPr>
        <p:txBody>
          <a:bodyPr anchor="t">
            <a:normAutofit fontScale="88000"/>
          </a:bodyPr>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Just like all other format paragraphs your topic sentence should contain your subject and “opinion”.</a:t>
            </a:r>
            <a:endParaRPr b="0" lang="en-US" sz="24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a:t>
            </a:r>
            <a:r>
              <a:rPr b="0" lang="en-US" sz="2400" spc="-1" strike="noStrike">
                <a:solidFill>
                  <a:srgbClr val="333333"/>
                </a:solidFill>
                <a:latin typeface="Calisto MT"/>
              </a:rPr>
              <a:t>Opinion” is misleading-this is already provided for you</a:t>
            </a:r>
            <a:endParaRPr b="0" lang="en-US" sz="24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If you are answering a question, simply restate the question as your topic sentence.</a:t>
            </a:r>
            <a:endParaRPr b="0" lang="en-US" sz="2400" spc="-1" strike="noStrike">
              <a:solidFill>
                <a:srgbClr val="333333"/>
              </a:solidFill>
              <a:latin typeface="Calisto MT"/>
            </a:endParaRPr>
          </a:p>
          <a:p>
            <a:pPr lvl="2" marL="757080" indent="-24840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Your “opinion” should be a given</a:t>
            </a:r>
            <a:endParaRPr b="0" lang="en-US" sz="2000" spc="-1" strike="noStrike">
              <a:solidFill>
                <a:srgbClr val="333333"/>
              </a:solidFill>
              <a:latin typeface="Calisto MT"/>
            </a:endParaRPr>
          </a:p>
          <a:p>
            <a:pPr lvl="2" marL="75708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alisto MT"/>
            </a:endParaRPr>
          </a:p>
          <a:p>
            <a:pPr lvl="2" marL="75708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Example: TS Early scientists advanced knowledge in biology and chemistry.</a:t>
            </a:r>
            <a:endParaRPr b="0" lang="en-US" sz="20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ncrete Detail</a:t>
            </a:r>
            <a:endParaRPr b="0" lang="en-US" sz="4800" spc="-1" strike="noStrike">
              <a:solidFill>
                <a:srgbClr val="ffffff"/>
              </a:solidFill>
              <a:latin typeface="Perpetua Titling MT"/>
            </a:endParaRPr>
          </a:p>
        </p:txBody>
      </p:sp>
      <p:sp>
        <p:nvSpPr>
          <p:cNvPr id="646" name=""/>
          <p:cNvSpPr txBox="1"/>
          <p:nvPr/>
        </p:nvSpPr>
        <p:spPr>
          <a:xfrm>
            <a:off x="779040" y="1828440"/>
            <a:ext cx="7583400" cy="4297320"/>
          </a:xfrm>
          <a:prstGeom prst="rect">
            <a:avLst/>
          </a:prstGeom>
          <a:noFill/>
          <a:ln w="0">
            <a:noFill/>
          </a:ln>
        </p:spPr>
        <p:txBody>
          <a:bodyPr anchor="t">
            <a:normAutofit fontScale="90000"/>
          </a:bodyPr>
          <a:p>
            <a:pPr marL="254160" indent="-25416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ese are FACT statements or examples</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a:p>
            <a:pPr marL="254160" indent="-25416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When a question asks your to provide examples (generally two) those examples belong in the concrete detail</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Example: (CD 1) For example, Andreas Vesalius became  known for his work in anatomy.</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D 2) In addition, Robert Boyle was the first chemist to define an element.</a:t>
            </a: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mmentary</a:t>
            </a:r>
            <a:endParaRPr b="0" lang="en-US" sz="4800" spc="-1" strike="noStrike">
              <a:solidFill>
                <a:srgbClr val="ffffff"/>
              </a:solidFill>
              <a:latin typeface="Perpetua Titling MT"/>
            </a:endParaRPr>
          </a:p>
        </p:txBody>
      </p:sp>
      <p:sp>
        <p:nvSpPr>
          <p:cNvPr id="648" name=""/>
          <p:cNvSpPr txBox="1"/>
          <p:nvPr/>
        </p:nvSpPr>
        <p:spPr>
          <a:xfrm>
            <a:off x="779040" y="1828440"/>
            <a:ext cx="7583400" cy="4297320"/>
          </a:xfrm>
          <a:prstGeom prst="rect">
            <a:avLst/>
          </a:prstGeom>
          <a:noFill/>
          <a:ln w="0">
            <a:noFill/>
          </a:ln>
        </p:spPr>
        <p:txBody>
          <a:bodyPr anchor="t">
            <a:normAutofit fontScale="85000"/>
          </a:bodyPr>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In these sentences you will explain your concrete details.</a:t>
            </a:r>
            <a:endParaRPr b="0" lang="en-US" sz="2400" spc="-1" strike="noStrike">
              <a:solidFill>
                <a:srgbClr val="333333"/>
              </a:solidFill>
              <a:latin typeface="Calisto MT"/>
            </a:endParaRPr>
          </a:p>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e explanation is FACT based!  No opinions!</a:t>
            </a:r>
            <a:endParaRPr b="0" lang="en-US" sz="2400" spc="-1" strike="noStrike">
              <a:solidFill>
                <a:srgbClr val="333333"/>
              </a:solidFill>
              <a:latin typeface="Calisto MT"/>
            </a:endParaRPr>
          </a:p>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member: our purpose is to inform or persuade</a:t>
            </a:r>
            <a:endParaRPr b="0" lang="en-US" sz="2400" spc="-1" strike="noStrike">
              <a:solidFill>
                <a:srgbClr val="333333"/>
              </a:solidFill>
              <a:latin typeface="Calisto MT"/>
            </a:endParaRPr>
          </a:p>
          <a:p>
            <a:pPr lvl="1" marL="491040" indent="-25092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What does this mean?</a:t>
            </a:r>
            <a:endParaRPr b="0" lang="en-US" sz="22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Facts only</a:t>
            </a:r>
            <a:endParaRPr b="0" lang="en-US" sz="20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No “flowery” language</a:t>
            </a:r>
            <a:endParaRPr b="0" lang="en-US" sz="20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FOCUS on the subject </a:t>
            </a:r>
            <a:endParaRPr b="0" lang="en-US" sz="2000" spc="-1" strike="noStrike">
              <a:solidFill>
                <a:srgbClr val="333333"/>
              </a:solidFill>
              <a:latin typeface="Calisto MT"/>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Examples: </a:t>
            </a:r>
            <a:r>
              <a:rPr b="0" lang="en-US" sz="1800" spc="-1" strike="noStrike">
                <a:solidFill>
                  <a:srgbClr val="333333"/>
                </a:solidFill>
                <a:latin typeface="Calisto MT"/>
              </a:rPr>
              <a:t>(CD 1) </a:t>
            </a:r>
            <a:r>
              <a:rPr b="0" lang="en-US" sz="1600" spc="-1" strike="noStrike">
                <a:solidFill>
                  <a:srgbClr val="333333"/>
                </a:solidFill>
                <a:latin typeface="Calisto MT"/>
              </a:rPr>
              <a:t>In 1539 a judge learned of his work and made bodies of executed criminals available to Vesalius for dissection. Vesalius hired artists to produce accurate drawings of the bodies and then published </a:t>
            </a:r>
            <a:r>
              <a:rPr b="0" lang="en-US" sz="1600" spc="-1" strike="noStrike" u="sng">
                <a:solidFill>
                  <a:srgbClr val="333333"/>
                </a:solidFill>
                <a:uFillTx/>
                <a:latin typeface="Calisto MT"/>
              </a:rPr>
              <a:t>On the Workings of the Human Body</a:t>
            </a:r>
            <a:r>
              <a:rPr b="0" lang="en-US" sz="1600" spc="-1" strike="noStrike">
                <a:solidFill>
                  <a:srgbClr val="333333"/>
                </a:solidFill>
                <a:latin typeface="Calisto MT"/>
              </a:rPr>
              <a:t> in 1953.</a:t>
            </a:r>
            <a:endParaRPr b="0" lang="en-US" sz="16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ncluding Sentence</a:t>
            </a:r>
            <a:endParaRPr b="0" lang="en-US" sz="4800" spc="-1" strike="noStrike">
              <a:solidFill>
                <a:srgbClr val="ffffff"/>
              </a:solidFill>
              <a:latin typeface="Perpetua Titling MT"/>
            </a:endParaRPr>
          </a:p>
        </p:txBody>
      </p:sp>
      <p:sp>
        <p:nvSpPr>
          <p:cNvPr id="650" name=""/>
          <p:cNvSpPr txBox="1"/>
          <p:nvPr/>
        </p:nvSpPr>
        <p:spPr>
          <a:xfrm>
            <a:off x="779040" y="1828440"/>
            <a:ext cx="7583400" cy="4297320"/>
          </a:xfrm>
          <a:prstGeom prst="rect">
            <a:avLst/>
          </a:prstGeom>
          <a:noFill/>
          <a:ln w="0">
            <a:noFill/>
          </a:ln>
        </p:spPr>
        <p:txBody>
          <a:bodyPr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state your topic sentenc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state means that you need to use different words!</a:t>
            </a:r>
            <a:endParaRPr b="0" lang="en-US" sz="24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Make sure the subject and opinion is very clear!</a:t>
            </a:r>
            <a:endParaRPr b="0" lang="en-US" sz="22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Use a concluding transition</a:t>
            </a:r>
            <a:endParaRPr b="0" lang="en-US" sz="22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Example: Scientists made great discoveries in the fields of biology and chemistry during the Scientific Revolution.</a:t>
            </a:r>
            <a:endParaRPr b="0" lang="en-US" sz="22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Important Points to remember</a:t>
            </a:r>
            <a:endParaRPr b="0" lang="en-US" sz="4800" spc="-1" strike="noStrike">
              <a:solidFill>
                <a:srgbClr val="ffffff"/>
              </a:solidFill>
              <a:latin typeface="Perpetua Titling MT"/>
            </a:endParaRPr>
          </a:p>
        </p:txBody>
      </p:sp>
      <p:sp>
        <p:nvSpPr>
          <p:cNvPr id="652" name=""/>
          <p:cNvSpPr txBox="1"/>
          <p:nvPr/>
        </p:nvSpPr>
        <p:spPr>
          <a:xfrm>
            <a:off x="779040" y="1828440"/>
            <a:ext cx="7583400" cy="4297320"/>
          </a:xfrm>
          <a:prstGeom prst="rect">
            <a:avLst/>
          </a:prstGeom>
          <a:noFill/>
          <a:ln w="0">
            <a:noFill/>
          </a:ln>
        </p:spPr>
        <p:txBody>
          <a:bodyPr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ACT based writing (purpose to inform or persuad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No “flowery” language</a:t>
            </a:r>
            <a:endParaRPr b="0" lang="en-US" sz="24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Overly complex sentences will distract readers</a:t>
            </a:r>
            <a:endParaRPr b="0" lang="en-US" sz="22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Keep your writing clear and precis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You may only use personal pronouns if your purpose is to persuade!  Otherwise leave them out!</a:t>
            </a: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Example</a:t>
            </a:r>
            <a:endParaRPr b="0" lang="en-US" sz="4800" spc="-1" strike="noStrike">
              <a:solidFill>
                <a:srgbClr val="ffffff"/>
              </a:solidFill>
              <a:latin typeface="Perpetua Titling MT"/>
            </a:endParaRPr>
          </a:p>
        </p:txBody>
      </p:sp>
      <p:sp>
        <p:nvSpPr>
          <p:cNvPr id="65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fontScale="86000"/>
          </a:bodyPr>
          <a:p>
            <a:pPr marL="243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	</a:t>
            </a:r>
            <a:r>
              <a:rPr b="0" lang="en-US" sz="2000" spc="-1" strike="noStrike">
                <a:solidFill>
                  <a:srgbClr val="333333"/>
                </a:solidFill>
                <a:latin typeface="Calisto MT"/>
              </a:rPr>
              <a:t> </a:t>
            </a:r>
            <a:r>
              <a:rPr b="0" lang="en-US" sz="2000" spc="-1" strike="noStrike">
                <a:solidFill>
                  <a:srgbClr val="333333"/>
                </a:solidFill>
                <a:latin typeface="Calisto MT"/>
              </a:rPr>
              <a:t>	</a:t>
            </a:r>
            <a:r>
              <a:rPr b="0" lang="en-US" sz="2000" spc="-1" strike="noStrike">
                <a:solidFill>
                  <a:srgbClr val="333333"/>
                </a:solidFill>
                <a:latin typeface="Calisto MT"/>
              </a:rPr>
              <a:t>Early scientists advanced knowledge in biology and chemistry.</a:t>
            </a:r>
            <a:r>
              <a:rPr b="0" lang="en-US" sz="2000" spc="-1" strike="noStrike">
                <a:solidFill>
                  <a:srgbClr val="333333"/>
                </a:solidFill>
                <a:latin typeface="Calisto MT"/>
              </a:rPr>
              <a:t>  </a:t>
            </a:r>
            <a:r>
              <a:rPr b="0" lang="en-US" sz="2000" spc="-1" strike="noStrike">
                <a:solidFill>
                  <a:srgbClr val="333333"/>
                </a:solidFill>
                <a:latin typeface="Calisto MT"/>
              </a:rPr>
              <a:t>For example, Andreas Vesalius became  known for his work in anatomy. In 1539 a judge learned of his work and made bodies of executed criminals available to Vesalius for dissection. Vesalius hired artists to produce accurate drawings of the bodies and then published </a:t>
            </a:r>
            <a:r>
              <a:rPr b="0" lang="en-US" sz="2000" spc="-1" strike="noStrike" u="sng">
                <a:solidFill>
                  <a:srgbClr val="333333"/>
                </a:solidFill>
                <a:uFillTx/>
                <a:latin typeface="Calisto MT"/>
              </a:rPr>
              <a:t>On the Workings of the Human Body</a:t>
            </a:r>
            <a:r>
              <a:rPr b="0" lang="en-US" sz="2000" spc="-1" strike="noStrike">
                <a:solidFill>
                  <a:srgbClr val="333333"/>
                </a:solidFill>
                <a:latin typeface="Calisto MT"/>
              </a:rPr>
              <a:t> in 1953. In addition, Robert Boyle was the first chemist to define an element. His 1661 work, </a:t>
            </a:r>
            <a:r>
              <a:rPr b="0" lang="en-US" sz="2000" spc="-1" strike="noStrike" u="sng">
                <a:solidFill>
                  <a:srgbClr val="333333"/>
                </a:solidFill>
                <a:uFillTx/>
                <a:latin typeface="Calisto MT"/>
              </a:rPr>
              <a:t>The Scpetical Chemist</a:t>
            </a:r>
            <a:r>
              <a:rPr b="0" lang="en-US" sz="2000" spc="-1" strike="noStrike">
                <a:solidFill>
                  <a:srgbClr val="333333"/>
                </a:solidFill>
                <a:latin typeface="Calisto MT"/>
              </a:rPr>
              <a:t>, described matter as a cluster of tiny particles.  Boyle stated that changes in matter happened when these clusters were rearranged. Scientists, such as Andreas Vesalius and Robert Boyle,  made great discoveries in the fields of biology and chemistry during the Scientific Revolution.</a:t>
            </a:r>
            <a:endParaRPr b="0" lang="en-US" sz="20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15:53:36Z</dcterms:created>
  <dc:creator>Monica Asher</dc:creator>
  <dc:description/>
  <dc:language>en-US</dc:language>
  <cp:lastModifiedBy>McCormick Middle School</cp:lastModifiedBy>
  <cp:lastPrinted>2009-08-28T16:36:59Z</cp:lastPrinted>
  <dcterms:modified xsi:type="dcterms:W3CDTF">2009-08-28T17:27:23Z</dcterms:modified>
  <cp:revision>19</cp:revision>
  <dc:subject/>
  <dc:title>Format Writing  and  Social Studies</dc:title>
</cp:coreProperties>
</file>