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9.jpeg" ContentType="image/jpeg"/>
  <Override PartName="/ppt/media/image4.png" ContentType="image/png"/>
  <Override PartName="/ppt/media/image28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5.jpeg" ContentType="image/jpeg"/>
  <Override PartName="/ppt/media/image11.png" ContentType="image/png"/>
  <Override PartName="/ppt/media/image9.png" ContentType="image/png"/>
  <Override PartName="/ppt/media/image12.png" ContentType="image/png"/>
  <Override PartName="/ppt/media/image30.png" ContentType="image/png"/>
  <Override PartName="/ppt/media/image3.jpeg" ContentType="image/jpeg"/>
  <Override PartName="/ppt/media/image2.jpeg" ContentType="image/jpeg"/>
  <Override PartName="/ppt/media/image1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26.wmf" ContentType="image/x-wmf"/>
  <Override PartName="/ppt/media/image16.png" ContentType="image/png"/>
  <Override PartName="/ppt/media/image17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5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0DFF-6128-4150-BC3E-28167379C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D512-3352-4F4C-A77A-95A3D03CF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D871-F296-4181-9BF8-5985E2FCF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6EAA-CF09-4A74-B7FE-CA526D9C9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1FEA-F1A0-4CA0-8E88-3F09BA1EB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97AF-AD7D-4942-BFC8-91C0B8096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D49D-B7D2-463B-B0B6-D2F866F0E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F39A-9B39-4EC2-A24B-FCAED9DC7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40ED-3F1A-45D8-89E3-1A5B644C5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744A-A6F7-4DB5-98CD-2D0CA012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66A8-3006-4AFE-A9E5-7DF3BDC3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77DF-D1FD-4F07-915E-07ED058E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758D5-4511-4834-B3A1-49553292751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hyperlink" Target="http://www.youtube.com/watch?v=TQEOxXB3m2k" TargetMode="External"/><Relationship Id="rId4" Type="http://schemas.openxmlformats.org/officeDocument/2006/relationships/hyperlink" Target="http://www.youtube.com/watch?v=HqhbiWruQtE" TargetMode="External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kmgoldman.blogspot.com/" TargetMode="External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://www.mindmeister.com/pt/12213323/best-online-collaboration-tools-2011-robin-good-s-collaborative-map" TargetMode="External"/><Relationship Id="rId2" Type="http://schemas.openxmlformats.org/officeDocument/2006/relationships/hyperlink" Target="http://www.c4lpt.co.uk/recommended/2011.html" TargetMode="External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2.5/br/" TargetMode="External"/><Relationship Id="rId2" Type="http://schemas.openxmlformats.org/officeDocument/2006/relationships/image" Target="../media/image8.png"/><Relationship Id="rId3" Type="http://schemas.openxmlformats.org/officeDocument/2006/relationships/hyperlink" Target="http://pt.wikipedia.org/wiki/Projeto_GNU" TargetMode="External"/><Relationship Id="rId4" Type="http://schemas.openxmlformats.org/officeDocument/2006/relationships/image" Target="../media/image9.png"/><Relationship Id="rId5" Type="http://schemas.openxmlformats.org/officeDocument/2006/relationships/hyperlink" Target="http://pt.wikipedia.org/wiki/P&#225;gina_principal" TargetMode="External"/><Relationship Id="rId6" Type="http://schemas.openxmlformats.org/officeDocument/2006/relationships/image" Target="../media/image10.jpe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hyperlink" Target="http://books.google.com.br/books?id=N9QHkFT_WC4C&amp;printsec=frontcover" TargetMode="External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RDLs1-g3LbI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2346120"/>
            <a:ext cx="86407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Gestão do Conhecimento -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3"/>
          <p:cNvSpPr/>
          <p:nvPr/>
        </p:nvSpPr>
        <p:spPr>
          <a:xfrm>
            <a:off x="1763640" y="3786120"/>
            <a:ext cx="54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ma Abordagem Introdutó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9" descr="ppt_barra_inf"/>
          <p:cNvPicPr/>
          <p:nvPr/>
        </p:nvPicPr>
        <p:blipFill>
          <a:blip r:embed="rId1"/>
          <a:stretch/>
        </p:blipFill>
        <p:spPr>
          <a:xfrm>
            <a:off x="0" y="6500880"/>
            <a:ext cx="9144000" cy="3571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0"/>
          <p:cNvSpPr/>
          <p:nvPr/>
        </p:nvSpPr>
        <p:spPr>
          <a:xfrm>
            <a:off x="756720" y="60930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ho/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1"/>
          <p:cNvSpPr/>
          <p:nvPr/>
        </p:nvSpPr>
        <p:spPr>
          <a:xfrm>
            <a:off x="3059280" y="5516640"/>
            <a:ext cx="2665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ero"/>
              </a:rPr>
              <a:t>BAYARDO MORALES  bmorales@uol.com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3" descr="ppt_seta"/>
          <p:cNvPicPr/>
          <p:nvPr/>
        </p:nvPicPr>
        <p:blipFill>
          <a:blip r:embed="rId2"/>
          <a:stretch/>
        </p:blipFill>
        <p:spPr>
          <a:xfrm>
            <a:off x="8705880" y="0"/>
            <a:ext cx="438120" cy="473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6" descr="SBGC logo"/>
          <p:cNvPicPr/>
          <p:nvPr/>
        </p:nvPicPr>
        <p:blipFill>
          <a:blip r:embed="rId3"/>
          <a:stretch/>
        </p:blipFill>
        <p:spPr>
          <a:xfrm>
            <a:off x="835200" y="404640"/>
            <a:ext cx="2172960" cy="936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"/>
          <p:cNvPicPr/>
          <p:nvPr/>
        </p:nvPicPr>
        <p:blipFill>
          <a:blip r:embed="rId4"/>
          <a:stretch/>
        </p:blipFill>
        <p:spPr>
          <a:xfrm>
            <a:off x="3924360" y="6308640"/>
            <a:ext cx="102060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Oval 4"/>
          <p:cNvSpPr/>
          <p:nvPr/>
        </p:nvSpPr>
        <p:spPr>
          <a:xfrm>
            <a:off x="971640" y="1484280"/>
            <a:ext cx="7127640" cy="2665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5"/>
          <p:cNvSpPr/>
          <p:nvPr/>
        </p:nvSpPr>
        <p:spPr>
          <a:xfrm>
            <a:off x="1042920" y="2925720"/>
            <a:ext cx="7128000" cy="2735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 rot="16200000">
            <a:off x="4283640" y="45360"/>
            <a:ext cx="60696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hecimento Científ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 rot="16200000">
            <a:off x="4415400" y="2218320"/>
            <a:ext cx="10335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hecimento Organiza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0"/>
          <p:cNvSpPr/>
          <p:nvPr/>
        </p:nvSpPr>
        <p:spPr>
          <a:xfrm>
            <a:off x="4284720" y="3068640"/>
            <a:ext cx="576360" cy="936720"/>
          </a:xfrm>
          <a:prstGeom prst="upDownArrow">
            <a:avLst>
              <a:gd name="adj1" fmla="val 50000"/>
              <a:gd name="adj2" fmla="val 32354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3"/>
          <p:cNvSpPr/>
          <p:nvPr/>
        </p:nvSpPr>
        <p:spPr>
          <a:xfrm rot="16200000">
            <a:off x="4618080" y="-434880"/>
            <a:ext cx="485280" cy="60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dor: Artigos Publicados/Revistas Científ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4"/>
          <p:cNvSpPr/>
          <p:nvPr/>
        </p:nvSpPr>
        <p:spPr>
          <a:xfrm rot="16200000">
            <a:off x="4500720" y="2275920"/>
            <a:ext cx="79020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dor: Registros de Patentes, Rankings Mercadológ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1332000" y="333360"/>
            <a:ext cx="68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ipos de Conheci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769240" cy="56037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6"/>
          <p:cNvSpPr/>
          <p:nvPr/>
        </p:nvSpPr>
        <p:spPr>
          <a:xfrm rot="16200000">
            <a:off x="2365920" y="4442760"/>
            <a:ext cx="667080" cy="40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nte: I-Group Conhecimento Estratég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582480" y="404640"/>
            <a:ext cx="7980480" cy="57549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 rot="16200000">
            <a:off x="3983040" y="2865600"/>
            <a:ext cx="606600" cy="73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Fonte: http://www.slideshare.net/hudsonaugusto/gesto-do-conhecimento-present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7"/>
          <p:cNvSpPr/>
          <p:nvPr/>
        </p:nvSpPr>
        <p:spPr>
          <a:xfrm rot="16380600">
            <a:off x="8402760" y="4338720"/>
            <a:ext cx="54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27"/>
          <p:cNvGrpSpPr/>
          <p:nvPr/>
        </p:nvGrpSpPr>
        <p:grpSpPr>
          <a:xfrm>
            <a:off x="755640" y="2060640"/>
            <a:ext cx="2235960" cy="1307880"/>
            <a:chOff x="755640" y="2060640"/>
            <a:chExt cx="2235960" cy="1307880"/>
          </a:xfrm>
        </p:grpSpPr>
        <p:sp>
          <p:nvSpPr>
            <p:cNvPr id="104" name="AutoShape 20"/>
            <p:cNvSpPr/>
            <p:nvPr/>
          </p:nvSpPr>
          <p:spPr>
            <a:xfrm>
              <a:off x="755640" y="2249640"/>
              <a:ext cx="792000" cy="1079280"/>
            </a:xfrm>
            <a:custGeom>
              <a:avLst/>
              <a:gdLst>
                <a:gd name="textAreaLeft" fmla="*/ 105840 w 792000"/>
                <a:gd name="textAreaRight" fmla="*/ 686160 w 792000"/>
                <a:gd name="textAreaTop" fmla="*/ 188640 h 1079280"/>
                <a:gd name="textAreaBottom" fmla="*/ 78264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21"/>
            <p:cNvSpPr/>
            <p:nvPr/>
          </p:nvSpPr>
          <p:spPr>
            <a:xfrm rot="16200000">
              <a:off x="1996200" y="1611360"/>
              <a:ext cx="546120" cy="14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Mitolog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22"/>
            <p:cNvSpPr/>
            <p:nvPr/>
          </p:nvSpPr>
          <p:spPr>
            <a:xfrm rot="16200000">
              <a:off x="1903320" y="2487240"/>
              <a:ext cx="546120" cy="12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Histór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29"/>
          <p:cNvGrpSpPr/>
          <p:nvPr/>
        </p:nvGrpSpPr>
        <p:grpSpPr>
          <a:xfrm>
            <a:off x="5867280" y="3500280"/>
            <a:ext cx="2703240" cy="1338120"/>
            <a:chOff x="5867280" y="3500280"/>
            <a:chExt cx="2703240" cy="1338120"/>
          </a:xfrm>
        </p:grpSpPr>
        <p:sp>
          <p:nvSpPr>
            <p:cNvPr id="108" name="Text Box 6"/>
            <p:cNvSpPr/>
            <p:nvPr/>
          </p:nvSpPr>
          <p:spPr>
            <a:xfrm rot="16200000">
              <a:off x="7357680" y="3017520"/>
              <a:ext cx="54612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Alquim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8"/>
            <p:cNvSpPr/>
            <p:nvPr/>
          </p:nvSpPr>
          <p:spPr>
            <a:xfrm rot="16200000">
              <a:off x="7378200" y="3646080"/>
              <a:ext cx="546120" cy="183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Quími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23"/>
            <p:cNvSpPr/>
            <p:nvPr/>
          </p:nvSpPr>
          <p:spPr>
            <a:xfrm>
              <a:off x="5867280" y="3643200"/>
              <a:ext cx="792000" cy="1079640"/>
            </a:xfrm>
            <a:custGeom>
              <a:avLst/>
              <a:gdLst>
                <a:gd name="textAreaLeft" fmla="*/ 105840 w 792000"/>
                <a:gd name="textAreaRight" fmla="*/ 686160 w 792000"/>
                <a:gd name="textAreaTop" fmla="*/ 189000 h 1079640"/>
                <a:gd name="textAreaBottom" fmla="*/ 783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28"/>
          <p:cNvGrpSpPr/>
          <p:nvPr/>
        </p:nvGrpSpPr>
        <p:grpSpPr>
          <a:xfrm>
            <a:off x="3059280" y="2707920"/>
            <a:ext cx="2549520" cy="1338480"/>
            <a:chOff x="3059280" y="2707920"/>
            <a:chExt cx="2549520" cy="1338480"/>
          </a:xfrm>
        </p:grpSpPr>
        <p:sp>
          <p:nvSpPr>
            <p:cNvPr id="112" name="AutoShape 24"/>
            <p:cNvSpPr/>
            <p:nvPr/>
          </p:nvSpPr>
          <p:spPr>
            <a:xfrm>
              <a:off x="3059280" y="2928960"/>
              <a:ext cx="792000" cy="1079280"/>
            </a:xfrm>
            <a:custGeom>
              <a:avLst/>
              <a:gdLst>
                <a:gd name="textAreaLeft" fmla="*/ 105840 w 792000"/>
                <a:gd name="textAreaRight" fmla="*/ 686160 w 792000"/>
                <a:gd name="textAreaTop" fmla="*/ 188640 h 1079280"/>
                <a:gd name="textAreaBottom" fmla="*/ 78264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25"/>
            <p:cNvSpPr/>
            <p:nvPr/>
          </p:nvSpPr>
          <p:spPr>
            <a:xfrm rot="16200000">
              <a:off x="4359600" y="2202120"/>
              <a:ext cx="54612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Astrolog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26"/>
            <p:cNvSpPr/>
            <p:nvPr/>
          </p:nvSpPr>
          <p:spPr>
            <a:xfrm rot="16200000">
              <a:off x="4453200" y="2890800"/>
              <a:ext cx="546120" cy="176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Astronom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30"/>
          <p:cNvGrpSpPr/>
          <p:nvPr/>
        </p:nvGrpSpPr>
        <p:grpSpPr>
          <a:xfrm>
            <a:off x="684360" y="4868640"/>
            <a:ext cx="2667960" cy="1526040"/>
            <a:chOff x="684360" y="4868640"/>
            <a:chExt cx="2667960" cy="1526040"/>
          </a:xfrm>
        </p:grpSpPr>
        <p:sp>
          <p:nvSpPr>
            <p:cNvPr id="116" name="AutoShape 31"/>
            <p:cNvSpPr/>
            <p:nvPr/>
          </p:nvSpPr>
          <p:spPr>
            <a:xfrm>
              <a:off x="684360" y="5248440"/>
              <a:ext cx="792000" cy="1079280"/>
            </a:xfrm>
            <a:custGeom>
              <a:avLst/>
              <a:gdLst>
                <a:gd name="textAreaLeft" fmla="*/ 105840 w 792000"/>
                <a:gd name="textAreaRight" fmla="*/ 686160 w 792000"/>
                <a:gd name="textAreaTop" fmla="*/ 188640 h 1079280"/>
                <a:gd name="textAreaBottom" fmla="*/ 78264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32"/>
            <p:cNvSpPr/>
            <p:nvPr/>
          </p:nvSpPr>
          <p:spPr>
            <a:xfrm rot="16200000">
              <a:off x="2051280" y="4296600"/>
              <a:ext cx="729000" cy="187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600" spc="-1" strike="noStrike">
                  <a:solidFill>
                    <a:srgbClr val="000000"/>
                  </a:solidFill>
                  <a:latin typeface="Tahoma"/>
                </a:rPr>
                <a:t>Filosofi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33"/>
            <p:cNvSpPr/>
            <p:nvPr/>
          </p:nvSpPr>
          <p:spPr>
            <a:xfrm rot="16200000">
              <a:off x="1947960" y="5213160"/>
              <a:ext cx="72900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600" spc="-1" strike="noStrike">
                  <a:solidFill>
                    <a:srgbClr val="000000"/>
                  </a:solidFill>
                  <a:latin typeface="Tahoma"/>
                </a:rPr>
                <a:t>Ciênci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Text Box 38"/>
          <p:cNvSpPr/>
          <p:nvPr/>
        </p:nvSpPr>
        <p:spPr>
          <a:xfrm>
            <a:off x="0" y="525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volução Cultural do Conheci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0"/>
          <p:cNvSpPr/>
          <p:nvPr/>
        </p:nvSpPr>
        <p:spPr>
          <a:xfrm>
            <a:off x="4643280" y="5392800"/>
            <a:ext cx="792360" cy="1079280"/>
          </a:xfrm>
          <a:custGeom>
            <a:avLst/>
            <a:gdLst>
              <a:gd name="textAreaLeft" fmla="*/ 106200 w 792360"/>
              <a:gd name="textAreaRight" fmla="*/ 686160 w 792360"/>
              <a:gd name="textAreaTop" fmla="*/ 188640 h 1079280"/>
              <a:gd name="textAreaBottom" fmla="*/ 78264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1"/>
          <p:cNvSpPr/>
          <p:nvPr/>
        </p:nvSpPr>
        <p:spPr>
          <a:xfrm rot="16200000">
            <a:off x="5824440" y="4653000"/>
            <a:ext cx="72900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eo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2"/>
          <p:cNvSpPr/>
          <p:nvPr/>
        </p:nvSpPr>
        <p:spPr>
          <a:xfrm rot="16200000">
            <a:off x="5874480" y="5387400"/>
            <a:ext cx="729000" cy="15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á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31"/>
          <p:cNvSpPr/>
          <p:nvPr/>
        </p:nvSpPr>
        <p:spPr>
          <a:xfrm>
            <a:off x="1979640" y="260280"/>
            <a:ext cx="52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as Econôm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40"/>
          <p:cNvGrpSpPr/>
          <p:nvPr/>
        </p:nvGrpSpPr>
        <p:grpSpPr>
          <a:xfrm>
            <a:off x="395280" y="1341360"/>
            <a:ext cx="8499600" cy="5236920"/>
            <a:chOff x="395280" y="1341360"/>
            <a:chExt cx="8499600" cy="5236920"/>
          </a:xfrm>
        </p:grpSpPr>
        <p:sp>
          <p:nvSpPr>
            <p:cNvPr id="125" name="Text Box 22"/>
            <p:cNvSpPr/>
            <p:nvPr/>
          </p:nvSpPr>
          <p:spPr>
            <a:xfrm>
              <a:off x="4859280" y="4797360"/>
              <a:ext cx="4035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ahoma"/>
                </a:rPr>
                <a:t>Diferencial Competitiv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15"/>
            <p:cNvSpPr/>
            <p:nvPr/>
          </p:nvSpPr>
          <p:spPr>
            <a:xfrm>
              <a:off x="395280" y="1341360"/>
              <a:ext cx="3384720" cy="9471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Tahoma"/>
                </a:rPr>
                <a:t>Sociedade </a:t>
              </a:r>
              <a:br>
                <a:rPr sz="2800"/>
              </a:br>
              <a:r>
                <a:rPr b="1" lang="pt-BR" sz="2800" spc="-1" strike="noStrike">
                  <a:solidFill>
                    <a:srgbClr val="000000"/>
                  </a:solidFill>
                  <a:latin typeface="Tahoma"/>
                </a:rPr>
                <a:t>Industri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16"/>
            <p:cNvSpPr/>
            <p:nvPr/>
          </p:nvSpPr>
          <p:spPr>
            <a:xfrm>
              <a:off x="395280" y="3213000"/>
              <a:ext cx="3384720" cy="9471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Tahoma"/>
                </a:rPr>
                <a:t>Sociedade</a:t>
              </a:r>
              <a:br>
                <a:rPr sz="2800"/>
              </a:br>
              <a:r>
                <a:rPr b="1" lang="pt-BR" sz="2800" spc="-1" strike="noStrike">
                  <a:solidFill>
                    <a:srgbClr val="000000"/>
                  </a:solidFill>
                  <a:latin typeface="Tahoma"/>
                </a:rPr>
                <a:t>Pós-industri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17"/>
            <p:cNvSpPr/>
            <p:nvPr/>
          </p:nvSpPr>
          <p:spPr>
            <a:xfrm>
              <a:off x="4932360" y="1628640"/>
              <a:ext cx="381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Terra/Trabalho/Capit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20"/>
            <p:cNvSpPr/>
            <p:nvPr/>
          </p:nvSpPr>
          <p:spPr>
            <a:xfrm>
              <a:off x="4932360" y="3429000"/>
              <a:ext cx="3902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Informação/Conhecimen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24"/>
            <p:cNvSpPr/>
            <p:nvPr/>
          </p:nvSpPr>
          <p:spPr>
            <a:xfrm>
              <a:off x="4067280" y="3429000"/>
              <a:ext cx="647640" cy="504720"/>
            </a:xfrm>
            <a:prstGeom prst="rightArrow">
              <a:avLst>
                <a:gd name="adj1" fmla="val 50000"/>
                <a:gd name="adj2" fmla="val 32079"/>
              </a:avLst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25"/>
            <p:cNvSpPr/>
            <p:nvPr/>
          </p:nvSpPr>
          <p:spPr>
            <a:xfrm>
              <a:off x="4067280" y="1628640"/>
              <a:ext cx="649080" cy="503280"/>
            </a:xfrm>
            <a:prstGeom prst="rightArrow">
              <a:avLst>
                <a:gd name="adj1" fmla="val 50000"/>
                <a:gd name="adj2" fmla="val 32242"/>
              </a:avLst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29"/>
            <p:cNvSpPr/>
            <p:nvPr/>
          </p:nvSpPr>
          <p:spPr>
            <a:xfrm>
              <a:off x="4859280" y="1628640"/>
              <a:ext cx="3960720" cy="5446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30"/>
            <p:cNvSpPr/>
            <p:nvPr/>
          </p:nvSpPr>
          <p:spPr>
            <a:xfrm>
              <a:off x="4859280" y="3402000"/>
              <a:ext cx="3960720" cy="5446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33"/>
            <p:cNvSpPr/>
            <p:nvPr/>
          </p:nvSpPr>
          <p:spPr>
            <a:xfrm>
              <a:off x="1763640" y="2421000"/>
              <a:ext cx="287280" cy="720720"/>
            </a:xfrm>
            <a:custGeom>
              <a:avLst/>
              <a:gdLst>
                <a:gd name="textAreaLeft" fmla="*/ 38520 w 287280"/>
                <a:gd name="textAreaRight" fmla="*/ 248760 w 287280"/>
                <a:gd name="textAreaTop" fmla="*/ 126360 h 720720"/>
                <a:gd name="textAreaBottom" fmla="*/ 52236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79" stAng="-5400000" swAng="-5400000"/>
                  <a:lnTo>
                    <a:pt x="0" y="11861"/>
                  </a:lnTo>
                  <a:arcTo wR="21600" hR="7579" stAng="10800000" swAng="-1054311"/>
                  <a:lnTo>
                    <a:pt x="5565" y="19099"/>
                  </a:lnTo>
                  <a:lnTo>
                    <a:pt x="21600" y="17299"/>
                  </a:lnTo>
                  <a:lnTo>
                    <a:pt x="5565" y="10497"/>
                  </a:lnTo>
                  <a:lnTo>
                    <a:pt x="5565" y="12657"/>
                  </a:lnTo>
                  <a:arcTo wR="21600" hR="7579" stAng="9745689" swAng="700348"/>
                  <a:lnTo>
                    <a:pt x="880" y="9720"/>
                  </a:lnTo>
                  <a:arcTo wR="21600" hR="7579" stAng="-10446037" swAng="5046037"/>
                  <a:close/>
                </a:path>
                <a:path fill="darkenLess" w="21600" h="21600">
                  <a:moveTo>
                    <a:pt x="21600" y="0"/>
                  </a:moveTo>
                  <a:arcTo wR="21600" hR="7579" stAng="-5400000" swAng="-5400000"/>
                  <a:lnTo>
                    <a:pt x="0" y="7579"/>
                  </a:lnTo>
                  <a:arcTo wR="21600" hR="7579" stAng="10800000" swAng="-353963"/>
                  <a:lnTo>
                    <a:pt x="880" y="9720"/>
                  </a:lnTo>
                  <a:arcTo wR="21600" hR="7579" stAng="-10446037" swAng="5046037"/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35"/>
            <p:cNvSpPr/>
            <p:nvPr/>
          </p:nvSpPr>
          <p:spPr>
            <a:xfrm>
              <a:off x="6588000" y="4076640"/>
              <a:ext cx="289080" cy="792360"/>
            </a:xfrm>
            <a:custGeom>
              <a:avLst/>
              <a:gdLst>
                <a:gd name="textAreaLeft" fmla="*/ 38520 w 289080"/>
                <a:gd name="textAreaRight" fmla="*/ 250560 w 289080"/>
                <a:gd name="textAreaTop" fmla="*/ 138600 h 792360"/>
                <a:gd name="textAreaBottom" fmla="*/ 574560 h 7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36"/>
            <p:cNvSpPr/>
            <p:nvPr/>
          </p:nvSpPr>
          <p:spPr>
            <a:xfrm>
              <a:off x="6588000" y="5373720"/>
              <a:ext cx="289080" cy="792000"/>
            </a:xfrm>
            <a:custGeom>
              <a:avLst/>
              <a:gdLst>
                <a:gd name="textAreaLeft" fmla="*/ 38520 w 289080"/>
                <a:gd name="textAreaRight" fmla="*/ 250560 w 289080"/>
                <a:gd name="textAreaTop" fmla="*/ 138600 h 792000"/>
                <a:gd name="textAreaBottom" fmla="*/ 57420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37"/>
            <p:cNvSpPr/>
            <p:nvPr/>
          </p:nvSpPr>
          <p:spPr>
            <a:xfrm rot="16200000">
              <a:off x="6631920" y="5112360"/>
              <a:ext cx="485280" cy="24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ustentabilida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tângulo 2"/>
          <p:cNvSpPr/>
          <p:nvPr/>
        </p:nvSpPr>
        <p:spPr>
          <a:xfrm>
            <a:off x="1433520" y="620640"/>
            <a:ext cx="643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lares do Conheci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eta para a direita 3"/>
          <p:cNvSpPr/>
          <p:nvPr/>
        </p:nvSpPr>
        <p:spPr>
          <a:xfrm>
            <a:off x="3276720" y="2708280"/>
            <a:ext cx="358560" cy="216000"/>
          </a:xfrm>
          <a:prstGeom prst="rightArrow">
            <a:avLst>
              <a:gd name="adj1" fmla="val 50000"/>
              <a:gd name="adj2" fmla="val 498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tângulo 6"/>
          <p:cNvSpPr/>
          <p:nvPr/>
        </p:nvSpPr>
        <p:spPr>
          <a:xfrm>
            <a:off x="3635280" y="256536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esso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tângulo 7"/>
          <p:cNvSpPr/>
          <p:nvPr/>
        </p:nvSpPr>
        <p:spPr>
          <a:xfrm>
            <a:off x="4427640" y="35733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roces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tângulo 8"/>
          <p:cNvSpPr/>
          <p:nvPr/>
        </p:nvSpPr>
        <p:spPr>
          <a:xfrm flipV="1" rot="10800000">
            <a:off x="5148360" y="4662000"/>
            <a:ext cx="344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cnologi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eta para a direita 9"/>
          <p:cNvSpPr/>
          <p:nvPr/>
        </p:nvSpPr>
        <p:spPr>
          <a:xfrm>
            <a:off x="3924360" y="3789360"/>
            <a:ext cx="360360" cy="216000"/>
          </a:xfrm>
          <a:prstGeom prst="rightArrow">
            <a:avLst>
              <a:gd name="adj1" fmla="val 50000"/>
              <a:gd name="adj2" fmla="val 5005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eta para a direita 10"/>
          <p:cNvSpPr/>
          <p:nvPr/>
        </p:nvSpPr>
        <p:spPr>
          <a:xfrm>
            <a:off x="4643280" y="4869000"/>
            <a:ext cx="360360" cy="215640"/>
          </a:xfrm>
          <a:prstGeom prst="rightArrow">
            <a:avLst>
              <a:gd name="adj1" fmla="val 50000"/>
              <a:gd name="adj2" fmla="val 50133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tângulo 1"/>
          <p:cNvSpPr/>
          <p:nvPr/>
        </p:nvSpPr>
        <p:spPr>
          <a:xfrm>
            <a:off x="1763640" y="765000"/>
            <a:ext cx="547236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sso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tângulo 2"/>
          <p:cNvSpPr/>
          <p:nvPr/>
        </p:nvSpPr>
        <p:spPr>
          <a:xfrm>
            <a:off x="4081320" y="32446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tângulo 3"/>
          <p:cNvSpPr/>
          <p:nvPr/>
        </p:nvSpPr>
        <p:spPr>
          <a:xfrm>
            <a:off x="4081320" y="32446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tângulo 4"/>
          <p:cNvSpPr/>
          <p:nvPr/>
        </p:nvSpPr>
        <p:spPr>
          <a:xfrm>
            <a:off x="2515320" y="1700280"/>
            <a:ext cx="394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mpetências individu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tângulo 5"/>
          <p:cNvSpPr/>
          <p:nvPr/>
        </p:nvSpPr>
        <p:spPr>
          <a:xfrm>
            <a:off x="2700360" y="32130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hecimentos            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tângulo 6"/>
          <p:cNvSpPr/>
          <p:nvPr/>
        </p:nvSpPr>
        <p:spPr>
          <a:xfrm>
            <a:off x="2738520" y="4005360"/>
            <a:ext cx="34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bilidades                 Co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tângulo 7"/>
          <p:cNvSpPr/>
          <p:nvPr/>
        </p:nvSpPr>
        <p:spPr>
          <a:xfrm>
            <a:off x="2775600" y="4797360"/>
            <a:ext cx="341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itudes                     Porqu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eta para a direita 3"/>
          <p:cNvSpPr/>
          <p:nvPr/>
        </p:nvSpPr>
        <p:spPr>
          <a:xfrm>
            <a:off x="4427640" y="5013360"/>
            <a:ext cx="358560" cy="71280"/>
          </a:xfrm>
          <a:prstGeom prst="rightArrow">
            <a:avLst>
              <a:gd name="adj1" fmla="val 50000"/>
              <a:gd name="adj2" fmla="val 50326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eta para a direita 3"/>
          <p:cNvSpPr/>
          <p:nvPr/>
        </p:nvSpPr>
        <p:spPr>
          <a:xfrm flipV="1">
            <a:off x="4788000" y="3429000"/>
            <a:ext cx="358560" cy="71280"/>
          </a:xfrm>
          <a:prstGeom prst="rightArrow">
            <a:avLst>
              <a:gd name="adj1" fmla="val 50000"/>
              <a:gd name="adj2" fmla="val 50326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eta para a direita 3"/>
          <p:cNvSpPr/>
          <p:nvPr/>
        </p:nvSpPr>
        <p:spPr>
          <a:xfrm flipV="1">
            <a:off x="4572000" y="4220280"/>
            <a:ext cx="358920" cy="71640"/>
          </a:xfrm>
          <a:prstGeom prst="rightArrow">
            <a:avLst>
              <a:gd name="adj1" fmla="val 50000"/>
              <a:gd name="adj2" fmla="val 50124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7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apeamento das Competê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38"/>
          <p:cNvGrpSpPr/>
          <p:nvPr/>
        </p:nvGrpSpPr>
        <p:grpSpPr>
          <a:xfrm>
            <a:off x="108000" y="1197000"/>
            <a:ext cx="8928000" cy="5472000"/>
            <a:chOff x="108000" y="1197000"/>
            <a:chExt cx="8928000" cy="5472000"/>
          </a:xfrm>
        </p:grpSpPr>
        <p:sp>
          <p:nvSpPr>
            <p:cNvPr id="157" name="Text Box 13"/>
            <p:cNvSpPr/>
            <p:nvPr/>
          </p:nvSpPr>
          <p:spPr>
            <a:xfrm>
              <a:off x="3348000" y="4508640"/>
              <a:ext cx="251928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Lacun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de Competênc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14"/>
            <p:cNvSpPr/>
            <p:nvPr/>
          </p:nvSpPr>
          <p:spPr>
            <a:xfrm>
              <a:off x="108000" y="3860640"/>
              <a:ext cx="3240000" cy="14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COMPETÊNC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ORGANIZACIONA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(cargos, funções, papéis, atribuiçõ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5"/>
            <p:cNvSpPr/>
            <p:nvPr/>
          </p:nvSpPr>
          <p:spPr>
            <a:xfrm>
              <a:off x="6084720" y="3906720"/>
              <a:ext cx="295128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COMPETÊNC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INDIVIDUA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(conhecimentos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habilidades, atitud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17"/>
            <p:cNvSpPr/>
            <p:nvPr/>
          </p:nvSpPr>
          <p:spPr>
            <a:xfrm>
              <a:off x="4356000" y="3860640"/>
              <a:ext cx="503280" cy="576360"/>
            </a:xfrm>
            <a:prstGeom prst="downArrow">
              <a:avLst>
                <a:gd name="adj1" fmla="val 50000"/>
                <a:gd name="adj2" fmla="val 28630"/>
              </a:avLst>
            </a:prstGeom>
            <a:solidFill>
              <a:srgbClr val="ff99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1" name="Picture 18" descr=""/>
            <p:cNvPicPr/>
            <p:nvPr/>
          </p:nvPicPr>
          <p:blipFill>
            <a:blip r:embed="rId1"/>
            <a:stretch/>
          </p:blipFill>
          <p:spPr>
            <a:xfrm>
              <a:off x="3851280" y="1773360"/>
              <a:ext cx="150480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Oval 20"/>
            <p:cNvSpPr/>
            <p:nvPr/>
          </p:nvSpPr>
          <p:spPr>
            <a:xfrm>
              <a:off x="6012000" y="1268280"/>
              <a:ext cx="2808000" cy="2665440"/>
            </a:xfrm>
            <a:prstGeom prst="ellipse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23"/>
            <p:cNvSpPr/>
            <p:nvPr/>
          </p:nvSpPr>
          <p:spPr>
            <a:xfrm flipH="1" rot="10491000">
              <a:off x="2983680" y="2063160"/>
              <a:ext cx="1657440" cy="864000"/>
            </a:xfrm>
            <a:custGeom>
              <a:avLst/>
              <a:gdLst>
                <a:gd name="textAreaLeft" fmla="*/ 290160 w 1657440"/>
                <a:gd name="textAreaRight" fmla="*/ 1202040 w 1657440"/>
                <a:gd name="textAreaTop" fmla="*/ 115560 h 864000"/>
                <a:gd name="textAreaBottom" fmla="*/ 748440 h 86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99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Picture 29" descr="cabeça"/>
            <p:cNvPicPr/>
            <p:nvPr/>
          </p:nvPicPr>
          <p:blipFill>
            <a:blip r:embed="rId2"/>
            <a:stretch/>
          </p:blipFill>
          <p:spPr>
            <a:xfrm>
              <a:off x="6732720" y="1773360"/>
              <a:ext cx="1336680" cy="153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Oval 30"/>
            <p:cNvSpPr/>
            <p:nvPr/>
          </p:nvSpPr>
          <p:spPr>
            <a:xfrm>
              <a:off x="250920" y="1197000"/>
              <a:ext cx="2808360" cy="2665440"/>
            </a:xfrm>
            <a:prstGeom prst="ellipse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6" name="Picture 31" descr="organograma"/>
            <p:cNvPicPr/>
            <p:nvPr/>
          </p:nvPicPr>
          <p:blipFill>
            <a:blip r:embed="rId3"/>
            <a:stretch/>
          </p:blipFill>
          <p:spPr>
            <a:xfrm>
              <a:off x="345960" y="1887480"/>
              <a:ext cx="2568600" cy="10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Oval 32"/>
            <p:cNvSpPr/>
            <p:nvPr/>
          </p:nvSpPr>
          <p:spPr>
            <a:xfrm>
              <a:off x="2771640" y="5732640"/>
              <a:ext cx="3600720" cy="936360"/>
            </a:xfrm>
            <a:prstGeom prst="ellipse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34"/>
            <p:cNvSpPr/>
            <p:nvPr/>
          </p:nvSpPr>
          <p:spPr>
            <a:xfrm>
              <a:off x="3276720" y="5877000"/>
              <a:ext cx="251928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APRENDIZAG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RGANIZAC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utoShape 35"/>
            <p:cNvSpPr/>
            <p:nvPr/>
          </p:nvSpPr>
          <p:spPr>
            <a:xfrm rot="10800000">
              <a:off x="4356000" y="5157360"/>
              <a:ext cx="503280" cy="576360"/>
            </a:xfrm>
            <a:prstGeom prst="downArrow">
              <a:avLst>
                <a:gd name="adj1" fmla="val 50000"/>
                <a:gd name="adj2" fmla="val 28630"/>
              </a:avLst>
            </a:prstGeom>
            <a:solidFill>
              <a:srgbClr val="ff99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AutoShape 22"/>
            <p:cNvSpPr/>
            <p:nvPr/>
          </p:nvSpPr>
          <p:spPr>
            <a:xfrm rot="11012400">
              <a:off x="4642560" y="1988640"/>
              <a:ext cx="1514520" cy="927360"/>
            </a:xfrm>
            <a:custGeom>
              <a:avLst/>
              <a:gdLst>
                <a:gd name="textAreaLeft" fmla="*/ 259200 w 1514520"/>
                <a:gd name="textAreaRight" fmla="*/ 1126080 w 1514520"/>
                <a:gd name="textAreaTop" fmla="*/ 124200 h 927360"/>
                <a:gd name="textAreaBottom" fmla="*/ 803160 h 92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401" hR="21600" stAng="10800000" swAng="-5400000"/>
                  <a:lnTo>
                    <a:pt x="12359" y="21600"/>
                  </a:lnTo>
                  <a:arcTo wR="7401" hR="21600" stAng="5400000" swAng="-2645993"/>
                  <a:lnTo>
                    <a:pt x="21177" y="7200"/>
                  </a:lnTo>
                  <a:lnTo>
                    <a:pt x="17280" y="0"/>
                  </a:lnTo>
                  <a:lnTo>
                    <a:pt x="12537" y="7200"/>
                  </a:lnTo>
                  <a:lnTo>
                    <a:pt x="14378" y="7200"/>
                  </a:lnTo>
                  <a:arcTo wR="7401" hR="21600" stAng="2754007" swAng="2229309"/>
                  <a:lnTo>
                    <a:pt x="9880" y="20352"/>
                  </a:lnTo>
                  <a:arcTo wR="7401" hR="21600" stAng="5816685" swAng="4983315"/>
                  <a:close/>
                </a:path>
                <a:path fill="darkenLess" w="21600" h="21600">
                  <a:moveTo>
                    <a:pt x="0" y="0"/>
                  </a:moveTo>
                  <a:arcTo wR="7401" hR="21600" stAng="10800000" swAng="-5400000"/>
                  <a:lnTo>
                    <a:pt x="12359" y="21600"/>
                  </a:lnTo>
                  <a:arcTo wR="7401" hR="21600" stAng="5400000" swAng="416685"/>
                  <a:lnTo>
                    <a:pt x="9880" y="20352"/>
                  </a:lnTo>
                  <a:arcTo wR="7401" hR="21600" stAng="5816685" swAng="4983315"/>
                  <a:close/>
                </a:path>
              </a:pathLst>
            </a:custGeom>
            <a:solidFill>
              <a:srgbClr val="ff9900"/>
            </a:solidFill>
            <a:ln w="25560">
              <a:solidFill>
                <a:srgbClr val="f58c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tângulo 1"/>
          <p:cNvSpPr/>
          <p:nvPr/>
        </p:nvSpPr>
        <p:spPr>
          <a:xfrm>
            <a:off x="3043440" y="907920"/>
            <a:ext cx="300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cess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4"/>
          <p:cNvSpPr/>
          <p:nvPr/>
        </p:nvSpPr>
        <p:spPr>
          <a:xfrm>
            <a:off x="3419640" y="2637000"/>
            <a:ext cx="2232000" cy="120276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tiv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ef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Arial"/>
              </a:rPr>
              <a:t>Prá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4"/>
          <p:cNvSpPr/>
          <p:nvPr/>
        </p:nvSpPr>
        <p:spPr>
          <a:xfrm>
            <a:off x="6516720" y="2852640"/>
            <a:ext cx="2085840" cy="78552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odu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ç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4"/>
          <p:cNvSpPr/>
          <p:nvPr/>
        </p:nvSpPr>
        <p:spPr>
          <a:xfrm>
            <a:off x="611280" y="2637000"/>
            <a:ext cx="1944720" cy="120276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r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eta para a direita 3"/>
          <p:cNvSpPr/>
          <p:nvPr/>
        </p:nvSpPr>
        <p:spPr>
          <a:xfrm flipV="1">
            <a:off x="2627280" y="3067920"/>
            <a:ext cx="647640" cy="360360"/>
          </a:xfrm>
          <a:prstGeom prst="rightArrow">
            <a:avLst>
              <a:gd name="adj1" fmla="val 50000"/>
              <a:gd name="adj2" fmla="val 49872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eta para a direita 3"/>
          <p:cNvSpPr/>
          <p:nvPr/>
        </p:nvSpPr>
        <p:spPr>
          <a:xfrm flipV="1">
            <a:off x="5796000" y="2996640"/>
            <a:ext cx="647640" cy="360360"/>
          </a:xfrm>
          <a:prstGeom prst="rightArrow">
            <a:avLst>
              <a:gd name="adj1" fmla="val 50000"/>
              <a:gd name="adj2" fmla="val 49872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tângulo 10"/>
          <p:cNvSpPr/>
          <p:nvPr/>
        </p:nvSpPr>
        <p:spPr>
          <a:xfrm>
            <a:off x="397800" y="4365720"/>
            <a:ext cx="818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tângulo 11"/>
          <p:cNvSpPr/>
          <p:nvPr/>
        </p:nvSpPr>
        <p:spPr>
          <a:xfrm>
            <a:off x="539640" y="4941720"/>
            <a:ext cx="7920000" cy="703800"/>
          </a:xfrm>
          <a:prstGeom prst="rect">
            <a:avLst/>
          </a:prstGeom>
          <a:solidFill>
            <a:srgbClr val="fd94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 que vem primeiro? Gestão do Conhecimento ou Gestão de Processo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tângulo 1"/>
          <p:cNvSpPr/>
          <p:nvPr/>
        </p:nvSpPr>
        <p:spPr>
          <a:xfrm>
            <a:off x="2697840" y="1125360"/>
            <a:ext cx="344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ecnolog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tângulo 2"/>
          <p:cNvSpPr/>
          <p:nvPr/>
        </p:nvSpPr>
        <p:spPr>
          <a:xfrm>
            <a:off x="1855080" y="263700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orte de Processos de negó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tângulo 3"/>
          <p:cNvSpPr/>
          <p:nvPr/>
        </p:nvSpPr>
        <p:spPr>
          <a:xfrm>
            <a:off x="1844640" y="3284640"/>
            <a:ext cx="19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oio à deci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tângulo 4"/>
          <p:cNvSpPr/>
          <p:nvPr/>
        </p:nvSpPr>
        <p:spPr>
          <a:xfrm>
            <a:off x="1785600" y="4005360"/>
            <a:ext cx="553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plia o alcance do conhecimento coorpor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tângulo 5"/>
          <p:cNvSpPr/>
          <p:nvPr/>
        </p:nvSpPr>
        <p:spPr>
          <a:xfrm>
            <a:off x="1860120" y="4797360"/>
            <a:ext cx="464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elera a transferência do conhec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tângulo 6"/>
          <p:cNvSpPr/>
          <p:nvPr/>
        </p:nvSpPr>
        <p:spPr>
          <a:xfrm>
            <a:off x="1852200" y="5516640"/>
            <a:ext cx="33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uz mudanças e inova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Estrela de 5 pontas 7"/>
          <p:cNvSpPr/>
          <p:nvPr/>
        </p:nvSpPr>
        <p:spPr>
          <a:xfrm>
            <a:off x="1476360" y="2708280"/>
            <a:ext cx="287280" cy="216000"/>
          </a:xfrm>
          <a:custGeom>
            <a:avLst/>
            <a:gdLst>
              <a:gd name="textAreaLeft" fmla="*/ 88560 w 287280"/>
              <a:gd name="textAreaRight" fmla="*/ 198720 w 287280"/>
              <a:gd name="textAreaTop" fmla="*/ 82440 h 216000"/>
              <a:gd name="textAreaBottom" fmla="*/ 165240 h 216000"/>
            </a:gdLst>
            <a:ahLst/>
            <a:rect l="textAreaLeft" t="textAreaTop" r="textAreaRight" b="textAreaBottom"/>
            <a:pathLst>
              <a:path w="287338" h="215900">
                <a:moveTo>
                  <a:pt x="0" y="82466"/>
                </a:moveTo>
                <a:lnTo>
                  <a:pt x="109754" y="82467"/>
                </a:lnTo>
                <a:lnTo>
                  <a:pt x="143669" y="0"/>
                </a:lnTo>
                <a:lnTo>
                  <a:pt x="177584" y="82467"/>
                </a:lnTo>
                <a:lnTo>
                  <a:pt x="287338" y="82466"/>
                </a:lnTo>
                <a:lnTo>
                  <a:pt x="198545" y="133433"/>
                </a:lnTo>
                <a:lnTo>
                  <a:pt x="232461" y="215899"/>
                </a:lnTo>
                <a:lnTo>
                  <a:pt x="143669" y="164932"/>
                </a:lnTo>
                <a:lnTo>
                  <a:pt x="54877" y="215899"/>
                </a:lnTo>
                <a:lnTo>
                  <a:pt x="88793" y="133433"/>
                </a:lnTo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trela de 5 pontas 8"/>
          <p:cNvSpPr/>
          <p:nvPr/>
        </p:nvSpPr>
        <p:spPr>
          <a:xfrm>
            <a:off x="1476360" y="3357720"/>
            <a:ext cx="287280" cy="215640"/>
          </a:xfrm>
          <a:custGeom>
            <a:avLst/>
            <a:gdLst>
              <a:gd name="textAreaLeft" fmla="*/ 88560 w 287280"/>
              <a:gd name="textAreaRight" fmla="*/ 198720 w 287280"/>
              <a:gd name="textAreaTop" fmla="*/ 82440 h 215640"/>
              <a:gd name="textAreaBottom" fmla="*/ 164880 h 215640"/>
            </a:gdLst>
            <a:ahLst/>
            <a:rect l="textAreaLeft" t="textAreaTop" r="textAreaRight" b="textAreaBottom"/>
            <a:pathLst>
              <a:path w="287338" h="215900">
                <a:moveTo>
                  <a:pt x="0" y="82466"/>
                </a:moveTo>
                <a:lnTo>
                  <a:pt x="109754" y="82467"/>
                </a:lnTo>
                <a:lnTo>
                  <a:pt x="143669" y="0"/>
                </a:lnTo>
                <a:lnTo>
                  <a:pt x="177584" y="82467"/>
                </a:lnTo>
                <a:lnTo>
                  <a:pt x="287338" y="82466"/>
                </a:lnTo>
                <a:lnTo>
                  <a:pt x="198545" y="133433"/>
                </a:lnTo>
                <a:lnTo>
                  <a:pt x="232461" y="215899"/>
                </a:lnTo>
                <a:lnTo>
                  <a:pt x="143669" y="164932"/>
                </a:lnTo>
                <a:lnTo>
                  <a:pt x="54877" y="215899"/>
                </a:lnTo>
                <a:lnTo>
                  <a:pt x="88793" y="133433"/>
                </a:lnTo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Estrela de 5 pontas 9"/>
          <p:cNvSpPr/>
          <p:nvPr/>
        </p:nvSpPr>
        <p:spPr>
          <a:xfrm>
            <a:off x="1403280" y="4149720"/>
            <a:ext cx="289080" cy="216000"/>
          </a:xfrm>
          <a:custGeom>
            <a:avLst/>
            <a:gdLst>
              <a:gd name="textAreaLeft" fmla="*/ 89280 w 289080"/>
              <a:gd name="textAreaRight" fmla="*/ 199800 w 289080"/>
              <a:gd name="textAreaTop" fmla="*/ 82440 h 216000"/>
              <a:gd name="textAreaBottom" fmla="*/ 165240 h 216000"/>
            </a:gdLst>
            <a:ahLst/>
            <a:rect l="textAreaLeft" t="textAreaTop" r="textAreaRight" b="textAreaBottom"/>
            <a:pathLst>
              <a:path w="288925" h="215900">
                <a:moveTo>
                  <a:pt x="0" y="82466"/>
                </a:moveTo>
                <a:lnTo>
                  <a:pt x="110360" y="82467"/>
                </a:lnTo>
                <a:lnTo>
                  <a:pt x="144463" y="0"/>
                </a:lnTo>
                <a:lnTo>
                  <a:pt x="178565" y="82467"/>
                </a:lnTo>
                <a:lnTo>
                  <a:pt x="288925" y="82466"/>
                </a:lnTo>
                <a:lnTo>
                  <a:pt x="199641" y="133433"/>
                </a:lnTo>
                <a:lnTo>
                  <a:pt x="233745" y="215899"/>
                </a:lnTo>
                <a:lnTo>
                  <a:pt x="144463" y="164932"/>
                </a:lnTo>
                <a:lnTo>
                  <a:pt x="55180" y="215899"/>
                </a:lnTo>
                <a:lnTo>
                  <a:pt x="89284" y="133433"/>
                </a:lnTo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Estrela de 5 pontas 10"/>
          <p:cNvSpPr/>
          <p:nvPr/>
        </p:nvSpPr>
        <p:spPr>
          <a:xfrm>
            <a:off x="1476360" y="4869000"/>
            <a:ext cx="287280" cy="215640"/>
          </a:xfrm>
          <a:custGeom>
            <a:avLst/>
            <a:gdLst>
              <a:gd name="textAreaLeft" fmla="*/ 88560 w 287280"/>
              <a:gd name="textAreaRight" fmla="*/ 198720 w 287280"/>
              <a:gd name="textAreaTop" fmla="*/ 82440 h 215640"/>
              <a:gd name="textAreaBottom" fmla="*/ 164880 h 215640"/>
            </a:gdLst>
            <a:ahLst/>
            <a:rect l="textAreaLeft" t="textAreaTop" r="textAreaRight" b="textAreaBottom"/>
            <a:pathLst>
              <a:path w="287338" h="215900">
                <a:moveTo>
                  <a:pt x="0" y="82466"/>
                </a:moveTo>
                <a:lnTo>
                  <a:pt x="109754" y="82467"/>
                </a:lnTo>
                <a:lnTo>
                  <a:pt x="143669" y="0"/>
                </a:lnTo>
                <a:lnTo>
                  <a:pt x="177584" y="82467"/>
                </a:lnTo>
                <a:lnTo>
                  <a:pt x="287338" y="82466"/>
                </a:lnTo>
                <a:lnTo>
                  <a:pt x="198545" y="133433"/>
                </a:lnTo>
                <a:lnTo>
                  <a:pt x="232461" y="215899"/>
                </a:lnTo>
                <a:lnTo>
                  <a:pt x="143669" y="164932"/>
                </a:lnTo>
                <a:lnTo>
                  <a:pt x="54877" y="215899"/>
                </a:lnTo>
                <a:lnTo>
                  <a:pt x="88793" y="133433"/>
                </a:lnTo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Estrela de 5 pontas 11"/>
          <p:cNvSpPr/>
          <p:nvPr/>
        </p:nvSpPr>
        <p:spPr>
          <a:xfrm>
            <a:off x="1476360" y="5589720"/>
            <a:ext cx="287280" cy="215640"/>
          </a:xfrm>
          <a:custGeom>
            <a:avLst/>
            <a:gdLst>
              <a:gd name="textAreaLeft" fmla="*/ 88560 w 287280"/>
              <a:gd name="textAreaRight" fmla="*/ 198720 w 287280"/>
              <a:gd name="textAreaTop" fmla="*/ 82440 h 215640"/>
              <a:gd name="textAreaBottom" fmla="*/ 164880 h 215640"/>
            </a:gdLst>
            <a:ahLst/>
            <a:rect l="textAreaLeft" t="textAreaTop" r="textAreaRight" b="textAreaBottom"/>
            <a:pathLst>
              <a:path w="287338" h="215900">
                <a:moveTo>
                  <a:pt x="0" y="82466"/>
                </a:moveTo>
                <a:lnTo>
                  <a:pt x="109754" y="82467"/>
                </a:lnTo>
                <a:lnTo>
                  <a:pt x="143669" y="0"/>
                </a:lnTo>
                <a:lnTo>
                  <a:pt x="177584" y="82467"/>
                </a:lnTo>
                <a:lnTo>
                  <a:pt x="287338" y="82466"/>
                </a:lnTo>
                <a:lnTo>
                  <a:pt x="198545" y="133433"/>
                </a:lnTo>
                <a:lnTo>
                  <a:pt x="232461" y="215899"/>
                </a:lnTo>
                <a:lnTo>
                  <a:pt x="143669" y="164932"/>
                </a:lnTo>
                <a:lnTo>
                  <a:pt x="54877" y="215899"/>
                </a:lnTo>
                <a:lnTo>
                  <a:pt x="88793" y="133433"/>
                </a:lnTo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5"/>
          <p:cNvSpPr/>
          <p:nvPr/>
        </p:nvSpPr>
        <p:spPr>
          <a:xfrm>
            <a:off x="3635280" y="76500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CaixaDeTexto 11"/>
          <p:cNvSpPr/>
          <p:nvPr/>
        </p:nvSpPr>
        <p:spPr>
          <a:xfrm>
            <a:off x="3564000" y="188748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  <a:ea typeface="Verdana"/>
              </a:rPr>
              <a:t>O que 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aixaDeTexto 13"/>
          <p:cNvSpPr/>
          <p:nvPr/>
        </p:nvSpPr>
        <p:spPr>
          <a:xfrm>
            <a:off x="3059280" y="314172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  <a:ea typeface="Verdana"/>
              </a:rPr>
              <a:t>Para que s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aixaDeTexto 14"/>
          <p:cNvSpPr/>
          <p:nvPr/>
        </p:nvSpPr>
        <p:spPr>
          <a:xfrm>
            <a:off x="3203640" y="440676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  <a:ea typeface="Verdana"/>
              </a:rPr>
              <a:t>Como se f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28"/>
          <p:cNvSpPr/>
          <p:nvPr/>
        </p:nvSpPr>
        <p:spPr>
          <a:xfrm>
            <a:off x="4356000" y="2463840"/>
            <a:ext cx="360360" cy="576360"/>
          </a:xfrm>
          <a:custGeom>
            <a:avLst/>
            <a:gdLst>
              <a:gd name="textAreaLeft" fmla="*/ 48240 w 360360"/>
              <a:gd name="textAreaRight" fmla="*/ 312120 w 36036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8"/>
          <p:cNvSpPr/>
          <p:nvPr/>
        </p:nvSpPr>
        <p:spPr>
          <a:xfrm>
            <a:off x="4356000" y="3759120"/>
            <a:ext cx="360360" cy="576360"/>
          </a:xfrm>
          <a:custGeom>
            <a:avLst/>
            <a:gdLst>
              <a:gd name="textAreaLeft" fmla="*/ 48240 w 360360"/>
              <a:gd name="textAreaRight" fmla="*/ 312120 w 36036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4"/>
          <p:cNvSpPr/>
          <p:nvPr/>
        </p:nvSpPr>
        <p:spPr>
          <a:xfrm>
            <a:off x="0" y="18900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ecnologia da Inform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omponen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41"/>
          <p:cNvGrpSpPr/>
          <p:nvPr/>
        </p:nvGrpSpPr>
        <p:grpSpPr>
          <a:xfrm>
            <a:off x="250920" y="1484280"/>
            <a:ext cx="8642160" cy="4319640"/>
            <a:chOff x="250920" y="1484280"/>
            <a:chExt cx="8642160" cy="4319640"/>
          </a:xfrm>
        </p:grpSpPr>
        <p:sp>
          <p:nvSpPr>
            <p:cNvPr id="192" name="Rectangle 8"/>
            <p:cNvSpPr/>
            <p:nvPr/>
          </p:nvSpPr>
          <p:spPr>
            <a:xfrm>
              <a:off x="395280" y="2565360"/>
              <a:ext cx="1512720" cy="1150920"/>
            </a:xfrm>
            <a:prstGeom prst="rect">
              <a:avLst/>
            </a:prstGeom>
            <a:solidFill>
              <a:srgbClr val="ff6600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9"/>
            <p:cNvSpPr/>
            <p:nvPr/>
          </p:nvSpPr>
          <p:spPr>
            <a:xfrm>
              <a:off x="2124000" y="2565360"/>
              <a:ext cx="1440000" cy="1150920"/>
            </a:xfrm>
            <a:prstGeom prst="rect">
              <a:avLst/>
            </a:prstGeom>
            <a:solidFill>
              <a:srgbClr val="ff6600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11"/>
            <p:cNvSpPr/>
            <p:nvPr/>
          </p:nvSpPr>
          <p:spPr>
            <a:xfrm>
              <a:off x="5651640" y="2565360"/>
              <a:ext cx="1441440" cy="1150920"/>
            </a:xfrm>
            <a:prstGeom prst="rect">
              <a:avLst/>
            </a:prstGeom>
            <a:solidFill>
              <a:srgbClr val="ff6600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12"/>
            <p:cNvSpPr/>
            <p:nvPr/>
          </p:nvSpPr>
          <p:spPr>
            <a:xfrm>
              <a:off x="7307280" y="2565360"/>
              <a:ext cx="1441440" cy="1150920"/>
            </a:xfrm>
            <a:prstGeom prst="rect">
              <a:avLst/>
            </a:prstGeom>
            <a:solidFill>
              <a:srgbClr val="ff6600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3"/>
            <p:cNvSpPr/>
            <p:nvPr/>
          </p:nvSpPr>
          <p:spPr>
            <a:xfrm>
              <a:off x="2124000" y="4653000"/>
              <a:ext cx="1440000" cy="1150920"/>
            </a:xfrm>
            <a:prstGeom prst="rect">
              <a:avLst/>
            </a:prstGeom>
            <a:solidFill>
              <a:srgbClr val="ff6600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14"/>
            <p:cNvSpPr/>
            <p:nvPr/>
          </p:nvSpPr>
          <p:spPr>
            <a:xfrm>
              <a:off x="3924360" y="4653000"/>
              <a:ext cx="1439640" cy="1150920"/>
            </a:xfrm>
            <a:prstGeom prst="rect">
              <a:avLst/>
            </a:prstGeom>
            <a:solidFill>
              <a:srgbClr val="ff6600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5"/>
            <p:cNvSpPr/>
            <p:nvPr/>
          </p:nvSpPr>
          <p:spPr>
            <a:xfrm>
              <a:off x="5724360" y="4653000"/>
              <a:ext cx="1440000" cy="1150920"/>
            </a:xfrm>
            <a:prstGeom prst="rect">
              <a:avLst/>
            </a:prstGeom>
            <a:solidFill>
              <a:srgbClr val="ff6600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10"/>
            <p:cNvSpPr/>
            <p:nvPr/>
          </p:nvSpPr>
          <p:spPr>
            <a:xfrm>
              <a:off x="3924360" y="2565360"/>
              <a:ext cx="1439640" cy="1150920"/>
            </a:xfrm>
            <a:prstGeom prst="rect">
              <a:avLst/>
            </a:prstGeom>
            <a:solidFill>
              <a:srgbClr val="ff6600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22"/>
            <p:cNvSpPr/>
            <p:nvPr/>
          </p:nvSpPr>
          <p:spPr>
            <a:xfrm rot="16200000">
              <a:off x="696240" y="2368800"/>
              <a:ext cx="914040" cy="15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ecnologia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e Processam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e Transaçõ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5"/>
            <p:cNvSpPr/>
            <p:nvPr/>
          </p:nvSpPr>
          <p:spPr>
            <a:xfrm>
              <a:off x="4643280" y="148428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6"/>
            <p:cNvSpPr/>
            <p:nvPr/>
          </p:nvSpPr>
          <p:spPr>
            <a:xfrm flipH="1">
              <a:off x="250920" y="2060640"/>
              <a:ext cx="864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7"/>
            <p:cNvSpPr/>
            <p:nvPr/>
          </p:nvSpPr>
          <p:spPr>
            <a:xfrm flipH="1">
              <a:off x="1618920" y="4149720"/>
              <a:ext cx="604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18"/>
            <p:cNvSpPr/>
            <p:nvPr/>
          </p:nvSpPr>
          <p:spPr>
            <a:xfrm>
              <a:off x="4643280" y="1628640"/>
              <a:ext cx="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19"/>
            <p:cNvSpPr/>
            <p:nvPr/>
          </p:nvSpPr>
          <p:spPr>
            <a:xfrm>
              <a:off x="4643280" y="414972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28"/>
            <p:cNvSpPr/>
            <p:nvPr/>
          </p:nvSpPr>
          <p:spPr>
            <a:xfrm rot="16200000">
              <a:off x="2452320" y="2395800"/>
              <a:ext cx="786240" cy="14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ecnologia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e Contro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e Process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29"/>
            <p:cNvSpPr/>
            <p:nvPr/>
          </p:nvSpPr>
          <p:spPr>
            <a:xfrm rot="16200000">
              <a:off x="4335480" y="2369160"/>
              <a:ext cx="547200" cy="15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ecnologia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olaborativ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30"/>
            <p:cNvSpPr/>
            <p:nvPr/>
          </p:nvSpPr>
          <p:spPr>
            <a:xfrm rot="16200000">
              <a:off x="6014880" y="2359440"/>
              <a:ext cx="786240" cy="15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ecnologia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e Informaçã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Gerenci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31"/>
            <p:cNvSpPr/>
            <p:nvPr/>
          </p:nvSpPr>
          <p:spPr>
            <a:xfrm rot="16200000">
              <a:off x="7600680" y="2432520"/>
              <a:ext cx="786240" cy="15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ecnologia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e Apoio 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ecisã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32"/>
            <p:cNvSpPr/>
            <p:nvPr/>
          </p:nvSpPr>
          <p:spPr>
            <a:xfrm rot="16200000">
              <a:off x="2487240" y="4505400"/>
              <a:ext cx="786240" cy="15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ecnologia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e Da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Warehou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33"/>
            <p:cNvSpPr/>
            <p:nvPr/>
          </p:nvSpPr>
          <p:spPr>
            <a:xfrm rot="16200000">
              <a:off x="4289040" y="4505400"/>
              <a:ext cx="786240" cy="15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ecnologia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e Informaçã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Executi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34"/>
            <p:cNvSpPr/>
            <p:nvPr/>
          </p:nvSpPr>
          <p:spPr>
            <a:xfrm rot="16200000">
              <a:off x="6086160" y="4505400"/>
              <a:ext cx="786240" cy="15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ecnologia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e Da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Min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35"/>
            <p:cNvSpPr/>
            <p:nvPr/>
          </p:nvSpPr>
          <p:spPr>
            <a:xfrm>
              <a:off x="1116000" y="2060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36"/>
            <p:cNvSpPr/>
            <p:nvPr/>
          </p:nvSpPr>
          <p:spPr>
            <a:xfrm>
              <a:off x="2843280" y="2060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37"/>
            <p:cNvSpPr/>
            <p:nvPr/>
          </p:nvSpPr>
          <p:spPr>
            <a:xfrm>
              <a:off x="6372360" y="2060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38"/>
            <p:cNvSpPr/>
            <p:nvPr/>
          </p:nvSpPr>
          <p:spPr>
            <a:xfrm>
              <a:off x="8028000" y="2060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39"/>
            <p:cNvSpPr/>
            <p:nvPr/>
          </p:nvSpPr>
          <p:spPr>
            <a:xfrm>
              <a:off x="2843280" y="414972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40"/>
            <p:cNvSpPr/>
            <p:nvPr/>
          </p:nvSpPr>
          <p:spPr>
            <a:xfrm>
              <a:off x="6443640" y="414972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 Box 42"/>
          <p:cNvSpPr/>
          <p:nvPr/>
        </p:nvSpPr>
        <p:spPr>
          <a:xfrm>
            <a:off x="250920" y="6364440"/>
            <a:ext cx="723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Fonte: Adaptado de Turban, Mclean e Weterbe (2004); O’Brien (200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2"/>
          <p:cNvSpPr/>
          <p:nvPr/>
        </p:nvSpPr>
        <p:spPr>
          <a:xfrm>
            <a:off x="-324000" y="0"/>
            <a:ext cx="9468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0000"/>
                </a:solidFill>
                <a:latin typeface="Arial"/>
              </a:rPr>
              <a:t>Arquitetura de TI na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escoberta do Conhecimento - B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59"/>
          <p:cNvGrpSpPr/>
          <p:nvPr/>
        </p:nvGrpSpPr>
        <p:grpSpPr>
          <a:xfrm>
            <a:off x="1340640" y="1484280"/>
            <a:ext cx="6348600" cy="5257800"/>
            <a:chOff x="1340640" y="1484280"/>
            <a:chExt cx="6348600" cy="5257800"/>
          </a:xfrm>
        </p:grpSpPr>
        <p:grpSp>
          <p:nvGrpSpPr>
            <p:cNvPr id="222" name="Group 30"/>
            <p:cNvGrpSpPr/>
            <p:nvPr/>
          </p:nvGrpSpPr>
          <p:grpSpPr>
            <a:xfrm>
              <a:off x="1340640" y="1484280"/>
              <a:ext cx="1575360" cy="2087640"/>
              <a:chOff x="1340640" y="1484280"/>
              <a:chExt cx="1575360" cy="2087640"/>
            </a:xfrm>
          </p:grpSpPr>
          <p:sp>
            <p:nvSpPr>
              <p:cNvPr id="223" name="AutoShape 4"/>
              <p:cNvSpPr/>
              <p:nvPr/>
            </p:nvSpPr>
            <p:spPr>
              <a:xfrm>
                <a:off x="1403280" y="1484280"/>
                <a:ext cx="1512720" cy="2087640"/>
              </a:xfrm>
              <a:prstGeom prst="can">
                <a:avLst>
                  <a:gd name="adj" fmla="val 25000"/>
                </a:avLst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Text Box 8"/>
              <p:cNvSpPr/>
              <p:nvPr/>
            </p:nvSpPr>
            <p:spPr>
              <a:xfrm rot="19532400">
                <a:off x="1403640" y="2274840"/>
                <a:ext cx="1440000" cy="66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Arial"/>
                  </a:rPr>
                  <a:t>Sistemas de Informaçã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5" name="Group 34"/>
            <p:cNvGrpSpPr/>
            <p:nvPr/>
          </p:nvGrpSpPr>
          <p:grpSpPr>
            <a:xfrm>
              <a:off x="3772080" y="1484280"/>
              <a:ext cx="1871640" cy="2087280"/>
              <a:chOff x="3772080" y="1484280"/>
              <a:chExt cx="1871640" cy="2087280"/>
            </a:xfrm>
          </p:grpSpPr>
          <p:sp>
            <p:nvSpPr>
              <p:cNvPr id="226" name="AutoShape 5"/>
              <p:cNvSpPr/>
              <p:nvPr/>
            </p:nvSpPr>
            <p:spPr>
              <a:xfrm>
                <a:off x="3903840" y="1484280"/>
                <a:ext cx="1512720" cy="2087280"/>
              </a:xfrm>
              <a:prstGeom prst="can">
                <a:avLst>
                  <a:gd name="adj" fmla="val 25000"/>
                </a:avLst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Text Box 10"/>
              <p:cNvSpPr/>
              <p:nvPr/>
            </p:nvSpPr>
            <p:spPr>
              <a:xfrm rot="19342200">
                <a:off x="3636360" y="2491920"/>
                <a:ext cx="214308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Arial"/>
                  </a:rPr>
                  <a:t>Data Warehou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Group 35"/>
            <p:cNvGrpSpPr/>
            <p:nvPr/>
          </p:nvGrpSpPr>
          <p:grpSpPr>
            <a:xfrm>
              <a:off x="6220080" y="1916280"/>
              <a:ext cx="1469160" cy="1297800"/>
              <a:chOff x="6220080" y="1916280"/>
              <a:chExt cx="1469160" cy="1297800"/>
            </a:xfrm>
          </p:grpSpPr>
          <p:sp>
            <p:nvSpPr>
              <p:cNvPr id="229" name="AutoShape 6"/>
              <p:cNvSpPr/>
              <p:nvPr/>
            </p:nvSpPr>
            <p:spPr>
              <a:xfrm>
                <a:off x="6299280" y="1916280"/>
                <a:ext cx="1297080" cy="1295280"/>
              </a:xfrm>
              <a:prstGeom prst="can">
                <a:avLst>
                  <a:gd name="adj" fmla="val 25000"/>
                </a:avLst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Text Box 11"/>
              <p:cNvSpPr/>
              <p:nvPr/>
            </p:nvSpPr>
            <p:spPr>
              <a:xfrm rot="19479000">
                <a:off x="6155280" y="2491920"/>
                <a:ext cx="159840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Arial"/>
                  </a:rPr>
                  <a:t>Data Mar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Group 31"/>
            <p:cNvGrpSpPr/>
            <p:nvPr/>
          </p:nvGrpSpPr>
          <p:grpSpPr>
            <a:xfrm>
              <a:off x="5865840" y="4581360"/>
              <a:ext cx="1728720" cy="1297080"/>
              <a:chOff x="5865840" y="4581360"/>
              <a:chExt cx="1728720" cy="1297080"/>
            </a:xfrm>
          </p:grpSpPr>
          <p:sp>
            <p:nvSpPr>
              <p:cNvPr id="232" name="AutoShape 9"/>
              <p:cNvSpPr/>
              <p:nvPr/>
            </p:nvSpPr>
            <p:spPr>
              <a:xfrm>
                <a:off x="5938920" y="4581360"/>
                <a:ext cx="1655640" cy="12970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Text Box 15"/>
              <p:cNvSpPr/>
              <p:nvPr/>
            </p:nvSpPr>
            <p:spPr>
              <a:xfrm>
                <a:off x="5865840" y="5089320"/>
                <a:ext cx="172872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Arial"/>
                  </a:rPr>
                  <a:t>Data Minin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Group 32"/>
            <p:cNvGrpSpPr/>
            <p:nvPr/>
          </p:nvGrpSpPr>
          <p:grpSpPr>
            <a:xfrm>
              <a:off x="2051280" y="3933720"/>
              <a:ext cx="1800000" cy="1297080"/>
              <a:chOff x="2051280" y="3933720"/>
              <a:chExt cx="1800000" cy="1297080"/>
            </a:xfrm>
          </p:grpSpPr>
          <p:sp>
            <p:nvSpPr>
              <p:cNvPr id="235" name="AutoShape 12"/>
              <p:cNvSpPr/>
              <p:nvPr/>
            </p:nvSpPr>
            <p:spPr>
              <a:xfrm>
                <a:off x="2124000" y="3933720"/>
                <a:ext cx="1656000" cy="12970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Text Box 16"/>
              <p:cNvSpPr/>
              <p:nvPr/>
            </p:nvSpPr>
            <p:spPr>
              <a:xfrm>
                <a:off x="2051280" y="4221000"/>
                <a:ext cx="1800000" cy="75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Arial"/>
                  </a:rPr>
                  <a:t>Sistemas de Apoio à Decisão (SAD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Group 55"/>
            <p:cNvGrpSpPr/>
            <p:nvPr/>
          </p:nvGrpSpPr>
          <p:grpSpPr>
            <a:xfrm>
              <a:off x="2554560" y="5445000"/>
              <a:ext cx="1728720" cy="1297080"/>
              <a:chOff x="2554560" y="5445000"/>
              <a:chExt cx="1728720" cy="1297080"/>
            </a:xfrm>
          </p:grpSpPr>
          <p:sp>
            <p:nvSpPr>
              <p:cNvPr id="238" name="AutoShape 44"/>
              <p:cNvSpPr/>
              <p:nvPr/>
            </p:nvSpPr>
            <p:spPr>
              <a:xfrm>
                <a:off x="2627280" y="5445000"/>
                <a:ext cx="1656000" cy="12970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Text Box 45"/>
              <p:cNvSpPr/>
              <p:nvPr/>
            </p:nvSpPr>
            <p:spPr>
              <a:xfrm>
                <a:off x="2554560" y="5621400"/>
                <a:ext cx="1728720" cy="102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Arial"/>
                  </a:rPr>
                  <a:t>Sistemas de Informações Executivas (EIS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Line 47"/>
            <p:cNvSpPr/>
            <p:nvPr/>
          </p:nvSpPr>
          <p:spPr>
            <a:xfrm>
              <a:off x="5507280" y="2492280"/>
              <a:ext cx="7207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48"/>
            <p:cNvSpPr/>
            <p:nvPr/>
          </p:nvSpPr>
          <p:spPr>
            <a:xfrm flipH="1">
              <a:off x="6875640" y="3357720"/>
              <a:ext cx="1440" cy="10080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49"/>
            <p:cNvSpPr/>
            <p:nvPr/>
          </p:nvSpPr>
          <p:spPr>
            <a:xfrm flipH="1" flipV="1">
              <a:off x="4282920" y="4581000"/>
              <a:ext cx="1439640" cy="3603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50"/>
            <p:cNvSpPr/>
            <p:nvPr/>
          </p:nvSpPr>
          <p:spPr>
            <a:xfrm flipH="1">
              <a:off x="4427640" y="5373720"/>
              <a:ext cx="1370160" cy="6476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53"/>
            <p:cNvSpPr/>
            <p:nvPr/>
          </p:nvSpPr>
          <p:spPr>
            <a:xfrm>
              <a:off x="2987640" y="2421000"/>
              <a:ext cx="8636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56"/>
            <p:cNvSpPr/>
            <p:nvPr/>
          </p:nvSpPr>
          <p:spPr>
            <a:xfrm flipH="1">
              <a:off x="3635280" y="3573360"/>
              <a:ext cx="360360" cy="28728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57"/>
            <p:cNvSpPr/>
            <p:nvPr/>
          </p:nvSpPr>
          <p:spPr>
            <a:xfrm>
              <a:off x="5292720" y="3500280"/>
              <a:ext cx="719280" cy="10083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58"/>
            <p:cNvSpPr/>
            <p:nvPr/>
          </p:nvSpPr>
          <p:spPr>
            <a:xfrm flipH="1">
              <a:off x="3922560" y="3645000"/>
              <a:ext cx="361800" cy="172872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1"/>
          <p:cNvSpPr/>
          <p:nvPr/>
        </p:nvSpPr>
        <p:spPr>
          <a:xfrm rot="16200000">
            <a:off x="4183200" y="-2877840"/>
            <a:ext cx="850680" cy="72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Visão Linear da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24"/>
          <p:cNvGrpSpPr/>
          <p:nvPr/>
        </p:nvGrpSpPr>
        <p:grpSpPr>
          <a:xfrm>
            <a:off x="1403280" y="1628640"/>
            <a:ext cx="6443280" cy="4573440"/>
            <a:chOff x="1403280" y="1628640"/>
            <a:chExt cx="6443280" cy="4573440"/>
          </a:xfrm>
        </p:grpSpPr>
        <p:sp>
          <p:nvSpPr>
            <p:cNvPr id="250" name="Text Box 11"/>
            <p:cNvSpPr/>
            <p:nvPr/>
          </p:nvSpPr>
          <p:spPr>
            <a:xfrm>
              <a:off x="3779640" y="3889440"/>
              <a:ext cx="4066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Dados interpretados,     contextualizado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5"/>
            <p:cNvSpPr/>
            <p:nvPr/>
          </p:nvSpPr>
          <p:spPr>
            <a:xfrm>
              <a:off x="2268360" y="1628640"/>
              <a:ext cx="1657080" cy="459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DA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7"/>
            <p:cNvSpPr/>
            <p:nvPr/>
          </p:nvSpPr>
          <p:spPr>
            <a:xfrm>
              <a:off x="1618920" y="3213000"/>
              <a:ext cx="2881080" cy="459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INFORMAÇÃ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9"/>
            <p:cNvSpPr/>
            <p:nvPr/>
          </p:nvSpPr>
          <p:spPr>
            <a:xfrm>
              <a:off x="1403280" y="4941720"/>
              <a:ext cx="3384360" cy="459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CONHECIMEN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10"/>
            <p:cNvSpPr/>
            <p:nvPr/>
          </p:nvSpPr>
          <p:spPr>
            <a:xfrm>
              <a:off x="3777840" y="2233440"/>
              <a:ext cx="360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Descrição, registro de fatos,            eventos.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12"/>
            <p:cNvSpPr/>
            <p:nvPr/>
          </p:nvSpPr>
          <p:spPr>
            <a:xfrm>
              <a:off x="3779640" y="5559480"/>
              <a:ext cx="370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Informação com valor agregado pela mente human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AutoShape 22"/>
            <p:cNvSpPr/>
            <p:nvPr/>
          </p:nvSpPr>
          <p:spPr>
            <a:xfrm>
              <a:off x="2914560" y="2276280"/>
              <a:ext cx="286920" cy="720720"/>
            </a:xfrm>
            <a:custGeom>
              <a:avLst/>
              <a:gdLst>
                <a:gd name="textAreaLeft" fmla="*/ 38160 w 286920"/>
                <a:gd name="textAreaRight" fmla="*/ 248760 w 286920"/>
                <a:gd name="textAreaTop" fmla="*/ 126360 h 720720"/>
                <a:gd name="textAreaBottom" fmla="*/ 52236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79" stAng="-5400000" swAng="-5400000"/>
                  <a:lnTo>
                    <a:pt x="0" y="11861"/>
                  </a:lnTo>
                  <a:arcTo wR="21600" hR="7579" stAng="10800000" swAng="-1054311"/>
                  <a:lnTo>
                    <a:pt x="5565" y="19099"/>
                  </a:lnTo>
                  <a:lnTo>
                    <a:pt x="21600" y="17299"/>
                  </a:lnTo>
                  <a:lnTo>
                    <a:pt x="5565" y="10497"/>
                  </a:lnTo>
                  <a:lnTo>
                    <a:pt x="5565" y="12657"/>
                  </a:lnTo>
                  <a:arcTo wR="21600" hR="7579" stAng="9745689" swAng="700348"/>
                  <a:lnTo>
                    <a:pt x="880" y="9720"/>
                  </a:lnTo>
                  <a:arcTo wR="21600" hR="7579" stAng="-10446037" swAng="5046037"/>
                  <a:close/>
                </a:path>
                <a:path fill="darkenLess" w="21600" h="21600">
                  <a:moveTo>
                    <a:pt x="21600" y="0"/>
                  </a:moveTo>
                  <a:arcTo wR="21600" hR="7579" stAng="-5400000" swAng="-5400000"/>
                  <a:lnTo>
                    <a:pt x="0" y="7579"/>
                  </a:lnTo>
                  <a:arcTo wR="21600" hR="7579" stAng="10800000" swAng="-353963"/>
                  <a:lnTo>
                    <a:pt x="880" y="9720"/>
                  </a:lnTo>
                  <a:arcTo wR="21600" hR="7579" stAng="-10446037" swAng="5046037"/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utoShape 23"/>
            <p:cNvSpPr/>
            <p:nvPr/>
          </p:nvSpPr>
          <p:spPr>
            <a:xfrm>
              <a:off x="2842920" y="3860640"/>
              <a:ext cx="286920" cy="720720"/>
            </a:xfrm>
            <a:custGeom>
              <a:avLst/>
              <a:gdLst>
                <a:gd name="textAreaLeft" fmla="*/ 38160 w 286920"/>
                <a:gd name="textAreaRight" fmla="*/ 248760 w 286920"/>
                <a:gd name="textAreaTop" fmla="*/ 126360 h 720720"/>
                <a:gd name="textAreaBottom" fmla="*/ 52236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79" stAng="-5400000" swAng="-5400000"/>
                  <a:lnTo>
                    <a:pt x="0" y="11861"/>
                  </a:lnTo>
                  <a:arcTo wR="21600" hR="7579" stAng="10800000" swAng="-1060362"/>
                  <a:lnTo>
                    <a:pt x="5609" y="19116"/>
                  </a:lnTo>
                  <a:lnTo>
                    <a:pt x="21600" y="17299"/>
                  </a:lnTo>
                  <a:lnTo>
                    <a:pt x="5609" y="10514"/>
                  </a:lnTo>
                  <a:lnTo>
                    <a:pt x="5609" y="12674"/>
                  </a:lnTo>
                  <a:arcTo wR="21600" hR="7579" stAng="9739638" swAng="706399"/>
                  <a:lnTo>
                    <a:pt x="880" y="9720"/>
                  </a:lnTo>
                  <a:arcTo wR="21600" hR="7579" stAng="-10446037" swAng="5046037"/>
                  <a:close/>
                </a:path>
                <a:path fill="darkenLess" w="21600" h="21600">
                  <a:moveTo>
                    <a:pt x="21600" y="0"/>
                  </a:moveTo>
                  <a:arcTo wR="21600" hR="7579" stAng="-5400000" swAng="-5400000"/>
                  <a:lnTo>
                    <a:pt x="0" y="7579"/>
                  </a:lnTo>
                  <a:arcTo wR="21600" hR="7579" stAng="10800000" swAng="-353963"/>
                  <a:lnTo>
                    <a:pt x="880" y="9720"/>
                  </a:lnTo>
                  <a:arcTo wR="21600" hR="7579" stAng="-10446037" swAng="5046037"/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4"/>
          <p:cNvSpPr/>
          <p:nvPr/>
        </p:nvSpPr>
        <p:spPr>
          <a:xfrm>
            <a:off x="6615000" y="836640"/>
            <a:ext cx="549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"/>
          <p:cNvSpPr/>
          <p:nvPr/>
        </p:nvSpPr>
        <p:spPr>
          <a:xfrm rot="16200000">
            <a:off x="4094280" y="-3365640"/>
            <a:ext cx="850680" cy="810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ahoma"/>
              </a:rPr>
              <a:t>Visão Linear Ampliada da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24"/>
          <p:cNvGrpSpPr/>
          <p:nvPr/>
        </p:nvGrpSpPr>
        <p:grpSpPr>
          <a:xfrm>
            <a:off x="711000" y="1698480"/>
            <a:ext cx="7677360" cy="3911040"/>
            <a:chOff x="711000" y="1698480"/>
            <a:chExt cx="7677360" cy="3911040"/>
          </a:xfrm>
        </p:grpSpPr>
        <p:sp>
          <p:nvSpPr>
            <p:cNvPr id="261" name="Line 6"/>
            <p:cNvSpPr/>
            <p:nvPr/>
          </p:nvSpPr>
          <p:spPr>
            <a:xfrm flipV="1">
              <a:off x="1893960" y="2130120"/>
              <a:ext cx="0" cy="3095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7"/>
            <p:cNvSpPr/>
            <p:nvPr/>
          </p:nvSpPr>
          <p:spPr>
            <a:xfrm>
              <a:off x="1965600" y="5297760"/>
              <a:ext cx="388908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8"/>
            <p:cNvSpPr/>
            <p:nvPr/>
          </p:nvSpPr>
          <p:spPr>
            <a:xfrm rot="10800000">
              <a:off x="711000" y="1698480"/>
              <a:ext cx="272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ahoma"/>
                </a:rPr>
                <a:t>Contex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9"/>
            <p:cNvSpPr/>
            <p:nvPr/>
          </p:nvSpPr>
          <p:spPr>
            <a:xfrm rot="16200000">
              <a:off x="6822000" y="3970080"/>
              <a:ext cx="454680" cy="267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ahoma"/>
                </a:rPr>
                <a:t>Conhecimen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10"/>
            <p:cNvSpPr/>
            <p:nvPr/>
          </p:nvSpPr>
          <p:spPr>
            <a:xfrm flipV="1">
              <a:off x="2038320" y="4578120"/>
              <a:ext cx="792360" cy="576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11"/>
            <p:cNvSpPr/>
            <p:nvPr/>
          </p:nvSpPr>
          <p:spPr>
            <a:xfrm rot="16200000">
              <a:off x="1290960" y="4820760"/>
              <a:ext cx="454680" cy="112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ahoma"/>
                </a:rPr>
                <a:t>Da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3"/>
            <p:cNvSpPr/>
            <p:nvPr/>
          </p:nvSpPr>
          <p:spPr>
            <a:xfrm rot="16200000">
              <a:off x="3110400" y="3506400"/>
              <a:ext cx="454680" cy="15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ahoma"/>
                </a:rPr>
                <a:t>Informaçã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14"/>
            <p:cNvSpPr/>
            <p:nvPr/>
          </p:nvSpPr>
          <p:spPr>
            <a:xfrm flipV="1">
              <a:off x="3478320" y="3498480"/>
              <a:ext cx="863640" cy="57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15"/>
            <p:cNvSpPr/>
            <p:nvPr/>
          </p:nvSpPr>
          <p:spPr>
            <a:xfrm rot="16200000">
              <a:off x="3247920" y="4160520"/>
              <a:ext cx="606600" cy="14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cc66"/>
                  </a:solidFill>
                  <a:latin typeface="Tahoma"/>
                </a:rPr>
                <a:t>O que, quando, ond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16"/>
            <p:cNvSpPr/>
            <p:nvPr/>
          </p:nvSpPr>
          <p:spPr>
            <a:xfrm rot="16200000">
              <a:off x="4550040" y="2353320"/>
              <a:ext cx="454680" cy="18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ahoma"/>
                </a:rPr>
                <a:t>Conhecimen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17"/>
            <p:cNvSpPr/>
            <p:nvPr/>
          </p:nvSpPr>
          <p:spPr>
            <a:xfrm flipV="1">
              <a:off x="4846680" y="2562480"/>
              <a:ext cx="792360" cy="504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18"/>
            <p:cNvSpPr/>
            <p:nvPr/>
          </p:nvSpPr>
          <p:spPr>
            <a:xfrm rot="16200000">
              <a:off x="5009400" y="2901960"/>
              <a:ext cx="393480" cy="172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cc66"/>
                  </a:solidFill>
                  <a:latin typeface="Tahoma"/>
                </a:rPr>
                <a:t>Com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19"/>
            <p:cNvSpPr/>
            <p:nvPr/>
          </p:nvSpPr>
          <p:spPr>
            <a:xfrm rot="16200000">
              <a:off x="5699520" y="1564200"/>
              <a:ext cx="454680" cy="14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ahoma"/>
                </a:rPr>
                <a:t>Sabedo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20"/>
            <p:cNvSpPr/>
            <p:nvPr/>
          </p:nvSpPr>
          <p:spPr>
            <a:xfrm rot="16200000">
              <a:off x="6305760" y="2038320"/>
              <a:ext cx="3934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cc66"/>
                  </a:solidFill>
                  <a:latin typeface="Tahoma"/>
                </a:rPr>
                <a:t>O porquê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Text Box 21"/>
          <p:cNvSpPr/>
          <p:nvPr/>
        </p:nvSpPr>
        <p:spPr>
          <a:xfrm rot="16200000">
            <a:off x="2422080" y="5002200"/>
            <a:ext cx="362880" cy="26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FONTE: Bellinger, Gene,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4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8097840" cy="53910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5"/>
          <p:cNvSpPr/>
          <p:nvPr/>
        </p:nvSpPr>
        <p:spPr>
          <a:xfrm rot="16200000">
            <a:off x="2340360" y="4575960"/>
            <a:ext cx="36288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nte: Adaptação de PPGEGC-UFS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Group 37"/>
          <p:cNvGrpSpPr/>
          <p:nvPr/>
        </p:nvGrpSpPr>
        <p:grpSpPr>
          <a:xfrm>
            <a:off x="395280" y="1197000"/>
            <a:ext cx="8064360" cy="5256360"/>
            <a:chOff x="395280" y="1197000"/>
            <a:chExt cx="8064360" cy="5256360"/>
          </a:xfrm>
        </p:grpSpPr>
        <p:sp>
          <p:nvSpPr>
            <p:cNvPr id="279" name="Text Box 4"/>
            <p:cNvSpPr/>
            <p:nvPr/>
          </p:nvSpPr>
          <p:spPr>
            <a:xfrm rot="16200000">
              <a:off x="6907680" y="3182040"/>
              <a:ext cx="729000" cy="10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600" spc="-1" strike="noStrike">
                  <a:solidFill>
                    <a:srgbClr val="000000"/>
                  </a:solidFill>
                  <a:latin typeface="Tahoma"/>
                </a:rPr>
                <a:t>G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5"/>
            <p:cNvSpPr/>
            <p:nvPr/>
          </p:nvSpPr>
          <p:spPr>
            <a:xfrm>
              <a:off x="6299280" y="3141720"/>
              <a:ext cx="2016000" cy="1224000"/>
            </a:xfrm>
            <a:prstGeom prst="ellipse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Group 22"/>
            <p:cNvGrpSpPr/>
            <p:nvPr/>
          </p:nvGrpSpPr>
          <p:grpSpPr>
            <a:xfrm>
              <a:off x="6372360" y="5229360"/>
              <a:ext cx="2016000" cy="1224000"/>
              <a:chOff x="6372360" y="5229360"/>
              <a:chExt cx="2016000" cy="1224000"/>
            </a:xfrm>
          </p:grpSpPr>
          <p:sp>
            <p:nvSpPr>
              <p:cNvPr id="282" name="Text Box 8"/>
              <p:cNvSpPr/>
              <p:nvPr/>
            </p:nvSpPr>
            <p:spPr>
              <a:xfrm rot="16200000">
                <a:off x="6967800" y="4847760"/>
                <a:ext cx="826560" cy="18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ahoma"/>
                  </a:rPr>
                  <a:t>Processo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Decisóri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Oval 9"/>
              <p:cNvSpPr/>
              <p:nvPr/>
            </p:nvSpPr>
            <p:spPr>
              <a:xfrm>
                <a:off x="6372360" y="5229360"/>
                <a:ext cx="2016000" cy="122400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4" name="Group 19"/>
            <p:cNvGrpSpPr/>
            <p:nvPr/>
          </p:nvGrpSpPr>
          <p:grpSpPr>
            <a:xfrm>
              <a:off x="395280" y="3070080"/>
              <a:ext cx="2016000" cy="1224000"/>
              <a:chOff x="395280" y="3070080"/>
              <a:chExt cx="2016000" cy="1224000"/>
            </a:xfrm>
          </p:grpSpPr>
          <p:sp>
            <p:nvSpPr>
              <p:cNvPr id="285" name="Text Box 13"/>
              <p:cNvSpPr/>
              <p:nvPr/>
            </p:nvSpPr>
            <p:spPr>
              <a:xfrm rot="16200000">
                <a:off x="1162080" y="2797920"/>
                <a:ext cx="485280" cy="172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ahoma"/>
                  </a:rPr>
                  <a:t>Organizaçã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Oval 14"/>
              <p:cNvSpPr/>
              <p:nvPr/>
            </p:nvSpPr>
            <p:spPr>
              <a:xfrm>
                <a:off x="395280" y="3070080"/>
                <a:ext cx="2016000" cy="122400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7" name="Group 20"/>
            <p:cNvGrpSpPr/>
            <p:nvPr/>
          </p:nvGrpSpPr>
          <p:grpSpPr>
            <a:xfrm>
              <a:off x="3274920" y="3068640"/>
              <a:ext cx="2016360" cy="1224000"/>
              <a:chOff x="3274920" y="3068640"/>
              <a:chExt cx="2016360" cy="1224000"/>
            </a:xfrm>
          </p:grpSpPr>
          <p:sp>
            <p:nvSpPr>
              <p:cNvPr id="288" name="Text Box 15"/>
              <p:cNvSpPr/>
              <p:nvPr/>
            </p:nvSpPr>
            <p:spPr>
              <a:xfrm rot="16200000">
                <a:off x="4042080" y="2811240"/>
                <a:ext cx="485280" cy="172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Estratégi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Oval 16"/>
              <p:cNvSpPr/>
              <p:nvPr/>
            </p:nvSpPr>
            <p:spPr>
              <a:xfrm>
                <a:off x="3274920" y="3068640"/>
                <a:ext cx="2016360" cy="122400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Group 26"/>
            <p:cNvGrpSpPr/>
            <p:nvPr/>
          </p:nvGrpSpPr>
          <p:grpSpPr>
            <a:xfrm>
              <a:off x="6227640" y="1197000"/>
              <a:ext cx="2016360" cy="1224000"/>
              <a:chOff x="6227640" y="1197000"/>
              <a:chExt cx="2016360" cy="1224000"/>
            </a:xfrm>
          </p:grpSpPr>
          <p:sp>
            <p:nvSpPr>
              <p:cNvPr id="291" name="Text Box 17"/>
              <p:cNvSpPr/>
              <p:nvPr/>
            </p:nvSpPr>
            <p:spPr>
              <a:xfrm rot="16200000">
                <a:off x="6702120" y="1001160"/>
                <a:ext cx="1070280" cy="172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ahoma"/>
                  </a:rPr>
                  <a:t>Informação,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Conheciment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Oval 18"/>
              <p:cNvSpPr/>
              <p:nvPr/>
            </p:nvSpPr>
            <p:spPr>
              <a:xfrm>
                <a:off x="6227640" y="1197000"/>
                <a:ext cx="2016360" cy="122400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3" name="Text Box 24"/>
            <p:cNvSpPr/>
            <p:nvPr/>
          </p:nvSpPr>
          <p:spPr>
            <a:xfrm rot="16200000">
              <a:off x="2619360" y="3273480"/>
              <a:ext cx="37476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def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25"/>
            <p:cNvSpPr/>
            <p:nvPr/>
          </p:nvSpPr>
          <p:spPr>
            <a:xfrm rot="16200000">
              <a:off x="5645160" y="3273480"/>
              <a:ext cx="37476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edian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27"/>
            <p:cNvSpPr/>
            <p:nvPr/>
          </p:nvSpPr>
          <p:spPr>
            <a:xfrm rot="16200000">
              <a:off x="7661880" y="2142360"/>
              <a:ext cx="374760" cy="12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utilizaçã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28"/>
            <p:cNvSpPr/>
            <p:nvPr/>
          </p:nvSpPr>
          <p:spPr>
            <a:xfrm rot="16200000">
              <a:off x="7732440" y="4228920"/>
              <a:ext cx="374760" cy="10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subsidia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29"/>
            <p:cNvSpPr/>
            <p:nvPr/>
          </p:nvSpPr>
          <p:spPr>
            <a:xfrm>
              <a:off x="2484360" y="357336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30"/>
            <p:cNvSpPr/>
            <p:nvPr/>
          </p:nvSpPr>
          <p:spPr>
            <a:xfrm flipV="1">
              <a:off x="5364000" y="3571920"/>
              <a:ext cx="936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31"/>
            <p:cNvSpPr/>
            <p:nvPr/>
          </p:nvSpPr>
          <p:spPr>
            <a:xfrm>
              <a:off x="7380360" y="443700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32"/>
            <p:cNvSpPr/>
            <p:nvPr/>
          </p:nvSpPr>
          <p:spPr>
            <a:xfrm>
              <a:off x="7308720" y="2490840"/>
              <a:ext cx="0" cy="57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Text Box 34"/>
          <p:cNvSpPr/>
          <p:nvPr/>
        </p:nvSpPr>
        <p:spPr>
          <a:xfrm>
            <a:off x="539640" y="260280"/>
            <a:ext cx="795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plicação da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4" descr="video_logo"/>
          <p:cNvPicPr/>
          <p:nvPr/>
        </p:nvPicPr>
        <p:blipFill>
          <a:blip r:embed="rId1"/>
          <a:stretch/>
        </p:blipFill>
        <p:spPr>
          <a:xfrm>
            <a:off x="5219640" y="765000"/>
            <a:ext cx="2857680" cy="2857680"/>
          </a:xfrm>
          <a:prstGeom prst="rect">
            <a:avLst/>
          </a:prstGeom>
          <a:ln w="0">
            <a:noFill/>
          </a:ln>
        </p:spPr>
      </p:pic>
      <p:grpSp>
        <p:nvGrpSpPr>
          <p:cNvPr id="303" name="Group 13"/>
          <p:cNvGrpSpPr/>
          <p:nvPr/>
        </p:nvGrpSpPr>
        <p:grpSpPr>
          <a:xfrm>
            <a:off x="1644480" y="907920"/>
            <a:ext cx="3935520" cy="1440000"/>
            <a:chOff x="1644480" y="907920"/>
            <a:chExt cx="3935520" cy="1440000"/>
          </a:xfrm>
        </p:grpSpPr>
        <p:sp>
          <p:nvSpPr>
            <p:cNvPr id="304" name="Line 6"/>
            <p:cNvSpPr/>
            <p:nvPr/>
          </p:nvSpPr>
          <p:spPr>
            <a:xfrm flipH="1" flipV="1">
              <a:off x="3851280" y="1626840"/>
              <a:ext cx="172872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7"/>
            <p:cNvSpPr/>
            <p:nvPr/>
          </p:nvSpPr>
          <p:spPr>
            <a:xfrm flipH="1" flipV="1">
              <a:off x="4356000" y="1268280"/>
              <a:ext cx="122400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8"/>
            <p:cNvSpPr/>
            <p:nvPr/>
          </p:nvSpPr>
          <p:spPr>
            <a:xfrm flipH="1">
              <a:off x="3634920" y="1844640"/>
              <a:ext cx="18716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7" name="Picture 11" descr=""/>
            <p:cNvPicPr/>
            <p:nvPr/>
          </p:nvPicPr>
          <p:blipFill>
            <a:blip r:embed="rId2"/>
            <a:stretch/>
          </p:blipFill>
          <p:spPr>
            <a:xfrm>
              <a:off x="1644480" y="907920"/>
              <a:ext cx="1414800" cy="144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8" name="Text Box 14"/>
          <p:cNvSpPr/>
          <p:nvPr/>
        </p:nvSpPr>
        <p:spPr>
          <a:xfrm>
            <a:off x="3708360" y="3645000"/>
            <a:ext cx="2230560" cy="1059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Processo Decisó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(Perspectiv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22"/>
          <p:cNvGrpSpPr/>
          <p:nvPr/>
        </p:nvGrpSpPr>
        <p:grpSpPr>
          <a:xfrm>
            <a:off x="2409840" y="5373720"/>
            <a:ext cx="2305080" cy="1008000"/>
            <a:chOff x="2409840" y="5373720"/>
            <a:chExt cx="2305080" cy="1008000"/>
          </a:xfrm>
        </p:grpSpPr>
        <p:sp>
          <p:nvSpPr>
            <p:cNvPr id="310" name="Text Box 17"/>
            <p:cNvSpPr/>
            <p:nvPr/>
          </p:nvSpPr>
          <p:spPr>
            <a:xfrm>
              <a:off x="2482920" y="5516640"/>
              <a:ext cx="22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ahoma"/>
                </a:rPr>
                <a:t>Racionalidade Limitada </a:t>
              </a: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(Simon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19"/>
            <p:cNvSpPr/>
            <p:nvPr/>
          </p:nvSpPr>
          <p:spPr>
            <a:xfrm>
              <a:off x="2409840" y="5373720"/>
              <a:ext cx="2305080" cy="1008000"/>
            </a:xfrm>
            <a:prstGeom prst="ellipse">
              <a:avLst/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Group 21"/>
          <p:cNvGrpSpPr/>
          <p:nvPr/>
        </p:nvGrpSpPr>
        <p:grpSpPr>
          <a:xfrm>
            <a:off x="4930920" y="5445000"/>
            <a:ext cx="2305080" cy="1008360"/>
            <a:chOff x="4930920" y="5445000"/>
            <a:chExt cx="2305080" cy="1008360"/>
          </a:xfrm>
        </p:grpSpPr>
        <p:sp>
          <p:nvSpPr>
            <p:cNvPr id="313" name="Text Box 18"/>
            <p:cNvSpPr/>
            <p:nvPr/>
          </p:nvSpPr>
          <p:spPr>
            <a:xfrm>
              <a:off x="4930920" y="5589720"/>
              <a:ext cx="230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ahoma"/>
                </a:rPr>
                <a:t>Irracionalidade Previsível </a:t>
              </a: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(Arie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20"/>
            <p:cNvSpPr/>
            <p:nvPr/>
          </p:nvSpPr>
          <p:spPr>
            <a:xfrm>
              <a:off x="4930920" y="5445000"/>
              <a:ext cx="2305080" cy="1008360"/>
            </a:xfrm>
            <a:prstGeom prst="ellipse">
              <a:avLst/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Line 23"/>
          <p:cNvSpPr/>
          <p:nvPr/>
        </p:nvSpPr>
        <p:spPr>
          <a:xfrm flipH="1">
            <a:off x="4427280" y="4724280"/>
            <a:ext cx="360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24"/>
          <p:cNvSpPr/>
          <p:nvPr/>
        </p:nvSpPr>
        <p:spPr>
          <a:xfrm>
            <a:off x="4788000" y="4724280"/>
            <a:ext cx="503280" cy="72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5"/>
          <p:cNvSpPr/>
          <p:nvPr/>
        </p:nvSpPr>
        <p:spPr>
          <a:xfrm>
            <a:off x="826920" y="2492280"/>
            <a:ext cx="32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USS Mont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6"/>
          <p:cNvSpPr/>
          <p:nvPr/>
        </p:nvSpPr>
        <p:spPr>
          <a:xfrm>
            <a:off x="865080" y="2781360"/>
            <a:ext cx="313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O Náufr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4" descr=""/>
          <p:cNvPicPr/>
          <p:nvPr/>
        </p:nvPicPr>
        <p:blipFill>
          <a:blip r:embed="rId1">
            <a:lum bright="-24000"/>
          </a:blip>
          <a:stretch/>
        </p:blipFill>
        <p:spPr>
          <a:xfrm>
            <a:off x="3348000" y="1413000"/>
            <a:ext cx="2606760" cy="3024000"/>
          </a:xfrm>
          <a:prstGeom prst="rect">
            <a:avLst/>
          </a:prstGeom>
          <a:ln w="0">
            <a:noFill/>
          </a:ln>
        </p:spPr>
      </p:pic>
      <p:sp>
        <p:nvSpPr>
          <p:cNvPr id="320" name="AutoShape 6"/>
          <p:cNvSpPr/>
          <p:nvPr/>
        </p:nvSpPr>
        <p:spPr>
          <a:xfrm>
            <a:off x="6012000" y="2637000"/>
            <a:ext cx="792000" cy="433080"/>
          </a:xfrm>
          <a:prstGeom prst="rightArrow">
            <a:avLst>
              <a:gd name="adj1" fmla="val 50000"/>
              <a:gd name="adj2" fmla="val 45719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8"/>
          <p:cNvSpPr/>
          <p:nvPr/>
        </p:nvSpPr>
        <p:spPr>
          <a:xfrm>
            <a:off x="108000" y="2637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AQUISIÇÃO DO CONHEC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9"/>
          <p:cNvSpPr/>
          <p:nvPr/>
        </p:nvSpPr>
        <p:spPr>
          <a:xfrm>
            <a:off x="6838920" y="263700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APLICAÇÃO DO CONHEC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0"/>
          <p:cNvSpPr/>
          <p:nvPr/>
        </p:nvSpPr>
        <p:spPr>
          <a:xfrm>
            <a:off x="3564000" y="4508640"/>
            <a:ext cx="215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ONHECI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11"/>
          <p:cNvSpPr/>
          <p:nvPr/>
        </p:nvSpPr>
        <p:spPr>
          <a:xfrm>
            <a:off x="2340000" y="2708280"/>
            <a:ext cx="863640" cy="43164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4"/>
          <p:cNvSpPr/>
          <p:nvPr/>
        </p:nvSpPr>
        <p:spPr>
          <a:xfrm>
            <a:off x="900000" y="5373720"/>
            <a:ext cx="741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dos, Informações, Crenças, Valores, Experiências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sights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dades, Habilidades, Atitudes e Emoçõ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5"/>
          <p:cNvSpPr/>
          <p:nvPr/>
        </p:nvSpPr>
        <p:spPr>
          <a:xfrm>
            <a:off x="1619280" y="4941720"/>
            <a:ext cx="54738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6"/>
          <p:cNvSpPr/>
          <p:nvPr/>
        </p:nvSpPr>
        <p:spPr>
          <a:xfrm>
            <a:off x="971640" y="4797360"/>
            <a:ext cx="55450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8"/>
          <p:cNvSpPr/>
          <p:nvPr/>
        </p:nvSpPr>
        <p:spPr>
          <a:xfrm>
            <a:off x="1332000" y="836640"/>
            <a:ext cx="1295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9"/>
          <p:cNvSpPr/>
          <p:nvPr/>
        </p:nvSpPr>
        <p:spPr>
          <a:xfrm>
            <a:off x="1332000" y="765000"/>
            <a:ext cx="1944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20"/>
          <p:cNvSpPr/>
          <p:nvPr/>
        </p:nvSpPr>
        <p:spPr>
          <a:xfrm>
            <a:off x="2050920" y="549360"/>
            <a:ext cx="1008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21"/>
          <p:cNvSpPr/>
          <p:nvPr/>
        </p:nvSpPr>
        <p:spPr>
          <a:xfrm>
            <a:off x="1403280" y="1268280"/>
            <a:ext cx="936720" cy="505080"/>
          </a:xfrm>
          <a:prstGeom prst="rightArrow">
            <a:avLst>
              <a:gd name="adj1" fmla="val 50000"/>
              <a:gd name="adj2" fmla="val 4636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2"/>
          <p:cNvSpPr/>
          <p:nvPr/>
        </p:nvSpPr>
        <p:spPr>
          <a:xfrm>
            <a:off x="755640" y="3573360"/>
            <a:ext cx="1152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26"/>
          <p:cNvSpPr/>
          <p:nvPr/>
        </p:nvSpPr>
        <p:spPr>
          <a:xfrm>
            <a:off x="539640" y="260280"/>
            <a:ext cx="795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Visão Sistêmica da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4"/>
          <p:cNvSpPr/>
          <p:nvPr/>
        </p:nvSpPr>
        <p:spPr>
          <a:xfrm rot="16200000">
            <a:off x="3952080" y="-3808080"/>
            <a:ext cx="1277640" cy="89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Metáfora da Janela da GC – Maturidade do Grau de Conhecime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9"/>
          <p:cNvSpPr/>
          <p:nvPr/>
        </p:nvSpPr>
        <p:spPr>
          <a:xfrm rot="16200000">
            <a:off x="2302920" y="4187880"/>
            <a:ext cx="36288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FONTE: Janela de JOHARI - Adaptado de CHOO,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611280" y="1555920"/>
            <a:ext cx="3816360" cy="2304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6"/>
          <p:cNvSpPr/>
          <p:nvPr/>
        </p:nvSpPr>
        <p:spPr>
          <a:xfrm>
            <a:off x="4859280" y="1555920"/>
            <a:ext cx="3745080" cy="2304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7"/>
          <p:cNvSpPr/>
          <p:nvPr/>
        </p:nvSpPr>
        <p:spPr>
          <a:xfrm>
            <a:off x="611280" y="4219560"/>
            <a:ext cx="3817800" cy="2305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8"/>
          <p:cNvSpPr/>
          <p:nvPr/>
        </p:nvSpPr>
        <p:spPr>
          <a:xfrm>
            <a:off x="4859280" y="4219560"/>
            <a:ext cx="3745080" cy="2305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9"/>
          <p:cNvSpPr/>
          <p:nvPr/>
        </p:nvSpPr>
        <p:spPr>
          <a:xfrm>
            <a:off x="755640" y="1627200"/>
            <a:ext cx="33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SABEMOS o que SABEM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1"/>
          <p:cNvSpPr/>
          <p:nvPr/>
        </p:nvSpPr>
        <p:spPr>
          <a:xfrm rot="16200000">
            <a:off x="1616040" y="1345680"/>
            <a:ext cx="18838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Intranets, Portais, Taxonomias, Esquemas, Classificatórios e Benchmark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Provisão de acessos às informações e facilitação do compartilhamento do conheci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2"/>
          <p:cNvSpPr/>
          <p:nvPr/>
        </p:nvSpPr>
        <p:spPr>
          <a:xfrm rot="16200000">
            <a:off x="3111480" y="4386240"/>
            <a:ext cx="54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3"/>
          <p:cNvSpPr/>
          <p:nvPr/>
        </p:nvSpPr>
        <p:spPr>
          <a:xfrm rot="16200000">
            <a:off x="2309760" y="2739240"/>
            <a:ext cx="423720" cy="35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NÃO sabemos o que SABEM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4"/>
          <p:cNvSpPr/>
          <p:nvPr/>
        </p:nvSpPr>
        <p:spPr>
          <a:xfrm rot="16200000">
            <a:off x="1865160" y="3757680"/>
            <a:ext cx="152424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Auditoria de Informaçõ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Mapeamento do Conhecime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omunidades de Prática, Red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de Conhecime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5"/>
          <p:cNvSpPr/>
          <p:nvPr/>
        </p:nvSpPr>
        <p:spPr>
          <a:xfrm rot="16200000">
            <a:off x="6447600" y="109800"/>
            <a:ext cx="42372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SABEMOS o que NÃO sabem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6"/>
          <p:cNvSpPr/>
          <p:nvPr/>
        </p:nvSpPr>
        <p:spPr>
          <a:xfrm rot="16200000">
            <a:off x="5828040" y="1382400"/>
            <a:ext cx="188388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Busca de informação direcion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Proporção de criação do conhecime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Inteligência Competitiva, Pesquisa &amp; Desenvolvimento, Pesquisa de Merca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7"/>
          <p:cNvSpPr/>
          <p:nvPr/>
        </p:nvSpPr>
        <p:spPr>
          <a:xfrm rot="16200000">
            <a:off x="7534080" y="4909680"/>
            <a:ext cx="39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8"/>
          <p:cNvSpPr/>
          <p:nvPr/>
        </p:nvSpPr>
        <p:spPr>
          <a:xfrm rot="16200000">
            <a:off x="6519240" y="2629080"/>
            <a:ext cx="42372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NÃO sabemos o que NÃO sabem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21"/>
          <p:cNvSpPr/>
          <p:nvPr/>
        </p:nvSpPr>
        <p:spPr>
          <a:xfrm rot="16200000">
            <a:off x="6034680" y="3834000"/>
            <a:ext cx="13971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Monitoração ambient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Descoberta do conhecime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lanejamento de cenários, prospecção do futuro, diálog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4"/>
          <p:cNvSpPr/>
          <p:nvPr/>
        </p:nvSpPr>
        <p:spPr>
          <a:xfrm rot="16200000">
            <a:off x="4039560" y="-3996720"/>
            <a:ext cx="850680" cy="89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apeamento Conceitual da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5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8207280" cy="556272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6"/>
          <p:cNvSpPr/>
          <p:nvPr/>
        </p:nvSpPr>
        <p:spPr>
          <a:xfrm rot="16200000">
            <a:off x="2306520" y="4449240"/>
            <a:ext cx="347760" cy="44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ahoma"/>
              </a:rPr>
              <a:t>FONTE: Adaptado de SOUZA &amp; ALVARENGA NETO (2003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1042920" y="2422440"/>
            <a:ext cx="712944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m a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Gestão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 nem o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Conhecimen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ão “coisas” novas na sociedade e na  cultura hum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mpanha a evolução cultural da humanidade: tudo o que é produzido, aprendido e compartilhado pelas pessoas  e pelos grup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684360" y="404640"/>
            <a:ext cx="77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ntexto Histórico/Cultural da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44"/>
          <p:cNvSpPr/>
          <p:nvPr/>
        </p:nvSpPr>
        <p:spPr>
          <a:xfrm>
            <a:off x="2843280" y="189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62"/>
          <p:cNvSpPr/>
          <p:nvPr/>
        </p:nvSpPr>
        <p:spPr>
          <a:xfrm rot="16200000">
            <a:off x="4217040" y="-3130200"/>
            <a:ext cx="850680" cy="71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odelos de Gestão e a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52"/>
          <p:cNvSpPr/>
          <p:nvPr/>
        </p:nvSpPr>
        <p:spPr>
          <a:xfrm rot="16200000">
            <a:off x="4249080" y="2641680"/>
            <a:ext cx="790200" cy="20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GESTÃO ESTRATÉ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78"/>
          <p:cNvSpPr/>
          <p:nvPr/>
        </p:nvSpPr>
        <p:spPr>
          <a:xfrm>
            <a:off x="3564000" y="2995560"/>
            <a:ext cx="2160360" cy="1368360"/>
          </a:xfrm>
          <a:prstGeom prst="ellipse">
            <a:avLst/>
          </a:prstGeom>
          <a:solidFill>
            <a:srgbClr val="ff9900">
              <a:alpha val="49000"/>
            </a:srgbClr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83"/>
          <p:cNvSpPr/>
          <p:nvPr/>
        </p:nvSpPr>
        <p:spPr>
          <a:xfrm>
            <a:off x="4500720" y="2276640"/>
            <a:ext cx="288720" cy="647640"/>
          </a:xfrm>
          <a:prstGeom prst="upDownArrow">
            <a:avLst>
              <a:gd name="adj1" fmla="val 50000"/>
              <a:gd name="adj2" fmla="val 44655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84"/>
          <p:cNvSpPr/>
          <p:nvPr/>
        </p:nvSpPr>
        <p:spPr>
          <a:xfrm rot="3239400">
            <a:off x="3094560" y="4112280"/>
            <a:ext cx="289080" cy="792000"/>
          </a:xfrm>
          <a:prstGeom prst="upDownArrow">
            <a:avLst>
              <a:gd name="adj1" fmla="val 50000"/>
              <a:gd name="adj2" fmla="val 54541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85"/>
          <p:cNvSpPr/>
          <p:nvPr/>
        </p:nvSpPr>
        <p:spPr>
          <a:xfrm rot="21451800">
            <a:off x="4500360" y="4436640"/>
            <a:ext cx="288720" cy="719280"/>
          </a:xfrm>
          <a:prstGeom prst="upDownArrow">
            <a:avLst>
              <a:gd name="adj1" fmla="val 50000"/>
              <a:gd name="adj2" fmla="val 49595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86"/>
          <p:cNvSpPr/>
          <p:nvPr/>
        </p:nvSpPr>
        <p:spPr>
          <a:xfrm rot="3502800">
            <a:off x="5902920" y="2672640"/>
            <a:ext cx="288720" cy="792000"/>
          </a:xfrm>
          <a:prstGeom prst="upDownArrow">
            <a:avLst>
              <a:gd name="adj1" fmla="val 50000"/>
              <a:gd name="adj2" fmla="val 54609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87"/>
          <p:cNvSpPr/>
          <p:nvPr/>
        </p:nvSpPr>
        <p:spPr>
          <a:xfrm rot="17877000">
            <a:off x="3023280" y="2599560"/>
            <a:ext cx="288720" cy="792360"/>
          </a:xfrm>
          <a:prstGeom prst="upDownArrow">
            <a:avLst>
              <a:gd name="adj1" fmla="val 50000"/>
              <a:gd name="adj2" fmla="val 54633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5"/>
          <p:cNvSpPr/>
          <p:nvPr/>
        </p:nvSpPr>
        <p:spPr>
          <a:xfrm rot="16200000">
            <a:off x="4233240" y="351000"/>
            <a:ext cx="790200" cy="20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Gestão de Competênc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91"/>
          <p:cNvSpPr/>
          <p:nvPr/>
        </p:nvSpPr>
        <p:spPr>
          <a:xfrm>
            <a:off x="3602160" y="836640"/>
            <a:ext cx="2016000" cy="1224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53"/>
          <p:cNvSpPr/>
          <p:nvPr/>
        </p:nvSpPr>
        <p:spPr>
          <a:xfrm rot="16200000">
            <a:off x="7174080" y="1634760"/>
            <a:ext cx="485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Gestão da 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95"/>
          <p:cNvSpPr/>
          <p:nvPr/>
        </p:nvSpPr>
        <p:spPr>
          <a:xfrm>
            <a:off x="6443640" y="1989000"/>
            <a:ext cx="2016000" cy="115272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51"/>
          <p:cNvSpPr/>
          <p:nvPr/>
        </p:nvSpPr>
        <p:spPr>
          <a:xfrm rot="16200000">
            <a:off x="1266840" y="1361520"/>
            <a:ext cx="10951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Gestão do Capital Intelect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val 96"/>
          <p:cNvSpPr/>
          <p:nvPr/>
        </p:nvSpPr>
        <p:spPr>
          <a:xfrm>
            <a:off x="755640" y="1844640"/>
            <a:ext cx="2016000" cy="1224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89"/>
          <p:cNvSpPr/>
          <p:nvPr/>
        </p:nvSpPr>
        <p:spPr>
          <a:xfrm rot="16200000">
            <a:off x="6914520" y="4653720"/>
            <a:ext cx="790200" cy="13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Gestão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Proces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98"/>
          <p:cNvSpPr/>
          <p:nvPr/>
        </p:nvSpPr>
        <p:spPr>
          <a:xfrm>
            <a:off x="6300720" y="4797360"/>
            <a:ext cx="2016360" cy="1224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97"/>
          <p:cNvSpPr/>
          <p:nvPr/>
        </p:nvSpPr>
        <p:spPr>
          <a:xfrm>
            <a:off x="3635280" y="5373720"/>
            <a:ext cx="2016360" cy="1224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00"/>
          <p:cNvSpPr/>
          <p:nvPr/>
        </p:nvSpPr>
        <p:spPr>
          <a:xfrm rot="16200000">
            <a:off x="4227840" y="4992480"/>
            <a:ext cx="790200" cy="18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Gestão 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onheci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01"/>
          <p:cNvSpPr/>
          <p:nvPr/>
        </p:nvSpPr>
        <p:spPr>
          <a:xfrm rot="16200000">
            <a:off x="1460520" y="4307760"/>
            <a:ext cx="790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Gestão da Inov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102"/>
          <p:cNvSpPr/>
          <p:nvPr/>
        </p:nvSpPr>
        <p:spPr>
          <a:xfrm>
            <a:off x="826920" y="4724280"/>
            <a:ext cx="2016360" cy="12258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3"/>
          <p:cNvSpPr/>
          <p:nvPr/>
        </p:nvSpPr>
        <p:spPr>
          <a:xfrm rot="7896600">
            <a:off x="5903280" y="4041000"/>
            <a:ext cx="288720" cy="792000"/>
          </a:xfrm>
          <a:prstGeom prst="upDownArrow">
            <a:avLst>
              <a:gd name="adj1" fmla="val 50000"/>
              <a:gd name="adj2" fmla="val 54609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4"/>
          <p:cNvSpPr/>
          <p:nvPr/>
        </p:nvSpPr>
        <p:spPr>
          <a:xfrm rot="16200000">
            <a:off x="4206600" y="-4092480"/>
            <a:ext cx="729000" cy="91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Mapeamento Conceitual Integrativo da G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5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424720" cy="566100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6"/>
          <p:cNvSpPr/>
          <p:nvPr/>
        </p:nvSpPr>
        <p:spPr>
          <a:xfrm rot="16200000">
            <a:off x="1796400" y="5030640"/>
            <a:ext cx="36288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FONTE: Rivadávia de Alvarenga Neto (2008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4" descr="novo modelo de GC"/>
          <p:cNvPicPr/>
          <p:nvPr/>
        </p:nvPicPr>
        <p:blipFill>
          <a:blip r:embed="rId1"/>
          <a:stretch/>
        </p:blipFill>
        <p:spPr>
          <a:xfrm>
            <a:off x="755640" y="620640"/>
            <a:ext cx="7677000" cy="5607000"/>
          </a:xfrm>
          <a:prstGeom prst="rect">
            <a:avLst/>
          </a:prstGeom>
          <a:ln w="0">
            <a:noFill/>
          </a:ln>
        </p:spPr>
      </p:pic>
      <p:sp>
        <p:nvSpPr>
          <p:cNvPr id="379" name="Text Box 5"/>
          <p:cNvSpPr/>
          <p:nvPr/>
        </p:nvSpPr>
        <p:spPr>
          <a:xfrm>
            <a:off x="250920" y="4428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odelo da “nova GC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6"/>
          <p:cNvSpPr/>
          <p:nvPr/>
        </p:nvSpPr>
        <p:spPr>
          <a:xfrm rot="16200000">
            <a:off x="2409120" y="4547880"/>
            <a:ext cx="36288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FONTE: Adaptado de Firestone e Mcelroy (2001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4" descr="Modelo da Dinamica de GC_Aprendizagem Organizacional"/>
          <p:cNvPicPr/>
          <p:nvPr/>
        </p:nvPicPr>
        <p:blipFill>
          <a:blip r:embed="rId1"/>
          <a:stretch/>
        </p:blipFill>
        <p:spPr>
          <a:xfrm>
            <a:off x="611280" y="1247760"/>
            <a:ext cx="7983360" cy="491796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5"/>
          <p:cNvSpPr/>
          <p:nvPr/>
        </p:nvSpPr>
        <p:spPr>
          <a:xfrm>
            <a:off x="250920" y="-27000"/>
            <a:ext cx="87138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Arial"/>
              </a:rPr>
              <a:t>Modelo entre GC e Aprendizagem Organizaciona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6"/>
          <p:cNvSpPr/>
          <p:nvPr/>
        </p:nvSpPr>
        <p:spPr>
          <a:xfrm rot="16200000">
            <a:off x="3477960" y="3513240"/>
            <a:ext cx="387720" cy="61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FONTE: Fernando Goldman, disponível em </a:t>
            </a:r>
            <a:r>
              <a:rPr b="0" lang="pt-BR" sz="12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http://kmgoldman.blogspot.com/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17"/>
          <p:cNvSpPr/>
          <p:nvPr/>
        </p:nvSpPr>
        <p:spPr>
          <a:xfrm>
            <a:off x="250920" y="4428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bjetivos da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50"/>
          <p:cNvSpPr/>
          <p:nvPr/>
        </p:nvSpPr>
        <p:spPr>
          <a:xfrm>
            <a:off x="3132000" y="1197000"/>
            <a:ext cx="4392720" cy="45972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Organização   Priv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53"/>
          <p:cNvSpPr/>
          <p:nvPr/>
        </p:nvSpPr>
        <p:spPr>
          <a:xfrm>
            <a:off x="3132000" y="2205000"/>
            <a:ext cx="4464360" cy="45972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Inov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55"/>
          <p:cNvSpPr/>
          <p:nvPr/>
        </p:nvSpPr>
        <p:spPr>
          <a:xfrm>
            <a:off x="3132000" y="3141720"/>
            <a:ext cx="4535640" cy="45972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Diferencial Competi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57"/>
          <p:cNvSpPr/>
          <p:nvPr/>
        </p:nvSpPr>
        <p:spPr>
          <a:xfrm>
            <a:off x="3202200" y="4221000"/>
            <a:ext cx="8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9900"/>
                </a:solidFill>
                <a:latin typeface="Tahoma"/>
              </a:rPr>
              <a:t>Lu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58"/>
          <p:cNvSpPr/>
          <p:nvPr/>
        </p:nvSpPr>
        <p:spPr>
          <a:xfrm>
            <a:off x="6194160" y="4156200"/>
            <a:ext cx="145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9900"/>
                </a:solidFill>
                <a:latin typeface="Tahoma"/>
              </a:rPr>
              <a:t>Posição 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9900"/>
                </a:solidFill>
                <a:latin typeface="Tahoma"/>
              </a:rPr>
              <a:t>Mer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61"/>
          <p:cNvSpPr/>
          <p:nvPr/>
        </p:nvSpPr>
        <p:spPr>
          <a:xfrm>
            <a:off x="3517920" y="6006960"/>
            <a:ext cx="387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Satisfação do Cl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63"/>
          <p:cNvSpPr/>
          <p:nvPr/>
        </p:nvSpPr>
        <p:spPr>
          <a:xfrm>
            <a:off x="5291280" y="1773360"/>
            <a:ext cx="144360" cy="433440"/>
          </a:xfrm>
          <a:custGeom>
            <a:avLst/>
            <a:gdLst>
              <a:gd name="textAreaLeft" fmla="*/ 19080 w 144360"/>
              <a:gd name="textAreaRight" fmla="*/ 125280 w 144360"/>
              <a:gd name="textAreaTop" fmla="*/ 75600 h 433440"/>
              <a:gd name="textAreaBottom" fmla="*/ 314280 h 43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64"/>
          <p:cNvSpPr/>
          <p:nvPr/>
        </p:nvSpPr>
        <p:spPr>
          <a:xfrm>
            <a:off x="5291280" y="2708280"/>
            <a:ext cx="144360" cy="431640"/>
          </a:xfrm>
          <a:custGeom>
            <a:avLst/>
            <a:gdLst>
              <a:gd name="textAreaLeft" fmla="*/ 19080 w 144360"/>
              <a:gd name="textAreaRight" fmla="*/ 125280 w 144360"/>
              <a:gd name="textAreaTop" fmla="*/ 75600 h 431640"/>
              <a:gd name="textAreaBottom" fmla="*/ 313200 h 43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66"/>
          <p:cNvSpPr/>
          <p:nvPr/>
        </p:nvSpPr>
        <p:spPr>
          <a:xfrm>
            <a:off x="3132000" y="5229360"/>
            <a:ext cx="4535640" cy="45972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Sustentabil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67"/>
          <p:cNvSpPr/>
          <p:nvPr/>
        </p:nvSpPr>
        <p:spPr>
          <a:xfrm>
            <a:off x="5291280" y="3645000"/>
            <a:ext cx="144360" cy="504720"/>
          </a:xfrm>
          <a:custGeom>
            <a:avLst/>
            <a:gdLst>
              <a:gd name="textAreaLeft" fmla="*/ 19080 w 144360"/>
              <a:gd name="textAreaRight" fmla="*/ 125280 w 144360"/>
              <a:gd name="textAreaTop" fmla="*/ 88200 h 504720"/>
              <a:gd name="textAreaBottom" fmla="*/ 36612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71"/>
          <p:cNvSpPr/>
          <p:nvPr/>
        </p:nvSpPr>
        <p:spPr>
          <a:xfrm>
            <a:off x="250920" y="2997360"/>
            <a:ext cx="2195280" cy="82548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Inteligênc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mpeti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72"/>
          <p:cNvSpPr/>
          <p:nvPr/>
        </p:nvSpPr>
        <p:spPr>
          <a:xfrm rot="20005800">
            <a:off x="2556000" y="3284640"/>
            <a:ext cx="503280" cy="217440"/>
          </a:xfrm>
          <a:custGeom>
            <a:avLst/>
            <a:gdLst>
              <a:gd name="textAreaLeft" fmla="*/ 87840 w 503280"/>
              <a:gd name="textAreaRight" fmla="*/ 365040 w 503280"/>
              <a:gd name="textAreaTop" fmla="*/ 29160 h 217440"/>
              <a:gd name="textAreaBottom" fmla="*/ 1882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73"/>
          <p:cNvSpPr/>
          <p:nvPr/>
        </p:nvSpPr>
        <p:spPr>
          <a:xfrm>
            <a:off x="4273920" y="4149720"/>
            <a:ext cx="186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9900"/>
                </a:solidFill>
                <a:latin typeface="Tahoma"/>
              </a:rPr>
              <a:t>Diferenc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9900"/>
                </a:solidFill>
                <a:latin typeface="Tahoma"/>
              </a:rPr>
              <a:t>Mercadoló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74"/>
          <p:cNvSpPr/>
          <p:nvPr/>
        </p:nvSpPr>
        <p:spPr>
          <a:xfrm>
            <a:off x="5291280" y="5734080"/>
            <a:ext cx="142560" cy="360360"/>
          </a:xfrm>
          <a:custGeom>
            <a:avLst/>
            <a:gdLst>
              <a:gd name="textAreaLeft" fmla="*/ 19080 w 142560"/>
              <a:gd name="textAreaRight" fmla="*/ 123480 w 142560"/>
              <a:gd name="textAreaTop" fmla="*/ 63000 h 360360"/>
              <a:gd name="textAreaBottom" fmla="*/ 26136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75"/>
          <p:cNvSpPr/>
          <p:nvPr/>
        </p:nvSpPr>
        <p:spPr>
          <a:xfrm>
            <a:off x="3132000" y="4149720"/>
            <a:ext cx="4535640" cy="64944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76"/>
          <p:cNvSpPr/>
          <p:nvPr/>
        </p:nvSpPr>
        <p:spPr>
          <a:xfrm>
            <a:off x="5291280" y="4797360"/>
            <a:ext cx="144360" cy="432000"/>
          </a:xfrm>
          <a:custGeom>
            <a:avLst/>
            <a:gdLst>
              <a:gd name="textAreaLeft" fmla="*/ 19080 w 144360"/>
              <a:gd name="textAreaRight" fmla="*/ 125280 w 144360"/>
              <a:gd name="textAreaTop" fmla="*/ 75600 h 432000"/>
              <a:gd name="textAreaBottom" fmla="*/ 313200 h 4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49"/>
          <p:cNvSpPr/>
          <p:nvPr/>
        </p:nvSpPr>
        <p:spPr>
          <a:xfrm>
            <a:off x="250920" y="4428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bjetivos da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54"/>
          <p:cNvGrpSpPr/>
          <p:nvPr/>
        </p:nvGrpSpPr>
        <p:grpSpPr>
          <a:xfrm>
            <a:off x="179280" y="907920"/>
            <a:ext cx="8855280" cy="5907240"/>
            <a:chOff x="179280" y="907920"/>
            <a:chExt cx="8855280" cy="5907240"/>
          </a:xfrm>
        </p:grpSpPr>
        <p:sp>
          <p:nvSpPr>
            <p:cNvPr id="403" name="Text Box 8"/>
            <p:cNvSpPr/>
            <p:nvPr/>
          </p:nvSpPr>
          <p:spPr>
            <a:xfrm>
              <a:off x="3059280" y="907920"/>
              <a:ext cx="3673440" cy="45972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ahoma"/>
                </a:rPr>
                <a:t>Organização Públi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12"/>
            <p:cNvSpPr/>
            <p:nvPr/>
          </p:nvSpPr>
          <p:spPr>
            <a:xfrm>
              <a:off x="2916360" y="3068640"/>
              <a:ext cx="5867280" cy="82548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Realizações sócio-econômico-ambienta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14"/>
            <p:cNvSpPr/>
            <p:nvPr/>
          </p:nvSpPr>
          <p:spPr>
            <a:xfrm>
              <a:off x="179280" y="4076640"/>
              <a:ext cx="8855280" cy="82548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Melhorias de Indicadores-IDH (Educação, Saúde, Segurança, Habitação..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33"/>
            <p:cNvSpPr/>
            <p:nvPr/>
          </p:nvSpPr>
          <p:spPr>
            <a:xfrm>
              <a:off x="3708360" y="1989000"/>
              <a:ext cx="2087640" cy="45972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Inovaçã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35"/>
            <p:cNvSpPr/>
            <p:nvPr/>
          </p:nvSpPr>
          <p:spPr>
            <a:xfrm>
              <a:off x="2920320" y="6294600"/>
              <a:ext cx="311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Tahoma"/>
                </a:rPr>
                <a:t>Bem-estar soci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AutoShape 40"/>
            <p:cNvSpPr/>
            <p:nvPr/>
          </p:nvSpPr>
          <p:spPr>
            <a:xfrm>
              <a:off x="4572000" y="1413000"/>
              <a:ext cx="216000" cy="576000"/>
            </a:xfrm>
            <a:custGeom>
              <a:avLst/>
              <a:gdLst>
                <a:gd name="textAreaLeft" fmla="*/ 28800 w 216000"/>
                <a:gd name="textAreaRight" fmla="*/ 187200 w 216000"/>
                <a:gd name="textAreaTop" fmla="*/ 100800 h 576000"/>
                <a:gd name="textAreaBottom" fmla="*/ 41760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AutoShape 42"/>
            <p:cNvSpPr/>
            <p:nvPr/>
          </p:nvSpPr>
          <p:spPr>
            <a:xfrm>
              <a:off x="4427640" y="5948280"/>
              <a:ext cx="215640" cy="505080"/>
            </a:xfrm>
            <a:custGeom>
              <a:avLst/>
              <a:gdLst>
                <a:gd name="textAreaLeft" fmla="*/ 28800 w 215640"/>
                <a:gd name="textAreaRight" fmla="*/ 186840 w 215640"/>
                <a:gd name="textAreaTop" fmla="*/ 88200 h 505080"/>
                <a:gd name="textAreaBottom" fmla="*/ 366120 h 50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AutoShape 43"/>
            <p:cNvSpPr/>
            <p:nvPr/>
          </p:nvSpPr>
          <p:spPr>
            <a:xfrm>
              <a:off x="4500720" y="3573360"/>
              <a:ext cx="215640" cy="505080"/>
            </a:xfrm>
            <a:custGeom>
              <a:avLst/>
              <a:gdLst>
                <a:gd name="textAreaLeft" fmla="*/ 28800 w 215640"/>
                <a:gd name="textAreaRight" fmla="*/ 186840 w 215640"/>
                <a:gd name="textAreaTop" fmla="*/ 88200 h 505080"/>
                <a:gd name="textAreaBottom" fmla="*/ 366120 h 50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AutoShape 44"/>
            <p:cNvSpPr/>
            <p:nvPr/>
          </p:nvSpPr>
          <p:spPr>
            <a:xfrm>
              <a:off x="4500720" y="2492280"/>
              <a:ext cx="215640" cy="576360"/>
            </a:xfrm>
            <a:custGeom>
              <a:avLst/>
              <a:gdLst>
                <a:gd name="textAreaLeft" fmla="*/ 28800 w 215640"/>
                <a:gd name="textAreaRight" fmla="*/ 186840 w 215640"/>
                <a:gd name="textAreaTop" fmla="*/ 100800 h 576360"/>
                <a:gd name="textAreaBottom" fmla="*/ 4179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45"/>
            <p:cNvSpPr/>
            <p:nvPr/>
          </p:nvSpPr>
          <p:spPr>
            <a:xfrm>
              <a:off x="179280" y="3068640"/>
              <a:ext cx="2087640" cy="82548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Accountabil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AutoShape 46"/>
            <p:cNvSpPr/>
            <p:nvPr/>
          </p:nvSpPr>
          <p:spPr>
            <a:xfrm>
              <a:off x="2340000" y="3213000"/>
              <a:ext cx="504720" cy="216000"/>
            </a:xfrm>
            <a:prstGeom prst="leftRightArrow">
              <a:avLst>
                <a:gd name="adj1" fmla="val 50000"/>
                <a:gd name="adj2" fmla="val 4651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51"/>
            <p:cNvSpPr/>
            <p:nvPr/>
          </p:nvSpPr>
          <p:spPr>
            <a:xfrm>
              <a:off x="3274920" y="5445000"/>
              <a:ext cx="2592360" cy="45972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Sustentabilida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AutoShape 52"/>
            <p:cNvSpPr/>
            <p:nvPr/>
          </p:nvSpPr>
          <p:spPr>
            <a:xfrm>
              <a:off x="4427640" y="4941720"/>
              <a:ext cx="215640" cy="505080"/>
            </a:xfrm>
            <a:custGeom>
              <a:avLst/>
              <a:gdLst>
                <a:gd name="textAreaLeft" fmla="*/ 28800 w 215640"/>
                <a:gd name="textAreaRight" fmla="*/ 186840 w 215640"/>
                <a:gd name="textAreaTop" fmla="*/ 88200 h 505080"/>
                <a:gd name="textAreaBottom" fmla="*/ 366120 h 50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 Box 21"/>
          <p:cNvSpPr/>
          <p:nvPr/>
        </p:nvSpPr>
        <p:spPr>
          <a:xfrm rot="16200000">
            <a:off x="7373160" y="500040"/>
            <a:ext cx="485280" cy="30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cnológica/Científ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26"/>
          <p:cNvSpPr/>
          <p:nvPr/>
        </p:nvSpPr>
        <p:spPr>
          <a:xfrm rot="16200000">
            <a:off x="980640" y="2770200"/>
            <a:ext cx="4852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sso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2"/>
          <p:cNvSpPr/>
          <p:nvPr/>
        </p:nvSpPr>
        <p:spPr>
          <a:xfrm rot="16200000">
            <a:off x="1089000" y="301320"/>
            <a:ext cx="48528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os/Proje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4"/>
          <p:cNvSpPr/>
          <p:nvPr/>
        </p:nvSpPr>
        <p:spPr>
          <a:xfrm>
            <a:off x="3635280" y="2852640"/>
            <a:ext cx="1944720" cy="1440000"/>
          </a:xfrm>
          <a:prstGeom prst="ellipse">
            <a:avLst/>
          </a:prstGeom>
          <a:solidFill>
            <a:srgbClr val="ff660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Oval 5"/>
          <p:cNvSpPr/>
          <p:nvPr/>
        </p:nvSpPr>
        <p:spPr>
          <a:xfrm>
            <a:off x="1690560" y="979560"/>
            <a:ext cx="792360" cy="64764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6"/>
          <p:cNvSpPr/>
          <p:nvPr/>
        </p:nvSpPr>
        <p:spPr>
          <a:xfrm>
            <a:off x="5940360" y="5011560"/>
            <a:ext cx="792360" cy="64800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Oval 7"/>
          <p:cNvSpPr/>
          <p:nvPr/>
        </p:nvSpPr>
        <p:spPr>
          <a:xfrm>
            <a:off x="1692360" y="2779560"/>
            <a:ext cx="792000" cy="64800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Oval 9"/>
          <p:cNvSpPr/>
          <p:nvPr/>
        </p:nvSpPr>
        <p:spPr>
          <a:xfrm>
            <a:off x="6730920" y="2852640"/>
            <a:ext cx="792360" cy="64764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Oval 10"/>
          <p:cNvSpPr/>
          <p:nvPr/>
        </p:nvSpPr>
        <p:spPr>
          <a:xfrm>
            <a:off x="3849840" y="476280"/>
            <a:ext cx="792000" cy="64764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val 11"/>
          <p:cNvSpPr/>
          <p:nvPr/>
        </p:nvSpPr>
        <p:spPr>
          <a:xfrm>
            <a:off x="6226200" y="1197000"/>
            <a:ext cx="792000" cy="64764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20"/>
          <p:cNvSpPr/>
          <p:nvPr/>
        </p:nvSpPr>
        <p:spPr>
          <a:xfrm rot="16200000">
            <a:off x="7497720" y="2733120"/>
            <a:ext cx="485280" cy="18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ren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23"/>
          <p:cNvSpPr/>
          <p:nvPr/>
        </p:nvSpPr>
        <p:spPr>
          <a:xfrm rot="16200000">
            <a:off x="5088960" y="413280"/>
            <a:ext cx="48528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traté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25"/>
          <p:cNvSpPr/>
          <p:nvPr/>
        </p:nvSpPr>
        <p:spPr>
          <a:xfrm rot="16200000">
            <a:off x="6815880" y="4931280"/>
            <a:ext cx="485280" cy="19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ganiz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27"/>
          <p:cNvSpPr/>
          <p:nvPr/>
        </p:nvSpPr>
        <p:spPr>
          <a:xfrm rot="16200000">
            <a:off x="4015800" y="2814840"/>
            <a:ext cx="1253880" cy="17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OV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Abrangênc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val 31"/>
          <p:cNvSpPr/>
          <p:nvPr/>
        </p:nvSpPr>
        <p:spPr>
          <a:xfrm>
            <a:off x="3995640" y="5227560"/>
            <a:ext cx="792360" cy="64764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32"/>
          <p:cNvSpPr/>
          <p:nvPr/>
        </p:nvSpPr>
        <p:spPr>
          <a:xfrm rot="16200000">
            <a:off x="4249800" y="5118120"/>
            <a:ext cx="79020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dutos/Serviç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val 35"/>
          <p:cNvSpPr/>
          <p:nvPr/>
        </p:nvSpPr>
        <p:spPr>
          <a:xfrm>
            <a:off x="1763640" y="4797360"/>
            <a:ext cx="792360" cy="64764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36"/>
          <p:cNvSpPr/>
          <p:nvPr/>
        </p:nvSpPr>
        <p:spPr>
          <a:xfrm rot="16200000">
            <a:off x="1226520" y="4326480"/>
            <a:ext cx="790200" cy="28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dade/Produtiv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39"/>
          <p:cNvSpPr/>
          <p:nvPr/>
        </p:nvSpPr>
        <p:spPr>
          <a:xfrm flipV="1">
            <a:off x="5148360" y="1700280"/>
            <a:ext cx="1152360" cy="1295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40"/>
          <p:cNvSpPr/>
          <p:nvPr/>
        </p:nvSpPr>
        <p:spPr>
          <a:xfrm flipV="1">
            <a:off x="5508720" y="3211560"/>
            <a:ext cx="1224000" cy="288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41"/>
          <p:cNvSpPr/>
          <p:nvPr/>
        </p:nvSpPr>
        <p:spPr>
          <a:xfrm flipH="1" flipV="1">
            <a:off x="4284720" y="1123920"/>
            <a:ext cx="216000" cy="172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42"/>
          <p:cNvSpPr/>
          <p:nvPr/>
        </p:nvSpPr>
        <p:spPr>
          <a:xfrm flipH="1" flipV="1">
            <a:off x="2410920" y="1483920"/>
            <a:ext cx="1584360" cy="1582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43"/>
          <p:cNvSpPr/>
          <p:nvPr/>
        </p:nvSpPr>
        <p:spPr>
          <a:xfrm flipH="1" flipV="1">
            <a:off x="2484360" y="3139560"/>
            <a:ext cx="1224000" cy="358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45"/>
          <p:cNvSpPr/>
          <p:nvPr/>
        </p:nvSpPr>
        <p:spPr>
          <a:xfrm>
            <a:off x="5219640" y="4075200"/>
            <a:ext cx="865080" cy="1009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46"/>
          <p:cNvSpPr/>
          <p:nvPr/>
        </p:nvSpPr>
        <p:spPr>
          <a:xfrm flipH="1">
            <a:off x="2484000" y="3933720"/>
            <a:ext cx="1366920" cy="1008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47"/>
          <p:cNvSpPr/>
          <p:nvPr/>
        </p:nvSpPr>
        <p:spPr>
          <a:xfrm flipH="1">
            <a:off x="4427280" y="4290840"/>
            <a:ext cx="73080" cy="936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5" descr=""/>
          <p:cNvPicPr/>
          <p:nvPr/>
        </p:nvPicPr>
        <p:blipFill>
          <a:blip r:embed="rId1"/>
          <a:stretch/>
        </p:blipFill>
        <p:spPr>
          <a:xfrm>
            <a:off x="684360" y="0"/>
            <a:ext cx="755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15"/>
          <p:cNvSpPr/>
          <p:nvPr/>
        </p:nvSpPr>
        <p:spPr>
          <a:xfrm rot="16200000">
            <a:off x="4176360" y="-4181040"/>
            <a:ext cx="789840" cy="91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Criação e Conversão do Conhecim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Oval 4"/>
          <p:cNvSpPr/>
          <p:nvPr/>
        </p:nvSpPr>
        <p:spPr>
          <a:xfrm>
            <a:off x="2987640" y="1341360"/>
            <a:ext cx="2952720" cy="2664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7"/>
          <p:cNvSpPr/>
          <p:nvPr/>
        </p:nvSpPr>
        <p:spPr>
          <a:xfrm>
            <a:off x="4140360" y="3141720"/>
            <a:ext cx="2952720" cy="280836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8"/>
          <p:cNvSpPr/>
          <p:nvPr/>
        </p:nvSpPr>
        <p:spPr>
          <a:xfrm>
            <a:off x="1692360" y="3141720"/>
            <a:ext cx="2878200" cy="280836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0"/>
          <p:cNvSpPr/>
          <p:nvPr/>
        </p:nvSpPr>
        <p:spPr>
          <a:xfrm rot="16200000">
            <a:off x="3963600" y="798120"/>
            <a:ext cx="871920" cy="32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riativ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(Processo Cognitiv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1"/>
          <p:cNvSpPr/>
          <p:nvPr/>
        </p:nvSpPr>
        <p:spPr>
          <a:xfrm rot="16200000">
            <a:off x="5187960" y="3181320"/>
            <a:ext cx="1146240" cy="28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Inven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(Processos, Produtos Científicos/Tecnológic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2"/>
          <p:cNvSpPr/>
          <p:nvPr/>
        </p:nvSpPr>
        <p:spPr>
          <a:xfrm rot="16200000">
            <a:off x="2378160" y="3102120"/>
            <a:ext cx="11462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Inov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(Processos de Negócios, Produtos e Serviç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3"/>
          <p:cNvSpPr/>
          <p:nvPr/>
        </p:nvSpPr>
        <p:spPr>
          <a:xfrm flipV="1" rot="5391000">
            <a:off x="4119120" y="-870480"/>
            <a:ext cx="5461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Conhecimento Tác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4"/>
          <p:cNvSpPr/>
          <p:nvPr/>
        </p:nvSpPr>
        <p:spPr>
          <a:xfrm rot="16200000">
            <a:off x="4122000" y="3910680"/>
            <a:ext cx="54612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Conhecimento Explíc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16"/>
          <p:cNvSpPr/>
          <p:nvPr/>
        </p:nvSpPr>
        <p:spPr>
          <a:xfrm rot="5400000">
            <a:off x="4250880" y="4332240"/>
            <a:ext cx="209520" cy="431640"/>
          </a:xfrm>
          <a:prstGeom prst="downArrow">
            <a:avLst>
              <a:gd name="adj1" fmla="val 50000"/>
              <a:gd name="adj2" fmla="val 51503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17"/>
          <p:cNvSpPr/>
          <p:nvPr/>
        </p:nvSpPr>
        <p:spPr>
          <a:xfrm rot="1566600">
            <a:off x="3131640" y="2854440"/>
            <a:ext cx="312840" cy="1008000"/>
          </a:xfrm>
          <a:custGeom>
            <a:avLst/>
            <a:gdLst>
              <a:gd name="textAreaLeft" fmla="*/ 41760 w 312840"/>
              <a:gd name="textAreaRight" fmla="*/ 271080 w 31284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8"/>
          <p:cNvSpPr/>
          <p:nvPr/>
        </p:nvSpPr>
        <p:spPr>
          <a:xfrm rot="20382000">
            <a:off x="5363640" y="2925720"/>
            <a:ext cx="360360" cy="1044720"/>
          </a:xfrm>
          <a:custGeom>
            <a:avLst/>
            <a:gdLst>
              <a:gd name="textAreaLeft" fmla="*/ 48240 w 360360"/>
              <a:gd name="textAreaRight" fmla="*/ 312120 w 360360"/>
              <a:gd name="textAreaTop" fmla="*/ 182880 h 1044720"/>
              <a:gd name="textAreaBottom" fmla="*/ 757440 h 10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21"/>
          <p:cNvSpPr/>
          <p:nvPr/>
        </p:nvSpPr>
        <p:spPr>
          <a:xfrm rot="16200000">
            <a:off x="2306520" y="4449240"/>
            <a:ext cx="347760" cy="44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ahoma"/>
              </a:rPr>
              <a:t>FONTE: Adaptado da Sociedade Portuguesa de Inovaçã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5"/>
          <p:cNvSpPr/>
          <p:nvPr/>
        </p:nvSpPr>
        <p:spPr>
          <a:xfrm rot="16200000">
            <a:off x="3872160" y="-3792600"/>
            <a:ext cx="1399320" cy="914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Intersecção/Convergência da GC e da Inovaç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20"/>
          <p:cNvGrpSpPr/>
          <p:nvPr/>
        </p:nvGrpSpPr>
        <p:grpSpPr>
          <a:xfrm>
            <a:off x="2194920" y="2131920"/>
            <a:ext cx="4677480" cy="2881440"/>
            <a:chOff x="2194920" y="2131920"/>
            <a:chExt cx="4677480" cy="2881440"/>
          </a:xfrm>
        </p:grpSpPr>
        <p:sp>
          <p:nvSpPr>
            <p:cNvPr id="458" name="Oval 4"/>
            <p:cNvSpPr/>
            <p:nvPr/>
          </p:nvSpPr>
          <p:spPr>
            <a:xfrm>
              <a:off x="2195640" y="2131920"/>
              <a:ext cx="2877840" cy="2808360"/>
            </a:xfrm>
            <a:prstGeom prst="ellipse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6"/>
            <p:cNvSpPr/>
            <p:nvPr/>
          </p:nvSpPr>
          <p:spPr>
            <a:xfrm>
              <a:off x="3994200" y="2205000"/>
              <a:ext cx="2878200" cy="2808360"/>
            </a:xfrm>
            <a:prstGeom prst="ellipse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17"/>
            <p:cNvSpPr/>
            <p:nvPr/>
          </p:nvSpPr>
          <p:spPr>
            <a:xfrm flipV="1" rot="5391000">
              <a:off x="2966040" y="2513520"/>
              <a:ext cx="546120" cy="20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ahoma"/>
                </a:rPr>
                <a:t>Inovaçã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Text Box 18"/>
            <p:cNvSpPr/>
            <p:nvPr/>
          </p:nvSpPr>
          <p:spPr>
            <a:xfrm flipV="1" rot="5391000">
              <a:off x="5340960" y="2584800"/>
              <a:ext cx="546120" cy="20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ahoma"/>
                </a:rPr>
                <a:t>G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19"/>
            <p:cNvSpPr/>
            <p:nvPr/>
          </p:nvSpPr>
          <p:spPr>
            <a:xfrm>
              <a:off x="4067280" y="3429000"/>
              <a:ext cx="865080" cy="287280"/>
            </a:xfrm>
            <a:prstGeom prst="leftRightArrow">
              <a:avLst>
                <a:gd name="adj1" fmla="val 50000"/>
                <a:gd name="adj2" fmla="val 59946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Oval 2"/>
          <p:cNvSpPr/>
          <p:nvPr/>
        </p:nvSpPr>
        <p:spPr>
          <a:xfrm>
            <a:off x="1908000" y="1341360"/>
            <a:ext cx="5400720" cy="1366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826920" y="260280"/>
            <a:ext cx="774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volução Epistemológica do Conheci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36"/>
          <p:cNvGrpSpPr/>
          <p:nvPr/>
        </p:nvGrpSpPr>
        <p:grpSpPr>
          <a:xfrm>
            <a:off x="395280" y="1989000"/>
            <a:ext cx="8101080" cy="3775320"/>
            <a:chOff x="395280" y="1989000"/>
            <a:chExt cx="8101080" cy="3775320"/>
          </a:xfrm>
        </p:grpSpPr>
        <p:pic>
          <p:nvPicPr>
            <p:cNvPr id="60" name="Picture 13" descr="Aids_Comprimidos (1)"/>
            <p:cNvPicPr/>
            <p:nvPr/>
          </p:nvPicPr>
          <p:blipFill>
            <a:blip r:embed="rId1"/>
            <a:stretch/>
          </p:blipFill>
          <p:spPr>
            <a:xfrm>
              <a:off x="6948360" y="5013360"/>
              <a:ext cx="154800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22"/>
            <p:cNvSpPr/>
            <p:nvPr/>
          </p:nvSpPr>
          <p:spPr>
            <a:xfrm>
              <a:off x="395280" y="5013360"/>
              <a:ext cx="1979640" cy="64260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INTELIGÊNCIA COLETI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25"/>
            <p:cNvSpPr/>
            <p:nvPr/>
          </p:nvSpPr>
          <p:spPr>
            <a:xfrm>
              <a:off x="3348000" y="1989000"/>
              <a:ext cx="2340000" cy="64260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HECIMENTO INDIVIDU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27"/>
            <p:cNvSpPr/>
            <p:nvPr/>
          </p:nvSpPr>
          <p:spPr>
            <a:xfrm>
              <a:off x="3276720" y="3500280"/>
              <a:ext cx="2555640" cy="64260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HECIMENTO ORGANIZAC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AutoShape 28"/>
            <p:cNvSpPr/>
            <p:nvPr/>
          </p:nvSpPr>
          <p:spPr>
            <a:xfrm>
              <a:off x="4427640" y="2852640"/>
              <a:ext cx="360360" cy="576360"/>
            </a:xfrm>
            <a:custGeom>
              <a:avLst/>
              <a:gdLst>
                <a:gd name="textAreaLeft" fmla="*/ 48240 w 360360"/>
                <a:gd name="textAreaRight" fmla="*/ 312120 w 360360"/>
                <a:gd name="textAreaTop" fmla="*/ 100800 h 576360"/>
                <a:gd name="textAreaBottom" fmla="*/ 4179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29"/>
            <p:cNvSpPr/>
            <p:nvPr/>
          </p:nvSpPr>
          <p:spPr>
            <a:xfrm>
              <a:off x="4427640" y="4292640"/>
              <a:ext cx="360360" cy="576360"/>
            </a:xfrm>
            <a:custGeom>
              <a:avLst/>
              <a:gdLst>
                <a:gd name="textAreaLeft" fmla="*/ 48240 w 360360"/>
                <a:gd name="textAreaRight" fmla="*/ 312120 w 360360"/>
                <a:gd name="textAreaTop" fmla="*/ 100800 h 576360"/>
                <a:gd name="textAreaBottom" fmla="*/ 4179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30"/>
            <p:cNvSpPr/>
            <p:nvPr/>
          </p:nvSpPr>
          <p:spPr>
            <a:xfrm>
              <a:off x="3276720" y="5013360"/>
              <a:ext cx="2519280" cy="64260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HECIMENTO SOC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34"/>
            <p:cNvSpPr/>
            <p:nvPr/>
          </p:nvSpPr>
          <p:spPr>
            <a:xfrm rot="19388400">
              <a:off x="2411280" y="5157360"/>
              <a:ext cx="720720" cy="287280"/>
            </a:xfrm>
            <a:custGeom>
              <a:avLst/>
              <a:gdLst>
                <a:gd name="textAreaLeft" fmla="*/ 126000 w 720720"/>
                <a:gd name="textAreaRight" fmla="*/ 522720 w 720720"/>
                <a:gd name="textAreaTop" fmla="*/ 38520 h 287280"/>
                <a:gd name="textAreaBottom" fmla="*/ 24876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AutoShape 35"/>
            <p:cNvSpPr/>
            <p:nvPr/>
          </p:nvSpPr>
          <p:spPr>
            <a:xfrm rot="19388400">
              <a:off x="5940360" y="5084280"/>
              <a:ext cx="720720" cy="287640"/>
            </a:xfrm>
            <a:custGeom>
              <a:avLst/>
              <a:gdLst>
                <a:gd name="textAreaLeft" fmla="*/ 126000 w 720720"/>
                <a:gd name="textAreaRight" fmla="*/ 522720 w 720720"/>
                <a:gd name="textAreaTop" fmla="*/ 38520 h 287640"/>
                <a:gd name="textAreaBottom" fmla="*/ 249120 h 28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 Box 4"/>
          <p:cNvSpPr/>
          <p:nvPr/>
        </p:nvSpPr>
        <p:spPr>
          <a:xfrm>
            <a:off x="2484360" y="1125360"/>
            <a:ext cx="360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5"/>
          <p:cNvSpPr/>
          <p:nvPr/>
        </p:nvSpPr>
        <p:spPr>
          <a:xfrm>
            <a:off x="900000" y="333360"/>
            <a:ext cx="734400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finição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4400" spc="-1" strike="noStrike">
                <a:solidFill>
                  <a:srgbClr val="ff3300"/>
                </a:solidFill>
                <a:latin typeface="Arial"/>
              </a:rPr>
              <a:t>Teórica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onceito-Ensaio da SBGC-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6"/>
          <p:cNvSpPr/>
          <p:nvPr/>
        </p:nvSpPr>
        <p:spPr>
          <a:xfrm>
            <a:off x="611280" y="2781360"/>
            <a:ext cx="7315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9"/>
          <p:cNvSpPr/>
          <p:nvPr/>
        </p:nvSpPr>
        <p:spPr>
          <a:xfrm>
            <a:off x="1044720" y="2276640"/>
            <a:ext cx="7056360" cy="35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Gestão do Conhecimento é o processo sistemático, integrado e transdisciplinar que permeia a organização, compreendendo criação, identificação, seleção, organização, compartilhamento, disseminação, utilização e proteção de conhecimentos estratégicos, gerando valor para as partes interessadas. 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4"/>
          <p:cNvSpPr/>
          <p:nvPr/>
        </p:nvSpPr>
        <p:spPr>
          <a:xfrm>
            <a:off x="755640" y="620640"/>
            <a:ext cx="79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finição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4400" spc="-1" strike="noStrike">
                <a:solidFill>
                  <a:srgbClr val="ff5050"/>
                </a:solidFill>
                <a:latin typeface="Arial"/>
              </a:rPr>
              <a:t>Prática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6"/>
          <p:cNvSpPr/>
          <p:nvPr/>
        </p:nvSpPr>
        <p:spPr>
          <a:xfrm>
            <a:off x="1004760" y="2708280"/>
            <a:ext cx="72392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Gestão do Conhecimento é a conversão do conhecimento tácito em conhecimento explícito propiciando alcançar os objetivos estratégicos e operacionais da organizaçã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4"/>
          <p:cNvSpPr/>
          <p:nvPr/>
        </p:nvSpPr>
        <p:spPr>
          <a:xfrm>
            <a:off x="324000" y="333360"/>
            <a:ext cx="85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finição </a:t>
            </a:r>
            <a:r>
              <a:rPr b="0" lang="pt-BR" sz="4400" spc="-1" strike="noStrike">
                <a:solidFill>
                  <a:srgbClr val="ff5050"/>
                </a:solidFill>
                <a:latin typeface="Arial"/>
              </a:rPr>
              <a:t>“Matemática”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de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5"/>
          <p:cNvSpPr/>
          <p:nvPr/>
        </p:nvSpPr>
        <p:spPr>
          <a:xfrm>
            <a:off x="424440" y="1773360"/>
            <a:ext cx="77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quação Fundamental da Informação/Conhec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7"/>
          <p:cNvSpPr/>
          <p:nvPr/>
        </p:nvSpPr>
        <p:spPr>
          <a:xfrm>
            <a:off x="4476600" y="3852720"/>
            <a:ext cx="4140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K: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onhecimento Ini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S: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Estado de Conheci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ahoma"/>
              </a:rPr>
              <a:t>Δ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¹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vo estado de Conheci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I: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Inform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Group 13"/>
          <p:cNvGrpSpPr/>
          <p:nvPr/>
        </p:nvGrpSpPr>
        <p:grpSpPr>
          <a:xfrm>
            <a:off x="1329480" y="2632320"/>
            <a:ext cx="5810400" cy="2295720"/>
            <a:chOff x="1329480" y="2632320"/>
            <a:chExt cx="5810400" cy="2295720"/>
          </a:xfrm>
        </p:grpSpPr>
        <p:sp>
          <p:nvSpPr>
            <p:cNvPr id="473" name="Rectangle 10"/>
            <p:cNvSpPr/>
            <p:nvPr/>
          </p:nvSpPr>
          <p:spPr>
            <a:xfrm>
              <a:off x="1329480" y="2632320"/>
              <a:ext cx="5810400" cy="7034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 (S) + </a:t>
              </a:r>
              <a:r>
                <a:rPr b="1" lang="el-GR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Δ</a:t>
              </a:r>
              <a:r>
                <a:rPr b="1" lang="pt-BR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K = K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¹</a:t>
              </a:r>
              <a:r>
                <a:rPr b="1" lang="pt-BR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S + </a:t>
              </a:r>
              <a:r>
                <a:rPr b="1" lang="el-GR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Δ</a:t>
              </a:r>
              <a:r>
                <a:rPr b="1" lang="pt-BR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11"/>
            <p:cNvSpPr/>
            <p:nvPr/>
          </p:nvSpPr>
          <p:spPr>
            <a:xfrm>
              <a:off x="1361520" y="4224600"/>
              <a:ext cx="956160" cy="7034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4000" spc="-1" strike="noStrike">
                  <a:solidFill>
                    <a:srgbClr val="000000"/>
                  </a:solidFill>
                  <a:latin typeface="Times New Roman"/>
                </a:rPr>
                <a:t>Δ</a:t>
              </a:r>
              <a:r>
                <a:rPr b="0" lang="pt-BR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pt-BR" sz="40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r>
                <a:rPr b="0" lang="pt-BR" sz="4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AutoShape 12"/>
            <p:cNvSpPr/>
            <p:nvPr/>
          </p:nvSpPr>
          <p:spPr>
            <a:xfrm rot="16200000">
              <a:off x="1595160" y="3671280"/>
              <a:ext cx="647640" cy="288720"/>
            </a:xfrm>
            <a:prstGeom prst="rightArrow">
              <a:avLst>
                <a:gd name="adj1" fmla="val 50000"/>
                <a:gd name="adj2" fmla="val 56079"/>
              </a:avLst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Rectangle 14"/>
          <p:cNvSpPr/>
          <p:nvPr/>
        </p:nvSpPr>
        <p:spPr>
          <a:xfrm>
            <a:off x="611280" y="6467400"/>
            <a:ext cx="741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nte: Adaptação de BROOKES,B. The Foundation of Information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 Box 49"/>
          <p:cNvSpPr/>
          <p:nvPr/>
        </p:nvSpPr>
        <p:spPr>
          <a:xfrm rot="5226600">
            <a:off x="2462040" y="1076400"/>
            <a:ext cx="54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50"/>
          <p:cNvSpPr/>
          <p:nvPr/>
        </p:nvSpPr>
        <p:spPr>
          <a:xfrm rot="16200000">
            <a:off x="4178520" y="-2968560"/>
            <a:ext cx="850680" cy="73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bordagem Estrutural da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Group 88"/>
          <p:cNvGrpSpPr/>
          <p:nvPr/>
        </p:nvGrpSpPr>
        <p:grpSpPr>
          <a:xfrm>
            <a:off x="63360" y="1484280"/>
            <a:ext cx="8972640" cy="4750920"/>
            <a:chOff x="63360" y="1484280"/>
            <a:chExt cx="8972640" cy="4750920"/>
          </a:xfrm>
        </p:grpSpPr>
        <p:grpSp>
          <p:nvGrpSpPr>
            <p:cNvPr id="480" name="Group 72"/>
            <p:cNvGrpSpPr/>
            <p:nvPr/>
          </p:nvGrpSpPr>
          <p:grpSpPr>
            <a:xfrm>
              <a:off x="63360" y="4868640"/>
              <a:ext cx="2334240" cy="1366560"/>
              <a:chOff x="63360" y="4868640"/>
              <a:chExt cx="2334240" cy="1366560"/>
            </a:xfrm>
          </p:grpSpPr>
          <p:sp>
            <p:nvSpPr>
              <p:cNvPr id="481" name="Rectangle 5"/>
              <p:cNvSpPr/>
              <p:nvPr/>
            </p:nvSpPr>
            <p:spPr>
              <a:xfrm>
                <a:off x="63360" y="5019120"/>
                <a:ext cx="2334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ahoma"/>
                  </a:rPr>
                  <a:t>Processo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ahoma"/>
                  </a:rPr>
                  <a:t>Organizaciona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Oval 68"/>
              <p:cNvSpPr/>
              <p:nvPr/>
            </p:nvSpPr>
            <p:spPr>
              <a:xfrm>
                <a:off x="108000" y="4868640"/>
                <a:ext cx="2268360" cy="1366560"/>
              </a:xfrm>
              <a:prstGeom prst="ellipse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3" name="Group 73"/>
            <p:cNvGrpSpPr/>
            <p:nvPr/>
          </p:nvGrpSpPr>
          <p:grpSpPr>
            <a:xfrm>
              <a:off x="2303640" y="3716280"/>
              <a:ext cx="2268360" cy="1295280"/>
              <a:chOff x="2303640" y="3716280"/>
              <a:chExt cx="2268360" cy="1295280"/>
            </a:xfrm>
          </p:grpSpPr>
          <p:sp>
            <p:nvSpPr>
              <p:cNvPr id="484" name="Rectangle 74"/>
              <p:cNvSpPr/>
              <p:nvPr/>
            </p:nvSpPr>
            <p:spPr>
              <a:xfrm>
                <a:off x="2449440" y="3858840"/>
                <a:ext cx="19515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ahoma"/>
                  </a:rPr>
                  <a:t>Processo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de Negócio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Oval 75"/>
              <p:cNvSpPr/>
              <p:nvPr/>
            </p:nvSpPr>
            <p:spPr>
              <a:xfrm>
                <a:off x="2303640" y="3716280"/>
                <a:ext cx="2268360" cy="1295280"/>
              </a:xfrm>
              <a:prstGeom prst="ellipse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Rectangle 21"/>
            <p:cNvSpPr/>
            <p:nvPr/>
          </p:nvSpPr>
          <p:spPr>
            <a:xfrm>
              <a:off x="5261760" y="2563920"/>
              <a:ext cx="41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333399"/>
                  </a:solidFill>
                  <a:latin typeface="Tahoma"/>
                </a:rPr>
                <a:t>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77"/>
            <p:cNvSpPr/>
            <p:nvPr/>
          </p:nvSpPr>
          <p:spPr>
            <a:xfrm>
              <a:off x="4322880" y="2995560"/>
              <a:ext cx="2300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Valor Intangív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Oval 78"/>
            <p:cNvSpPr/>
            <p:nvPr/>
          </p:nvSpPr>
          <p:spPr>
            <a:xfrm>
              <a:off x="4248360" y="2563920"/>
              <a:ext cx="2508120" cy="1295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9" name="Group 83"/>
            <p:cNvGrpSpPr/>
            <p:nvPr/>
          </p:nvGrpSpPr>
          <p:grpSpPr>
            <a:xfrm>
              <a:off x="6551640" y="1484280"/>
              <a:ext cx="2484360" cy="1504800"/>
              <a:chOff x="6551640" y="1484280"/>
              <a:chExt cx="2484360" cy="1504800"/>
            </a:xfrm>
          </p:grpSpPr>
          <p:sp>
            <p:nvSpPr>
              <p:cNvPr id="490" name="Rectangle 81"/>
              <p:cNvSpPr/>
              <p:nvPr/>
            </p:nvSpPr>
            <p:spPr>
              <a:xfrm>
                <a:off x="6887520" y="1665000"/>
                <a:ext cx="19836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ahoma"/>
                  </a:rPr>
                  <a:t>Benefícios e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ahoma"/>
                  </a:rPr>
                  <a:t>Resultados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ahoma"/>
                  </a:rPr>
                  <a:t>Tangívei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Oval 82"/>
              <p:cNvSpPr/>
              <p:nvPr/>
            </p:nvSpPr>
            <p:spPr>
              <a:xfrm>
                <a:off x="6551640" y="1484280"/>
                <a:ext cx="2484360" cy="1504800"/>
              </a:xfrm>
              <a:prstGeom prst="ellipse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2" name="AutoShape 85"/>
            <p:cNvSpPr/>
            <p:nvPr/>
          </p:nvSpPr>
          <p:spPr>
            <a:xfrm rot="20087400">
              <a:off x="2592000" y="5300280"/>
              <a:ext cx="865440" cy="431640"/>
            </a:xfrm>
            <a:custGeom>
              <a:avLst/>
              <a:gdLst>
                <a:gd name="textAreaLeft" fmla="*/ 151200 w 865440"/>
                <a:gd name="textAreaRight" fmla="*/ 627480 w 865440"/>
                <a:gd name="textAreaTop" fmla="*/ 57600 h 431640"/>
                <a:gd name="textAreaBottom" fmla="*/ 37404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AutoShape 86"/>
            <p:cNvSpPr/>
            <p:nvPr/>
          </p:nvSpPr>
          <p:spPr>
            <a:xfrm rot="20087400">
              <a:off x="6840360" y="3284640"/>
              <a:ext cx="865080" cy="431640"/>
            </a:xfrm>
            <a:custGeom>
              <a:avLst/>
              <a:gdLst>
                <a:gd name="textAreaLeft" fmla="*/ 151200 w 865080"/>
                <a:gd name="textAreaRight" fmla="*/ 627120 w 865080"/>
                <a:gd name="textAreaTop" fmla="*/ 57600 h 431640"/>
                <a:gd name="textAreaBottom" fmla="*/ 37404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AutoShape 87"/>
            <p:cNvSpPr/>
            <p:nvPr/>
          </p:nvSpPr>
          <p:spPr>
            <a:xfrm rot="20087400">
              <a:off x="4751280" y="4147560"/>
              <a:ext cx="865440" cy="432000"/>
            </a:xfrm>
            <a:custGeom>
              <a:avLst/>
              <a:gdLst>
                <a:gd name="textAreaLeft" fmla="*/ 151200 w 865440"/>
                <a:gd name="textAreaRight" fmla="*/ 627480 w 865440"/>
                <a:gd name="textAreaTop" fmla="*/ 57600 h 432000"/>
                <a:gd name="textAreaBottom" fmla="*/ 37440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10"/>
          <p:cNvSpPr/>
          <p:nvPr/>
        </p:nvSpPr>
        <p:spPr>
          <a:xfrm rot="16200000">
            <a:off x="4102920" y="-1676880"/>
            <a:ext cx="850680" cy="42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plicação da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17"/>
          <p:cNvSpPr/>
          <p:nvPr/>
        </p:nvSpPr>
        <p:spPr>
          <a:xfrm rot="16200000">
            <a:off x="7555320" y="2516760"/>
            <a:ext cx="91188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Objetivos/ Resul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11"/>
          <p:cNvSpPr/>
          <p:nvPr/>
        </p:nvSpPr>
        <p:spPr>
          <a:xfrm>
            <a:off x="347760" y="3192480"/>
            <a:ext cx="1314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rá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de 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G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4"/>
          <p:cNvSpPr/>
          <p:nvPr/>
        </p:nvSpPr>
        <p:spPr>
          <a:xfrm rot="16200000">
            <a:off x="1494360" y="2457720"/>
            <a:ext cx="5867280" cy="34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Aprendizagem Organiz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Capital Intelec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Educação Corpor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Ambientes Virtuais de Aprendizag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Inteligência Empresa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Comunidades de Prá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PI, CRM, ERP, BSC, DW, D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nco de Tal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rtais (intra/extrane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peamento do Conhec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21"/>
          <p:cNvSpPr/>
          <p:nvPr/>
        </p:nvSpPr>
        <p:spPr>
          <a:xfrm>
            <a:off x="179280" y="2995560"/>
            <a:ext cx="1584360" cy="1225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28"/>
          <p:cNvSpPr/>
          <p:nvPr/>
        </p:nvSpPr>
        <p:spPr>
          <a:xfrm>
            <a:off x="7020000" y="2925720"/>
            <a:ext cx="1944720" cy="1440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32"/>
          <p:cNvSpPr/>
          <p:nvPr/>
        </p:nvSpPr>
        <p:spPr>
          <a:xfrm rot="19848600">
            <a:off x="1692360" y="3357360"/>
            <a:ext cx="1008000" cy="360360"/>
          </a:xfrm>
          <a:custGeom>
            <a:avLst/>
            <a:gdLst>
              <a:gd name="textAreaLeft" fmla="*/ 176400 w 1008000"/>
              <a:gd name="textAreaRight" fmla="*/ 730800 w 100800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33"/>
          <p:cNvSpPr/>
          <p:nvPr/>
        </p:nvSpPr>
        <p:spPr>
          <a:xfrm rot="19848600">
            <a:off x="6084720" y="3284280"/>
            <a:ext cx="1008360" cy="360360"/>
          </a:xfrm>
          <a:custGeom>
            <a:avLst/>
            <a:gdLst>
              <a:gd name="textAreaLeft" fmla="*/ 176400 w 1008360"/>
              <a:gd name="textAreaRight" fmla="*/ 731160 w 100836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34"/>
          <p:cNvSpPr/>
          <p:nvPr/>
        </p:nvSpPr>
        <p:spPr>
          <a:xfrm>
            <a:off x="2700360" y="1125360"/>
            <a:ext cx="3456000" cy="5399280"/>
          </a:xfrm>
          <a:prstGeom prst="foldedCorner">
            <a:avLst>
              <a:gd name="adj" fmla="val 9185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4"/>
          <p:cNvSpPr/>
          <p:nvPr/>
        </p:nvSpPr>
        <p:spPr>
          <a:xfrm>
            <a:off x="1371600" y="1828800"/>
            <a:ext cx="6769080" cy="42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 teoria é quando nós sabemos tudo, mas nada funciona; a prática é quando tudo funciona, mas não sabemos por quê. Quando a teoria e a prática são reunidas, nada funciona e ninguém sabe por quê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Autor Anôni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10"/>
          <p:cNvSpPr/>
          <p:nvPr/>
        </p:nvSpPr>
        <p:spPr>
          <a:xfrm>
            <a:off x="539640" y="189000"/>
            <a:ext cx="810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finição de GC no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4400" spc="-1" strike="noStrike">
                <a:solidFill>
                  <a:srgbClr val="ff5050"/>
                </a:solidFill>
                <a:latin typeface="Arial"/>
              </a:rPr>
              <a:t>Âmbito da Administração Públ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2"/>
          <p:cNvSpPr/>
          <p:nvPr/>
        </p:nvSpPr>
        <p:spPr>
          <a:xfrm>
            <a:off x="900000" y="2421000"/>
            <a:ext cx="734544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Conjunto de </a:t>
            </a:r>
            <a:r>
              <a:rPr b="0" i="1" lang="pt-BR" sz="2600" spc="-1" strike="noStrike">
                <a:solidFill>
                  <a:srgbClr val="000000"/>
                </a:solidFill>
                <a:latin typeface="Tahoma"/>
              </a:rPr>
              <a:t>Processos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 e </a:t>
            </a:r>
            <a:r>
              <a:rPr b="0" i="1" lang="pt-BR" sz="2600" spc="-1" strike="noStrike">
                <a:solidFill>
                  <a:srgbClr val="000000"/>
                </a:solidFill>
                <a:latin typeface="Tahoma"/>
              </a:rPr>
              <a:t>Práticas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sistematizados, articulados e intencionais, capazes de incrementar as habilidades dos gestores públicos em criar, organizar e compartilhar as informações e conhecimentos estratégicos que facilitam a tomada de decisões e condução da gestão de políticas pública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 Box 10"/>
          <p:cNvSpPr/>
          <p:nvPr/>
        </p:nvSpPr>
        <p:spPr>
          <a:xfrm>
            <a:off x="144360" y="115920"/>
            <a:ext cx="87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Alguns Benefícios/Resultados da G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11"/>
          <p:cNvSpPr/>
          <p:nvPr/>
        </p:nvSpPr>
        <p:spPr>
          <a:xfrm>
            <a:off x="250920" y="1125360"/>
            <a:ext cx="8642160" cy="56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81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Criação e compartilhamento  de novos   conhecimentos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e informaçõ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81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Inovação/Invençã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81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Solução de problem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81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Aprendizagem Continuada (pessoal/organizacion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81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Redesenho de processos e funçõ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81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Otimização do processo decisór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81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Minimiza ou elimina a redundância de esforços  (retrabalh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81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Minimiza a perda de Conhecimento (aposentadorias, rescisõ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tivos Práticos da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1908000" y="2276640"/>
            <a:ext cx="6274080" cy="31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ção de proble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oio à decisã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bientes de colabor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bientes de inov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 Box 13"/>
          <p:cNvSpPr/>
          <p:nvPr/>
        </p:nvSpPr>
        <p:spPr>
          <a:xfrm>
            <a:off x="250920" y="44280"/>
            <a:ext cx="871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uas Dimensões do Conheci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8"/>
          <p:cNvSpPr/>
          <p:nvPr/>
        </p:nvSpPr>
        <p:spPr>
          <a:xfrm>
            <a:off x="-36360" y="3112920"/>
            <a:ext cx="4464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nhecimento da experi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nhecimento simultâne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nhecimento analó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Group 36"/>
          <p:cNvGrpSpPr/>
          <p:nvPr/>
        </p:nvGrpSpPr>
        <p:grpSpPr>
          <a:xfrm>
            <a:off x="1114560" y="1960560"/>
            <a:ext cx="8137440" cy="4276800"/>
            <a:chOff x="1114560" y="1960560"/>
            <a:chExt cx="8137440" cy="4276800"/>
          </a:xfrm>
        </p:grpSpPr>
        <p:sp>
          <p:nvSpPr>
            <p:cNvPr id="514" name="Text Box 14"/>
            <p:cNvSpPr/>
            <p:nvPr/>
          </p:nvSpPr>
          <p:spPr>
            <a:xfrm>
              <a:off x="1114560" y="1960560"/>
              <a:ext cx="1944720" cy="9842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Tahoma"/>
                </a:rPr>
                <a:t>Táci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ahoma"/>
                </a:rPr>
                <a:t>(Subjetivo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 Box 15"/>
            <p:cNvSpPr/>
            <p:nvPr/>
          </p:nvSpPr>
          <p:spPr>
            <a:xfrm>
              <a:off x="5651640" y="1960560"/>
              <a:ext cx="1944720" cy="9842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Tahoma"/>
                </a:rPr>
                <a:t>Explíci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ahoma"/>
                </a:rPr>
                <a:t>(Objetivo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 Box 19"/>
            <p:cNvSpPr/>
            <p:nvPr/>
          </p:nvSpPr>
          <p:spPr>
            <a:xfrm>
              <a:off x="4356000" y="3112920"/>
              <a:ext cx="4896000" cy="19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buClr>
                  <a:srgbClr val="ff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Conhecimento da racionalida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buClr>
                  <a:srgbClr val="ff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Conhecimento seqüenci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buClr>
                  <a:srgbClr val="ff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Conhecimento digit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AutoShape 21"/>
            <p:cNvSpPr/>
            <p:nvPr/>
          </p:nvSpPr>
          <p:spPr>
            <a:xfrm>
              <a:off x="1114560" y="5661000"/>
              <a:ext cx="1511280" cy="57636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Práti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AutoShape 22"/>
            <p:cNvSpPr/>
            <p:nvPr/>
          </p:nvSpPr>
          <p:spPr>
            <a:xfrm>
              <a:off x="5938920" y="5661000"/>
              <a:ext cx="1511280" cy="57636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Teor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AutoShape 24"/>
            <p:cNvSpPr/>
            <p:nvPr/>
          </p:nvSpPr>
          <p:spPr>
            <a:xfrm>
              <a:off x="6515280" y="4913280"/>
              <a:ext cx="433080" cy="577800"/>
            </a:xfrm>
            <a:prstGeom prst="downArrow">
              <a:avLst>
                <a:gd name="adj1" fmla="val 50000"/>
                <a:gd name="adj2" fmla="val 33354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AutoShape 25"/>
            <p:cNvSpPr/>
            <p:nvPr/>
          </p:nvSpPr>
          <p:spPr>
            <a:xfrm>
              <a:off x="1692360" y="4869000"/>
              <a:ext cx="431640" cy="649080"/>
            </a:xfrm>
            <a:prstGeom prst="downArrow">
              <a:avLst>
                <a:gd name="adj1" fmla="val 50000"/>
                <a:gd name="adj2" fmla="val 37594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AutoShape 32"/>
            <p:cNvSpPr/>
            <p:nvPr/>
          </p:nvSpPr>
          <p:spPr>
            <a:xfrm>
              <a:off x="3490920" y="5734080"/>
              <a:ext cx="1655640" cy="360360"/>
            </a:xfrm>
            <a:prstGeom prst="leftRightArrow">
              <a:avLst>
                <a:gd name="adj1" fmla="val 50000"/>
                <a:gd name="adj2" fmla="val 91463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AutoShape 33"/>
            <p:cNvSpPr/>
            <p:nvPr/>
          </p:nvSpPr>
          <p:spPr>
            <a:xfrm>
              <a:off x="3564000" y="2247840"/>
              <a:ext cx="1655640" cy="360360"/>
            </a:xfrm>
            <a:prstGeom prst="leftRightArrow">
              <a:avLst>
                <a:gd name="adj1" fmla="val 50000"/>
                <a:gd name="adj2" fmla="val 91463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5"/>
          <p:cNvSpPr/>
          <p:nvPr/>
        </p:nvSpPr>
        <p:spPr>
          <a:xfrm>
            <a:off x="826920" y="260280"/>
            <a:ext cx="77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Modelo da Capacidade Absortiva do Conhecimento com 4 dimens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Capacidade Absortiva"/>
          <p:cNvPicPr/>
          <p:nvPr/>
        </p:nvPicPr>
        <p:blipFill>
          <a:blip r:embed="rId1"/>
          <a:stretch/>
        </p:blipFill>
        <p:spPr>
          <a:xfrm>
            <a:off x="324000" y="2576520"/>
            <a:ext cx="8496000" cy="17049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7"/>
          <p:cNvSpPr/>
          <p:nvPr/>
        </p:nvSpPr>
        <p:spPr>
          <a:xfrm rot="16200000">
            <a:off x="4251240" y="2525040"/>
            <a:ext cx="423720" cy="77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nte:Daghfous (2004); Minbaeva et al (2003); Liyanage e Barnard (2003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 Box 11"/>
          <p:cNvSpPr/>
          <p:nvPr/>
        </p:nvSpPr>
        <p:spPr>
          <a:xfrm>
            <a:off x="539640" y="260280"/>
            <a:ext cx="810108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nversão do Conheci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incipal foco da G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Group 21"/>
          <p:cNvGrpSpPr/>
          <p:nvPr/>
        </p:nvGrpSpPr>
        <p:grpSpPr>
          <a:xfrm>
            <a:off x="1619280" y="2421000"/>
            <a:ext cx="5908680" cy="2951280"/>
            <a:chOff x="1619280" y="2421000"/>
            <a:chExt cx="5908680" cy="2951280"/>
          </a:xfrm>
        </p:grpSpPr>
        <p:sp>
          <p:nvSpPr>
            <p:cNvPr id="525" name="AutoShape 12"/>
            <p:cNvSpPr/>
            <p:nvPr/>
          </p:nvSpPr>
          <p:spPr>
            <a:xfrm>
              <a:off x="3929040" y="3646440"/>
              <a:ext cx="1366920" cy="397080"/>
            </a:xfrm>
            <a:prstGeom prst="leftRightArrow">
              <a:avLst>
                <a:gd name="adj1" fmla="val 50000"/>
                <a:gd name="adj2" fmla="val 68530"/>
              </a:avLst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15"/>
            <p:cNvSpPr/>
            <p:nvPr/>
          </p:nvSpPr>
          <p:spPr>
            <a:xfrm>
              <a:off x="1695240" y="2421000"/>
              <a:ext cx="3745080" cy="29512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Oval 16"/>
            <p:cNvSpPr/>
            <p:nvPr/>
          </p:nvSpPr>
          <p:spPr>
            <a:xfrm>
              <a:off x="3782880" y="2421000"/>
              <a:ext cx="3745080" cy="29512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 Box 18"/>
            <p:cNvSpPr/>
            <p:nvPr/>
          </p:nvSpPr>
          <p:spPr>
            <a:xfrm>
              <a:off x="1619280" y="3564000"/>
              <a:ext cx="2305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ahoma"/>
                </a:rPr>
                <a:t>Conhecimento Táci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19"/>
            <p:cNvSpPr/>
            <p:nvPr/>
          </p:nvSpPr>
          <p:spPr>
            <a:xfrm>
              <a:off x="5352840" y="3487680"/>
              <a:ext cx="2041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ahoma"/>
                </a:rPr>
                <a:t>Conhecimento Explíci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 Box 4"/>
          <p:cNvSpPr/>
          <p:nvPr/>
        </p:nvSpPr>
        <p:spPr>
          <a:xfrm>
            <a:off x="755640" y="260280"/>
            <a:ext cx="770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bjetivos Práticos da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5"/>
          <p:cNvSpPr/>
          <p:nvPr/>
        </p:nvSpPr>
        <p:spPr>
          <a:xfrm>
            <a:off x="971640" y="1557360"/>
            <a:ext cx="7200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7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500" spc="-1" strike="noStrike">
                <a:solidFill>
                  <a:srgbClr val="000000"/>
                </a:solidFill>
                <a:latin typeface="Tahoma"/>
              </a:rPr>
              <a:t>Processamento da Informação/Conhecimen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8"/>
          <p:cNvSpPr/>
          <p:nvPr/>
        </p:nvSpPr>
        <p:spPr>
          <a:xfrm>
            <a:off x="914400" y="2298600"/>
            <a:ext cx="790560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7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Tahoma"/>
              </a:rPr>
              <a:t>Contextualização da Informação/Conhecimen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Tahoma"/>
              </a:rPr>
              <a:t>(ambientes/cenário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15"/>
          <p:cNvSpPr/>
          <p:nvPr/>
        </p:nvSpPr>
        <p:spPr>
          <a:xfrm>
            <a:off x="914400" y="3367080"/>
            <a:ext cx="7667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7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500" spc="-1" strike="noStrike">
                <a:solidFill>
                  <a:srgbClr val="000000"/>
                </a:solidFill>
                <a:latin typeface="Tahoma"/>
              </a:rPr>
              <a:t>Significação e relevância do que acontece e do que se faz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16"/>
          <p:cNvSpPr/>
          <p:nvPr/>
        </p:nvSpPr>
        <p:spPr>
          <a:xfrm>
            <a:off x="914400" y="4203720"/>
            <a:ext cx="7761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7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500" spc="-1" strike="noStrike">
                <a:solidFill>
                  <a:srgbClr val="000000"/>
                </a:solidFill>
                <a:latin typeface="Tahoma"/>
              </a:rPr>
              <a:t>Criação e compartilhamento de novos conhecimentos (aprendizagem, inovação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17"/>
          <p:cNvSpPr/>
          <p:nvPr/>
        </p:nvSpPr>
        <p:spPr>
          <a:xfrm>
            <a:off x="942840" y="5194440"/>
            <a:ext cx="7667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7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500" spc="-1" strike="noStrike">
                <a:solidFill>
                  <a:srgbClr val="000000"/>
                </a:solidFill>
                <a:latin typeface="Tahoma"/>
              </a:rPr>
              <a:t>Otimização do processo de tomada de decisã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10"/>
          <p:cNvSpPr/>
          <p:nvPr/>
        </p:nvSpPr>
        <p:spPr>
          <a:xfrm>
            <a:off x="503280" y="44280"/>
            <a:ext cx="831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odos de Conversão do Conheci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Group 40"/>
          <p:cNvGrpSpPr/>
          <p:nvPr/>
        </p:nvGrpSpPr>
        <p:grpSpPr>
          <a:xfrm>
            <a:off x="1114560" y="1454760"/>
            <a:ext cx="6697080" cy="5127480"/>
            <a:chOff x="1114560" y="1454760"/>
            <a:chExt cx="6697080" cy="5127480"/>
          </a:xfrm>
        </p:grpSpPr>
        <p:sp>
          <p:nvSpPr>
            <p:cNvPr id="538" name="Text Box 11"/>
            <p:cNvSpPr/>
            <p:nvPr/>
          </p:nvSpPr>
          <p:spPr>
            <a:xfrm>
              <a:off x="1114560" y="1911240"/>
              <a:ext cx="2663640" cy="467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ahoma"/>
                </a:rPr>
                <a:t>Socialização</a:t>
              </a:r>
              <a:r>
                <a:rPr b="1" lang="pt-BR" sz="2400" spc="-1" strike="noStrike" u="sng">
                  <a:solidFill>
                    <a:srgbClr val="000000"/>
                  </a:solidFill>
                  <a:uFillTx/>
                  <a:latin typeface="Tahoma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ahoma"/>
                </a:rPr>
                <a:t>(mestre – aprendiz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ahoma"/>
                </a:rPr>
                <a:t>Externalizaçã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ahoma"/>
                </a:rPr>
                <a:t>Combinaçã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ahoma"/>
                </a:rPr>
                <a:t>Internalizaçã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ahoma"/>
                </a:rPr>
                <a:t>(professor – aluno)</a:t>
              </a:r>
              <a:r>
                <a:rPr b="1" lang="pt-BR" sz="2400" spc="-1" strike="noStrike" u="sng">
                  <a:solidFill>
                    <a:srgbClr val="000000"/>
                  </a:solidFill>
                  <a:uFillTx/>
                  <a:latin typeface="Tahoma"/>
                </a:rPr>
                <a:t>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2"/>
            <p:cNvSpPr/>
            <p:nvPr/>
          </p:nvSpPr>
          <p:spPr>
            <a:xfrm>
              <a:off x="4427280" y="2198520"/>
              <a:ext cx="936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tácito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5"/>
            <p:cNvSpPr/>
            <p:nvPr/>
          </p:nvSpPr>
          <p:spPr>
            <a:xfrm>
              <a:off x="6445080" y="191124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táci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7"/>
            <p:cNvSpPr/>
            <p:nvPr/>
          </p:nvSpPr>
          <p:spPr>
            <a:xfrm>
              <a:off x="4427280" y="3135240"/>
              <a:ext cx="936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tácito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Text Box 18"/>
            <p:cNvSpPr/>
            <p:nvPr/>
          </p:nvSpPr>
          <p:spPr>
            <a:xfrm>
              <a:off x="6588000" y="5224320"/>
              <a:ext cx="936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tácito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23"/>
            <p:cNvSpPr/>
            <p:nvPr/>
          </p:nvSpPr>
          <p:spPr>
            <a:xfrm>
              <a:off x="6445080" y="2990880"/>
              <a:ext cx="129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explíci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Text Box 25"/>
            <p:cNvSpPr/>
            <p:nvPr/>
          </p:nvSpPr>
          <p:spPr>
            <a:xfrm>
              <a:off x="4356000" y="5367240"/>
              <a:ext cx="1294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explíci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Text Box 26"/>
            <p:cNvSpPr/>
            <p:nvPr/>
          </p:nvSpPr>
          <p:spPr>
            <a:xfrm>
              <a:off x="6516720" y="4071960"/>
              <a:ext cx="1294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explíci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 Box 27"/>
            <p:cNvSpPr/>
            <p:nvPr/>
          </p:nvSpPr>
          <p:spPr>
            <a:xfrm>
              <a:off x="4356000" y="4216320"/>
              <a:ext cx="1294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explíci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AutoShape 32"/>
            <p:cNvSpPr/>
            <p:nvPr/>
          </p:nvSpPr>
          <p:spPr>
            <a:xfrm rot="20448000">
              <a:off x="5292720" y="1695600"/>
              <a:ext cx="1512360" cy="287280"/>
            </a:xfrm>
            <a:custGeom>
              <a:avLst/>
              <a:gdLst>
                <a:gd name="textAreaLeft" fmla="*/ 264600 w 1512360"/>
                <a:gd name="textAreaRight" fmla="*/ 1096560 w 1512360"/>
                <a:gd name="textAreaTop" fmla="*/ 38520 h 287280"/>
                <a:gd name="textAreaBottom" fmla="*/ 24876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AutoShape 33"/>
            <p:cNvSpPr/>
            <p:nvPr/>
          </p:nvSpPr>
          <p:spPr>
            <a:xfrm rot="20614200">
              <a:off x="5364000" y="2703600"/>
              <a:ext cx="1512720" cy="287280"/>
            </a:xfrm>
            <a:custGeom>
              <a:avLst/>
              <a:gdLst>
                <a:gd name="textAreaLeft" fmla="*/ 264600 w 1512720"/>
                <a:gd name="textAreaRight" fmla="*/ 1096920 w 1512720"/>
                <a:gd name="textAreaTop" fmla="*/ 38520 h 287280"/>
                <a:gd name="textAreaBottom" fmla="*/ 24876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AutoShape 34"/>
            <p:cNvSpPr/>
            <p:nvPr/>
          </p:nvSpPr>
          <p:spPr>
            <a:xfrm rot="20294400">
              <a:off x="5437080" y="3782520"/>
              <a:ext cx="1512360" cy="287640"/>
            </a:xfrm>
            <a:custGeom>
              <a:avLst/>
              <a:gdLst>
                <a:gd name="textAreaLeft" fmla="*/ 264600 w 1512360"/>
                <a:gd name="textAreaRight" fmla="*/ 1096560 w 1512360"/>
                <a:gd name="textAreaTop" fmla="*/ 38520 h 287640"/>
                <a:gd name="textAreaBottom" fmla="*/ 249120 h 28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AutoShape 35"/>
            <p:cNvSpPr/>
            <p:nvPr/>
          </p:nvSpPr>
          <p:spPr>
            <a:xfrm rot="20614200">
              <a:off x="5508360" y="4935600"/>
              <a:ext cx="1512720" cy="287280"/>
            </a:xfrm>
            <a:custGeom>
              <a:avLst/>
              <a:gdLst>
                <a:gd name="textAreaLeft" fmla="*/ 264600 w 1512720"/>
                <a:gd name="textAreaRight" fmla="*/ 1096920 w 1512720"/>
                <a:gd name="textAreaTop" fmla="*/ 38520 h 287280"/>
                <a:gd name="textAreaBottom" fmla="*/ 24876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Text Box 38"/>
          <p:cNvSpPr/>
          <p:nvPr/>
        </p:nvSpPr>
        <p:spPr>
          <a:xfrm>
            <a:off x="684360" y="6467400"/>
            <a:ext cx="511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nte: Adaptação de Nonaka e Takeuch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10"/>
          <p:cNvSpPr/>
          <p:nvPr/>
        </p:nvSpPr>
        <p:spPr>
          <a:xfrm>
            <a:off x="719280" y="189000"/>
            <a:ext cx="79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nteúdo do Conheci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Group 122"/>
          <p:cNvGrpSpPr/>
          <p:nvPr/>
        </p:nvGrpSpPr>
        <p:grpSpPr>
          <a:xfrm>
            <a:off x="360360" y="1413000"/>
            <a:ext cx="8327880" cy="4319640"/>
            <a:chOff x="360360" y="1413000"/>
            <a:chExt cx="8327880" cy="4319640"/>
          </a:xfrm>
        </p:grpSpPr>
        <p:sp>
          <p:nvSpPr>
            <p:cNvPr id="554" name="Rectangle 87"/>
            <p:cNvSpPr/>
            <p:nvPr/>
          </p:nvSpPr>
          <p:spPr>
            <a:xfrm>
              <a:off x="468360" y="1555920"/>
              <a:ext cx="244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ahoma"/>
                </a:rPr>
                <a:t>Socializaçã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88"/>
            <p:cNvSpPr/>
            <p:nvPr/>
          </p:nvSpPr>
          <p:spPr>
            <a:xfrm>
              <a:off x="468360" y="5059440"/>
              <a:ext cx="252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ahoma"/>
                </a:rPr>
                <a:t>Internalizaçã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89"/>
            <p:cNvSpPr/>
            <p:nvPr/>
          </p:nvSpPr>
          <p:spPr>
            <a:xfrm>
              <a:off x="395280" y="3861000"/>
              <a:ext cx="252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ahoma"/>
                </a:rPr>
                <a:t>Combinaçã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90"/>
            <p:cNvSpPr/>
            <p:nvPr/>
          </p:nvSpPr>
          <p:spPr>
            <a:xfrm>
              <a:off x="477720" y="2708280"/>
              <a:ext cx="241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ahoma"/>
                </a:rPr>
                <a:t>Externalizaçã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99"/>
            <p:cNvSpPr/>
            <p:nvPr/>
          </p:nvSpPr>
          <p:spPr>
            <a:xfrm>
              <a:off x="4564800" y="1700280"/>
              <a:ext cx="378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ahoma"/>
                </a:rPr>
                <a:t>Conhecimento Compartilhad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100"/>
            <p:cNvSpPr/>
            <p:nvPr/>
          </p:nvSpPr>
          <p:spPr>
            <a:xfrm>
              <a:off x="4643280" y="285300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ahoma"/>
                </a:rPr>
                <a:t>Conhecimento Conceitu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101"/>
            <p:cNvSpPr/>
            <p:nvPr/>
          </p:nvSpPr>
          <p:spPr>
            <a:xfrm>
              <a:off x="4788000" y="3861000"/>
              <a:ext cx="352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ahoma"/>
                </a:rPr>
                <a:t>Conhecimento Sistêm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102"/>
            <p:cNvSpPr/>
            <p:nvPr/>
          </p:nvSpPr>
          <p:spPr>
            <a:xfrm>
              <a:off x="4788000" y="5011920"/>
              <a:ext cx="352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ahoma"/>
                </a:rPr>
                <a:t>Conhecimento Operac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AutoShape 103"/>
            <p:cNvSpPr/>
            <p:nvPr/>
          </p:nvSpPr>
          <p:spPr>
            <a:xfrm>
              <a:off x="8459640" y="2060640"/>
              <a:ext cx="228600" cy="685800"/>
            </a:xfrm>
            <a:custGeom>
              <a:avLst/>
              <a:gdLst>
                <a:gd name="textAreaLeft" fmla="*/ 30600 w 228600"/>
                <a:gd name="textAreaRight" fmla="*/ 198000 w 228600"/>
                <a:gd name="textAreaTop" fmla="*/ 119880 h 685800"/>
                <a:gd name="textAreaBottom" fmla="*/ 497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AutoShape 104"/>
            <p:cNvSpPr/>
            <p:nvPr/>
          </p:nvSpPr>
          <p:spPr>
            <a:xfrm>
              <a:off x="8459640" y="3175200"/>
              <a:ext cx="228600" cy="685800"/>
            </a:xfrm>
            <a:custGeom>
              <a:avLst/>
              <a:gdLst>
                <a:gd name="textAreaLeft" fmla="*/ 30600 w 228600"/>
                <a:gd name="textAreaRight" fmla="*/ 198000 w 228600"/>
                <a:gd name="textAreaTop" fmla="*/ 119880 h 685800"/>
                <a:gd name="textAreaBottom" fmla="*/ 497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AutoShape 105"/>
            <p:cNvSpPr/>
            <p:nvPr/>
          </p:nvSpPr>
          <p:spPr>
            <a:xfrm>
              <a:off x="8459640" y="4327560"/>
              <a:ext cx="228600" cy="685800"/>
            </a:xfrm>
            <a:custGeom>
              <a:avLst/>
              <a:gdLst>
                <a:gd name="textAreaLeft" fmla="*/ 30600 w 228600"/>
                <a:gd name="textAreaRight" fmla="*/ 198000 w 228600"/>
                <a:gd name="textAreaTop" fmla="*/ 119880 h 685800"/>
                <a:gd name="textAreaBottom" fmla="*/ 497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Oval 107"/>
            <p:cNvSpPr/>
            <p:nvPr/>
          </p:nvSpPr>
          <p:spPr>
            <a:xfrm>
              <a:off x="360360" y="2563920"/>
              <a:ext cx="2627280" cy="8650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Oval 110"/>
            <p:cNvSpPr/>
            <p:nvPr/>
          </p:nvSpPr>
          <p:spPr>
            <a:xfrm>
              <a:off x="360360" y="3716280"/>
              <a:ext cx="2627280" cy="8636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111"/>
            <p:cNvSpPr/>
            <p:nvPr/>
          </p:nvSpPr>
          <p:spPr>
            <a:xfrm>
              <a:off x="395280" y="4869000"/>
              <a:ext cx="2627280" cy="8636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Oval 112"/>
            <p:cNvSpPr/>
            <p:nvPr/>
          </p:nvSpPr>
          <p:spPr>
            <a:xfrm>
              <a:off x="360360" y="1413000"/>
              <a:ext cx="2627280" cy="8636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114"/>
            <p:cNvSpPr/>
            <p:nvPr/>
          </p:nvSpPr>
          <p:spPr>
            <a:xfrm>
              <a:off x="4067280" y="1555920"/>
              <a:ext cx="4321080" cy="7920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115"/>
            <p:cNvSpPr/>
            <p:nvPr/>
          </p:nvSpPr>
          <p:spPr>
            <a:xfrm>
              <a:off x="4067280" y="2637000"/>
              <a:ext cx="4321080" cy="7920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Oval 116"/>
            <p:cNvSpPr/>
            <p:nvPr/>
          </p:nvSpPr>
          <p:spPr>
            <a:xfrm>
              <a:off x="4068720" y="3716280"/>
              <a:ext cx="4319640" cy="792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Oval 117"/>
            <p:cNvSpPr/>
            <p:nvPr/>
          </p:nvSpPr>
          <p:spPr>
            <a:xfrm>
              <a:off x="4067280" y="4869000"/>
              <a:ext cx="4321080" cy="7920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AutoShape 118"/>
            <p:cNvSpPr/>
            <p:nvPr/>
          </p:nvSpPr>
          <p:spPr>
            <a:xfrm rot="21298200">
              <a:off x="3058920" y="1484280"/>
              <a:ext cx="1152360" cy="287640"/>
            </a:xfrm>
            <a:custGeom>
              <a:avLst/>
              <a:gdLst>
                <a:gd name="textAreaLeft" fmla="*/ 201600 w 1152360"/>
                <a:gd name="textAreaRight" fmla="*/ 835560 w 1152360"/>
                <a:gd name="textAreaTop" fmla="*/ 38520 h 287640"/>
                <a:gd name="textAreaBottom" fmla="*/ 249120 h 28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AutoShape 119"/>
            <p:cNvSpPr/>
            <p:nvPr/>
          </p:nvSpPr>
          <p:spPr>
            <a:xfrm rot="21298200">
              <a:off x="3058920" y="2637000"/>
              <a:ext cx="1152360" cy="287280"/>
            </a:xfrm>
            <a:custGeom>
              <a:avLst/>
              <a:gdLst>
                <a:gd name="textAreaLeft" fmla="*/ 201600 w 1152360"/>
                <a:gd name="textAreaRight" fmla="*/ 835560 w 1152360"/>
                <a:gd name="textAreaTop" fmla="*/ 38520 h 287280"/>
                <a:gd name="textAreaBottom" fmla="*/ 24876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AutoShape 120"/>
            <p:cNvSpPr/>
            <p:nvPr/>
          </p:nvSpPr>
          <p:spPr>
            <a:xfrm rot="21298200">
              <a:off x="3058920" y="3789360"/>
              <a:ext cx="1152360" cy="287280"/>
            </a:xfrm>
            <a:custGeom>
              <a:avLst/>
              <a:gdLst>
                <a:gd name="textAreaLeft" fmla="*/ 201600 w 1152360"/>
                <a:gd name="textAreaRight" fmla="*/ 835560 w 1152360"/>
                <a:gd name="textAreaTop" fmla="*/ 38520 h 287280"/>
                <a:gd name="textAreaBottom" fmla="*/ 24876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AutoShape 121"/>
            <p:cNvSpPr/>
            <p:nvPr/>
          </p:nvSpPr>
          <p:spPr>
            <a:xfrm rot="21298200">
              <a:off x="3058920" y="4869000"/>
              <a:ext cx="1152360" cy="287280"/>
            </a:xfrm>
            <a:custGeom>
              <a:avLst/>
              <a:gdLst>
                <a:gd name="textAreaLeft" fmla="*/ 201600 w 1152360"/>
                <a:gd name="textAreaRight" fmla="*/ 835560 w 1152360"/>
                <a:gd name="textAreaTop" fmla="*/ 38520 h 287280"/>
                <a:gd name="textAreaBottom" fmla="*/ 24876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Text Box 123"/>
          <p:cNvSpPr/>
          <p:nvPr/>
        </p:nvSpPr>
        <p:spPr>
          <a:xfrm>
            <a:off x="684360" y="6453360"/>
            <a:ext cx="51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onte: Adaptação de Nonaka e Takeuch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94760" y="258840"/>
            <a:ext cx="869796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ordagem Pedagógica da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Oval 6"/>
          <p:cNvSpPr/>
          <p:nvPr/>
        </p:nvSpPr>
        <p:spPr>
          <a:xfrm>
            <a:off x="179280" y="2565360"/>
            <a:ext cx="2952720" cy="180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7"/>
          <p:cNvSpPr/>
          <p:nvPr/>
        </p:nvSpPr>
        <p:spPr>
          <a:xfrm>
            <a:off x="3203640" y="2637000"/>
            <a:ext cx="2663640" cy="1655640"/>
          </a:xfrm>
          <a:prstGeom prst="rightArrow">
            <a:avLst>
              <a:gd name="adj1" fmla="val 50000"/>
              <a:gd name="adj2" fmla="val 40221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Oval 8"/>
          <p:cNvSpPr/>
          <p:nvPr/>
        </p:nvSpPr>
        <p:spPr>
          <a:xfrm>
            <a:off x="6084720" y="2276640"/>
            <a:ext cx="2735280" cy="2734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0"/>
          <p:cNvSpPr/>
          <p:nvPr/>
        </p:nvSpPr>
        <p:spPr>
          <a:xfrm>
            <a:off x="611280" y="3068640"/>
            <a:ext cx="22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hecimento Individ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1"/>
          <p:cNvSpPr/>
          <p:nvPr/>
        </p:nvSpPr>
        <p:spPr>
          <a:xfrm>
            <a:off x="6443640" y="3068640"/>
            <a:ext cx="215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hecimento Organiz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2"/>
          <p:cNvSpPr/>
          <p:nvPr/>
        </p:nvSpPr>
        <p:spPr>
          <a:xfrm>
            <a:off x="3203640" y="3068640"/>
            <a:ext cx="237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PRENDIZAG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RGANIZ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val 14"/>
          <p:cNvSpPr/>
          <p:nvPr/>
        </p:nvSpPr>
        <p:spPr>
          <a:xfrm>
            <a:off x="6012000" y="2565360"/>
            <a:ext cx="2952720" cy="180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10"/>
          <p:cNvSpPr/>
          <p:nvPr/>
        </p:nvSpPr>
        <p:spPr>
          <a:xfrm>
            <a:off x="468360" y="260280"/>
            <a:ext cx="835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ipologia de Práticas de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1"/>
          <p:cNvSpPr/>
          <p:nvPr/>
        </p:nvSpPr>
        <p:spPr>
          <a:xfrm>
            <a:off x="611280" y="1700280"/>
            <a:ext cx="8101080" cy="46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000000"/>
                </a:solidFill>
                <a:latin typeface="Tahoma"/>
              </a:rPr>
              <a:t>Gestão de Pessoas e Competências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: está relacionado à criação, disseminação e aplicação de informações que facilitam o conhecimento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2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000000"/>
                </a:solidFill>
                <a:latin typeface="Tahoma"/>
              </a:rPr>
              <a:t>Processos de Negócios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: facilitam a estruturação e o fluxo do conhecimento organizacional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2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000000"/>
                </a:solidFill>
                <a:latin typeface="Tahoma"/>
              </a:rPr>
              <a:t>Tecnologia da Informação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focada na estrutura dos aplicativos e ferramentas que facilitam a captura, a codificação e o compartilhamento de conhecimen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5"/>
          <p:cNvSpPr/>
          <p:nvPr/>
        </p:nvSpPr>
        <p:spPr>
          <a:xfrm rot="16200000">
            <a:off x="3633840" y="3494880"/>
            <a:ext cx="362880" cy="62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nte: Texto para discussão n.1095 do IPEA/Brasilia, junho/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xt Box 5"/>
          <p:cNvSpPr/>
          <p:nvPr/>
        </p:nvSpPr>
        <p:spPr>
          <a:xfrm>
            <a:off x="1835280" y="260280"/>
            <a:ext cx="53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tivos Intangíve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7"/>
          <p:cNvSpPr/>
          <p:nvPr/>
        </p:nvSpPr>
        <p:spPr>
          <a:xfrm>
            <a:off x="826920" y="155592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Capital Intelectual: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2"/>
          <p:cNvSpPr/>
          <p:nvPr/>
        </p:nvSpPr>
        <p:spPr>
          <a:xfrm>
            <a:off x="900000" y="2565360"/>
            <a:ext cx="727236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pt-BR" sz="2200" spc="-1" strike="noStrike">
                <a:solidFill>
                  <a:srgbClr val="000000"/>
                </a:solidFill>
                <a:latin typeface="Tahoma"/>
              </a:rPr>
              <a:t>Capital Humano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: Fonte de invenção, inovação e renovação. Competências individua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pt-BR" sz="2200" spc="-1" strike="noStrike">
                <a:solidFill>
                  <a:srgbClr val="000000"/>
                </a:solidFill>
                <a:latin typeface="Tahoma"/>
              </a:rPr>
              <a:t>Capital Estrutural ou Organizacional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: Pertence à organização como um todo: publicações, tecnologias, patentes, sistemas, práticas, rotinas, procedimentos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pt-BR" sz="2200" spc="-1" strike="noStrike">
                <a:solidFill>
                  <a:srgbClr val="000000"/>
                </a:solidFill>
                <a:latin typeface="Tahoma"/>
              </a:rPr>
              <a:t>Capital de Relacionamento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: É o valor dos relacionamentos de uma organização com os seus clientes, fornecedores e ambiente extern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6"/>
          <p:cNvSpPr/>
          <p:nvPr/>
        </p:nvSpPr>
        <p:spPr>
          <a:xfrm>
            <a:off x="4140360" y="1413000"/>
            <a:ext cx="4176720" cy="119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Soma de Conhecimentos Individuais e Organizacio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7"/>
          <p:cNvSpPr/>
          <p:nvPr/>
        </p:nvSpPr>
        <p:spPr>
          <a:xfrm rot="16200000">
            <a:off x="4461840" y="2595600"/>
            <a:ext cx="362880" cy="80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nte: Adaptação de Capital Intelectual – 2007, Sátiro Santiago e Sátiro Santiago J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Text Box 10"/>
          <p:cNvSpPr/>
          <p:nvPr/>
        </p:nvSpPr>
        <p:spPr>
          <a:xfrm>
            <a:off x="468360" y="112680"/>
            <a:ext cx="838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ntexto da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9"/>
          <p:cNvSpPr/>
          <p:nvPr/>
        </p:nvSpPr>
        <p:spPr>
          <a:xfrm>
            <a:off x="971640" y="618660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Novos e Melhores Produtos e Serviç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Group 31"/>
          <p:cNvGrpSpPr/>
          <p:nvPr/>
        </p:nvGrpSpPr>
        <p:grpSpPr>
          <a:xfrm>
            <a:off x="1547640" y="1052640"/>
            <a:ext cx="6193080" cy="5111640"/>
            <a:chOff x="1547640" y="1052640"/>
            <a:chExt cx="6193080" cy="5111640"/>
          </a:xfrm>
        </p:grpSpPr>
        <p:sp>
          <p:nvSpPr>
            <p:cNvPr id="597" name="Text Box 11"/>
            <p:cNvSpPr/>
            <p:nvPr/>
          </p:nvSpPr>
          <p:spPr>
            <a:xfrm>
              <a:off x="1547640" y="1052640"/>
              <a:ext cx="6193080" cy="45972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Aprendizagem Organizacion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Text Box 14"/>
            <p:cNvSpPr/>
            <p:nvPr/>
          </p:nvSpPr>
          <p:spPr>
            <a:xfrm>
              <a:off x="1547640" y="2060640"/>
              <a:ext cx="6193080" cy="45972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Criação do Conhecimento Organizacion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AutoShape 17"/>
            <p:cNvSpPr/>
            <p:nvPr/>
          </p:nvSpPr>
          <p:spPr>
            <a:xfrm>
              <a:off x="4427640" y="2565360"/>
              <a:ext cx="360360" cy="503280"/>
            </a:xfrm>
            <a:prstGeom prst="downArrow">
              <a:avLst>
                <a:gd name="adj1" fmla="val 50000"/>
                <a:gd name="adj2" fmla="val 34915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Text Box 18"/>
            <p:cNvSpPr/>
            <p:nvPr/>
          </p:nvSpPr>
          <p:spPr>
            <a:xfrm>
              <a:off x="1547640" y="3068640"/>
              <a:ext cx="6193080" cy="45972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Invenção / Inovaçã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Text Box 22"/>
            <p:cNvSpPr/>
            <p:nvPr/>
          </p:nvSpPr>
          <p:spPr>
            <a:xfrm>
              <a:off x="1547640" y="4149720"/>
              <a:ext cx="6193080" cy="45972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iferencial Competitiv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Text Box 24"/>
            <p:cNvSpPr/>
            <p:nvPr/>
          </p:nvSpPr>
          <p:spPr>
            <a:xfrm>
              <a:off x="1547640" y="5157720"/>
              <a:ext cx="6193080" cy="45972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ustentabilida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AutoShape 26"/>
            <p:cNvSpPr/>
            <p:nvPr/>
          </p:nvSpPr>
          <p:spPr>
            <a:xfrm>
              <a:off x="4427640" y="1557360"/>
              <a:ext cx="360360" cy="503280"/>
            </a:xfrm>
            <a:prstGeom prst="downArrow">
              <a:avLst>
                <a:gd name="adj1" fmla="val 50000"/>
                <a:gd name="adj2" fmla="val 34915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AutoShape 27"/>
            <p:cNvSpPr/>
            <p:nvPr/>
          </p:nvSpPr>
          <p:spPr>
            <a:xfrm>
              <a:off x="4427640" y="3573360"/>
              <a:ext cx="360360" cy="503280"/>
            </a:xfrm>
            <a:prstGeom prst="downArrow">
              <a:avLst>
                <a:gd name="adj1" fmla="val 50000"/>
                <a:gd name="adj2" fmla="val 34915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AutoShape 28"/>
            <p:cNvSpPr/>
            <p:nvPr/>
          </p:nvSpPr>
          <p:spPr>
            <a:xfrm>
              <a:off x="4427640" y="4653000"/>
              <a:ext cx="360360" cy="503280"/>
            </a:xfrm>
            <a:prstGeom prst="downArrow">
              <a:avLst>
                <a:gd name="adj1" fmla="val 50000"/>
                <a:gd name="adj2" fmla="val 34915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AutoShape 29"/>
            <p:cNvSpPr/>
            <p:nvPr/>
          </p:nvSpPr>
          <p:spPr>
            <a:xfrm>
              <a:off x="4427640" y="5661000"/>
              <a:ext cx="360360" cy="503280"/>
            </a:xfrm>
            <a:prstGeom prst="downArrow">
              <a:avLst>
                <a:gd name="adj1" fmla="val 50000"/>
                <a:gd name="adj2" fmla="val 34915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Text Box 10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Barreiras na Implantação da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11"/>
          <p:cNvSpPr/>
          <p:nvPr/>
        </p:nvSpPr>
        <p:spPr>
          <a:xfrm>
            <a:off x="971640" y="1341360"/>
            <a:ext cx="7345440" cy="56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16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Resistência cultural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16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Resistência organizacional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16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Resistência a mudanças: novos        conhecimentos, novos processo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16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Falta de comprometimento da Administração Superior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16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Falta de capacitação dos facilitadore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16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Receio de perda do controle de Informaçõe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16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Deficiência da Aprendizagem Organizacion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tângulo 1"/>
          <p:cNvSpPr/>
          <p:nvPr/>
        </p:nvSpPr>
        <p:spPr>
          <a:xfrm>
            <a:off x="1708920" y="333360"/>
            <a:ext cx="51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bordagem Func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CaixaDeTexto 4"/>
          <p:cNvSpPr/>
          <p:nvPr/>
        </p:nvSpPr>
        <p:spPr>
          <a:xfrm>
            <a:off x="1403280" y="1052640"/>
            <a:ext cx="6769080" cy="56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1- Compartilhamento de conhecimento explícit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gs/Microb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k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d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deo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2- Compartilhamento de conhecimento tácit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ó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unidades de Práticas Virtu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leconferê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ideoconferê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des Sociais (pessoais/profissiona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rcadores (social bookmark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ições aprend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toryt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Capacidade Absortiva_fatores dimensoes variaveis"/>
          <p:cNvPicPr/>
          <p:nvPr/>
        </p:nvPicPr>
        <p:blipFill>
          <a:blip r:embed="rId1"/>
          <a:stretch/>
        </p:blipFill>
        <p:spPr>
          <a:xfrm>
            <a:off x="314280" y="1197000"/>
            <a:ext cx="8515440" cy="50194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826920" y="115920"/>
            <a:ext cx="77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Dimensões, Fatores e Variáveis da Capacidade Absor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 rot="16200000">
            <a:off x="2163960" y="4612680"/>
            <a:ext cx="42372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nte:Nilton Spíndola Júnior,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CaixaDeTexto 1"/>
          <p:cNvSpPr/>
          <p:nvPr/>
        </p:nvSpPr>
        <p:spPr>
          <a:xfrm>
            <a:off x="1403280" y="907920"/>
            <a:ext cx="6337440" cy="48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3- Sistemas que alavancam a G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istemas de Inform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Gestão da Inov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4- Sistemas de Gestão de Competências Pessoais e Organizaciona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pas Ment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pas Conceitu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pas Estratég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Gestão de Processos/Proje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a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áginas Amare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tângulo 1"/>
          <p:cNvSpPr/>
          <p:nvPr/>
        </p:nvSpPr>
        <p:spPr>
          <a:xfrm>
            <a:off x="395280" y="836640"/>
            <a:ext cx="81374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erramentas de Colaboração e Aprendizagem on-lin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tângulo 2"/>
          <p:cNvSpPr/>
          <p:nvPr/>
        </p:nvSpPr>
        <p:spPr>
          <a:xfrm>
            <a:off x="755640" y="2967120"/>
            <a:ext cx="7993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indmeister.com/pt/12213323/best-online-collaboration-tools-2011-robin-good-s-collaborative-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4lpt.co.uk/recommended/201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b0f0"/>
                </a:solidFill>
                <a:uFillTx/>
                <a:latin typeface="Arial"/>
              </a:rPr>
              <a:t>Práticas: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ttp://www.portaldeconhecimentos.org.br/index.php/p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eta para a direita 3"/>
          <p:cNvSpPr/>
          <p:nvPr/>
        </p:nvSpPr>
        <p:spPr>
          <a:xfrm>
            <a:off x="324000" y="3141720"/>
            <a:ext cx="358560" cy="216000"/>
          </a:xfrm>
          <a:prstGeom prst="rightArrow">
            <a:avLst>
              <a:gd name="adj1" fmla="val 50000"/>
              <a:gd name="adj2" fmla="val 498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Seta para a direita 3"/>
          <p:cNvSpPr/>
          <p:nvPr/>
        </p:nvSpPr>
        <p:spPr>
          <a:xfrm>
            <a:off x="250920" y="4724280"/>
            <a:ext cx="358560" cy="217440"/>
          </a:xfrm>
          <a:prstGeom prst="rightArrow">
            <a:avLst>
              <a:gd name="adj1" fmla="val 50000"/>
              <a:gd name="adj2" fmla="val 49646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Oval 5"/>
          <p:cNvSpPr/>
          <p:nvPr/>
        </p:nvSpPr>
        <p:spPr>
          <a:xfrm>
            <a:off x="2987640" y="476280"/>
            <a:ext cx="3600360" cy="1150920"/>
          </a:xfrm>
          <a:prstGeom prst="ellipse">
            <a:avLst/>
          </a:prstGeom>
          <a:solidFill>
            <a:srgbClr val="ffcc00">
              <a:alpha val="78000"/>
            </a:srgbClr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6"/>
          <p:cNvSpPr/>
          <p:nvPr/>
        </p:nvSpPr>
        <p:spPr>
          <a:xfrm>
            <a:off x="4751280" y="1628640"/>
            <a:ext cx="287280" cy="648000"/>
          </a:xfrm>
          <a:prstGeom prst="downArrow">
            <a:avLst>
              <a:gd name="adj1" fmla="val 50000"/>
              <a:gd name="adj2" fmla="val 56391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7"/>
          <p:cNvSpPr/>
          <p:nvPr/>
        </p:nvSpPr>
        <p:spPr>
          <a:xfrm>
            <a:off x="2448000" y="2421000"/>
            <a:ext cx="54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tegração de novos modelos organizacion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8"/>
          <p:cNvSpPr/>
          <p:nvPr/>
        </p:nvSpPr>
        <p:spPr>
          <a:xfrm>
            <a:off x="3456000" y="3567240"/>
            <a:ext cx="2879640" cy="10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063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Grupos inter-funcionai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063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Grupos inter-setoriai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063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Equipes de trabalh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9"/>
          <p:cNvSpPr/>
          <p:nvPr/>
        </p:nvSpPr>
        <p:spPr>
          <a:xfrm>
            <a:off x="3382920" y="5300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unidades de Pr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0"/>
          <p:cNvSpPr/>
          <p:nvPr/>
        </p:nvSpPr>
        <p:spPr>
          <a:xfrm>
            <a:off x="7128000" y="3500280"/>
            <a:ext cx="180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jetos, tarefas, result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1"/>
          <p:cNvSpPr/>
          <p:nvPr/>
        </p:nvSpPr>
        <p:spPr>
          <a:xfrm>
            <a:off x="7129440" y="4870440"/>
            <a:ext cx="18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rabalh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prendizagem, mudança, inova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AutoShape 12"/>
          <p:cNvSpPr/>
          <p:nvPr/>
        </p:nvSpPr>
        <p:spPr>
          <a:xfrm>
            <a:off x="4751280" y="4724280"/>
            <a:ext cx="216000" cy="505080"/>
          </a:xfrm>
          <a:prstGeom prst="downArrow">
            <a:avLst>
              <a:gd name="adj1" fmla="val 50000"/>
              <a:gd name="adj2" fmla="val 58458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13"/>
          <p:cNvSpPr/>
          <p:nvPr/>
        </p:nvSpPr>
        <p:spPr>
          <a:xfrm rot="16200000">
            <a:off x="6659280" y="3681000"/>
            <a:ext cx="216000" cy="574920"/>
          </a:xfrm>
          <a:prstGeom prst="downArrow">
            <a:avLst>
              <a:gd name="adj1" fmla="val 50000"/>
              <a:gd name="adj2" fmla="val 66542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14"/>
          <p:cNvSpPr/>
          <p:nvPr/>
        </p:nvSpPr>
        <p:spPr>
          <a:xfrm>
            <a:off x="287280" y="3284640"/>
            <a:ext cx="252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Estruturas formais, hierárquicas de aquisição e difusão de informações, idéias, conheciment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5"/>
          <p:cNvSpPr/>
          <p:nvPr/>
        </p:nvSpPr>
        <p:spPr>
          <a:xfrm>
            <a:off x="358920" y="4871880"/>
            <a:ext cx="25207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Estruturas complementares às anteriores, não hierárquicas que, consolidam o compartilhamento de conhecimentos, e propiciam a </a:t>
            </a:r>
            <a:r>
              <a:rPr b="0" lang="pt-BR" sz="1400" spc="-1" strike="noStrike" u="sng">
                <a:solidFill>
                  <a:srgbClr val="000000"/>
                </a:solidFill>
                <a:uFillTx/>
                <a:latin typeface="Arial"/>
              </a:rPr>
              <a:t>aprendizagem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e a  </a:t>
            </a:r>
            <a:r>
              <a:rPr b="0" lang="pt-BR" sz="1400" spc="-1" strike="noStrike" u="sng">
                <a:solidFill>
                  <a:srgbClr val="000000"/>
                </a:solidFill>
                <a:uFillTx/>
                <a:latin typeface="Arial"/>
              </a:rPr>
              <a:t>inovação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16"/>
          <p:cNvSpPr/>
          <p:nvPr/>
        </p:nvSpPr>
        <p:spPr>
          <a:xfrm rot="16200000">
            <a:off x="6586560" y="5194440"/>
            <a:ext cx="216000" cy="574560"/>
          </a:xfrm>
          <a:prstGeom prst="downArrow">
            <a:avLst>
              <a:gd name="adj1" fmla="val 50000"/>
              <a:gd name="adj2" fmla="val 66500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46"/>
          <p:cNvSpPr/>
          <p:nvPr/>
        </p:nvSpPr>
        <p:spPr>
          <a:xfrm>
            <a:off x="3492360" y="693720"/>
            <a:ext cx="27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unidades de Prá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Oval 47"/>
          <p:cNvSpPr/>
          <p:nvPr/>
        </p:nvSpPr>
        <p:spPr>
          <a:xfrm>
            <a:off x="179280" y="3141720"/>
            <a:ext cx="2700360" cy="129528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Oval 48"/>
          <p:cNvSpPr/>
          <p:nvPr/>
        </p:nvSpPr>
        <p:spPr>
          <a:xfrm>
            <a:off x="179280" y="4581360"/>
            <a:ext cx="2772000" cy="194328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Oval 49"/>
          <p:cNvSpPr/>
          <p:nvPr/>
        </p:nvSpPr>
        <p:spPr>
          <a:xfrm>
            <a:off x="3381480" y="5229360"/>
            <a:ext cx="3025800" cy="576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Oval 50"/>
          <p:cNvSpPr/>
          <p:nvPr/>
        </p:nvSpPr>
        <p:spPr>
          <a:xfrm>
            <a:off x="3382920" y="3284640"/>
            <a:ext cx="3097080" cy="144144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val 51"/>
          <p:cNvSpPr/>
          <p:nvPr/>
        </p:nvSpPr>
        <p:spPr>
          <a:xfrm>
            <a:off x="7093080" y="3429000"/>
            <a:ext cx="1836720" cy="108108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Oval 52"/>
          <p:cNvSpPr/>
          <p:nvPr/>
        </p:nvSpPr>
        <p:spPr>
          <a:xfrm>
            <a:off x="7056360" y="4726080"/>
            <a:ext cx="1873440" cy="143964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Oval 53"/>
          <p:cNvSpPr/>
          <p:nvPr/>
        </p:nvSpPr>
        <p:spPr>
          <a:xfrm>
            <a:off x="2340000" y="2276640"/>
            <a:ext cx="5076720" cy="64764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AutoShape 54"/>
          <p:cNvSpPr/>
          <p:nvPr/>
        </p:nvSpPr>
        <p:spPr>
          <a:xfrm>
            <a:off x="4751280" y="292428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AutoShape 55"/>
          <p:cNvSpPr/>
          <p:nvPr/>
        </p:nvSpPr>
        <p:spPr>
          <a:xfrm>
            <a:off x="2879640" y="3716280"/>
            <a:ext cx="503280" cy="216000"/>
          </a:xfrm>
          <a:prstGeom prst="leftRightArrow">
            <a:avLst>
              <a:gd name="adj1" fmla="val 50000"/>
              <a:gd name="adj2" fmla="val 46384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AutoShape 56"/>
          <p:cNvSpPr/>
          <p:nvPr/>
        </p:nvSpPr>
        <p:spPr>
          <a:xfrm>
            <a:off x="2951280" y="5373720"/>
            <a:ext cx="431640" cy="216000"/>
          </a:xfrm>
          <a:prstGeom prst="leftRightArrow">
            <a:avLst>
              <a:gd name="adj1" fmla="val 50000"/>
              <a:gd name="adj2" fmla="val 39781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9" name="Group 30"/>
          <p:cNvGrpSpPr/>
          <p:nvPr/>
        </p:nvGrpSpPr>
        <p:grpSpPr>
          <a:xfrm>
            <a:off x="684360" y="1268280"/>
            <a:ext cx="7272360" cy="5163840"/>
            <a:chOff x="684360" y="1268280"/>
            <a:chExt cx="7272360" cy="5163840"/>
          </a:xfrm>
        </p:grpSpPr>
        <p:sp>
          <p:nvSpPr>
            <p:cNvPr id="640" name="AutoShape 8"/>
            <p:cNvSpPr/>
            <p:nvPr/>
          </p:nvSpPr>
          <p:spPr>
            <a:xfrm>
              <a:off x="2844720" y="2060640"/>
              <a:ext cx="566640" cy="2233440"/>
            </a:xfrm>
            <a:prstGeom prst="downArrow">
              <a:avLst>
                <a:gd name="adj1" fmla="val 50000"/>
                <a:gd name="adj2" fmla="val 98539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Text Box 10"/>
            <p:cNvSpPr/>
            <p:nvPr/>
          </p:nvSpPr>
          <p:spPr>
            <a:xfrm>
              <a:off x="684360" y="4581360"/>
              <a:ext cx="705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3300"/>
                  </a:solidFill>
                  <a:latin typeface="Tahoma"/>
                </a:rPr>
                <a:t>      </a:t>
              </a:r>
              <a:r>
                <a:rPr b="0" lang="pt-BR" sz="2400" spc="-1" strike="noStrike">
                  <a:solidFill>
                    <a:srgbClr val="ff3300"/>
                  </a:solidFill>
                  <a:latin typeface="Tahoma"/>
                </a:rPr>
                <a:t>Projeto-Piloto de Gestão do Conhecimento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Text Box 11"/>
            <p:cNvSpPr/>
            <p:nvPr/>
          </p:nvSpPr>
          <p:spPr>
            <a:xfrm>
              <a:off x="3852720" y="1917720"/>
              <a:ext cx="4104000" cy="27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Mapeamento Organizac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Mapeamento de Processos/Proje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apeamento de Conhecimen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Mapeamento de Competência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apeamento de Prát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Mapeamento de TI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Text Box 12"/>
            <p:cNvSpPr/>
            <p:nvPr/>
          </p:nvSpPr>
          <p:spPr>
            <a:xfrm>
              <a:off x="3852720" y="5229360"/>
              <a:ext cx="360072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Áreas Estratég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Processos de Conhecimen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ráticas/Ferrament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Text Box 16"/>
            <p:cNvSpPr/>
            <p:nvPr/>
          </p:nvSpPr>
          <p:spPr>
            <a:xfrm rot="16200000">
              <a:off x="3576240" y="-831600"/>
              <a:ext cx="911880" cy="51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3300"/>
                  </a:solidFill>
                  <a:latin typeface="Tahoma"/>
                </a:rPr>
                <a:t>Modelo de Gestão do Conhecimento</a:t>
              </a:r>
              <a:r>
                <a:rPr b="1" lang="pt-BR" sz="2400" spc="-1" strike="noStrike">
                  <a:solidFill>
                    <a:srgbClr val="ff33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5" name="Text Box 27"/>
          <p:cNvSpPr/>
          <p:nvPr/>
        </p:nvSpPr>
        <p:spPr>
          <a:xfrm>
            <a:off x="0" y="2602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Implementação/Implantação da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Text Box 10"/>
          <p:cNvSpPr/>
          <p:nvPr/>
        </p:nvSpPr>
        <p:spPr>
          <a:xfrm>
            <a:off x="1260360" y="1887480"/>
            <a:ext cx="6840720" cy="35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pt-BR" sz="3600" spc="-1" strike="noStrike">
                <a:solidFill>
                  <a:srgbClr val="000000"/>
                </a:solidFill>
                <a:latin typeface="Tahoma"/>
              </a:rPr>
              <a:t>Mais difícil do que convencer alguém a aceitar novos conceitos é convencer alguém a </a:t>
            </a:r>
            <a:r>
              <a:rPr b="0" i="1" lang="pt-BR" sz="3600" spc="-1" strike="noStrike">
                <a:solidFill>
                  <a:srgbClr val="000000"/>
                </a:solidFill>
                <a:latin typeface="Tahoma"/>
              </a:rPr>
              <a:t>se livrar</a:t>
            </a:r>
            <a:r>
              <a:rPr b="0" lang="pt-BR" sz="3600" spc="-1" strike="noStrike">
                <a:solidFill>
                  <a:srgbClr val="000000"/>
                </a:solidFill>
                <a:latin typeface="Tahoma"/>
              </a:rPr>
              <a:t> dos velhos conceitos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John Maynard Key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826920" y="1045800"/>
            <a:ext cx="7437600" cy="44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vo ensinar-lhe, Tsu-lu, no que consiste o conhecimento? Quando você sabe alguma coisa, reconhecer que sabe; e, quando você não sabe alguma coisa, reconhecer que não sabe. Isso é conhecimento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úcio (Século IV a.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Text Box 10"/>
          <p:cNvSpPr/>
          <p:nvPr/>
        </p:nvSpPr>
        <p:spPr>
          <a:xfrm>
            <a:off x="1403280" y="44280"/>
            <a:ext cx="63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Bibliograf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11"/>
          <p:cNvSpPr/>
          <p:nvPr/>
        </p:nvSpPr>
        <p:spPr>
          <a:xfrm>
            <a:off x="468360" y="765000"/>
            <a:ext cx="84247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ALVARENGA NETO, Rivadavia Correa Drummond de - Gestão do conhecimento em organizaçõe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BROOKES, B. -The Foundation of Information Science.</a:t>
            </a: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CHOO, C.W. – A organização do Conhecimento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DAVENPORT &amp; PRUZAK – Conhecimento Empresarial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GUARAGNA, Eduardo – Desmistificando o Aprendizado Organizacional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LÉVY. Pierre – A Inteligência Coletiv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LITTO, Freddric M.; FORMIGA, Marcos, (organizadores) – Educação a Distância, o estado da art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NONAKA &amp; TAKEUCHI  - Criação do Conhecimento na Empres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SCHERER, Felipe Ost; CARLOMAGNO, Maximiliano Selistre – Gestão da Inovação na Prátic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SENGE, Peter – A Quinta Disciplin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WENGER, Etienne – Comunidades de Prátic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TERRA, José Cláudio – Gestão do Conhecimento - O Grande Desafio Empresarial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SANTIAGO, SANTIAGO Jr. – Capital Intelectual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SVEIBY, Karl – A Nova Riqueza da Organização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SBGC-RS : Biblioteca Virtual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http://cmapspublic3.ihmc.us/servlet/SBReadResourceServlet?rid=1244917135218_234089403_9243&amp;partName=htmltext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rramentas de GC baseadas na Web 2.0 (alguma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tos/Process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http://www.clockingi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http://www.bizagi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 Social Empresar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https://www.yammer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http://www.socialcast.com/product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k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http://www.wikispaces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 txBox="1"/>
          <p:nvPr/>
        </p:nvSpPr>
        <p:spPr>
          <a:xfrm>
            <a:off x="456840" y="333000"/>
            <a:ext cx="84358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as Conceituais/Menta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http://cmap.ihmc.u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http://freemind.sourceforge.net/wiki/index.php/Main_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tais/Blogs de GC Corporativ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http://pt-br.wordpress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http://www.webnode.com.br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bientes de Aprendizagem/Prátic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http://moodle.org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ligência Cole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200px-CC-log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2643120"/>
            <a:ext cx="1905120" cy="501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120px-Slickgnu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59640" y="3789360"/>
            <a:ext cx="1584360" cy="6332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011106_Wikipedia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214280" y="4437000"/>
            <a:ext cx="1128960" cy="1297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231_128x128"/>
          <p:cNvPicPr/>
          <p:nvPr/>
        </p:nvPicPr>
        <p:blipFill>
          <a:blip r:embed="rId7"/>
          <a:stretch/>
        </p:blipFill>
        <p:spPr>
          <a:xfrm>
            <a:off x="7093080" y="213372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1515_128x128"/>
          <p:cNvPicPr/>
          <p:nvPr/>
        </p:nvPicPr>
        <p:blipFill>
          <a:blip r:embed="rId8"/>
          <a:stretch/>
        </p:blipFill>
        <p:spPr>
          <a:xfrm>
            <a:off x="7093080" y="5229360"/>
            <a:ext cx="785520" cy="785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375000" y="1628640"/>
            <a:ext cx="2349360" cy="2592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"/>
          <p:cNvPicPr/>
          <p:nvPr/>
        </p:nvPicPr>
        <p:blipFill>
          <a:blip r:embed="rId11"/>
          <a:stretch/>
        </p:blipFill>
        <p:spPr>
          <a:xfrm>
            <a:off x="3419640" y="4941720"/>
            <a:ext cx="237636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9"/>
          <p:cNvSpPr/>
          <p:nvPr/>
        </p:nvSpPr>
        <p:spPr>
          <a:xfrm rot="16200000">
            <a:off x="3930840" y="149760"/>
            <a:ext cx="1642680" cy="65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O Homem nada sab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as é chamado a tudo conhecer.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 rot="10800000">
            <a:off x="3562200" y="4804920"/>
            <a:ext cx="5405760" cy="14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Hermes, o Trimegisto, o Mensageiro dos Deuses, que viveu no antigo Egito, quando a atual raça humana estava em sua infância, isto é, mais ou menos 2.700 a.C., segundo alguns historiador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Música: </a:t>
            </a:r>
            <a:r>
              <a:rPr b="0" lang="pt-BR" sz="14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www.youtube.com/watch?v=RDLs1-g3Lb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2" descr="hermestrismegistus1"/>
          <p:cNvPicPr/>
          <p:nvPr/>
        </p:nvPicPr>
        <p:blipFill>
          <a:blip r:embed="rId2"/>
          <a:stretch/>
        </p:blipFill>
        <p:spPr>
          <a:xfrm>
            <a:off x="3851280" y="333360"/>
            <a:ext cx="171432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Conhecimento-Diagrama"/>
          <p:cNvPicPr/>
          <p:nvPr/>
        </p:nvPicPr>
        <p:blipFill>
          <a:blip r:embed="rId1"/>
          <a:stretch/>
        </p:blipFill>
        <p:spPr>
          <a:xfrm>
            <a:off x="1547640" y="1185840"/>
            <a:ext cx="6048720" cy="50086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7"/>
          <p:cNvSpPr/>
          <p:nvPr/>
        </p:nvSpPr>
        <p:spPr>
          <a:xfrm rot="16200000">
            <a:off x="3616560" y="3923640"/>
            <a:ext cx="393480" cy="54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onte: Platão</a:t>
            </a: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 427 a.C - 347 a.C, Aten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539640" y="290520"/>
            <a:ext cx="795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finição Clássica de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7T14:15:33Z</dcterms:created>
  <dc:creator>Lisiane</dc:creator>
  <dc:description/>
  <dc:language>en-US</dc:language>
  <cp:lastModifiedBy>Windows</cp:lastModifiedBy>
  <dcterms:modified xsi:type="dcterms:W3CDTF">2011-06-08T16:23:24Z</dcterms:modified>
  <cp:revision>1044</cp:revision>
  <dc:subject/>
  <dc:title>Gestão do Conhecimento no Contexto da SEFA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121046</vt:lpwstr>
  </property>
</Properties>
</file>