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9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630-EA87-4AE6-8E2C-33CF3F82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E58-9BE9-4520-9433-923335D1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6C6-6F46-4FD3-91A2-1E6498FF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6B3-F874-43C8-9265-FCEAF75B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649-73CC-4AD9-96FD-5A76F8C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DD8-9A86-4427-B114-BB4BA396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5D9-3F92-4946-A908-CC70F05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989-8F26-4BC1-BA89-94EC784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5C3-9C64-49BD-BF41-E646B8E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E95-CD86-4B94-8FAD-92FC2A1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910-3819-4FB2-997A-78B4D69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D70-4527-445F-9E94-31C291F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ECBB-C543-47C4-8262-930B8F2F270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indmeister.com/pt/12213323/best-online-collaboration-tools-2011-robin-good-s-collaborative-map" TargetMode="External"/><Relationship Id="rId2" Type="http://schemas.openxmlformats.org/officeDocument/2006/relationships/hyperlink" Target="http://www.c4lpt.co.uk/recommended/2011.html" TargetMode="Externa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6720" y="6093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516640"/>
            <a:ext cx="266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ero"/>
              </a:rPr>
              <a:t>BAYARDO MORALES  bmorales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217296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924360" y="6308640"/>
            <a:ext cx="10206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4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8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2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6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5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1763640" y="765000"/>
            <a:ext cx="547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tângulo 2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ângulo 3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ângulo 4"/>
          <p:cNvSpPr/>
          <p:nvPr/>
        </p:nvSpPr>
        <p:spPr>
          <a:xfrm>
            <a:off x="2515320" y="17002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ência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2700360" y="3213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hecimentos           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ângulo 6"/>
          <p:cNvSpPr/>
          <p:nvPr/>
        </p:nvSpPr>
        <p:spPr>
          <a:xfrm>
            <a:off x="2738520" y="400536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ilidades                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ângulo 7"/>
          <p:cNvSpPr/>
          <p:nvPr/>
        </p:nvSpPr>
        <p:spPr>
          <a:xfrm>
            <a:off x="2775600" y="479736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itudes                     Porqu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ta para a direita 3"/>
          <p:cNvSpPr/>
          <p:nvPr/>
        </p:nvSpPr>
        <p:spPr>
          <a:xfrm>
            <a:off x="4427640" y="501336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eta para a direita 3"/>
          <p:cNvSpPr/>
          <p:nvPr/>
        </p:nvSpPr>
        <p:spPr>
          <a:xfrm flipV="1">
            <a:off x="4788000" y="342900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ta para a direita 3"/>
          <p:cNvSpPr/>
          <p:nvPr/>
        </p:nvSpPr>
        <p:spPr>
          <a:xfrm flipV="1">
            <a:off x="4572000" y="4220280"/>
            <a:ext cx="358920" cy="7164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157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08000" y="3860640"/>
              <a:ext cx="324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, papéis, atribui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ângulo 1"/>
          <p:cNvSpPr/>
          <p:nvPr/>
        </p:nvSpPr>
        <p:spPr>
          <a:xfrm>
            <a:off x="3043440" y="90792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419640" y="2637000"/>
            <a:ext cx="223200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516720" y="2852640"/>
            <a:ext cx="2085840" cy="785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11280" y="2637000"/>
            <a:ext cx="194472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ta para a direita 3"/>
          <p:cNvSpPr/>
          <p:nvPr/>
        </p:nvSpPr>
        <p:spPr>
          <a:xfrm flipV="1">
            <a:off x="2627280" y="306792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eta para a direita 3"/>
          <p:cNvSpPr/>
          <p:nvPr/>
        </p:nvSpPr>
        <p:spPr>
          <a:xfrm flipV="1">
            <a:off x="5796000" y="299664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10"/>
          <p:cNvSpPr/>
          <p:nvPr/>
        </p:nvSpPr>
        <p:spPr>
          <a:xfrm>
            <a:off x="397800" y="4365720"/>
            <a:ext cx="81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11"/>
          <p:cNvSpPr/>
          <p:nvPr/>
        </p:nvSpPr>
        <p:spPr>
          <a:xfrm>
            <a:off x="539640" y="4941720"/>
            <a:ext cx="7920000" cy="703800"/>
          </a:xfrm>
          <a:prstGeom prst="rect">
            <a:avLst/>
          </a:prstGeom>
          <a:solidFill>
            <a:srgbClr val="fd9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vem primeiro? Gestão do Conhecimento ou Gestão de Process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tângulo 1"/>
          <p:cNvSpPr/>
          <p:nvPr/>
        </p:nvSpPr>
        <p:spPr>
          <a:xfrm>
            <a:off x="2697840" y="112536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"/>
          <p:cNvSpPr/>
          <p:nvPr/>
        </p:nvSpPr>
        <p:spPr>
          <a:xfrm>
            <a:off x="1855080" y="263700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te de Processo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3"/>
          <p:cNvSpPr/>
          <p:nvPr/>
        </p:nvSpPr>
        <p:spPr>
          <a:xfrm>
            <a:off x="1844640" y="328464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4"/>
          <p:cNvSpPr/>
          <p:nvPr/>
        </p:nvSpPr>
        <p:spPr>
          <a:xfrm>
            <a:off x="1785600" y="400536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a o alcance do conhecimento co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5"/>
          <p:cNvSpPr/>
          <p:nvPr/>
        </p:nvSpPr>
        <p:spPr>
          <a:xfrm>
            <a:off x="1860120" y="4797360"/>
            <a:ext cx="46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lera a transferência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6"/>
          <p:cNvSpPr/>
          <p:nvPr/>
        </p:nvSpPr>
        <p:spPr>
          <a:xfrm>
            <a:off x="1852200" y="551664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z mudanças e inov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trela de 5 pontas 7"/>
          <p:cNvSpPr/>
          <p:nvPr/>
        </p:nvSpPr>
        <p:spPr>
          <a:xfrm>
            <a:off x="1476360" y="2708280"/>
            <a:ext cx="287280" cy="21600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trela de 5 pontas 8"/>
          <p:cNvSpPr/>
          <p:nvPr/>
        </p:nvSpPr>
        <p:spPr>
          <a:xfrm>
            <a:off x="1476360" y="3357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trela de 5 pontas 9"/>
          <p:cNvSpPr/>
          <p:nvPr/>
        </p:nvSpPr>
        <p:spPr>
          <a:xfrm>
            <a:off x="1403280" y="4149720"/>
            <a:ext cx="289080" cy="216000"/>
          </a:xfrm>
          <a:custGeom>
            <a:avLst/>
            <a:gdLst>
              <a:gd name="textAreaLeft" fmla="*/ 89280 w 289080"/>
              <a:gd name="textAreaRight" fmla="*/ 199800 w 2890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trela de 5 pontas 10"/>
          <p:cNvSpPr/>
          <p:nvPr/>
        </p:nvSpPr>
        <p:spPr>
          <a:xfrm>
            <a:off x="1476360" y="486900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trela de 5 pontas 11"/>
          <p:cNvSpPr/>
          <p:nvPr/>
        </p:nvSpPr>
        <p:spPr>
          <a:xfrm>
            <a:off x="1476360" y="5589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192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222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223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226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229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232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235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238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250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261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279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282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285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288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291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304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14"/>
          <p:cNvSpPr/>
          <p:nvPr/>
        </p:nvSpPr>
        <p:spPr>
          <a:xfrm>
            <a:off x="3708360" y="3645000"/>
            <a:ext cx="223056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310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313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403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458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0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473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480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490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908000" y="2276640"/>
            <a:ext cx="627408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io à decis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colab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in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514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525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538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554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597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tângulo 1"/>
          <p:cNvSpPr/>
          <p:nvPr/>
        </p:nvSpPr>
        <p:spPr>
          <a:xfrm>
            <a:off x="395280" y="83664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rramentas de Colaboração e Aprendizagem on-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tângulo 2"/>
          <p:cNvSpPr/>
          <p:nvPr/>
        </p:nvSpPr>
        <p:spPr>
          <a:xfrm>
            <a:off x="755640" y="29671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ndmeister.com/pt/12213323/best-online-collaboration-tools-2011-robin-good-s-collaborative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4lpt.co.uk/recommended/20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</a:rPr>
              <a:t>Práticas: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portaldeconhecimentos.org.br/index.php/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ta para a direita 3"/>
          <p:cNvSpPr/>
          <p:nvPr/>
        </p:nvSpPr>
        <p:spPr>
          <a:xfrm>
            <a:off x="324000" y="314172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ta para a direita 3"/>
          <p:cNvSpPr/>
          <p:nvPr/>
        </p:nvSpPr>
        <p:spPr>
          <a:xfrm>
            <a:off x="250920" y="4724280"/>
            <a:ext cx="358560" cy="217440"/>
          </a:xfrm>
          <a:prstGeom prst="rightArrow">
            <a:avLst>
              <a:gd name="adj1" fmla="val 50000"/>
              <a:gd name="adj2" fmla="val 4964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640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468360" y="76500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: Biblioteca Virtual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ttp://cmapspublic3.ihmc.us/servlet/SBReadResourceServlet?rid=1244917135218_234089403_9243&amp;partName=htmltext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ramentas de GC baseadas na Web 2.0 (algum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tos/Proce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clockingi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bizag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 Social Empresa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s://www.yammer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socialcast.com/produc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as Conceituais/Ment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cmap.ihmc.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freemind.sourceforge.net/wiki/index.php/Main_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is/Blogs de GC Corpora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pt-br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ebnode.com.b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Aprendizagem/Prá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moodle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8T16:23:24Z</dcterms:modified>
  <cp:revision>1044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