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6F5CD-7D3A-4D6A-81C8-872D852EDD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7421C-5741-43B9-AC44-A0EE958D3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9906CD-9F41-4B79-B644-5BA189335C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B6A4BC-B554-4A2B-9EF0-9CCD5E21D2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0F2848-AF1A-46D8-B496-93C9569FE1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8B7EED-9583-46BB-A6B7-6951ADF647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6A2C7A-96FD-4931-9794-95E0D9649C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B7AD3F-3969-4310-BA50-4855EAD274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7CF461-9B01-40D8-8791-5677B45AF1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370BA6-B4CE-4285-9D76-8573EE1E47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2DA8AA-D701-496E-A9C2-7D6821CBB5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B811A4C-D918-4C34-B1C2-8576B1FAB40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B7E982-441B-4D01-A593-FBE890D88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ED34FBA-B510-4AE6-8C55-37AA9F27BF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8539AC5-46AB-460E-91DE-B471E99BB82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FBE480-6ACF-4550-A993-E85473A63C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7E0C9C-E659-46DF-8442-208ED1BA01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DAE20C2-AE1B-4EC4-BEDA-EA8F20ECF1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06FA75-011D-4C7C-87C0-127EDCC0B7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C8D59CD-F075-4608-8517-41CE2C0854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930D88-50BE-4F39-99C6-E426445758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665B4A4-C377-4A8F-9782-9ECC0605F3C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45F354-535D-4790-AB79-524409E905F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428EF-46D7-4085-A938-B8E8F1E0AC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B46BF1D-9A51-4C11-887D-0EF5C8F3A48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849A0B6-3B8F-4301-AD93-FD048BC587A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5BBF43D-22C6-4DD6-B4CE-0CCEB9A7D4C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189CFE-7754-4712-8869-05E135593C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0B3F17-B738-4D6C-B765-6810B9BC82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C30F07-36D5-4B7F-A560-6C8F0A6110B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B32415-EF63-4165-885D-4261E008FA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A728CF-A5F0-425C-BF5B-B2AA184B90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931C08-992A-465D-B809-05BE43357B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D8FDC1-7FEB-4A0A-A5C9-E4C592AA25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A9D60E-4ECE-47C2-96FD-85BA21D4B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F274A2-080C-4FD4-8DB4-24FC22A8E9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0FCCCE-848C-456A-A3D4-06E8400B0B1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6B20E39-EE35-42FE-9C5F-1A1E0749F8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AC53265-4F6D-4A27-9EBA-98A65DF7BA5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440F2C1-C622-4C4D-9FBA-64AEE8F4CA2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D43AB2-E8F9-4B5D-B774-4FB995AA8A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12CB63B-21D8-46D7-A9B0-7F00175F0E0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704240-AC7B-41E4-ADC9-1D561C1595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FEC7DB5-93FA-4EC5-9338-0399FA54E65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D17F92-4647-4DE6-96D7-580E573C83A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F85BA-5C36-4773-AA24-C4A756787E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F1A5BA-10DF-4266-A0F7-389737FD59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B2AD731-B918-4730-89C4-74E34D2DAA2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4E3CB6-2DB6-4B0A-A2FF-E8D16C27D3E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36EEF57-6F32-4AF9-970A-95A442D6136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8190E72-3920-44FE-A35D-CBB7DA5C035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0CB9E8C-84AC-4DAC-B8CA-9B080DC1B9F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6CFA179-DB68-42C4-AC42-3F0309E7B81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3397309-9F46-4C94-8D46-D9E232E8B87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A608858-E7DE-41FB-BD0A-E1053F25CFC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7677B8C-1106-4E8C-BCD1-7ED950228F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FD486E-6789-41C7-947F-62289B98AD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DB9F83C-E8F5-4BB3-9185-41623D8FA8B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C01073-4508-4FE2-99D1-D8261C5BC9B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06E360C-D64E-43B7-A69B-FD188ACEC53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D97BC2C-74B4-4A70-8FB0-33E493A53C6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BFBC42C-A47F-4374-80F5-BBC60D65C09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A1EB4A3-05F0-4AFF-8F73-6176C1AA721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E41F232-99C1-4183-81EC-FEC75CD9AAB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3C5DECA-8841-4D8A-9E65-8710F76B29E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376ACD8-9917-40AF-BD95-5A910F0C048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54D4FF1-6E01-48F7-8AF6-1F0B7F9F7C5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C1F1CB-9F1C-4424-858B-2A2D2E311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6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EDF974E-9575-4FFA-A361-28949F46563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0D41147-C08F-4170-BDB8-FAB67BAFDB6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0F3ED6C-5E58-4F44-A4A4-4AB2D28ACD8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4A2665-0414-4518-BAA0-97AF6C417E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F48DA4-570D-47EA-83B1-0B574D93F43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B8E352F-AB1C-42F0-9841-0F4DF0ADD6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F18DFA-0F0D-44C7-9138-EE3BC4D358E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1C15A581-817E-493B-BD2A-2DDC6D2F659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9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774E6DB-1888-455B-9A2C-BED1A81B64F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937D509-E1D8-4279-8347-A84F14EB108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8CAF66-CA1A-45B1-8AC5-EBFF0F4B57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DE42D49-194F-464A-9C2F-5F09CEF1978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56D9DB9-2C18-40AD-BD0E-5CB2AC119F6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FFCB215-61E6-424F-9530-E4F7576F53C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623E9CD-9FD8-4F3B-9DB0-8939182E3CD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FB485EE-81B8-434F-AE61-AC9C83927F9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178DF65-8346-426D-8E8C-25C3938F42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9C1D97A-3758-4020-A7FF-CBA3253C907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13F1A8-5307-4999-866A-A73EE72CF03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8F33163-F6BD-439F-9CB2-A7A8B8820D9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4295FBE-127A-4D66-B37F-8C0B9A0FB27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25242-623E-4CF1-A80B-89E5588F8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3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DB36C16-6E0C-4B00-B628-ACAE68E01EB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31E1A0-D95E-47F2-A421-56994C33C3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A468E-8F16-4F15-A1DF-67A51CA98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D1C40-51ED-48DE-9653-6B3271D3F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1EE71-4CA5-4DB4-8190-7141EBFA5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AB73D4-0D8C-457B-939D-6ECC8DA05B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ECC1C-3767-48C2-9EC5-5D8B2CED6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061986-36E3-4A94-A593-487B362E6C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6F828E-3F38-4C02-9E59-E9FBB0A511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300DAC-8F3D-450F-A8F3-6B49A625B1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F35D19-5E86-4423-B4F9-D84A64CEB9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81EA19-B405-4D8B-A0D3-2E1C1BB7AD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3D6E9A-D5A4-4CE5-8794-E3863D79D2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8"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30AEB-B4AA-4996-B9B5-143D02D22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3891BF-6171-4D8C-A132-20709B027A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1345E3-49D5-4548-AEC8-B2A4A9BA71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E4403D-7156-4AAA-8DE2-1F55AAC92A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0AB1A-3212-405D-9CD1-3049A166B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53DF7D-FBB2-459B-BFAD-046AC7F733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19CF9E-BCE9-4951-80D5-DCB5FADABC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48E5A6-BF7D-41B6-A723-9D9634EFD6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B3B4A7-AAEF-4EDC-9101-9FAF903CA1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946AF6-6B17-4090-BA37-A30A9897A0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20CB1F-CFB3-4AB6-81EF-D5E495BF44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170A9-213B-41A3-8369-797CEF7DB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B95CC5-73E4-4FC1-91F5-DDAB51A5B7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645CDD-AD2D-4956-B8D3-DA4B23C3EC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4CB923-BAE9-40D4-B078-E3EA1C9871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F9CE6E-550D-43C3-9F16-5F0396814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9C2536-D556-4BEF-A329-666B522BF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6BD4F-8255-4E65-A3B3-D399C63E47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A60F57-09EB-4B79-B9D0-9D38B63CD1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7A3A0C-818E-4C23-9538-D3E3F830455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30D621-D421-483E-B981-CC3EB6EA43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D3736B-9824-40B7-AB28-FB38A17CB7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F6208-A5D4-48BA-BC6C-7AE053743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7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C990AE-1DEF-4823-BC00-D662529B37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F627D0-30D5-4FC6-8061-E06D1837D8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0C6324-32AD-4F87-B359-A48A460CF0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68BE37-136A-4E78-A5A8-B964DC7FA3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E74C3A-E81B-4031-BBEE-7AFE44EC41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40FF38-ABE3-4985-9491-07AA0D971D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228A18-DABD-469A-AE3D-F61C554B1D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EA918B-7D4E-4E14-B1B3-9BBA50C4B5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D4027D-F484-4E56-A835-DE1047998C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65C90F-15C2-4ACD-8FD5-802A775E2C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74D5C-FA91-47D2-855F-F413F1513F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188C9A-51FD-4CD6-99D2-FBAA16A08B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BE2C4F7-4FA2-4516-94E8-9108F56997F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FE06E9-B260-4F8B-B05F-6031C9BBF4F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84B71C2-A77D-4368-AF30-F251360FC6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2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6FB931-55E2-4273-A93D-6283F6C360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89D23C-A2C2-4E39-B5A5-64F36FE3BB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5FCF5A-8DF3-41BE-B479-B69C13210C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23A02C-31D8-4E2E-A37C-34F6EFE7B8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E1778D-6153-4CE1-900A-CF1204241C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E41FF8-1D41-47C3-B178-9D9ED681E0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EF4AE2-3D43-40F2-AD93-715CE5F61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DAF1FB-F04B-4479-B6E7-1A9716175D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57DF5E-A628-4BC8-9D21-7D79298F6D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5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5860B7-C30D-44D8-8DFB-D2B9DEC163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E2C75DD-B98C-414D-83C1-33A4DE0B03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14234F-7D1B-4FA9-A875-7410D0F23A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D4920D-3796-45D5-9463-FF20326ECD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6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E0FF6A-53C4-401D-840A-B38D470541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979C88-3192-4DBF-81C9-F00F66B194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96FF11-AA45-4124-834C-CC90A323AE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EE99F6-9DB1-4730-B980-B032F6F596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3A488-FCAE-4957-940C-4738F37D15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B1D8C0-C1EE-4317-A5E9-B06F143ACA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4D9879-5C94-4BE9-8745-3213B8DE1B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31CFE4-0BE9-4636-BBEE-CE065A8094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D611096-16CE-4170-A0F3-B009F8D402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9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B63134-E094-45B4-9D01-C831972799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3D0B2D4-BB28-41DB-AA66-397F542FD0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70C36D-43D8-4D2B-BD82-934BCBB601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232FAE-59D4-4E31-9456-D488A7C0E5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1E520E-7EB3-4D4F-B082-B8A3D0AD13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A00342-0FAA-420E-B623-2764A8DE74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3FE91-32B8-47A3-B54C-80EA2ECD3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2F2E97-37A7-4D7B-8CA6-1ECEDF53CD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908E79-B810-4A10-9086-E8A9509CAF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076A0D-D6C3-463C-9DAC-3597917215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0C5DD1-FC18-4879-AE32-FE30CBC028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241561-84C3-4D19-8215-89E9A8CA02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7F9DA6-5B4D-43D0-8841-4DC22C334D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25BE99-E964-4E81-A461-F72D391C80F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9A9617-F804-433A-9D5D-3C15360BA8E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91262A-2370-44A1-95F2-BF764D8EDC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B3509A-D452-4276-ADD4-A5AD8673A3C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 name="PlaceHolder 3"/>
          <p:cNvSpPr>
            <a:spLocks noGrp="1"/>
          </p:cNvSpPr>
          <p:nvPr>
            <p:ph type="dt" idx="1"/>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E96881-4EDE-4A19-B490-74E278793CAF}"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 name="PlaceHolder 5"/>
          <p:cNvSpPr>
            <a:spLocks noGrp="1"/>
          </p:cNvSpPr>
          <p:nvPr>
            <p:ph type="sldNum" idx="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556CF9-AF80-49EF-97CB-0E3F0BB1C851}"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4"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385"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3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88" name="PlaceHolder 3"/>
          <p:cNvSpPr>
            <a:spLocks noGrp="1"/>
          </p:cNvSpPr>
          <p:nvPr>
            <p:ph type="dt" idx="28"/>
          </p:nvPr>
        </p:nvSpPr>
        <p:spPr>
          <a:xfrm>
            <a:off x="2666520" y="6356520"/>
            <a:ext cx="162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AB61F-530D-4A13-ACB1-32A573A5916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89" name="PlaceHolder 4"/>
          <p:cNvSpPr>
            <a:spLocks noGrp="1"/>
          </p:cNvSpPr>
          <p:nvPr>
            <p:ph type="ftr" idx="29"/>
          </p:nvPr>
        </p:nvSpPr>
        <p:spPr>
          <a:xfrm>
            <a:off x="240840" y="6356520"/>
            <a:ext cx="189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90" name="PlaceHolder 5"/>
          <p:cNvSpPr>
            <a:spLocks noGrp="1"/>
          </p:cNvSpPr>
          <p:nvPr>
            <p:ph type="sldNum" idx="30"/>
          </p:nvPr>
        </p:nvSpPr>
        <p:spPr>
          <a:xfrm>
            <a:off x="1891800" y="5748480"/>
            <a:ext cx="762120" cy="5760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078CD-8EE6-4EA4-AF0F-67C44655E83A}"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7"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428"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4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31" name="PlaceHolder 3"/>
          <p:cNvSpPr>
            <a:spLocks noGrp="1"/>
          </p:cNvSpPr>
          <p:nvPr>
            <p:ph type="dt" idx="31"/>
          </p:nvPr>
        </p:nvSpPr>
        <p:spPr>
          <a:xfrm>
            <a:off x="2670120" y="6356520"/>
            <a:ext cx="162720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4A458-B7DA-47E5-985E-4ACE176FFE23}"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32" name="PlaceHolder 4"/>
          <p:cNvSpPr>
            <a:spLocks noGrp="1"/>
          </p:cNvSpPr>
          <p:nvPr>
            <p:ph type="ftr" idx="32"/>
          </p:nvPr>
        </p:nvSpPr>
        <p:spPr>
          <a:xfrm>
            <a:off x="240840" y="6356520"/>
            <a:ext cx="18939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33" name="PlaceHolder 5"/>
          <p:cNvSpPr>
            <a:spLocks noGrp="1"/>
          </p:cNvSpPr>
          <p:nvPr>
            <p:ph type="sldNum" idx="33"/>
          </p:nvPr>
        </p:nvSpPr>
        <p:spPr>
          <a:xfrm>
            <a:off x="1892160" y="5738760"/>
            <a:ext cx="758880" cy="574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066935-464A-4717-B037-5E740DB48AE3}"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0" name="Picture 6" descr="Overlay-FullBackground.jpg"/>
          <p:cNvPicPr/>
          <p:nvPr/>
        </p:nvPicPr>
        <p:blipFill>
          <a:blip r:embed="rId3"/>
          <a:stretch/>
        </p:blipFill>
        <p:spPr>
          <a:xfrm>
            <a:off x="0" y="4680"/>
            <a:ext cx="9144000" cy="6858000"/>
          </a:xfrm>
          <a:prstGeom prst="rect">
            <a:avLst/>
          </a:prstGeom>
          <a:ln w="0">
            <a:noFill/>
          </a:ln>
        </p:spPr>
      </p:pic>
      <p:sp>
        <p:nvSpPr>
          <p:cNvPr id="47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7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73" name="PlaceHolder 3"/>
          <p:cNvSpPr>
            <a:spLocks noGrp="1"/>
          </p:cNvSpPr>
          <p:nvPr>
            <p:ph type="dt" idx="3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94A3F1-C90C-44D8-BB7B-045BB1448DDA}"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474" name="PlaceHolder 4"/>
          <p:cNvSpPr>
            <a:spLocks noGrp="1"/>
          </p:cNvSpPr>
          <p:nvPr>
            <p:ph type="ftr" idx="3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5" name="PlaceHolder 5"/>
          <p:cNvSpPr>
            <a:spLocks noGrp="1"/>
          </p:cNvSpPr>
          <p:nvPr>
            <p:ph type="sldNum" idx="3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D8E8F6-3F38-4B07-B7D2-5C7857DCB5D2}"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1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14" name="PlaceHolder 3"/>
          <p:cNvSpPr>
            <a:spLocks noGrp="1"/>
          </p:cNvSpPr>
          <p:nvPr>
            <p:ph type="dt" idx="37"/>
          </p:nvPr>
        </p:nvSpPr>
        <p:spPr>
          <a:xfrm>
            <a:off x="6732720" y="6356520"/>
            <a:ext cx="21333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75A652-8924-479B-AEF5-096CBA894AD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15" name="PlaceHolder 4"/>
          <p:cNvSpPr>
            <a:spLocks noGrp="1"/>
          </p:cNvSpPr>
          <p:nvPr>
            <p:ph type="ftr" idx="38"/>
          </p:nvPr>
        </p:nvSpPr>
        <p:spPr>
          <a:xfrm>
            <a:off x="241200" y="6356520"/>
            <a:ext cx="2895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16" name="PlaceHolder 5"/>
          <p:cNvSpPr>
            <a:spLocks noGrp="1"/>
          </p:cNvSpPr>
          <p:nvPr>
            <p:ph type="sldNum" idx="39"/>
          </p:nvPr>
        </p:nvSpPr>
        <p:spPr>
          <a:xfrm>
            <a:off x="4267080" y="6356520"/>
            <a:ext cx="609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A21B23-0781-4A44-A765-3FFDFBBAFC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3" name="Picture 6" descr="overlay-ruleShadow.png"/>
          <p:cNvPicPr/>
          <p:nvPr/>
        </p:nvPicPr>
        <p:blipFill>
          <a:blip r:embed="rId3"/>
          <a:stretch/>
        </p:blipFill>
        <p:spPr>
          <a:xfrm>
            <a:off x="0" y="1308240"/>
            <a:ext cx="9144000" cy="123840"/>
          </a:xfrm>
          <a:prstGeom prst="rect">
            <a:avLst/>
          </a:prstGeom>
          <a:ln w="0">
            <a:noFill/>
          </a:ln>
        </p:spPr>
      </p:pic>
      <p:pic>
        <p:nvPicPr>
          <p:cNvPr id="55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5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5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57" name="PlaceHolder 3"/>
          <p:cNvSpPr>
            <a:spLocks noGrp="1"/>
          </p:cNvSpPr>
          <p:nvPr>
            <p:ph type="dt" idx="4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A87958-8A14-4A43-9A3F-AA3295398D8A}"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558" name="PlaceHolder 4"/>
          <p:cNvSpPr>
            <a:spLocks noGrp="1"/>
          </p:cNvSpPr>
          <p:nvPr>
            <p:ph type="ftr" idx="4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59" name="PlaceHolder 5"/>
          <p:cNvSpPr>
            <a:spLocks noGrp="1"/>
          </p:cNvSpPr>
          <p:nvPr>
            <p:ph type="sldNum" idx="4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19E670-8536-40D8-817C-B971960F14D9}"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6" name="Picture 6" descr="Overlay-FullBackground.jpg"/>
          <p:cNvPicPr/>
          <p:nvPr/>
        </p:nvPicPr>
        <p:blipFill>
          <a:blip r:embed="rId3"/>
          <a:srcRect l="0" t="0" r="14720" b="0"/>
          <a:stretch/>
        </p:blipFill>
        <p:spPr>
          <a:xfrm>
            <a:off x="0" y="4680"/>
            <a:ext cx="7797960" cy="6858000"/>
          </a:xfrm>
          <a:prstGeom prst="rect">
            <a:avLst/>
          </a:prstGeom>
          <a:ln w="0">
            <a:noFill/>
          </a:ln>
        </p:spPr>
      </p:pic>
      <p:pic>
        <p:nvPicPr>
          <p:cNvPr id="597" name="Picture 7" descr="overlay-ruleShadow.png"/>
          <p:cNvPicPr/>
          <p:nvPr/>
        </p:nvPicPr>
        <p:blipFill>
          <a:blip r:embed="rId4"/>
          <a:srcRect l="0" t="0" r="25032" b="0"/>
          <a:stretch/>
        </p:blipFill>
        <p:spPr>
          <a:xfrm flipH="1" rot="5400000">
            <a:off x="4421880" y="3364200"/>
            <a:ext cx="6854760" cy="125280"/>
          </a:xfrm>
          <a:prstGeom prst="rect">
            <a:avLst/>
          </a:prstGeom>
          <a:ln w="0">
            <a:noFill/>
          </a:ln>
        </p:spPr>
      </p:pic>
      <p:sp>
        <p:nvSpPr>
          <p:cNvPr id="5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9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600" name="PlaceHolder 3"/>
          <p:cNvSpPr>
            <a:spLocks noGrp="1"/>
          </p:cNvSpPr>
          <p:nvPr>
            <p:ph type="dt" idx="43"/>
          </p:nvPr>
        </p:nvSpPr>
        <p:spPr>
          <a:xfrm>
            <a:off x="7924680" y="6356520"/>
            <a:ext cx="10670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38F02-6E6D-4707-98AA-45EC511371F3}"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601" name="PlaceHolder 4"/>
          <p:cNvSpPr>
            <a:spLocks noGrp="1"/>
          </p:cNvSpPr>
          <p:nvPr>
            <p:ph type="ftr" idx="4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602" name="PlaceHolder 5"/>
          <p:cNvSpPr>
            <a:spLocks noGrp="1"/>
          </p:cNvSpPr>
          <p:nvPr>
            <p:ph type="sldNum" idx="4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8E3003-6CB4-4287-B6D2-2658397A2826}"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42" name="Picture 7" descr="overlay-ruleShadow.png"/>
          <p:cNvPicPr/>
          <p:nvPr/>
        </p:nvPicPr>
        <p:blipFill>
          <a:blip r:embed="rId4"/>
          <a:stretch/>
        </p:blipFill>
        <p:spPr>
          <a:xfrm>
            <a:off x="0" y="3303720"/>
            <a:ext cx="9144000" cy="125280"/>
          </a:xfrm>
          <a:prstGeom prst="rect">
            <a:avLst/>
          </a:prstGeom>
          <a:ln w="0">
            <a:noFill/>
          </a:ln>
        </p:spPr>
      </p:pic>
      <p:sp>
        <p:nvSpPr>
          <p:cNvPr id="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5" name="PlaceHolder 3"/>
          <p:cNvSpPr>
            <a:spLocks noGrp="1"/>
          </p:cNvSpPr>
          <p:nvPr>
            <p:ph type="dt" idx="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65E38F-30AD-49AE-974C-A0401AC4403F}"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F81099-CF15-4D3A-9309-3DB99A371300}"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6" descr="overlay-ruleShadow.png"/>
          <p:cNvPicPr/>
          <p:nvPr/>
        </p:nvPicPr>
        <p:blipFill>
          <a:blip r:embed="rId3"/>
          <a:stretch/>
        </p:blipFill>
        <p:spPr>
          <a:xfrm>
            <a:off x="0" y="1308240"/>
            <a:ext cx="9144000" cy="123840"/>
          </a:xfrm>
          <a:prstGeom prst="rect">
            <a:avLst/>
          </a:prstGeom>
          <a:ln w="0">
            <a:noFill/>
          </a:ln>
        </p:spPr>
      </p:pic>
      <p:pic>
        <p:nvPicPr>
          <p:cNvPr id="85"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88" name="PlaceHolder 3"/>
          <p:cNvSpPr>
            <a:spLocks noGrp="1"/>
          </p:cNvSpPr>
          <p:nvPr>
            <p:ph type="dt" idx="7"/>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B5D211-09C7-4147-8E84-5F00A917F233}"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90"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32FB30-9FA6-4AAE-8597-1CB312028B00}"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128" name="Picture 7" descr="overlay-ruleShadow.png"/>
          <p:cNvPicPr/>
          <p:nvPr/>
        </p:nvPicPr>
        <p:blipFill>
          <a:blip r:embed="rId4"/>
          <a:stretch/>
        </p:blipFill>
        <p:spPr>
          <a:xfrm>
            <a:off x="0" y="3303720"/>
            <a:ext cx="9144000" cy="125280"/>
          </a:xfrm>
          <a:prstGeom prst="rect">
            <a:avLst/>
          </a:prstGeom>
          <a:ln w="0">
            <a:noFill/>
          </a:ln>
        </p:spPr>
      </p:pic>
      <p:sp>
        <p:nvSpPr>
          <p:cNvPr id="1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31" name="PlaceHolder 3"/>
          <p:cNvSpPr>
            <a:spLocks noGrp="1"/>
          </p:cNvSpPr>
          <p:nvPr>
            <p:ph type="dt" idx="1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9AE34-234F-496F-84F0-1F413B2471E7}"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33"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D2B6D-E825-425B-96ED-66245A90992F}"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0" name="Picture 6" descr="overlay-ruleShadow.png"/>
          <p:cNvPicPr/>
          <p:nvPr/>
        </p:nvPicPr>
        <p:blipFill>
          <a:blip r:embed="rId3"/>
          <a:stretch/>
        </p:blipFill>
        <p:spPr>
          <a:xfrm>
            <a:off x="0" y="4446720"/>
            <a:ext cx="9144000" cy="125280"/>
          </a:xfrm>
          <a:prstGeom prst="rect">
            <a:avLst/>
          </a:prstGeom>
          <a:ln w="0">
            <a:noFill/>
          </a:ln>
        </p:spPr>
      </p:pic>
      <p:pic>
        <p:nvPicPr>
          <p:cNvPr id="171" name="Picture 7" descr="Overlay-FullBackground.jpg"/>
          <p:cNvPicPr/>
          <p:nvPr/>
        </p:nvPicPr>
        <p:blipFill>
          <a:blip r:embed="rId4"/>
          <a:srcRect l="0" t="66668" r="0" b="0"/>
          <a:stretch/>
        </p:blipFill>
        <p:spPr>
          <a:xfrm>
            <a:off x="0" y="4572000"/>
            <a:ext cx="9144000" cy="2286000"/>
          </a:xfrm>
          <a:prstGeom prst="rect">
            <a:avLst/>
          </a:prstGeom>
          <a:ln w="0">
            <a:noFill/>
          </a:ln>
        </p:spPr>
      </p:pic>
      <p:sp>
        <p:nvSpPr>
          <p:cNvPr id="1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7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74" name="PlaceHolder 3"/>
          <p:cNvSpPr>
            <a:spLocks noGrp="1"/>
          </p:cNvSpPr>
          <p:nvPr>
            <p:ph type="dt" idx="13"/>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5AEE2A-102F-4CDD-9F29-C7078DAA3ECC}"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76" name="PlaceHolder 5"/>
          <p:cNvSpPr>
            <a:spLocks noGrp="1"/>
          </p:cNvSpPr>
          <p:nvPr>
            <p:ph type="sldNum" idx="1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ADB16-BEED-438A-AAB1-F609BC30602A}"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Picture 6" descr="overlay-ruleShadow.png"/>
          <p:cNvPicPr/>
          <p:nvPr/>
        </p:nvPicPr>
        <p:blipFill>
          <a:blip r:embed="rId3"/>
          <a:stretch/>
        </p:blipFill>
        <p:spPr>
          <a:xfrm>
            <a:off x="0" y="1308240"/>
            <a:ext cx="9144000" cy="123840"/>
          </a:xfrm>
          <a:prstGeom prst="rect">
            <a:avLst/>
          </a:prstGeom>
          <a:ln w="0">
            <a:noFill/>
          </a:ln>
        </p:spPr>
      </p:pic>
      <p:pic>
        <p:nvPicPr>
          <p:cNvPr id="21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1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17" name="PlaceHolder 3"/>
          <p:cNvSpPr>
            <a:spLocks noGrp="1"/>
          </p:cNvSpPr>
          <p:nvPr>
            <p:ph type="dt" idx="16"/>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2661BB-ADEB-4163-82EF-4859C3C45507}"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218" name="PlaceHolder 4"/>
          <p:cNvSpPr>
            <a:spLocks noGrp="1"/>
          </p:cNvSpPr>
          <p:nvPr>
            <p:ph type="ftr" idx="17"/>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19" name="PlaceHolder 5"/>
          <p:cNvSpPr>
            <a:spLocks noGrp="1"/>
          </p:cNvSpPr>
          <p:nvPr>
            <p:ph type="sldNum" idx="18"/>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7F8E92-FF00-440B-941E-24850EB2E73A}"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6" descr="overlay-ruleShadow.png"/>
          <p:cNvPicPr/>
          <p:nvPr/>
        </p:nvPicPr>
        <p:blipFill>
          <a:blip r:embed="rId3"/>
          <a:stretch/>
        </p:blipFill>
        <p:spPr>
          <a:xfrm>
            <a:off x="0" y="1308240"/>
            <a:ext cx="9144000" cy="123840"/>
          </a:xfrm>
          <a:prstGeom prst="rect">
            <a:avLst/>
          </a:prstGeom>
          <a:ln w="0">
            <a:noFill/>
          </a:ln>
        </p:spPr>
      </p:pic>
      <p:pic>
        <p:nvPicPr>
          <p:cNvPr id="257"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5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60" name="PlaceHolder 3"/>
          <p:cNvSpPr>
            <a:spLocks noGrp="1"/>
          </p:cNvSpPr>
          <p:nvPr>
            <p:ph type="dt" idx="19"/>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AF0F3A-6E47-47C5-8A11-22ED6103F60E}"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261" name="PlaceHolder 4"/>
          <p:cNvSpPr>
            <a:spLocks noGrp="1"/>
          </p:cNvSpPr>
          <p:nvPr>
            <p:ph type="ftr" idx="20"/>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62" name="PlaceHolder 5"/>
          <p:cNvSpPr>
            <a:spLocks noGrp="1"/>
          </p:cNvSpPr>
          <p:nvPr>
            <p:ph type="sldNum" idx="21"/>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A35A06-B206-4FD7-BFBB-36DDA48D39E9}"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9" name="Picture 6" descr="overlay-ruleShadow.png"/>
          <p:cNvPicPr/>
          <p:nvPr/>
        </p:nvPicPr>
        <p:blipFill>
          <a:blip r:embed="rId3"/>
          <a:stretch/>
        </p:blipFill>
        <p:spPr>
          <a:xfrm>
            <a:off x="0" y="1308240"/>
            <a:ext cx="9144000" cy="123840"/>
          </a:xfrm>
          <a:prstGeom prst="rect">
            <a:avLst/>
          </a:prstGeom>
          <a:ln w="0">
            <a:noFill/>
          </a:ln>
        </p:spPr>
      </p:pic>
      <p:pic>
        <p:nvPicPr>
          <p:cNvPr id="300" name="Picture 7" descr="Overlay-FullBackground.jpg"/>
          <p:cNvPicPr/>
          <p:nvPr/>
        </p:nvPicPr>
        <p:blipFill>
          <a:blip r:embed="rId4"/>
          <a:srcRect l="0" t="21048" r="0" b="0"/>
          <a:stretch/>
        </p:blipFill>
        <p:spPr>
          <a:xfrm>
            <a:off x="0" y="1447920"/>
            <a:ext cx="9144000" cy="5414760"/>
          </a:xfrm>
          <a:prstGeom prst="rect">
            <a:avLst/>
          </a:prstGeom>
          <a:ln w="0">
            <a:noFill/>
          </a:ln>
        </p:spPr>
      </p:pic>
      <p:sp>
        <p:nvSpPr>
          <p:cNvPr id="3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0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03" name="PlaceHolder 3"/>
          <p:cNvSpPr>
            <a:spLocks noGrp="1"/>
          </p:cNvSpPr>
          <p:nvPr>
            <p:ph type="dt" idx="22"/>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ACA0B1-DCC0-418B-B509-0368830122C2}"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05" name="PlaceHolder 5"/>
          <p:cNvSpPr>
            <a:spLocks noGrp="1"/>
          </p:cNvSpPr>
          <p:nvPr>
            <p:ph type="sldNum" idx="24"/>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05EA1-5C15-4E3B-AEB5-74DB7302B6D6}"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6" descr="Overlay-FullBackground.jpg"/>
          <p:cNvPicPr/>
          <p:nvPr/>
        </p:nvPicPr>
        <p:blipFill>
          <a:blip r:embed="rId3"/>
          <a:stretch/>
        </p:blipFill>
        <p:spPr>
          <a:xfrm>
            <a:off x="0" y="4680"/>
            <a:ext cx="9144000" cy="6858000"/>
          </a:xfrm>
          <a:prstGeom prst="rect">
            <a:avLst/>
          </a:prstGeom>
          <a:ln w="0">
            <a:noFill/>
          </a:ln>
        </p:spPr>
      </p:pic>
      <p:sp>
        <p:nvSpPr>
          <p:cNvPr id="3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45" name="PlaceHolder 3"/>
          <p:cNvSpPr>
            <a:spLocks noGrp="1"/>
          </p:cNvSpPr>
          <p:nvPr>
            <p:ph type="dt" idx="25"/>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C8DF43-00F7-4586-9CC7-FED152168168}"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346" name="PlaceHolder 4"/>
          <p:cNvSpPr>
            <a:spLocks noGrp="1"/>
          </p:cNvSpPr>
          <p:nvPr>
            <p:ph type="ftr" idx="26"/>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47" name="PlaceHolder 5"/>
          <p:cNvSpPr>
            <a:spLocks noGrp="1"/>
          </p:cNvSpPr>
          <p:nvPr>
            <p:ph type="sldNum" idx="27"/>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CBA145-68E3-40B7-86E9-8A1B3B7CE558}"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79040" y="1917360"/>
            <a:ext cx="7583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Format Writing </a:t>
            </a:r>
            <a:br>
              <a:rPr sz="4800"/>
            </a:br>
            <a:r>
              <a:rPr b="0" lang="en-US" sz="4800" spc="-1" strike="noStrike">
                <a:solidFill>
                  <a:srgbClr val="ffffff"/>
                </a:solidFill>
                <a:latin typeface="Perpetua Titling MT"/>
              </a:rPr>
              <a:t>and </a:t>
            </a:r>
            <a:br>
              <a:rPr sz="4800"/>
            </a:br>
            <a:r>
              <a:rPr b="0" lang="en-US" sz="4800" spc="-1" strike="noStrike">
                <a:solidFill>
                  <a:srgbClr val="ffffff"/>
                </a:solidFill>
                <a:latin typeface="Perpetua Titling MT"/>
              </a:rPr>
              <a:t>Social Studies</a:t>
            </a:r>
            <a:endParaRPr b="0" lang="en-US" sz="4800" spc="-1" strike="noStrike">
              <a:solidFill>
                <a:srgbClr val="ffffff"/>
              </a:solidFill>
              <a:latin typeface="Perpetua Titling MT"/>
            </a:endParaRPr>
          </a:p>
        </p:txBody>
      </p:sp>
      <p:sp>
        <p:nvSpPr>
          <p:cNvPr id="640" name="PlaceHolder 2"/>
          <p:cNvSpPr>
            <a:spLocks noGrp="1"/>
          </p:cNvSpPr>
          <p:nvPr>
            <p:ph type="subTitle"/>
          </p:nvPr>
        </p:nvSpPr>
        <p:spPr>
          <a:xfrm>
            <a:off x="779040" y="3478320"/>
            <a:ext cx="75834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Miss Asher</a:t>
            </a:r>
            <a:endParaRPr b="0" lang="en-US" sz="1800" spc="-1" strike="noStrike">
              <a:solidFill>
                <a:srgbClr val="333333"/>
              </a:solidFill>
              <a:latin typeface="Calisto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English 100 and 116</a:t>
            </a:r>
            <a:endParaRPr b="0" lang="en-US" sz="18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What needs to be considered</a:t>
            </a:r>
            <a:endParaRPr b="0" lang="en-US" sz="4800" spc="-1" strike="noStrike">
              <a:solidFill>
                <a:srgbClr val="ffffff"/>
              </a:solidFill>
              <a:latin typeface="Perpetua Titling MT"/>
            </a:endParaRPr>
          </a:p>
        </p:txBody>
      </p:sp>
      <p:sp>
        <p:nvSpPr>
          <p:cNvPr id="642" name=""/>
          <p:cNvSpPr txBox="1"/>
          <p:nvPr/>
        </p:nvSpPr>
        <p:spPr>
          <a:xfrm>
            <a:off x="779040" y="1828440"/>
            <a:ext cx="7583400" cy="4297320"/>
          </a:xfrm>
          <a:prstGeom prst="rect">
            <a:avLst/>
          </a:prstGeom>
          <a:noFill/>
          <a:ln w="0">
            <a:noFill/>
          </a:ln>
        </p:spPr>
        <p:txBody>
          <a:bodyPr anchor="t">
            <a:normAutofit fontScale="94000"/>
          </a:bodyPr>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udience:  Who is your audience?  Are you writing for a teacher or is it a larger population?</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Purpose:  What do you want to accomplish?  There are three purposes for writing- to inform, to entertain, to persuade.</a:t>
            </a:r>
            <a:endParaRPr b="0" lang="en-US" sz="2400" spc="-1" strike="noStrike">
              <a:solidFill>
                <a:srgbClr val="333333"/>
              </a:solidFill>
              <a:latin typeface="Calisto MT"/>
            </a:endParaRPr>
          </a:p>
          <a:p>
            <a:pPr lvl="1" marL="542880" indent="-277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You are writing to inform or persuade!  That means this is FACT based!</a:t>
            </a:r>
            <a:endParaRPr b="0" lang="en-US" sz="22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Occasion: What are you writing?  Is this an essay, test question, or project?</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Topic Sentence</a:t>
            </a:r>
            <a:endParaRPr b="0" lang="en-US" sz="4800" spc="-1" strike="noStrike">
              <a:solidFill>
                <a:srgbClr val="ffffff"/>
              </a:solidFill>
              <a:latin typeface="Perpetua Titling MT"/>
            </a:endParaRPr>
          </a:p>
        </p:txBody>
      </p:sp>
      <p:sp>
        <p:nvSpPr>
          <p:cNvPr id="644" name=""/>
          <p:cNvSpPr txBox="1"/>
          <p:nvPr/>
        </p:nvSpPr>
        <p:spPr>
          <a:xfrm>
            <a:off x="779040" y="1828440"/>
            <a:ext cx="7583400" cy="4297320"/>
          </a:xfrm>
          <a:prstGeom prst="rect">
            <a:avLst/>
          </a:prstGeom>
          <a:noFill/>
          <a:ln w="0">
            <a:noFill/>
          </a:ln>
        </p:spPr>
        <p:txBody>
          <a:bodyPr anchor="t">
            <a:normAutofit fontScale="88000"/>
          </a:bodyPr>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Just like all other format paragraphs your topic sentence should contain your subject and “opinion”.</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t>
            </a:r>
            <a:r>
              <a:rPr b="0" lang="en-US" sz="2400" spc="-1" strike="noStrike">
                <a:solidFill>
                  <a:srgbClr val="333333"/>
                </a:solidFill>
                <a:latin typeface="Calisto MT"/>
              </a:rPr>
              <a:t>Opinion” is misleading-this is already provided for you</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f you are answering a question, simply restate the question as your topic sentence.</a:t>
            </a:r>
            <a:endParaRPr b="0" lang="en-US" sz="2400" spc="-1" strike="noStrike">
              <a:solidFill>
                <a:srgbClr val="333333"/>
              </a:solidFill>
              <a:latin typeface="Calisto MT"/>
            </a:endParaRPr>
          </a:p>
          <a:p>
            <a:pPr lvl="2" marL="757080" indent="-24840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Your “opinion” should be a given</a:t>
            </a: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Example: TS Early scientists advanced knowledge in biology and chemistry.</a:t>
            </a:r>
            <a:endParaRPr b="0" lang="en-US" sz="20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rete Detail</a:t>
            </a:r>
            <a:endParaRPr b="0" lang="en-US" sz="4800" spc="-1" strike="noStrike">
              <a:solidFill>
                <a:srgbClr val="ffffff"/>
              </a:solidFill>
              <a:latin typeface="Perpetua Titling MT"/>
            </a:endParaRPr>
          </a:p>
        </p:txBody>
      </p:sp>
      <p:sp>
        <p:nvSpPr>
          <p:cNvPr id="646" name=""/>
          <p:cNvSpPr txBox="1"/>
          <p:nvPr/>
        </p:nvSpPr>
        <p:spPr>
          <a:xfrm>
            <a:off x="779040" y="1828440"/>
            <a:ext cx="7583400" cy="4297320"/>
          </a:xfrm>
          <a:prstGeom prst="rect">
            <a:avLst/>
          </a:prstGeom>
          <a:noFill/>
          <a:ln w="0">
            <a:noFill/>
          </a:ln>
        </p:spPr>
        <p:txBody>
          <a:bodyPr anchor="t">
            <a:normAutofit fontScale="90000"/>
          </a:bodyPr>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se are FACT statements or examples</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When a question asks your to provide examples (generally two) those examples belong in the concrete detail</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 (CD 1) For example, Andreas Vesalius became  known for his work in anatomy.</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D 2) In addition, Robert Boyle was the first chemist to define an elemen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mmentary</a:t>
            </a:r>
            <a:endParaRPr b="0" lang="en-US" sz="4800" spc="-1" strike="noStrike">
              <a:solidFill>
                <a:srgbClr val="ffffff"/>
              </a:solidFill>
              <a:latin typeface="Perpetua Titling MT"/>
            </a:endParaRPr>
          </a:p>
        </p:txBody>
      </p:sp>
      <p:sp>
        <p:nvSpPr>
          <p:cNvPr id="648" name=""/>
          <p:cNvSpPr txBox="1"/>
          <p:nvPr/>
        </p:nvSpPr>
        <p:spPr>
          <a:xfrm>
            <a:off x="779040" y="1828440"/>
            <a:ext cx="7583400" cy="4297320"/>
          </a:xfrm>
          <a:prstGeom prst="rect">
            <a:avLst/>
          </a:prstGeom>
          <a:noFill/>
          <a:ln w="0">
            <a:noFill/>
          </a:ln>
        </p:spPr>
        <p:txBody>
          <a:bodyPr anchor="t">
            <a:normAutofit fontScale="85000"/>
          </a:bodyPr>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n these sentences you will explain your concrete detail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 explanation is FACT based!  No opinion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member: our purpose is to inform or persuade</a:t>
            </a:r>
            <a:endParaRPr b="0" lang="en-US" sz="2400" spc="-1" strike="noStrike">
              <a:solidFill>
                <a:srgbClr val="333333"/>
              </a:solidFill>
              <a:latin typeface="Calisto MT"/>
            </a:endParaRPr>
          </a:p>
          <a:p>
            <a:pPr lvl="1" marL="491040" indent="-25092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What does this mean?</a:t>
            </a:r>
            <a:endParaRPr b="0" lang="en-US" sz="22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acts only</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No “flowery” language</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OCUS on the subject </a:t>
            </a:r>
            <a:endParaRPr b="0" lang="en-US" sz="2000" spc="-1" strike="noStrike">
              <a:solidFill>
                <a:srgbClr val="333333"/>
              </a:solidFill>
              <a:latin typeface="Calisto MT"/>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s: </a:t>
            </a:r>
            <a:r>
              <a:rPr b="0" lang="en-US" sz="1800" spc="-1" strike="noStrike">
                <a:solidFill>
                  <a:srgbClr val="333333"/>
                </a:solidFill>
                <a:latin typeface="Calisto MT"/>
              </a:rPr>
              <a:t>(CD 1) </a:t>
            </a:r>
            <a:r>
              <a:rPr b="0" lang="en-US" sz="1600" spc="-1" strike="noStrike">
                <a:solidFill>
                  <a:srgbClr val="333333"/>
                </a:solidFill>
                <a:latin typeface="Calisto MT"/>
              </a:rPr>
              <a:t>In 1539 a judge learned of his work and made bodies of executed criminals available to Vesalius for dissection. Vesalius hired artists to produce accurate drawings of the bodies and then published </a:t>
            </a:r>
            <a:r>
              <a:rPr b="0" lang="en-US" sz="1600" spc="-1" strike="noStrike" u="sng">
                <a:solidFill>
                  <a:srgbClr val="333333"/>
                </a:solidFill>
                <a:uFillTx/>
                <a:latin typeface="Calisto MT"/>
              </a:rPr>
              <a:t>On the Workings of the Human Body</a:t>
            </a:r>
            <a:r>
              <a:rPr b="0" lang="en-US" sz="1600" spc="-1" strike="noStrike">
                <a:solidFill>
                  <a:srgbClr val="333333"/>
                </a:solidFill>
                <a:latin typeface="Calisto MT"/>
              </a:rPr>
              <a:t> in 1953.</a:t>
            </a:r>
            <a:endParaRPr b="0" lang="en-US" sz="16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luding Sentence</a:t>
            </a:r>
            <a:endParaRPr b="0" lang="en-US" sz="4800" spc="-1" strike="noStrike">
              <a:solidFill>
                <a:srgbClr val="ffffff"/>
              </a:solidFill>
              <a:latin typeface="Perpetua Titling MT"/>
            </a:endParaRPr>
          </a:p>
        </p:txBody>
      </p:sp>
      <p:sp>
        <p:nvSpPr>
          <p:cNvPr id="650"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your topic sentenc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means that you need to use different words!</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Make sure the subject and opinion is very clear!</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Use a concluding transition</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Example: Scientists made great discoveries in the fields of biology and chemistry during the Scientific Revolution.</a:t>
            </a:r>
            <a:endParaRPr b="0" lang="en-US" sz="22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Important Points to remember</a:t>
            </a:r>
            <a:endParaRPr b="0" lang="en-US" sz="4800" spc="-1" strike="noStrike">
              <a:solidFill>
                <a:srgbClr val="ffffff"/>
              </a:solidFill>
              <a:latin typeface="Perpetua Titling MT"/>
            </a:endParaRPr>
          </a:p>
        </p:txBody>
      </p:sp>
      <p:sp>
        <p:nvSpPr>
          <p:cNvPr id="652"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ACT based writing (purpose to inform or persuad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No “flowery” language</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Overly complex sentences will distract readers</a:t>
            </a:r>
            <a:endParaRPr b="0" lang="en-US" sz="22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Keep your writing clear and precis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You may only use personal pronouns if your purpose is to persuade!  Otherwise leave them ou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Example</a:t>
            </a:r>
            <a:endParaRPr b="0" lang="en-US" sz="4800" spc="-1" strike="noStrike">
              <a:solidFill>
                <a:srgbClr val="ffffff"/>
              </a:solidFill>
              <a:latin typeface="Perpetua Titling MT"/>
            </a:endParaRPr>
          </a:p>
        </p:txBody>
      </p:sp>
      <p:sp>
        <p:nvSpPr>
          <p:cNvPr id="65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fontScale="86000"/>
          </a:bodyPr>
          <a:p>
            <a:pPr marL="243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Early scientists advanced knowledge in biology and chemistry.</a:t>
            </a:r>
            <a:r>
              <a:rPr b="0" lang="en-US" sz="2000" spc="-1" strike="noStrike">
                <a:solidFill>
                  <a:srgbClr val="333333"/>
                </a:solidFill>
                <a:latin typeface="Calisto MT"/>
              </a:rPr>
              <a:t>  </a:t>
            </a:r>
            <a:r>
              <a:rPr b="0" lang="en-US" sz="2000" spc="-1" strike="noStrike">
                <a:solidFill>
                  <a:srgbClr val="333333"/>
                </a:solidFill>
                <a:latin typeface="Calisto MT"/>
              </a:rPr>
              <a:t>For example, Andreas Vesalius became  known for his work in anatomy. In 1539 a judge learned of his work and made bodies of executed criminals available to Vesalius for dissection. Vesalius hired artists to produce accurate drawings of the bodies and then published </a:t>
            </a:r>
            <a:r>
              <a:rPr b="0" lang="en-US" sz="2000" spc="-1" strike="noStrike" u="sng">
                <a:solidFill>
                  <a:srgbClr val="333333"/>
                </a:solidFill>
                <a:uFillTx/>
                <a:latin typeface="Calisto MT"/>
              </a:rPr>
              <a:t>On the Workings of the Human Body</a:t>
            </a:r>
            <a:r>
              <a:rPr b="0" lang="en-US" sz="2000" spc="-1" strike="noStrike">
                <a:solidFill>
                  <a:srgbClr val="333333"/>
                </a:solidFill>
                <a:latin typeface="Calisto MT"/>
              </a:rPr>
              <a:t> in 1953. In addition, Robert Boyle was the first chemist to define an element. His 1661 work, </a:t>
            </a:r>
            <a:r>
              <a:rPr b="0" lang="en-US" sz="2000" spc="-1" strike="noStrike" u="sng">
                <a:solidFill>
                  <a:srgbClr val="333333"/>
                </a:solidFill>
                <a:uFillTx/>
                <a:latin typeface="Calisto MT"/>
              </a:rPr>
              <a:t>The Scpetical Chemist</a:t>
            </a:r>
            <a:r>
              <a:rPr b="0" lang="en-US" sz="2000" spc="-1" strike="noStrike">
                <a:solidFill>
                  <a:srgbClr val="333333"/>
                </a:solidFill>
                <a:latin typeface="Calisto MT"/>
              </a:rPr>
              <a:t>, described matter as a cluster of tiny particles.  Boyle stated that changes in matter happened when these clusters were rearranged. Scientists, such as Andreas Vesalius and Robert Boyle,  made great discoveries in the fields of biology and chemistry during the Scientific Revolution.</a:t>
            </a:r>
            <a:endParaRPr b="0" lang="en-US" sz="20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5:53:36Z</dcterms:created>
  <dc:creator>Monica Asher</dc:creator>
  <dc:description/>
  <dc:language>en-US</dc:language>
  <cp:lastModifiedBy>McCormick Middle School</cp:lastModifiedBy>
  <cp:lastPrinted>2009-08-28T16:36:59Z</cp:lastPrinted>
  <dcterms:modified xsi:type="dcterms:W3CDTF">2009-08-28T17:27:23Z</dcterms:modified>
  <cp:revision>19</cp:revision>
  <dc:subject/>
  <dc:title>Format Writing  and  Social Studies</dc:title>
</cp:coreProperties>
</file>