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EEFCCB-4906-4F63-9EE4-A0A038F7B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5030D-6749-4026-88A2-1F0BBDFCA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95256-F02B-4589-98CA-670824410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EDDCB-478B-496B-9721-BD92A9BE9D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FF3273-E668-4862-A7DE-22A886F252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956E1-2CBD-4762-8D70-64FF43A9F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C059A-9203-4A75-B857-4FAF816CF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34C73-C4A9-4070-BFE8-D197FD2D85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85A59-A7F1-4FFD-BB27-D20EED2236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2D0C4-48B5-4F28-AB9E-1B3E22FB8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A11137-7DC7-48E9-AD23-BCE82C1D46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B6214E-1E7F-41A1-8F42-5E05F65B0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86FE6-A78C-44FC-ADBE-DB4B3D34C3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35E994-44BF-4CF3-A939-F088A5220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CF6B43-B112-4898-B316-82AED0F30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A7A26-5843-4556-A8C6-C2D380630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F56B9-E6B2-46C0-A025-5684564C55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A262DC-526D-48B0-9088-DA91DC96C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98798-15A6-462F-913F-4DC21243B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9D02C-15E0-453F-BB1E-C4CFAF7A6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7088F-F5EC-443F-ADEE-D605B13E9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3EB72-6B5F-469B-967B-5B3B594FB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946DC-2C51-4C82-8194-38CC3DABB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F0941-8245-42F2-8F52-6D21E2C096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DA67-7894-414A-95C9-017D7ADA200A}"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A5B32-8DC0-4FA3-A78E-7BAEC369B4A2}"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20000"/>
                </a:solidFill>
                <a:latin typeface="Arial"/>
              </a:rPr>
              <a:t>Jane Schaffer’s</a:t>
            </a:r>
            <a:br>
              <a:rPr sz="4000"/>
            </a:br>
            <a:r>
              <a:rPr b="0" lang="en-US" sz="4000" spc="-1" strike="noStrike">
                <a:solidFill>
                  <a:srgbClr val="320000"/>
                </a:solidFill>
                <a:latin typeface="Arial"/>
              </a:rPr>
              <a:t>Writing the Multi Paragraph Essay:</a:t>
            </a:r>
            <a:br>
              <a:rPr sz="4000"/>
            </a:br>
            <a:r>
              <a:rPr b="0" lang="en-US" sz="4000" spc="-1" strike="noStrike">
                <a:solidFill>
                  <a:srgbClr val="320000"/>
                </a:solidFill>
                <a:latin typeface="Arial"/>
              </a:rPr>
              <a:t>Paragraph Writing</a:t>
            </a:r>
            <a:br>
              <a:rPr sz="4000"/>
            </a:br>
            <a:endParaRPr b="0" lang="en-US" sz="4000" spc="-1" strike="noStrike">
              <a:solidFill>
                <a:srgbClr val="320000"/>
              </a:solidFill>
              <a:latin typeface="Arial"/>
            </a:endParaRPr>
          </a:p>
        </p:txBody>
      </p:sp>
      <p:sp>
        <p:nvSpPr>
          <p:cNvPr id="8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iss Asher</a:t>
            </a:r>
            <a:endParaRPr b="0" lang="en-US" sz="28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glish 9</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ut it all together…</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Topic Sentence (Subject &amp; Opin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For example,)</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In addit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S</a:t>
            </a:r>
            <a:r>
              <a:rPr b="0" lang="en-US" sz="2800" spc="-1" strike="noStrike">
                <a:solidFill>
                  <a:srgbClr val="330000"/>
                </a:solidFill>
                <a:latin typeface="Arial"/>
              </a:rPr>
              <a:t>	</a:t>
            </a:r>
            <a:r>
              <a:rPr b="0" lang="en-US" sz="2800" spc="-1" strike="noStrike">
                <a:solidFill>
                  <a:srgbClr val="330000"/>
                </a:solidFill>
                <a:latin typeface="Arial"/>
              </a:rPr>
              <a:t>Concluding Sentence (Restate Subject &amp; </a:t>
            </a:r>
            <a:r>
              <a:rPr b="0" lang="en-US" sz="2800" spc="-1" strike="noStrike">
                <a:solidFill>
                  <a:srgbClr val="330000"/>
                </a:solidFill>
                <a:latin typeface="Arial"/>
              </a:rPr>
              <a:t>	</a:t>
            </a:r>
            <a:r>
              <a:rPr b="0" lang="en-US" sz="2800" spc="-1" strike="noStrike">
                <a:solidFill>
                  <a:srgbClr val="330000"/>
                </a:solidFill>
                <a:latin typeface="Arial"/>
              </a:rPr>
              <a:t>Opinion)</a:t>
            </a:r>
            <a:endParaRPr b="0" lang="en-US" sz="2800" spc="-1" strike="noStrike">
              <a:solidFill>
                <a:srgbClr val="33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Running is an excellent spo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For example, it is great exercise.</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ncreases muscle mass and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reduces body fa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s also healthy for your hea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In addition, running is good for your mind.</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While you run, you can think and figure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out your problems.</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Sometimes a big problem seems small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after a five mile run.</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Running is a terrific spo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 paragraph form..</a:t>
            </a:r>
            <a:endParaRPr b="0" lang="en-US" sz="4400" spc="-1" strike="noStrike">
              <a:solidFill>
                <a:srgbClr val="32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Running is an excellent sport.  For example, running is great exercise.  It increases muscle mass and reduces body fat.  Running is also healthy for your heart.  In addition, running is good for your mind.  While you run, you can think and figure out your problems.  Sometimes a great big problem seems small after a five mile run.  Running is a terrific spo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Now it’s your turn!</a:t>
            </a:r>
            <a:endParaRPr b="0" lang="en-US" sz="4400" spc="-1" strike="noStrike">
              <a:solidFill>
                <a:srgbClr val="32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ose your favorite hobby and write one paragraph about i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prepared to share  your paragraph with the clas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 Cited</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chaffer, Jane. </a:t>
            </a:r>
            <a:r>
              <a:rPr b="0" lang="en-US" sz="3200" spc="-1" strike="noStrike" u="sng">
                <a:solidFill>
                  <a:srgbClr val="330000"/>
                </a:solidFill>
                <a:uFillTx/>
                <a:latin typeface="Arial"/>
              </a:rPr>
              <a:t>Teaching the Multi-Paragraph Essay: A Sequential Nine-Week Unit </a:t>
            </a:r>
            <a:r>
              <a:rPr b="0" lang="en-US" sz="3200" spc="-1" strike="noStrike">
                <a:solidFill>
                  <a:srgbClr val="330000"/>
                </a:solidFill>
                <a:latin typeface="Arial"/>
              </a:rPr>
              <a:t>. 3. San Diego: Jane Schaffer Enterprises, 1995.</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agraph Writing</a:t>
            </a:r>
            <a:r>
              <a:rPr b="0" lang="en-US" sz="4400" spc="-1" strike="noStrike">
                <a:solidFill>
                  <a:srgbClr val="320000"/>
                </a:solidFill>
                <a:latin typeface="Arial"/>
              </a:rPr>
              <a:t>	</a:t>
            </a:r>
            <a:endParaRPr b="0" lang="en-US" sz="4400" spc="-1" strike="noStrike">
              <a:solidFill>
                <a:srgbClr val="32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en we write, we use COMPLETE paragraph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agraphs have a format that must be followed…otherwise you’ll get lo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a complete paragraph?</a:t>
            </a:r>
            <a:endParaRPr b="0" lang="en-US" sz="4400" spc="-1" strike="noStrike">
              <a:solidFill>
                <a:srgbClr val="32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paragraph follows a certain form…</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t begins with a topic senten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of a paragraph has a subject and an opinion.</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_x0015_</a:t>
            </a:r>
            <a:r>
              <a:rPr b="0" lang="en-US" sz="3200" spc="-1" strike="noStrike" u="sng">
                <a:solidFill>
                  <a:srgbClr val="330000"/>
                </a:solidFill>
                <a:uFillTx/>
                <a:latin typeface="ヒラギノ角ゴ Pro W3"/>
              </a:rPr>
              <a:t>Example</a:t>
            </a:r>
            <a:r>
              <a:rPr b="0" lang="en-US" sz="3200" spc="-1" strike="noStrike">
                <a:solidFill>
                  <a:srgbClr val="330000"/>
                </a:solidFill>
                <a:latin typeface="ヒラギノ角ゴ Pro W3"/>
              </a:rPr>
              <a:t>:</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Running is an excellent hobby</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Subject</a:t>
            </a:r>
            <a:r>
              <a:rPr b="0" lang="en-US" sz="3200" spc="-1" strike="noStrike">
                <a:solidFill>
                  <a:srgbClr val="330000"/>
                </a:solidFill>
                <a:latin typeface="ヒラギノ角ゴ Pro W3"/>
              </a:rPr>
              <a:t>: Running</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Opinion</a:t>
            </a:r>
            <a:r>
              <a:rPr b="0" lang="en-US" sz="3200" spc="-1" strike="noStrike">
                <a:solidFill>
                  <a:srgbClr val="330000"/>
                </a:solidFill>
                <a:latin typeface="ヒラギノ角ゴ Pro W3"/>
              </a:rPr>
              <a:t>: Excellent</a:t>
            </a:r>
            <a:endParaRPr b="0" lang="en-US" sz="32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rPr>
              <a:t>(Schaffer 12)</a:t>
            </a: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is the FIRST sentence in a paragraph.</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very paragraph must have a topic sentence.</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must have a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full paragraph will look like this:</a:t>
            </a:r>
            <a:endParaRPr b="0" lang="en-US" sz="32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Topic Sentence</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For example,)</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In Addition,)</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luding Sentence</a:t>
            </a:r>
            <a:endParaRPr b="0" lang="en-US" sz="2400" spc="-1" strike="noStrike">
              <a:solidFill>
                <a:srgbClr val="33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rete Detail</a:t>
            </a:r>
            <a:endParaRPr b="0" lang="en-US" sz="4400" spc="-1" strike="noStrike">
              <a:solidFill>
                <a:srgbClr val="32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crete detail refers to a FACT statement that supports what has been said in the topic sentenc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t>
            </a:r>
            <a:r>
              <a:rPr b="1" lang="en-US" sz="2800" spc="-1" strike="noStrike">
                <a:solidFill>
                  <a:srgbClr val="330000"/>
                </a:solidFill>
                <a:latin typeface="Arial"/>
              </a:rPr>
              <a:t>TS</a:t>
            </a:r>
            <a:r>
              <a:rPr b="1"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1"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CD offers proof and support for the topic sentence.</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mentary</a:t>
            </a:r>
            <a:endParaRPr b="0" lang="en-US" sz="4400" spc="-1" strike="noStrike">
              <a:solidFill>
                <a:srgbClr val="32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mentary explains, “makes a comment” about the concrete detail.</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a:t>
            </a:r>
            <a:r>
              <a:rPr b="0" lang="en-US" sz="2800" spc="-1" strike="noStrike">
                <a:solidFill>
                  <a:srgbClr val="330000"/>
                </a:solidFill>
                <a:latin typeface="Arial"/>
              </a:rPr>
              <a:t>	</a:t>
            </a: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It increases muscle mas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and reduces body fa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Running is also healthy for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your heart.</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luding Sentence</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st like the Topic Sentence, the concluding sentence will restate your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Arial"/>
              </a:rPr>
              <a:t>Example</a:t>
            </a:r>
            <a:r>
              <a:rPr b="0" lang="en-US" sz="3200" spc="-1" strike="noStrike">
                <a:solidFill>
                  <a:srgbClr val="330000"/>
                </a:solidFill>
                <a:latin typeface="Arial"/>
              </a:rPr>
              <a:t>: Running is a terrific spor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4)</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1:48:27Z</dcterms:created>
  <dc:creator>Huron High</dc:creator>
  <dc:description/>
  <dc:language>en-US</dc:language>
  <cp:lastModifiedBy>Huron High</cp:lastModifiedBy>
  <dcterms:modified xsi:type="dcterms:W3CDTF">2008-01-10T16:47:12Z</dcterms:modified>
  <cp:revision>26</cp:revision>
  <dc:subject/>
  <dc:title>Writing the Multi Paragraph Essay</dc:title>
</cp:coreProperties>
</file>