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wmf" ContentType="image/x-wmf"/>
  <Override PartName="/ppt/media/image5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4.jpeg" ContentType="image/jpeg"/>
  <Override PartName="/ppt/media/image20.png" ContentType="image/png"/>
  <Override PartName="/ppt/media/image2.jpeg" ContentType="image/jpeg"/>
  <Override PartName="/ppt/media/image25.wmf" ContentType="image/x-wmf"/>
  <Override PartName="/ppt/media/image10.png" ContentType="image/png"/>
  <Override PartName="/ppt/media/image1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52B-A0DB-4034-88F2-7666CA53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AD22-483A-4508-97A0-3D45F787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ACC-B8F9-48ED-9C0C-F9DB450A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64A-088B-49D1-A87D-3A3EF415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5883-46AC-4EE1-A3CA-1F0DAE76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838-B7FC-48F6-A52F-1BE03B9E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82E-C851-4BB1-A695-7E9502FB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87D-A07F-4375-98FD-326C90DD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C54-DAE8-4130-A901-B72B8DF9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7506-CDB6-4A33-8C18-ADC81B87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E5E-F584-4845-95F7-C067B137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ADF-0C45-4883-83E8-C3033435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AAE2-473B-4C3B-BBF7-70C6122ACC6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creativecommons.org/licenses/by-nc-sa/3.0/br/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hyperlink" Target="http://www.youtube.com/watch?v=TQEOxXB3m2k" TargetMode="External"/><Relationship Id="rId4" Type="http://schemas.openxmlformats.org/officeDocument/2006/relationships/hyperlink" Target="http://www.youtube.com/watch?v=HqhbiWruQtE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kmgoldman.blogspot.com/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youtube.com/" TargetMode="External"/><Relationship Id="rId2" Type="http://schemas.openxmlformats.org/officeDocument/2006/relationships/hyperlink" Target="http://www.zoomcloud.com/" TargetMode="External"/><Relationship Id="rId3" Type="http://schemas.openxmlformats.org/officeDocument/2006/relationships/hyperlink" Target="http://www.base10.com.br/" TargetMode="External"/><Relationship Id="rId4" Type="http://schemas.openxmlformats.org/officeDocument/2006/relationships/hyperlink" Target="http://www.technorati.com/" TargetMode="External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2.5/br/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pt.wikipedia.org/wiki/Projeto_GNU" TargetMode="External"/><Relationship Id="rId4" Type="http://schemas.openxmlformats.org/officeDocument/2006/relationships/image" Target="../media/image10.png"/><Relationship Id="rId5" Type="http://schemas.openxmlformats.org/officeDocument/2006/relationships/hyperlink" Target="http://pt.wikipedia.org/wiki/P&#225;gina_principal" TargetMode="External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hyperlink" Target="http://books.google.com.br/books?id=N9QHkFT_WC4C&amp;printsec=frontcover" TargetMode="External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DLs1-g3LbI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34612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estão do Conhecimento -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3"/>
          <p:cNvSpPr/>
          <p:nvPr/>
        </p:nvSpPr>
        <p:spPr>
          <a:xfrm>
            <a:off x="1763640" y="378612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Abordagem Introdutó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9" descr="ppt_barra_inf"/>
          <p:cNvPicPr/>
          <p:nvPr/>
        </p:nvPicPr>
        <p:blipFill>
          <a:blip r:embed="rId1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0"/>
          <p:cNvSpPr/>
          <p:nvPr/>
        </p:nvSpPr>
        <p:spPr>
          <a:xfrm>
            <a:off x="758880" y="60930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il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1"/>
          <p:cNvSpPr/>
          <p:nvPr/>
        </p:nvSpPr>
        <p:spPr>
          <a:xfrm>
            <a:off x="3059280" y="595008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ero"/>
              </a:rPr>
              <a:t>Bayardo Mo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3" descr="ppt_seta"/>
          <p:cNvPicPr/>
          <p:nvPr/>
        </p:nvPicPr>
        <p:blipFill>
          <a:blip r:embed="rId2"/>
          <a:stretch/>
        </p:blipFill>
        <p:spPr>
          <a:xfrm>
            <a:off x="8705880" y="0"/>
            <a:ext cx="438120" cy="473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6" descr="SBGC logo"/>
          <p:cNvPicPr/>
          <p:nvPr/>
        </p:nvPicPr>
        <p:blipFill>
          <a:blip r:embed="rId3"/>
          <a:stretch/>
        </p:blipFill>
        <p:spPr>
          <a:xfrm>
            <a:off x="835200" y="404640"/>
            <a:ext cx="1504800" cy="64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7" descr="Ulbra logo"/>
          <p:cNvPicPr/>
          <p:nvPr/>
        </p:nvPicPr>
        <p:blipFill>
          <a:blip r:embed="rId4"/>
          <a:stretch/>
        </p:blipFill>
        <p:spPr>
          <a:xfrm>
            <a:off x="7596360" y="220680"/>
            <a:ext cx="733320" cy="90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8" descr="creativ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68720" y="6408720"/>
            <a:ext cx="93492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4"/>
          <p:cNvSpPr/>
          <p:nvPr/>
        </p:nvSpPr>
        <p:spPr>
          <a:xfrm>
            <a:off x="971640" y="1484280"/>
            <a:ext cx="7127640" cy="2665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1042920" y="2925720"/>
            <a:ext cx="7128000" cy="273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 rot="16200000">
            <a:off x="4283640" y="45360"/>
            <a:ext cx="606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hecimento Cient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 rot="16200000">
            <a:off x="4415400" y="2218320"/>
            <a:ext cx="10335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hecimento Organiz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4284720" y="3068640"/>
            <a:ext cx="576360" cy="936720"/>
          </a:xfrm>
          <a:prstGeom prst="upDownArrow">
            <a:avLst>
              <a:gd name="adj1" fmla="val 50000"/>
              <a:gd name="adj2" fmla="val 3235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 rot="16200000">
            <a:off x="4618080" y="-434880"/>
            <a:ext cx="48528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dor: Artigos Publicados/Revistas Cientí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 rot="16200000">
            <a:off x="4500720" y="2275920"/>
            <a:ext cx="7902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dor: Registros de Patentes, Rankings Mercad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332000" y="33336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ipos de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769240" cy="5603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 rot="16200000">
            <a:off x="2365920" y="4442760"/>
            <a:ext cx="66708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nte: I-Group Conhecimento Estraté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82480" y="404640"/>
            <a:ext cx="7980480" cy="57549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 rot="16200000">
            <a:off x="3983040" y="2865600"/>
            <a:ext cx="606600" cy="73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Fonte: http://www.slideshare.net/hudsonaugusto/gesto-do-conhecimento-pres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 rot="16380600">
            <a:off x="8402760" y="433872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7"/>
          <p:cNvGrpSpPr/>
          <p:nvPr/>
        </p:nvGrpSpPr>
        <p:grpSpPr>
          <a:xfrm>
            <a:off x="755640" y="2060640"/>
            <a:ext cx="2235960" cy="1307880"/>
            <a:chOff x="755640" y="2060640"/>
            <a:chExt cx="2235960" cy="1307880"/>
          </a:xfrm>
        </p:grpSpPr>
        <p:sp>
          <p:nvSpPr>
            <p:cNvPr id="105" name="AutoShape 20"/>
            <p:cNvSpPr/>
            <p:nvPr/>
          </p:nvSpPr>
          <p:spPr>
            <a:xfrm>
              <a:off x="755640" y="2249640"/>
              <a:ext cx="792000" cy="107928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8640 h 1079280"/>
                <a:gd name="textAreaBottom" fmla="*/ 782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 rot="16200000">
              <a:off x="1996200" y="1611360"/>
              <a:ext cx="546120" cy="14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Mitolo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 rot="16200000">
              <a:off x="1903320" y="2487240"/>
              <a:ext cx="54612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Histó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9"/>
          <p:cNvGrpSpPr/>
          <p:nvPr/>
        </p:nvGrpSpPr>
        <p:grpSpPr>
          <a:xfrm>
            <a:off x="5867280" y="3500280"/>
            <a:ext cx="2703240" cy="1338120"/>
            <a:chOff x="5867280" y="3500280"/>
            <a:chExt cx="2703240" cy="1338120"/>
          </a:xfrm>
        </p:grpSpPr>
        <p:sp>
          <p:nvSpPr>
            <p:cNvPr id="109" name="Text Box 6"/>
            <p:cNvSpPr/>
            <p:nvPr/>
          </p:nvSpPr>
          <p:spPr>
            <a:xfrm rot="16200000">
              <a:off x="7357680" y="3017520"/>
              <a:ext cx="54612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lquim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8"/>
            <p:cNvSpPr/>
            <p:nvPr/>
          </p:nvSpPr>
          <p:spPr>
            <a:xfrm rot="16200000">
              <a:off x="7378200" y="3646080"/>
              <a:ext cx="546120" cy="18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Quím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23"/>
            <p:cNvSpPr/>
            <p:nvPr/>
          </p:nvSpPr>
          <p:spPr>
            <a:xfrm>
              <a:off x="5867280" y="3643200"/>
              <a:ext cx="792000" cy="107964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9000 h 1079640"/>
                <a:gd name="textAreaBottom" fmla="*/ 783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8"/>
          <p:cNvGrpSpPr/>
          <p:nvPr/>
        </p:nvGrpSpPr>
        <p:grpSpPr>
          <a:xfrm>
            <a:off x="3059280" y="2707920"/>
            <a:ext cx="2549520" cy="1338480"/>
            <a:chOff x="3059280" y="2707920"/>
            <a:chExt cx="2549520" cy="1338480"/>
          </a:xfrm>
        </p:grpSpPr>
        <p:sp>
          <p:nvSpPr>
            <p:cNvPr id="113" name="AutoShape 24"/>
            <p:cNvSpPr/>
            <p:nvPr/>
          </p:nvSpPr>
          <p:spPr>
            <a:xfrm>
              <a:off x="3059280" y="2928960"/>
              <a:ext cx="792000" cy="107928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8640 h 1079280"/>
                <a:gd name="textAreaBottom" fmla="*/ 782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5"/>
            <p:cNvSpPr/>
            <p:nvPr/>
          </p:nvSpPr>
          <p:spPr>
            <a:xfrm rot="16200000">
              <a:off x="4359600" y="2202120"/>
              <a:ext cx="5461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strolo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6"/>
            <p:cNvSpPr/>
            <p:nvPr/>
          </p:nvSpPr>
          <p:spPr>
            <a:xfrm rot="16200000">
              <a:off x="4453200" y="2890800"/>
              <a:ext cx="546120" cy="176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stronom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30"/>
          <p:cNvGrpSpPr/>
          <p:nvPr/>
        </p:nvGrpSpPr>
        <p:grpSpPr>
          <a:xfrm>
            <a:off x="684360" y="4868640"/>
            <a:ext cx="2667960" cy="1526040"/>
            <a:chOff x="684360" y="4868640"/>
            <a:chExt cx="2667960" cy="1526040"/>
          </a:xfrm>
        </p:grpSpPr>
        <p:sp>
          <p:nvSpPr>
            <p:cNvPr id="117" name="AutoShape 31"/>
            <p:cNvSpPr/>
            <p:nvPr/>
          </p:nvSpPr>
          <p:spPr>
            <a:xfrm>
              <a:off x="684360" y="5248440"/>
              <a:ext cx="792000" cy="107928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8640 h 1079280"/>
                <a:gd name="textAreaBottom" fmla="*/ 782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 rot="16200000">
              <a:off x="2051280" y="4296600"/>
              <a:ext cx="729000" cy="18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Tahoma"/>
                </a:rPr>
                <a:t>Filosof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 rot="16200000">
              <a:off x="1947960" y="5213160"/>
              <a:ext cx="72900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Tahoma"/>
                </a:rPr>
                <a:t>Ciênc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38"/>
          <p:cNvSpPr/>
          <p:nvPr/>
        </p:nvSpPr>
        <p:spPr>
          <a:xfrm>
            <a:off x="0" y="525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volução Cultural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0"/>
          <p:cNvSpPr/>
          <p:nvPr/>
        </p:nvSpPr>
        <p:spPr>
          <a:xfrm>
            <a:off x="4643280" y="5392800"/>
            <a:ext cx="792360" cy="1079280"/>
          </a:xfrm>
          <a:custGeom>
            <a:avLst/>
            <a:gdLst>
              <a:gd name="textAreaLeft" fmla="*/ 106200 w 792360"/>
              <a:gd name="textAreaRight" fmla="*/ 686160 w 79236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1"/>
          <p:cNvSpPr/>
          <p:nvPr/>
        </p:nvSpPr>
        <p:spPr>
          <a:xfrm rot="16200000">
            <a:off x="5824440" y="4653000"/>
            <a:ext cx="72900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2"/>
          <p:cNvSpPr/>
          <p:nvPr/>
        </p:nvSpPr>
        <p:spPr>
          <a:xfrm rot="16200000">
            <a:off x="5874480" y="5387400"/>
            <a:ext cx="72900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1"/>
          <p:cNvSpPr/>
          <p:nvPr/>
        </p:nvSpPr>
        <p:spPr>
          <a:xfrm>
            <a:off x="1979640" y="26028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as Econôm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40"/>
          <p:cNvGrpSpPr/>
          <p:nvPr/>
        </p:nvGrpSpPr>
        <p:grpSpPr>
          <a:xfrm>
            <a:off x="395280" y="1341360"/>
            <a:ext cx="8499600" cy="5236920"/>
            <a:chOff x="395280" y="1341360"/>
            <a:chExt cx="8499600" cy="5236920"/>
          </a:xfrm>
        </p:grpSpPr>
        <p:sp>
          <p:nvSpPr>
            <p:cNvPr id="126" name="Text Box 22"/>
            <p:cNvSpPr/>
            <p:nvPr/>
          </p:nvSpPr>
          <p:spPr>
            <a:xfrm>
              <a:off x="4859280" y="4797360"/>
              <a:ext cx="403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Diferencial Competiti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5"/>
            <p:cNvSpPr/>
            <p:nvPr/>
          </p:nvSpPr>
          <p:spPr>
            <a:xfrm>
              <a:off x="395280" y="1341360"/>
              <a:ext cx="3384720" cy="947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Sociedade </a:t>
              </a:r>
              <a:br>
                <a:rPr sz="2800"/>
              </a:b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Industr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6"/>
            <p:cNvSpPr/>
            <p:nvPr/>
          </p:nvSpPr>
          <p:spPr>
            <a:xfrm>
              <a:off x="395280" y="3213000"/>
              <a:ext cx="3384720" cy="947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Sociedade</a:t>
              </a:r>
              <a:br>
                <a:rPr sz="2800"/>
              </a:b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Pós-industr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7"/>
            <p:cNvSpPr/>
            <p:nvPr/>
          </p:nvSpPr>
          <p:spPr>
            <a:xfrm>
              <a:off x="4932360" y="162864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erra/Trabalho/Capi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0"/>
            <p:cNvSpPr/>
            <p:nvPr/>
          </p:nvSpPr>
          <p:spPr>
            <a:xfrm>
              <a:off x="4932360" y="3429000"/>
              <a:ext cx="390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formação/Conheci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4"/>
            <p:cNvSpPr/>
            <p:nvPr/>
          </p:nvSpPr>
          <p:spPr>
            <a:xfrm>
              <a:off x="4067280" y="3429000"/>
              <a:ext cx="647640" cy="504720"/>
            </a:xfrm>
            <a:prstGeom prst="rightArrow">
              <a:avLst>
                <a:gd name="adj1" fmla="val 50000"/>
                <a:gd name="adj2" fmla="val 32079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5"/>
            <p:cNvSpPr/>
            <p:nvPr/>
          </p:nvSpPr>
          <p:spPr>
            <a:xfrm>
              <a:off x="4067280" y="1628640"/>
              <a:ext cx="649080" cy="503280"/>
            </a:xfrm>
            <a:prstGeom prst="rightArrow">
              <a:avLst>
                <a:gd name="adj1" fmla="val 50000"/>
                <a:gd name="adj2" fmla="val 32242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9"/>
            <p:cNvSpPr/>
            <p:nvPr/>
          </p:nvSpPr>
          <p:spPr>
            <a:xfrm>
              <a:off x="4859280" y="1628640"/>
              <a:ext cx="3960720" cy="544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30"/>
            <p:cNvSpPr/>
            <p:nvPr/>
          </p:nvSpPr>
          <p:spPr>
            <a:xfrm>
              <a:off x="4859280" y="3402000"/>
              <a:ext cx="3960720" cy="544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33"/>
            <p:cNvSpPr/>
            <p:nvPr/>
          </p:nvSpPr>
          <p:spPr>
            <a:xfrm>
              <a:off x="1763640" y="2421000"/>
              <a:ext cx="287280" cy="720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126360 h 720720"/>
                <a:gd name="textAreaBottom" fmla="*/ 52236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79" stAng="-5400000" swAng="-5400000"/>
                  <a:lnTo>
                    <a:pt x="0" y="11861"/>
                  </a:lnTo>
                  <a:arcTo wR="21600" hR="7579" stAng="10800000" swAng="-1054311"/>
                  <a:lnTo>
                    <a:pt x="5565" y="19099"/>
                  </a:lnTo>
                  <a:lnTo>
                    <a:pt x="21600" y="17299"/>
                  </a:lnTo>
                  <a:lnTo>
                    <a:pt x="5565" y="10497"/>
                  </a:lnTo>
                  <a:lnTo>
                    <a:pt x="5565" y="12657"/>
                  </a:lnTo>
                  <a:arcTo wR="21600" hR="7579" stAng="9745689" swAng="700348"/>
                  <a:lnTo>
                    <a:pt x="880" y="9720"/>
                  </a:lnTo>
                  <a:arcTo wR="21600" hR="7579" stAng="-10446037" swAng="5046037"/>
                  <a:close/>
                </a:path>
                <a:path fill="darkenLess" w="21600" h="21600">
                  <a:moveTo>
                    <a:pt x="21600" y="0"/>
                  </a:moveTo>
                  <a:arcTo wR="21600" hR="7579" stAng="-5400000" swAng="-5400000"/>
                  <a:lnTo>
                    <a:pt x="0" y="7579"/>
                  </a:lnTo>
                  <a:arcTo wR="21600" hR="7579" stAng="10800000" swAng="-353963"/>
                  <a:lnTo>
                    <a:pt x="880" y="9720"/>
                  </a:lnTo>
                  <a:arcTo wR="21600" hR="7579" stAng="-10446037" swAng="504603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35"/>
            <p:cNvSpPr/>
            <p:nvPr/>
          </p:nvSpPr>
          <p:spPr>
            <a:xfrm>
              <a:off x="6588000" y="4076640"/>
              <a:ext cx="289080" cy="792360"/>
            </a:xfrm>
            <a:custGeom>
              <a:avLst/>
              <a:gdLst>
                <a:gd name="textAreaLeft" fmla="*/ 38520 w 289080"/>
                <a:gd name="textAreaRight" fmla="*/ 250560 w 289080"/>
                <a:gd name="textAreaTop" fmla="*/ 138600 h 792360"/>
                <a:gd name="textAreaBottom" fmla="*/ 57456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36"/>
            <p:cNvSpPr/>
            <p:nvPr/>
          </p:nvSpPr>
          <p:spPr>
            <a:xfrm>
              <a:off x="6588000" y="5373720"/>
              <a:ext cx="289080" cy="792000"/>
            </a:xfrm>
            <a:custGeom>
              <a:avLst/>
              <a:gdLst>
                <a:gd name="textAreaLeft" fmla="*/ 38520 w 289080"/>
                <a:gd name="textAreaRight" fmla="*/ 250560 w 289080"/>
                <a:gd name="textAreaTop" fmla="*/ 138600 h 792000"/>
                <a:gd name="textAreaBottom" fmla="*/ 5742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7"/>
            <p:cNvSpPr/>
            <p:nvPr/>
          </p:nvSpPr>
          <p:spPr>
            <a:xfrm rot="16200000">
              <a:off x="6631920" y="5112360"/>
              <a:ext cx="485280" cy="24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ustentabilida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tângulo 2"/>
          <p:cNvSpPr/>
          <p:nvPr/>
        </p:nvSpPr>
        <p:spPr>
          <a:xfrm>
            <a:off x="1433520" y="620640"/>
            <a:ext cx="643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ares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eta para a direita 3"/>
          <p:cNvSpPr/>
          <p:nvPr/>
        </p:nvSpPr>
        <p:spPr>
          <a:xfrm>
            <a:off x="3276720" y="2708280"/>
            <a:ext cx="358560" cy="216000"/>
          </a:xfrm>
          <a:prstGeom prst="rightArrow">
            <a:avLst>
              <a:gd name="adj1" fmla="val 50000"/>
              <a:gd name="adj2" fmla="val 498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ângulo 6"/>
          <p:cNvSpPr/>
          <p:nvPr/>
        </p:nvSpPr>
        <p:spPr>
          <a:xfrm>
            <a:off x="3635280" y="2565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esso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tângulo 7"/>
          <p:cNvSpPr/>
          <p:nvPr/>
        </p:nvSpPr>
        <p:spPr>
          <a:xfrm>
            <a:off x="4427640" y="3573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ces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tângulo 8"/>
          <p:cNvSpPr/>
          <p:nvPr/>
        </p:nvSpPr>
        <p:spPr>
          <a:xfrm flipV="1" rot="10800000">
            <a:off x="5148360" y="4662000"/>
            <a:ext cx="34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nolog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ta para a direita 9"/>
          <p:cNvSpPr/>
          <p:nvPr/>
        </p:nvSpPr>
        <p:spPr>
          <a:xfrm>
            <a:off x="3924360" y="3789360"/>
            <a:ext cx="360360" cy="21600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eta para a direita 10"/>
          <p:cNvSpPr/>
          <p:nvPr/>
        </p:nvSpPr>
        <p:spPr>
          <a:xfrm>
            <a:off x="4643280" y="4869000"/>
            <a:ext cx="360360" cy="215640"/>
          </a:xfrm>
          <a:prstGeom prst="rightArrow">
            <a:avLst>
              <a:gd name="adj1" fmla="val 50000"/>
              <a:gd name="adj2" fmla="val 5013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1"/>
          <p:cNvSpPr/>
          <p:nvPr/>
        </p:nvSpPr>
        <p:spPr>
          <a:xfrm rot="16200000">
            <a:off x="4183200" y="-2877840"/>
            <a:ext cx="850680" cy="72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isão Linear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1403280" y="1628640"/>
            <a:ext cx="6443280" cy="4573440"/>
            <a:chOff x="1403280" y="1628640"/>
            <a:chExt cx="6443280" cy="4573440"/>
          </a:xfrm>
        </p:grpSpPr>
        <p:sp>
          <p:nvSpPr>
            <p:cNvPr id="148" name="Text Box 11"/>
            <p:cNvSpPr/>
            <p:nvPr/>
          </p:nvSpPr>
          <p:spPr>
            <a:xfrm>
              <a:off x="3779640" y="3889440"/>
              <a:ext cx="406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ados interpretados,     contextualizad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5"/>
            <p:cNvSpPr/>
            <p:nvPr/>
          </p:nvSpPr>
          <p:spPr>
            <a:xfrm>
              <a:off x="2268360" y="1628640"/>
              <a:ext cx="165708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D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7"/>
            <p:cNvSpPr/>
            <p:nvPr/>
          </p:nvSpPr>
          <p:spPr>
            <a:xfrm>
              <a:off x="1618920" y="3213000"/>
              <a:ext cx="288108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FORM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1403280" y="4941720"/>
              <a:ext cx="338436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3777840" y="2233440"/>
              <a:ext cx="36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escrição, registro de fatos,            eventos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2"/>
            <p:cNvSpPr/>
            <p:nvPr/>
          </p:nvSpPr>
          <p:spPr>
            <a:xfrm>
              <a:off x="3779640" y="5559480"/>
              <a:ext cx="37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Informação com valor agregado pela mente huma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22"/>
            <p:cNvSpPr/>
            <p:nvPr/>
          </p:nvSpPr>
          <p:spPr>
            <a:xfrm>
              <a:off x="2914560" y="2276280"/>
              <a:ext cx="286920" cy="720720"/>
            </a:xfrm>
            <a:custGeom>
              <a:avLst/>
              <a:gdLst>
                <a:gd name="textAreaLeft" fmla="*/ 38160 w 286920"/>
                <a:gd name="textAreaRight" fmla="*/ 248760 w 286920"/>
                <a:gd name="textAreaTop" fmla="*/ 126360 h 720720"/>
                <a:gd name="textAreaBottom" fmla="*/ 52236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79" stAng="-5400000" swAng="-5400000"/>
                  <a:lnTo>
                    <a:pt x="0" y="11861"/>
                  </a:lnTo>
                  <a:arcTo wR="21600" hR="7579" stAng="10800000" swAng="-1054311"/>
                  <a:lnTo>
                    <a:pt x="5565" y="19099"/>
                  </a:lnTo>
                  <a:lnTo>
                    <a:pt x="21600" y="17299"/>
                  </a:lnTo>
                  <a:lnTo>
                    <a:pt x="5565" y="10497"/>
                  </a:lnTo>
                  <a:lnTo>
                    <a:pt x="5565" y="12657"/>
                  </a:lnTo>
                  <a:arcTo wR="21600" hR="7579" stAng="9745689" swAng="700348"/>
                  <a:lnTo>
                    <a:pt x="880" y="9720"/>
                  </a:lnTo>
                  <a:arcTo wR="21600" hR="7579" stAng="-10446037" swAng="5046037"/>
                  <a:close/>
                </a:path>
                <a:path fill="darkenLess" w="21600" h="21600">
                  <a:moveTo>
                    <a:pt x="21600" y="0"/>
                  </a:moveTo>
                  <a:arcTo wR="21600" hR="7579" stAng="-5400000" swAng="-5400000"/>
                  <a:lnTo>
                    <a:pt x="0" y="7579"/>
                  </a:lnTo>
                  <a:arcTo wR="21600" hR="7579" stAng="10800000" swAng="-353963"/>
                  <a:lnTo>
                    <a:pt x="880" y="9720"/>
                  </a:lnTo>
                  <a:arcTo wR="21600" hR="7579" stAng="-10446037" swAng="504603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23"/>
            <p:cNvSpPr/>
            <p:nvPr/>
          </p:nvSpPr>
          <p:spPr>
            <a:xfrm>
              <a:off x="2842920" y="3860640"/>
              <a:ext cx="286920" cy="720720"/>
            </a:xfrm>
            <a:custGeom>
              <a:avLst/>
              <a:gdLst>
                <a:gd name="textAreaLeft" fmla="*/ 38160 w 286920"/>
                <a:gd name="textAreaRight" fmla="*/ 248760 w 286920"/>
                <a:gd name="textAreaTop" fmla="*/ 126360 h 720720"/>
                <a:gd name="textAreaBottom" fmla="*/ 52236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79" stAng="-5400000" swAng="-5400000"/>
                  <a:lnTo>
                    <a:pt x="0" y="11861"/>
                  </a:lnTo>
                  <a:arcTo wR="21600" hR="7579" stAng="10800000" swAng="-1060362"/>
                  <a:lnTo>
                    <a:pt x="5609" y="19116"/>
                  </a:lnTo>
                  <a:lnTo>
                    <a:pt x="21600" y="17299"/>
                  </a:lnTo>
                  <a:lnTo>
                    <a:pt x="5609" y="10514"/>
                  </a:lnTo>
                  <a:lnTo>
                    <a:pt x="5609" y="12674"/>
                  </a:lnTo>
                  <a:arcTo wR="21600" hR="7579" stAng="9739638" swAng="706399"/>
                  <a:lnTo>
                    <a:pt x="880" y="9720"/>
                  </a:lnTo>
                  <a:arcTo wR="21600" hR="7579" stAng="-10446037" swAng="5046037"/>
                  <a:close/>
                </a:path>
                <a:path fill="darkenLess" w="21600" h="21600">
                  <a:moveTo>
                    <a:pt x="21600" y="0"/>
                  </a:moveTo>
                  <a:arcTo wR="21600" hR="7579" stAng="-5400000" swAng="-5400000"/>
                  <a:lnTo>
                    <a:pt x="0" y="7579"/>
                  </a:lnTo>
                  <a:arcTo wR="21600" hR="7579" stAng="10800000" swAng="-353963"/>
                  <a:lnTo>
                    <a:pt x="880" y="9720"/>
                  </a:lnTo>
                  <a:arcTo wR="21600" hR="7579" stAng="-10446037" swAng="504603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615000" y="836640"/>
            <a:ext cx="549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 rot="16200000">
            <a:off x="4094280" y="-3365640"/>
            <a:ext cx="850680" cy="81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Visão Linear Ampliada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24"/>
          <p:cNvGrpSpPr/>
          <p:nvPr/>
        </p:nvGrpSpPr>
        <p:grpSpPr>
          <a:xfrm>
            <a:off x="711000" y="1698480"/>
            <a:ext cx="7677360" cy="3911040"/>
            <a:chOff x="711000" y="1698480"/>
            <a:chExt cx="7677360" cy="3911040"/>
          </a:xfrm>
        </p:grpSpPr>
        <p:sp>
          <p:nvSpPr>
            <p:cNvPr id="159" name="Line 6"/>
            <p:cNvSpPr/>
            <p:nvPr/>
          </p:nvSpPr>
          <p:spPr>
            <a:xfrm flipV="1">
              <a:off x="1893960" y="2130120"/>
              <a:ext cx="0" cy="309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7"/>
            <p:cNvSpPr/>
            <p:nvPr/>
          </p:nvSpPr>
          <p:spPr>
            <a:xfrm>
              <a:off x="1965600" y="5297760"/>
              <a:ext cx="38890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 rot="10800000">
              <a:off x="711000" y="1698480"/>
              <a:ext cx="272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 rot="16200000">
              <a:off x="6822000" y="3970080"/>
              <a:ext cx="454680" cy="26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Conhec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0"/>
            <p:cNvSpPr/>
            <p:nvPr/>
          </p:nvSpPr>
          <p:spPr>
            <a:xfrm flipV="1">
              <a:off x="2038320" y="4578120"/>
              <a:ext cx="792360" cy="576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1"/>
            <p:cNvSpPr/>
            <p:nvPr/>
          </p:nvSpPr>
          <p:spPr>
            <a:xfrm rot="16200000">
              <a:off x="1290960" y="4820760"/>
              <a:ext cx="454680" cy="11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D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 rot="16200000">
              <a:off x="3110400" y="3506400"/>
              <a:ext cx="454680" cy="15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Inform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 flipV="1">
              <a:off x="3478320" y="3498480"/>
              <a:ext cx="863640" cy="57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5"/>
            <p:cNvSpPr/>
            <p:nvPr/>
          </p:nvSpPr>
          <p:spPr>
            <a:xfrm rot="16200000">
              <a:off x="3247920" y="4160520"/>
              <a:ext cx="6066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cc66"/>
                  </a:solidFill>
                  <a:latin typeface="Tahoma"/>
                </a:rPr>
                <a:t>O que, quando, on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 rot="16200000">
              <a:off x="4550040" y="2353320"/>
              <a:ext cx="454680" cy="18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Conhec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7"/>
            <p:cNvSpPr/>
            <p:nvPr/>
          </p:nvSpPr>
          <p:spPr>
            <a:xfrm flipV="1">
              <a:off x="4846680" y="2562480"/>
              <a:ext cx="792360" cy="504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8"/>
            <p:cNvSpPr/>
            <p:nvPr/>
          </p:nvSpPr>
          <p:spPr>
            <a:xfrm rot="16200000">
              <a:off x="5009400" y="2901960"/>
              <a:ext cx="393480" cy="17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cc66"/>
                  </a:solidFill>
                  <a:latin typeface="Tahoma"/>
                </a:rPr>
                <a:t>Co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 rot="16200000">
              <a:off x="5699520" y="1564200"/>
              <a:ext cx="4546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abed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0"/>
            <p:cNvSpPr/>
            <p:nvPr/>
          </p:nvSpPr>
          <p:spPr>
            <a:xfrm rot="16200000">
              <a:off x="6305760" y="2038320"/>
              <a:ext cx="3934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cc66"/>
                  </a:solidFill>
                  <a:latin typeface="Tahoma"/>
                </a:rPr>
                <a:t>O porqu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21"/>
          <p:cNvSpPr/>
          <p:nvPr/>
        </p:nvSpPr>
        <p:spPr>
          <a:xfrm rot="16200000">
            <a:off x="2422080" y="5002200"/>
            <a:ext cx="3628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Bellinger, Gene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097840" cy="5391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 rot="16200000">
            <a:off x="2340360" y="4575960"/>
            <a:ext cx="3628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PPGEGC-UF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37"/>
          <p:cNvGrpSpPr/>
          <p:nvPr/>
        </p:nvGrpSpPr>
        <p:grpSpPr>
          <a:xfrm>
            <a:off x="395280" y="1197000"/>
            <a:ext cx="8064360" cy="5256360"/>
            <a:chOff x="395280" y="1197000"/>
            <a:chExt cx="8064360" cy="5256360"/>
          </a:xfrm>
        </p:grpSpPr>
        <p:sp>
          <p:nvSpPr>
            <p:cNvPr id="177" name="Text Box 4"/>
            <p:cNvSpPr/>
            <p:nvPr/>
          </p:nvSpPr>
          <p:spPr>
            <a:xfrm rot="16200000">
              <a:off x="6907680" y="3182040"/>
              <a:ext cx="72900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Tahoma"/>
                </a:rPr>
                <a:t>G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"/>
            <p:cNvSpPr/>
            <p:nvPr/>
          </p:nvSpPr>
          <p:spPr>
            <a:xfrm>
              <a:off x="6299280" y="3141720"/>
              <a:ext cx="2016000" cy="122400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22"/>
            <p:cNvGrpSpPr/>
            <p:nvPr/>
          </p:nvGrpSpPr>
          <p:grpSpPr>
            <a:xfrm>
              <a:off x="6372360" y="5229360"/>
              <a:ext cx="2016000" cy="1224000"/>
              <a:chOff x="6372360" y="5229360"/>
              <a:chExt cx="2016000" cy="1224000"/>
            </a:xfrm>
          </p:grpSpPr>
          <p:sp>
            <p:nvSpPr>
              <p:cNvPr id="180" name="Text Box 8"/>
              <p:cNvSpPr/>
              <p:nvPr/>
            </p:nvSpPr>
            <p:spPr>
              <a:xfrm rot="16200000">
                <a:off x="6967800" y="4847760"/>
                <a:ext cx="826560" cy="18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ahoma"/>
                  </a:rPr>
                  <a:t>Processo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Decisóri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9"/>
              <p:cNvSpPr/>
              <p:nvPr/>
            </p:nvSpPr>
            <p:spPr>
              <a:xfrm>
                <a:off x="6372360" y="5229360"/>
                <a:ext cx="201600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9"/>
            <p:cNvGrpSpPr/>
            <p:nvPr/>
          </p:nvGrpSpPr>
          <p:grpSpPr>
            <a:xfrm>
              <a:off x="395280" y="3070080"/>
              <a:ext cx="2016000" cy="1224000"/>
              <a:chOff x="395280" y="3070080"/>
              <a:chExt cx="2016000" cy="1224000"/>
            </a:xfrm>
          </p:grpSpPr>
          <p:sp>
            <p:nvSpPr>
              <p:cNvPr id="183" name="Text Box 13"/>
              <p:cNvSpPr/>
              <p:nvPr/>
            </p:nvSpPr>
            <p:spPr>
              <a:xfrm rot="16200000">
                <a:off x="1162080" y="2797920"/>
                <a:ext cx="485280" cy="172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ahoma"/>
                  </a:rPr>
                  <a:t>Organizaçã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4"/>
              <p:cNvSpPr/>
              <p:nvPr/>
            </p:nvSpPr>
            <p:spPr>
              <a:xfrm>
                <a:off x="395280" y="3070080"/>
                <a:ext cx="201600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20"/>
            <p:cNvGrpSpPr/>
            <p:nvPr/>
          </p:nvGrpSpPr>
          <p:grpSpPr>
            <a:xfrm>
              <a:off x="3274920" y="3068640"/>
              <a:ext cx="2016360" cy="1224000"/>
              <a:chOff x="3274920" y="3068640"/>
              <a:chExt cx="2016360" cy="1224000"/>
            </a:xfrm>
          </p:grpSpPr>
          <p:sp>
            <p:nvSpPr>
              <p:cNvPr id="186" name="Text Box 15"/>
              <p:cNvSpPr/>
              <p:nvPr/>
            </p:nvSpPr>
            <p:spPr>
              <a:xfrm rot="16200000">
                <a:off x="4042080" y="2811240"/>
                <a:ext cx="485280" cy="172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stratégi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16"/>
              <p:cNvSpPr/>
              <p:nvPr/>
            </p:nvSpPr>
            <p:spPr>
              <a:xfrm>
                <a:off x="3274920" y="3068640"/>
                <a:ext cx="201636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26"/>
            <p:cNvGrpSpPr/>
            <p:nvPr/>
          </p:nvGrpSpPr>
          <p:grpSpPr>
            <a:xfrm>
              <a:off x="6227640" y="1197000"/>
              <a:ext cx="2016360" cy="1224000"/>
              <a:chOff x="6227640" y="1197000"/>
              <a:chExt cx="2016360" cy="1224000"/>
            </a:xfrm>
          </p:grpSpPr>
          <p:sp>
            <p:nvSpPr>
              <p:cNvPr id="189" name="Text Box 17"/>
              <p:cNvSpPr/>
              <p:nvPr/>
            </p:nvSpPr>
            <p:spPr>
              <a:xfrm rot="16200000">
                <a:off x="6702120" y="1001160"/>
                <a:ext cx="1070280" cy="172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ahoma"/>
                  </a:rPr>
                  <a:t>Informação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onhecimen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18"/>
              <p:cNvSpPr/>
              <p:nvPr/>
            </p:nvSpPr>
            <p:spPr>
              <a:xfrm>
                <a:off x="6227640" y="1197000"/>
                <a:ext cx="201636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Text Box 24"/>
            <p:cNvSpPr/>
            <p:nvPr/>
          </p:nvSpPr>
          <p:spPr>
            <a:xfrm rot="16200000">
              <a:off x="2619360" y="3273480"/>
              <a:ext cx="3747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def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25"/>
            <p:cNvSpPr/>
            <p:nvPr/>
          </p:nvSpPr>
          <p:spPr>
            <a:xfrm rot="16200000">
              <a:off x="5645160" y="3273480"/>
              <a:ext cx="3747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edia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7"/>
            <p:cNvSpPr/>
            <p:nvPr/>
          </p:nvSpPr>
          <p:spPr>
            <a:xfrm rot="16200000">
              <a:off x="7661880" y="2142360"/>
              <a:ext cx="37476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tiliz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8"/>
            <p:cNvSpPr/>
            <p:nvPr/>
          </p:nvSpPr>
          <p:spPr>
            <a:xfrm rot="16200000">
              <a:off x="7732440" y="4228920"/>
              <a:ext cx="3747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subsidi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9"/>
            <p:cNvSpPr/>
            <p:nvPr/>
          </p:nvSpPr>
          <p:spPr>
            <a:xfrm>
              <a:off x="2484360" y="357336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0"/>
            <p:cNvSpPr/>
            <p:nvPr/>
          </p:nvSpPr>
          <p:spPr>
            <a:xfrm flipV="1">
              <a:off x="5364000" y="3571920"/>
              <a:ext cx="936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1"/>
            <p:cNvSpPr/>
            <p:nvPr/>
          </p:nvSpPr>
          <p:spPr>
            <a:xfrm>
              <a:off x="7380360" y="4437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32"/>
            <p:cNvSpPr/>
            <p:nvPr/>
          </p:nvSpPr>
          <p:spPr>
            <a:xfrm>
              <a:off x="7308720" y="2490840"/>
              <a:ext cx="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34"/>
          <p:cNvSpPr/>
          <p:nvPr/>
        </p:nvSpPr>
        <p:spPr>
          <a:xfrm>
            <a:off x="539640" y="26028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lic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3635280" y="7650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ixaDeTexto 11"/>
          <p:cNvSpPr/>
          <p:nvPr/>
        </p:nvSpPr>
        <p:spPr>
          <a:xfrm>
            <a:off x="3564000" y="18874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O que 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ixaDeTexto 13"/>
          <p:cNvSpPr/>
          <p:nvPr/>
        </p:nvSpPr>
        <p:spPr>
          <a:xfrm>
            <a:off x="3059280" y="31417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Para que 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ixaDeTexto 14"/>
          <p:cNvSpPr/>
          <p:nvPr/>
        </p:nvSpPr>
        <p:spPr>
          <a:xfrm>
            <a:off x="3203640" y="44067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mo se f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8"/>
          <p:cNvSpPr/>
          <p:nvPr/>
        </p:nvSpPr>
        <p:spPr>
          <a:xfrm>
            <a:off x="4356000" y="2463840"/>
            <a:ext cx="360360" cy="576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8"/>
          <p:cNvSpPr/>
          <p:nvPr/>
        </p:nvSpPr>
        <p:spPr>
          <a:xfrm>
            <a:off x="4356000" y="3759120"/>
            <a:ext cx="360360" cy="576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video_logo"/>
          <p:cNvPicPr/>
          <p:nvPr/>
        </p:nvPicPr>
        <p:blipFill>
          <a:blip r:embed="rId1"/>
          <a:stretch/>
        </p:blipFill>
        <p:spPr>
          <a:xfrm>
            <a:off x="5219640" y="765000"/>
            <a:ext cx="28576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3"/>
          <p:cNvGrpSpPr/>
          <p:nvPr/>
        </p:nvGrpSpPr>
        <p:grpSpPr>
          <a:xfrm>
            <a:off x="1644480" y="907920"/>
            <a:ext cx="3935520" cy="1440000"/>
            <a:chOff x="1644480" y="907920"/>
            <a:chExt cx="3935520" cy="1440000"/>
          </a:xfrm>
        </p:grpSpPr>
        <p:sp>
          <p:nvSpPr>
            <p:cNvPr id="202" name="Line 6"/>
            <p:cNvSpPr/>
            <p:nvPr/>
          </p:nvSpPr>
          <p:spPr>
            <a:xfrm flipH="1" flipV="1">
              <a:off x="3851280" y="1626840"/>
              <a:ext cx="17287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 flipH="1" flipV="1">
              <a:off x="4356000" y="1268280"/>
              <a:ext cx="1224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 flipH="1">
              <a:off x="3634920" y="1844640"/>
              <a:ext cx="1871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Picture 11" descr=""/>
            <p:cNvPicPr/>
            <p:nvPr/>
          </p:nvPicPr>
          <p:blipFill>
            <a:blip r:embed="rId2"/>
            <a:stretch/>
          </p:blipFill>
          <p:spPr>
            <a:xfrm>
              <a:off x="1644480" y="907920"/>
              <a:ext cx="1414800" cy="14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Text Box 14"/>
          <p:cNvSpPr/>
          <p:nvPr/>
        </p:nvSpPr>
        <p:spPr>
          <a:xfrm>
            <a:off x="3706920" y="3645000"/>
            <a:ext cx="2232000" cy="1059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cesso Decisó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erspectiv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22"/>
          <p:cNvGrpSpPr/>
          <p:nvPr/>
        </p:nvGrpSpPr>
        <p:grpSpPr>
          <a:xfrm>
            <a:off x="2409840" y="5373720"/>
            <a:ext cx="2305080" cy="1008000"/>
            <a:chOff x="2409840" y="5373720"/>
            <a:chExt cx="2305080" cy="1008000"/>
          </a:xfrm>
        </p:grpSpPr>
        <p:sp>
          <p:nvSpPr>
            <p:cNvPr id="208" name="Text Box 17"/>
            <p:cNvSpPr/>
            <p:nvPr/>
          </p:nvSpPr>
          <p:spPr>
            <a:xfrm>
              <a:off x="2482920" y="5516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Racionalidade Limitada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(Sim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9"/>
            <p:cNvSpPr/>
            <p:nvPr/>
          </p:nvSpPr>
          <p:spPr>
            <a:xfrm>
              <a:off x="2409840" y="5373720"/>
              <a:ext cx="2305080" cy="1008000"/>
            </a:xfrm>
            <a:prstGeom prst="ellipse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1"/>
          <p:cNvGrpSpPr/>
          <p:nvPr/>
        </p:nvGrpSpPr>
        <p:grpSpPr>
          <a:xfrm>
            <a:off x="4930920" y="5445000"/>
            <a:ext cx="2305080" cy="1008360"/>
            <a:chOff x="4930920" y="5445000"/>
            <a:chExt cx="2305080" cy="1008360"/>
          </a:xfrm>
        </p:grpSpPr>
        <p:sp>
          <p:nvSpPr>
            <p:cNvPr id="211" name="Text Box 18"/>
            <p:cNvSpPr/>
            <p:nvPr/>
          </p:nvSpPr>
          <p:spPr>
            <a:xfrm>
              <a:off x="4930920" y="5589720"/>
              <a:ext cx="23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Irracionalidade Previsível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(Arie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0"/>
            <p:cNvSpPr/>
            <p:nvPr/>
          </p:nvSpPr>
          <p:spPr>
            <a:xfrm>
              <a:off x="4930920" y="5445000"/>
              <a:ext cx="2305080" cy="1008360"/>
            </a:xfrm>
            <a:prstGeom prst="ellipse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23"/>
          <p:cNvSpPr/>
          <p:nvPr/>
        </p:nvSpPr>
        <p:spPr>
          <a:xfrm flipH="1">
            <a:off x="4427280" y="472428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4788000" y="4724280"/>
            <a:ext cx="503280" cy="72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826920" y="2492280"/>
            <a:ext cx="32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SS Mont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865080" y="2781360"/>
            <a:ext cx="31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 Náufr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3348000" y="1413000"/>
            <a:ext cx="2606760" cy="30240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6"/>
          <p:cNvSpPr/>
          <p:nvPr/>
        </p:nvSpPr>
        <p:spPr>
          <a:xfrm>
            <a:off x="6012000" y="2637000"/>
            <a:ext cx="792000" cy="433080"/>
          </a:xfrm>
          <a:prstGeom prst="rightArrow">
            <a:avLst>
              <a:gd name="adj1" fmla="val 50000"/>
              <a:gd name="adj2" fmla="val 457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08000" y="2637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AQUISIÇÃO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6838920" y="2637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APLICAÇÃO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3564000" y="450864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2340000" y="2708280"/>
            <a:ext cx="863640" cy="4316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900000" y="537372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dos, Informações, Crenças, Valores, Experiência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sight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dades, Habilidades, Atitudes e Emo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1619280" y="4941720"/>
            <a:ext cx="547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6"/>
          <p:cNvSpPr/>
          <p:nvPr/>
        </p:nvSpPr>
        <p:spPr>
          <a:xfrm>
            <a:off x="971640" y="4797360"/>
            <a:ext cx="5545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8"/>
          <p:cNvSpPr/>
          <p:nvPr/>
        </p:nvSpPr>
        <p:spPr>
          <a:xfrm>
            <a:off x="1332000" y="836640"/>
            <a:ext cx="129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9"/>
          <p:cNvSpPr/>
          <p:nvPr/>
        </p:nvSpPr>
        <p:spPr>
          <a:xfrm>
            <a:off x="1332000" y="765000"/>
            <a:ext cx="194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0"/>
          <p:cNvSpPr/>
          <p:nvPr/>
        </p:nvSpPr>
        <p:spPr>
          <a:xfrm>
            <a:off x="2050920" y="549360"/>
            <a:ext cx="100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1"/>
          <p:cNvSpPr/>
          <p:nvPr/>
        </p:nvSpPr>
        <p:spPr>
          <a:xfrm>
            <a:off x="1403280" y="1268280"/>
            <a:ext cx="936720" cy="505080"/>
          </a:xfrm>
          <a:prstGeom prst="rightArrow">
            <a:avLst>
              <a:gd name="adj1" fmla="val 50000"/>
              <a:gd name="adj2" fmla="val 463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2"/>
          <p:cNvSpPr/>
          <p:nvPr/>
        </p:nvSpPr>
        <p:spPr>
          <a:xfrm>
            <a:off x="755640" y="3573360"/>
            <a:ext cx="1152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539640" y="26028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isão Sistêmica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 rot="16200000">
            <a:off x="3952080" y="-3808080"/>
            <a:ext cx="1277640" cy="89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etáfora da Janela da GC – Maturidade do Grau de Conheci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9"/>
          <p:cNvSpPr/>
          <p:nvPr/>
        </p:nvSpPr>
        <p:spPr>
          <a:xfrm rot="16200000">
            <a:off x="2302920" y="4187880"/>
            <a:ext cx="3628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Janela de JOHARI - Adaptado de CHOO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611280" y="1555920"/>
            <a:ext cx="3816360" cy="23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4859280" y="1555920"/>
            <a:ext cx="3745080" cy="23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11280" y="4219560"/>
            <a:ext cx="3817800" cy="230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859280" y="4219560"/>
            <a:ext cx="3745080" cy="230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5640" y="162720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BEMOS o que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 rot="16200000">
            <a:off x="1616040" y="1345680"/>
            <a:ext cx="18838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ntranets, Portais, Taxonomias, Esquemas, Classificatórios e Benchmar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rovisão de acessos às informações e facilitação do compartilhamento do conhec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 rot="16200000">
            <a:off x="3111480" y="438624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 rot="16200000">
            <a:off x="2309760" y="2739240"/>
            <a:ext cx="42372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NÃO sabemos o que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 rot="16200000">
            <a:off x="1865160" y="3757680"/>
            <a:ext cx="15242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Auditoria de Informaçõ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apeamento do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munidades de Prática, Re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e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"/>
          <p:cNvSpPr/>
          <p:nvPr/>
        </p:nvSpPr>
        <p:spPr>
          <a:xfrm rot="16200000">
            <a:off x="6447600" y="109800"/>
            <a:ext cx="42372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BEMOS o que NÃO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 rot="16200000">
            <a:off x="5828040" y="1382400"/>
            <a:ext cx="18838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Busca de informação direcion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roporção de criação do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nteligência Competitiva, Pesquisa &amp; Desenvolvimento, Pesquisa de Merc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 rot="16200000">
            <a:off x="7534080" y="4909680"/>
            <a:ext cx="39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 rot="16200000">
            <a:off x="6519240" y="2629080"/>
            <a:ext cx="423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NÃO sabemos o que NÃO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1"/>
          <p:cNvSpPr/>
          <p:nvPr/>
        </p:nvSpPr>
        <p:spPr>
          <a:xfrm rot="16200000">
            <a:off x="6034680" y="3834000"/>
            <a:ext cx="1397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onitoração ambi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escoberta do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nejamento de cenários, prospecção do futuro, diálo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 rot="16200000">
            <a:off x="4039560" y="-3996720"/>
            <a:ext cx="850680" cy="89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peamento Conceitual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07280" cy="55627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 rot="16200000">
            <a:off x="2306520" y="4449240"/>
            <a:ext cx="34776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ahoma"/>
              </a:rPr>
              <a:t>FONTE: Adaptado de SOUZA &amp; ALVARENGA NETO (2003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4"/>
          <p:cNvSpPr/>
          <p:nvPr/>
        </p:nvSpPr>
        <p:spPr>
          <a:xfrm>
            <a:off x="2843280" y="189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2"/>
          <p:cNvSpPr/>
          <p:nvPr/>
        </p:nvSpPr>
        <p:spPr>
          <a:xfrm rot="16200000">
            <a:off x="4217040" y="-3130200"/>
            <a:ext cx="850680" cy="71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os de Gestão e 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2"/>
          <p:cNvSpPr/>
          <p:nvPr/>
        </p:nvSpPr>
        <p:spPr>
          <a:xfrm rot="16200000">
            <a:off x="4249080" y="2641680"/>
            <a:ext cx="7902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GESTÃO ESTRATÉ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78"/>
          <p:cNvSpPr/>
          <p:nvPr/>
        </p:nvSpPr>
        <p:spPr>
          <a:xfrm>
            <a:off x="3564000" y="2995560"/>
            <a:ext cx="2160360" cy="1368360"/>
          </a:xfrm>
          <a:prstGeom prst="ellipse">
            <a:avLst/>
          </a:prstGeom>
          <a:solidFill>
            <a:srgbClr val="ff9900">
              <a:alpha val="49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83"/>
          <p:cNvSpPr/>
          <p:nvPr/>
        </p:nvSpPr>
        <p:spPr>
          <a:xfrm>
            <a:off x="4500720" y="2276640"/>
            <a:ext cx="288720" cy="647640"/>
          </a:xfrm>
          <a:prstGeom prst="upDownArrow">
            <a:avLst>
              <a:gd name="adj1" fmla="val 50000"/>
              <a:gd name="adj2" fmla="val 4465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4"/>
          <p:cNvSpPr/>
          <p:nvPr/>
        </p:nvSpPr>
        <p:spPr>
          <a:xfrm rot="3239400">
            <a:off x="3094560" y="4112280"/>
            <a:ext cx="289080" cy="792000"/>
          </a:xfrm>
          <a:prstGeom prst="upDownArrow">
            <a:avLst>
              <a:gd name="adj1" fmla="val 50000"/>
              <a:gd name="adj2" fmla="val 5454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5"/>
          <p:cNvSpPr/>
          <p:nvPr/>
        </p:nvSpPr>
        <p:spPr>
          <a:xfrm rot="21451800">
            <a:off x="4500360" y="4436640"/>
            <a:ext cx="288720" cy="719280"/>
          </a:xfrm>
          <a:prstGeom prst="upDownArrow">
            <a:avLst>
              <a:gd name="adj1" fmla="val 50000"/>
              <a:gd name="adj2" fmla="val 4959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6"/>
          <p:cNvSpPr/>
          <p:nvPr/>
        </p:nvSpPr>
        <p:spPr>
          <a:xfrm rot="3502800">
            <a:off x="5902920" y="2672640"/>
            <a:ext cx="288720" cy="792000"/>
          </a:xfrm>
          <a:prstGeom prst="upDownArrow">
            <a:avLst>
              <a:gd name="adj1" fmla="val 50000"/>
              <a:gd name="adj2" fmla="val 54609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87"/>
          <p:cNvSpPr/>
          <p:nvPr/>
        </p:nvSpPr>
        <p:spPr>
          <a:xfrm rot="17877000">
            <a:off x="3023280" y="2599560"/>
            <a:ext cx="288720" cy="792360"/>
          </a:xfrm>
          <a:prstGeom prst="upDownArrow">
            <a:avLst>
              <a:gd name="adj1" fmla="val 50000"/>
              <a:gd name="adj2" fmla="val 5463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5"/>
          <p:cNvSpPr/>
          <p:nvPr/>
        </p:nvSpPr>
        <p:spPr>
          <a:xfrm rot="16200000">
            <a:off x="4233240" y="351000"/>
            <a:ext cx="7902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e Competê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91"/>
          <p:cNvSpPr/>
          <p:nvPr/>
        </p:nvSpPr>
        <p:spPr>
          <a:xfrm>
            <a:off x="3602160" y="836640"/>
            <a:ext cx="201600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3"/>
          <p:cNvSpPr/>
          <p:nvPr/>
        </p:nvSpPr>
        <p:spPr>
          <a:xfrm rot="16200000">
            <a:off x="7174080" y="1634760"/>
            <a:ext cx="48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a 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95"/>
          <p:cNvSpPr/>
          <p:nvPr/>
        </p:nvSpPr>
        <p:spPr>
          <a:xfrm>
            <a:off x="6443640" y="1989000"/>
            <a:ext cx="2016000" cy="115272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 rot="16200000">
            <a:off x="1266840" y="1361520"/>
            <a:ext cx="109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o Capital Intele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96"/>
          <p:cNvSpPr/>
          <p:nvPr/>
        </p:nvSpPr>
        <p:spPr>
          <a:xfrm>
            <a:off x="755640" y="1844640"/>
            <a:ext cx="201600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9"/>
          <p:cNvSpPr/>
          <p:nvPr/>
        </p:nvSpPr>
        <p:spPr>
          <a:xfrm rot="16200000">
            <a:off x="6914520" y="4653720"/>
            <a:ext cx="79020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roces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98"/>
          <p:cNvSpPr/>
          <p:nvPr/>
        </p:nvSpPr>
        <p:spPr>
          <a:xfrm>
            <a:off x="6300720" y="4797360"/>
            <a:ext cx="201636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7"/>
          <p:cNvSpPr/>
          <p:nvPr/>
        </p:nvSpPr>
        <p:spPr>
          <a:xfrm>
            <a:off x="3635280" y="5373720"/>
            <a:ext cx="201636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0"/>
          <p:cNvSpPr/>
          <p:nvPr/>
        </p:nvSpPr>
        <p:spPr>
          <a:xfrm rot="16200000">
            <a:off x="4227840" y="4992480"/>
            <a:ext cx="790200" cy="18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01"/>
          <p:cNvSpPr/>
          <p:nvPr/>
        </p:nvSpPr>
        <p:spPr>
          <a:xfrm rot="16200000">
            <a:off x="1460520" y="4307760"/>
            <a:ext cx="790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a Inov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02"/>
          <p:cNvSpPr/>
          <p:nvPr/>
        </p:nvSpPr>
        <p:spPr>
          <a:xfrm>
            <a:off x="826920" y="4724280"/>
            <a:ext cx="2016360" cy="12258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03"/>
          <p:cNvSpPr/>
          <p:nvPr/>
        </p:nvSpPr>
        <p:spPr>
          <a:xfrm rot="7896600">
            <a:off x="5903280" y="4041000"/>
            <a:ext cx="288720" cy="792000"/>
          </a:xfrm>
          <a:prstGeom prst="upDownArrow">
            <a:avLst>
              <a:gd name="adj1" fmla="val 50000"/>
              <a:gd name="adj2" fmla="val 54609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4"/>
          <p:cNvSpPr/>
          <p:nvPr/>
        </p:nvSpPr>
        <p:spPr>
          <a:xfrm rot="16200000">
            <a:off x="4206600" y="-4092480"/>
            <a:ext cx="729000" cy="91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apeamento Conceitual Integrativo da G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24720" cy="56610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 rot="16200000">
            <a:off x="1796400" y="5030640"/>
            <a:ext cx="3628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Rivadávia de Alvarenga Neto (200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novo modelo de GC"/>
          <p:cNvPicPr/>
          <p:nvPr/>
        </p:nvPicPr>
        <p:blipFill>
          <a:blip r:embed="rId1"/>
          <a:stretch/>
        </p:blipFill>
        <p:spPr>
          <a:xfrm>
            <a:off x="755640" y="620640"/>
            <a:ext cx="7677000" cy="5607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>
            <a:off x="250920" y="44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o da “nova G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 rot="16200000">
            <a:off x="2409120" y="4547880"/>
            <a:ext cx="3628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Adaptado de Firestone e Mcelroy (200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Modelo da Dinamica de GC_Aprendizagem Organizacional"/>
          <p:cNvPicPr/>
          <p:nvPr/>
        </p:nvPicPr>
        <p:blipFill>
          <a:blip r:embed="rId1"/>
          <a:stretch/>
        </p:blipFill>
        <p:spPr>
          <a:xfrm>
            <a:off x="611280" y="1247760"/>
            <a:ext cx="7983360" cy="49179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5"/>
          <p:cNvSpPr/>
          <p:nvPr/>
        </p:nvSpPr>
        <p:spPr>
          <a:xfrm>
            <a:off x="250920" y="-27000"/>
            <a:ext cx="871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Modelo entre GC e Aprendizagem Organizacion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 rot="16200000">
            <a:off x="3477960" y="3513240"/>
            <a:ext cx="38772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Fernando Goldman, disponível em </a:t>
            </a:r>
            <a:r>
              <a:rPr b="0" lang="pt-BR" sz="1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kmgoldman.blogspot.com/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7"/>
          <p:cNvSpPr/>
          <p:nvPr/>
        </p:nvSpPr>
        <p:spPr>
          <a:xfrm>
            <a:off x="250920" y="44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0"/>
          <p:cNvSpPr/>
          <p:nvPr/>
        </p:nvSpPr>
        <p:spPr>
          <a:xfrm>
            <a:off x="3132000" y="1197000"/>
            <a:ext cx="439272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Organização   P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3"/>
          <p:cNvSpPr/>
          <p:nvPr/>
        </p:nvSpPr>
        <p:spPr>
          <a:xfrm>
            <a:off x="3132000" y="2205000"/>
            <a:ext cx="446436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ov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5"/>
          <p:cNvSpPr/>
          <p:nvPr/>
        </p:nvSpPr>
        <p:spPr>
          <a:xfrm>
            <a:off x="3132000" y="3141720"/>
            <a:ext cx="453564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ferencial Compet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7"/>
          <p:cNvSpPr/>
          <p:nvPr/>
        </p:nvSpPr>
        <p:spPr>
          <a:xfrm>
            <a:off x="3202200" y="422100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Lu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8"/>
          <p:cNvSpPr/>
          <p:nvPr/>
        </p:nvSpPr>
        <p:spPr>
          <a:xfrm>
            <a:off x="6194160" y="4156200"/>
            <a:ext cx="14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Posição 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1"/>
          <p:cNvSpPr/>
          <p:nvPr/>
        </p:nvSpPr>
        <p:spPr>
          <a:xfrm>
            <a:off x="3517920" y="6006960"/>
            <a:ext cx="38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Satisfação do Cl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3"/>
          <p:cNvSpPr/>
          <p:nvPr/>
        </p:nvSpPr>
        <p:spPr>
          <a:xfrm>
            <a:off x="5291280" y="1773360"/>
            <a:ext cx="144360" cy="433440"/>
          </a:xfrm>
          <a:custGeom>
            <a:avLst/>
            <a:gdLst>
              <a:gd name="textAreaLeft" fmla="*/ 19080 w 144360"/>
              <a:gd name="textAreaRight" fmla="*/ 125280 w 144360"/>
              <a:gd name="textAreaTop" fmla="*/ 75600 h 433440"/>
              <a:gd name="textAreaBottom" fmla="*/ 314280 h 4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4"/>
          <p:cNvSpPr/>
          <p:nvPr/>
        </p:nvSpPr>
        <p:spPr>
          <a:xfrm>
            <a:off x="5291280" y="2708280"/>
            <a:ext cx="144360" cy="431640"/>
          </a:xfrm>
          <a:custGeom>
            <a:avLst/>
            <a:gdLst>
              <a:gd name="textAreaLeft" fmla="*/ 19080 w 144360"/>
              <a:gd name="textAreaRight" fmla="*/ 125280 w 144360"/>
              <a:gd name="textAreaTop" fmla="*/ 75600 h 431640"/>
              <a:gd name="textAreaBottom" fmla="*/ 31320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6"/>
          <p:cNvSpPr/>
          <p:nvPr/>
        </p:nvSpPr>
        <p:spPr>
          <a:xfrm>
            <a:off x="3132000" y="5229360"/>
            <a:ext cx="453564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ustenta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67"/>
          <p:cNvSpPr/>
          <p:nvPr/>
        </p:nvSpPr>
        <p:spPr>
          <a:xfrm>
            <a:off x="5291280" y="3645000"/>
            <a:ext cx="144360" cy="504720"/>
          </a:xfrm>
          <a:custGeom>
            <a:avLst/>
            <a:gdLst>
              <a:gd name="textAreaLeft" fmla="*/ 19080 w 144360"/>
              <a:gd name="textAreaRight" fmla="*/ 125280 w 14436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1"/>
          <p:cNvSpPr/>
          <p:nvPr/>
        </p:nvSpPr>
        <p:spPr>
          <a:xfrm>
            <a:off x="250920" y="2997360"/>
            <a:ext cx="2195280" cy="82548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teligê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2"/>
          <p:cNvSpPr/>
          <p:nvPr/>
        </p:nvSpPr>
        <p:spPr>
          <a:xfrm rot="20005800">
            <a:off x="2556000" y="3284640"/>
            <a:ext cx="503280" cy="217440"/>
          </a:xfrm>
          <a:custGeom>
            <a:avLst/>
            <a:gdLst>
              <a:gd name="textAreaLeft" fmla="*/ 87840 w 503280"/>
              <a:gd name="textAreaRight" fmla="*/ 365040 w 503280"/>
              <a:gd name="textAreaTop" fmla="*/ 29160 h 217440"/>
              <a:gd name="textAreaBottom" fmla="*/ 1882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3"/>
          <p:cNvSpPr/>
          <p:nvPr/>
        </p:nvSpPr>
        <p:spPr>
          <a:xfrm>
            <a:off x="4273920" y="4149720"/>
            <a:ext cx="18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Diferen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Mercad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74"/>
          <p:cNvSpPr/>
          <p:nvPr/>
        </p:nvSpPr>
        <p:spPr>
          <a:xfrm>
            <a:off x="5291280" y="5734080"/>
            <a:ext cx="142560" cy="360360"/>
          </a:xfrm>
          <a:custGeom>
            <a:avLst/>
            <a:gdLst>
              <a:gd name="textAreaLeft" fmla="*/ 19080 w 142560"/>
              <a:gd name="textAreaRight" fmla="*/ 123480 w 14256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5"/>
          <p:cNvSpPr/>
          <p:nvPr/>
        </p:nvSpPr>
        <p:spPr>
          <a:xfrm>
            <a:off x="3132000" y="4149720"/>
            <a:ext cx="4535640" cy="6494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76"/>
          <p:cNvSpPr/>
          <p:nvPr/>
        </p:nvSpPr>
        <p:spPr>
          <a:xfrm>
            <a:off x="5291280" y="4797360"/>
            <a:ext cx="144360" cy="432000"/>
          </a:xfrm>
          <a:custGeom>
            <a:avLst/>
            <a:gdLst>
              <a:gd name="textAreaLeft" fmla="*/ 19080 w 144360"/>
              <a:gd name="textAreaRight" fmla="*/ 125280 w 144360"/>
              <a:gd name="textAreaTop" fmla="*/ 75600 h 432000"/>
              <a:gd name="textAreaBottom" fmla="*/ 31320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9"/>
          <p:cNvSpPr/>
          <p:nvPr/>
        </p:nvSpPr>
        <p:spPr>
          <a:xfrm>
            <a:off x="250920" y="44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54"/>
          <p:cNvGrpSpPr/>
          <p:nvPr/>
        </p:nvGrpSpPr>
        <p:grpSpPr>
          <a:xfrm>
            <a:off x="179280" y="907920"/>
            <a:ext cx="8855280" cy="5907240"/>
            <a:chOff x="179280" y="907920"/>
            <a:chExt cx="8855280" cy="5907240"/>
          </a:xfrm>
        </p:grpSpPr>
        <p:sp>
          <p:nvSpPr>
            <p:cNvPr id="301" name="Text Box 8"/>
            <p:cNvSpPr/>
            <p:nvPr/>
          </p:nvSpPr>
          <p:spPr>
            <a:xfrm>
              <a:off x="3059280" y="907920"/>
              <a:ext cx="367344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Organização Públ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12"/>
            <p:cNvSpPr/>
            <p:nvPr/>
          </p:nvSpPr>
          <p:spPr>
            <a:xfrm>
              <a:off x="2916360" y="3068640"/>
              <a:ext cx="5867280" cy="825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Realizações sócio-econômico-ambienta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4"/>
            <p:cNvSpPr/>
            <p:nvPr/>
          </p:nvSpPr>
          <p:spPr>
            <a:xfrm>
              <a:off x="179280" y="4076640"/>
              <a:ext cx="8855280" cy="825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Melhorias de Indicadores-IDH (Educação, Saúde, Segurança, Habitação..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33"/>
            <p:cNvSpPr/>
            <p:nvPr/>
          </p:nvSpPr>
          <p:spPr>
            <a:xfrm>
              <a:off x="3708360" y="1989000"/>
              <a:ext cx="208764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ov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35"/>
            <p:cNvSpPr/>
            <p:nvPr/>
          </p:nvSpPr>
          <p:spPr>
            <a:xfrm>
              <a:off x="2920320" y="629460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Bem-estar soc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40"/>
            <p:cNvSpPr/>
            <p:nvPr/>
          </p:nvSpPr>
          <p:spPr>
            <a:xfrm>
              <a:off x="4572000" y="1413000"/>
              <a:ext cx="216000" cy="57600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100800 h 576000"/>
                <a:gd name="textAreaBottom" fmla="*/ 4176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42"/>
            <p:cNvSpPr/>
            <p:nvPr/>
          </p:nvSpPr>
          <p:spPr>
            <a:xfrm>
              <a:off x="4427640" y="5948280"/>
              <a:ext cx="215640" cy="50508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43"/>
            <p:cNvSpPr/>
            <p:nvPr/>
          </p:nvSpPr>
          <p:spPr>
            <a:xfrm>
              <a:off x="4500720" y="3573360"/>
              <a:ext cx="215640" cy="50508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44"/>
            <p:cNvSpPr/>
            <p:nvPr/>
          </p:nvSpPr>
          <p:spPr>
            <a:xfrm>
              <a:off x="4500720" y="2492280"/>
              <a:ext cx="215640" cy="57636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45"/>
            <p:cNvSpPr/>
            <p:nvPr/>
          </p:nvSpPr>
          <p:spPr>
            <a:xfrm>
              <a:off x="179280" y="3068640"/>
              <a:ext cx="2087640" cy="825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ccounta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46"/>
            <p:cNvSpPr/>
            <p:nvPr/>
          </p:nvSpPr>
          <p:spPr>
            <a:xfrm>
              <a:off x="2340000" y="3213000"/>
              <a:ext cx="504720" cy="216000"/>
            </a:xfrm>
            <a:prstGeom prst="leftRightArrow">
              <a:avLst>
                <a:gd name="adj1" fmla="val 50000"/>
                <a:gd name="adj2" fmla="val 4651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51"/>
            <p:cNvSpPr/>
            <p:nvPr/>
          </p:nvSpPr>
          <p:spPr>
            <a:xfrm>
              <a:off x="3274920" y="5445000"/>
              <a:ext cx="259236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Sustentabil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52"/>
            <p:cNvSpPr/>
            <p:nvPr/>
          </p:nvSpPr>
          <p:spPr>
            <a:xfrm>
              <a:off x="4427640" y="4941720"/>
              <a:ext cx="215640" cy="50508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1042920" y="2422440"/>
            <a:ext cx="71294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m a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Gestã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nem o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Conhecimen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ão “coisas” novas na sociedade e na  cultura hu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mpanha a evolução cultural da humanidade: tudo o que é produzido, aprendido e compartilhado pelas pessoas  e pelos gru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84360" y="404640"/>
            <a:ext cx="77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xto Histórico/Cultural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1"/>
          <p:cNvSpPr/>
          <p:nvPr/>
        </p:nvSpPr>
        <p:spPr>
          <a:xfrm rot="16200000">
            <a:off x="7373160" y="500040"/>
            <a:ext cx="48528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nológica/Cientí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6"/>
          <p:cNvSpPr/>
          <p:nvPr/>
        </p:nvSpPr>
        <p:spPr>
          <a:xfrm rot="16200000">
            <a:off x="980640" y="2770200"/>
            <a:ext cx="485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2"/>
          <p:cNvSpPr/>
          <p:nvPr/>
        </p:nvSpPr>
        <p:spPr>
          <a:xfrm rot="16200000">
            <a:off x="1089000" y="301320"/>
            <a:ext cx="4852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os/Pro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4"/>
          <p:cNvSpPr/>
          <p:nvPr/>
        </p:nvSpPr>
        <p:spPr>
          <a:xfrm>
            <a:off x="3635280" y="2852640"/>
            <a:ext cx="1944720" cy="1440000"/>
          </a:xfrm>
          <a:prstGeom prst="ellipse">
            <a:avLst/>
          </a:prstGeom>
          <a:solidFill>
            <a:srgbClr val="ff660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5"/>
          <p:cNvSpPr/>
          <p:nvPr/>
        </p:nvSpPr>
        <p:spPr>
          <a:xfrm>
            <a:off x="1690560" y="97956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6"/>
          <p:cNvSpPr/>
          <p:nvPr/>
        </p:nvSpPr>
        <p:spPr>
          <a:xfrm>
            <a:off x="5940360" y="5011560"/>
            <a:ext cx="792360" cy="64800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7"/>
          <p:cNvSpPr/>
          <p:nvPr/>
        </p:nvSpPr>
        <p:spPr>
          <a:xfrm>
            <a:off x="1692360" y="2779560"/>
            <a:ext cx="792000" cy="64800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6730920" y="285264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3849840" y="476280"/>
            <a:ext cx="79200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1"/>
          <p:cNvSpPr/>
          <p:nvPr/>
        </p:nvSpPr>
        <p:spPr>
          <a:xfrm>
            <a:off x="6226200" y="1197000"/>
            <a:ext cx="79200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0"/>
          <p:cNvSpPr/>
          <p:nvPr/>
        </p:nvSpPr>
        <p:spPr>
          <a:xfrm rot="16200000">
            <a:off x="7497720" y="2733120"/>
            <a:ext cx="485280" cy="18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3"/>
          <p:cNvSpPr/>
          <p:nvPr/>
        </p:nvSpPr>
        <p:spPr>
          <a:xfrm rot="16200000">
            <a:off x="5088960" y="413280"/>
            <a:ext cx="48528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raté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5"/>
          <p:cNvSpPr/>
          <p:nvPr/>
        </p:nvSpPr>
        <p:spPr>
          <a:xfrm rot="16200000">
            <a:off x="6815880" y="4931280"/>
            <a:ext cx="48528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7"/>
          <p:cNvSpPr/>
          <p:nvPr/>
        </p:nvSpPr>
        <p:spPr>
          <a:xfrm rot="16200000">
            <a:off x="4015800" y="2814840"/>
            <a:ext cx="125388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OV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brangê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31"/>
          <p:cNvSpPr/>
          <p:nvPr/>
        </p:nvSpPr>
        <p:spPr>
          <a:xfrm>
            <a:off x="3995640" y="522756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2"/>
          <p:cNvSpPr/>
          <p:nvPr/>
        </p:nvSpPr>
        <p:spPr>
          <a:xfrm rot="16200000">
            <a:off x="4249800" y="5118120"/>
            <a:ext cx="7902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tos/Serviç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35"/>
          <p:cNvSpPr/>
          <p:nvPr/>
        </p:nvSpPr>
        <p:spPr>
          <a:xfrm>
            <a:off x="1763640" y="479736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6"/>
          <p:cNvSpPr/>
          <p:nvPr/>
        </p:nvSpPr>
        <p:spPr>
          <a:xfrm rot="16200000">
            <a:off x="1226520" y="4326480"/>
            <a:ext cx="79020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dade/Produ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9"/>
          <p:cNvSpPr/>
          <p:nvPr/>
        </p:nvSpPr>
        <p:spPr>
          <a:xfrm flipV="1">
            <a:off x="5148360" y="1700280"/>
            <a:ext cx="115236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0"/>
          <p:cNvSpPr/>
          <p:nvPr/>
        </p:nvSpPr>
        <p:spPr>
          <a:xfrm flipV="1">
            <a:off x="5508720" y="3211560"/>
            <a:ext cx="122400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1"/>
          <p:cNvSpPr/>
          <p:nvPr/>
        </p:nvSpPr>
        <p:spPr>
          <a:xfrm flipH="1" flipV="1">
            <a:off x="4284720" y="1123920"/>
            <a:ext cx="216000" cy="172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42"/>
          <p:cNvSpPr/>
          <p:nvPr/>
        </p:nvSpPr>
        <p:spPr>
          <a:xfrm flipH="1" flipV="1">
            <a:off x="2410920" y="1483920"/>
            <a:ext cx="1584360" cy="1582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 flipH="1" flipV="1">
            <a:off x="2484360" y="3139560"/>
            <a:ext cx="1224000" cy="3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5"/>
          <p:cNvSpPr/>
          <p:nvPr/>
        </p:nvSpPr>
        <p:spPr>
          <a:xfrm>
            <a:off x="5219640" y="4075200"/>
            <a:ext cx="865080" cy="100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6"/>
          <p:cNvSpPr/>
          <p:nvPr/>
        </p:nvSpPr>
        <p:spPr>
          <a:xfrm flipH="1">
            <a:off x="2484000" y="3933720"/>
            <a:ext cx="136692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7"/>
          <p:cNvSpPr/>
          <p:nvPr/>
        </p:nvSpPr>
        <p:spPr>
          <a:xfrm flipH="1">
            <a:off x="4427280" y="4290840"/>
            <a:ext cx="73080" cy="93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684360" y="0"/>
            <a:ext cx="755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5"/>
          <p:cNvSpPr/>
          <p:nvPr/>
        </p:nvSpPr>
        <p:spPr>
          <a:xfrm rot="16200000">
            <a:off x="4176360" y="-4181040"/>
            <a:ext cx="789840" cy="91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riação e Conversão do Conheci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4"/>
          <p:cNvSpPr/>
          <p:nvPr/>
        </p:nvSpPr>
        <p:spPr>
          <a:xfrm>
            <a:off x="2987640" y="1341360"/>
            <a:ext cx="2952720" cy="266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7"/>
          <p:cNvSpPr/>
          <p:nvPr/>
        </p:nvSpPr>
        <p:spPr>
          <a:xfrm>
            <a:off x="4140360" y="3141720"/>
            <a:ext cx="2952720" cy="280836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8"/>
          <p:cNvSpPr/>
          <p:nvPr/>
        </p:nvSpPr>
        <p:spPr>
          <a:xfrm>
            <a:off x="1692360" y="3141720"/>
            <a:ext cx="2878200" cy="280836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0"/>
          <p:cNvSpPr/>
          <p:nvPr/>
        </p:nvSpPr>
        <p:spPr>
          <a:xfrm rot="16200000">
            <a:off x="3963600" y="798120"/>
            <a:ext cx="87192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riativ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rocesso Cogni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1"/>
          <p:cNvSpPr/>
          <p:nvPr/>
        </p:nvSpPr>
        <p:spPr>
          <a:xfrm rot="16200000">
            <a:off x="5187960" y="3181320"/>
            <a:ext cx="114624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Inven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rocessos, Produtos Científicos/Tecnológ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2"/>
          <p:cNvSpPr/>
          <p:nvPr/>
        </p:nvSpPr>
        <p:spPr>
          <a:xfrm rot="16200000">
            <a:off x="2378160" y="3102120"/>
            <a:ext cx="11462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Inov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rocessos de Negócios, Produtos e Serviç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 flipV="1" rot="5391000">
            <a:off x="4119120" y="-870480"/>
            <a:ext cx="5461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onhecimento Tác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4"/>
          <p:cNvSpPr/>
          <p:nvPr/>
        </p:nvSpPr>
        <p:spPr>
          <a:xfrm rot="16200000">
            <a:off x="4122000" y="3910680"/>
            <a:ext cx="5461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onhecimento Explíc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6"/>
          <p:cNvSpPr/>
          <p:nvPr/>
        </p:nvSpPr>
        <p:spPr>
          <a:xfrm rot="5400000">
            <a:off x="4250880" y="4332240"/>
            <a:ext cx="209520" cy="431640"/>
          </a:xfrm>
          <a:prstGeom prst="downArrow">
            <a:avLst>
              <a:gd name="adj1" fmla="val 50000"/>
              <a:gd name="adj2" fmla="val 5150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7"/>
          <p:cNvSpPr/>
          <p:nvPr/>
        </p:nvSpPr>
        <p:spPr>
          <a:xfrm rot="1566600">
            <a:off x="3131640" y="2854440"/>
            <a:ext cx="312840" cy="1008000"/>
          </a:xfrm>
          <a:custGeom>
            <a:avLst/>
            <a:gdLst>
              <a:gd name="textAreaLeft" fmla="*/ 41760 w 312840"/>
              <a:gd name="textAreaRight" fmla="*/ 271080 w 31284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8"/>
          <p:cNvSpPr/>
          <p:nvPr/>
        </p:nvSpPr>
        <p:spPr>
          <a:xfrm rot="20382000">
            <a:off x="5363640" y="2925720"/>
            <a:ext cx="360360" cy="1044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82880 h 1044720"/>
              <a:gd name="textAreaBottom" fmla="*/ 75744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1"/>
          <p:cNvSpPr/>
          <p:nvPr/>
        </p:nvSpPr>
        <p:spPr>
          <a:xfrm rot="16200000">
            <a:off x="2306520" y="4449240"/>
            <a:ext cx="34776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ahoma"/>
              </a:rPr>
              <a:t>FONTE: Adaptado da Sociedade Portuguesa de Inovaçã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5"/>
          <p:cNvSpPr/>
          <p:nvPr/>
        </p:nvSpPr>
        <p:spPr>
          <a:xfrm rot="16200000">
            <a:off x="3872160" y="-3792600"/>
            <a:ext cx="1399320" cy="91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Intersecção/Convergência da GC e da Inov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0"/>
          <p:cNvGrpSpPr/>
          <p:nvPr/>
        </p:nvGrpSpPr>
        <p:grpSpPr>
          <a:xfrm>
            <a:off x="2194920" y="2131920"/>
            <a:ext cx="4677480" cy="2881440"/>
            <a:chOff x="2194920" y="2131920"/>
            <a:chExt cx="4677480" cy="2881440"/>
          </a:xfrm>
        </p:grpSpPr>
        <p:sp>
          <p:nvSpPr>
            <p:cNvPr id="356" name="Oval 4"/>
            <p:cNvSpPr/>
            <p:nvPr/>
          </p:nvSpPr>
          <p:spPr>
            <a:xfrm>
              <a:off x="2195640" y="2131920"/>
              <a:ext cx="2877840" cy="280836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6"/>
            <p:cNvSpPr/>
            <p:nvPr/>
          </p:nvSpPr>
          <p:spPr>
            <a:xfrm>
              <a:off x="3994200" y="2205000"/>
              <a:ext cx="2878200" cy="280836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17"/>
            <p:cNvSpPr/>
            <p:nvPr/>
          </p:nvSpPr>
          <p:spPr>
            <a:xfrm flipV="1" rot="5391000">
              <a:off x="2966040" y="2513520"/>
              <a:ext cx="546120" cy="20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Inov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8"/>
            <p:cNvSpPr/>
            <p:nvPr/>
          </p:nvSpPr>
          <p:spPr>
            <a:xfrm flipV="1" rot="5391000">
              <a:off x="5340960" y="2584800"/>
              <a:ext cx="546120" cy="20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G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19"/>
            <p:cNvSpPr/>
            <p:nvPr/>
          </p:nvSpPr>
          <p:spPr>
            <a:xfrm>
              <a:off x="4067280" y="3429000"/>
              <a:ext cx="865080" cy="287280"/>
            </a:xfrm>
            <a:prstGeom prst="leftRightArrow">
              <a:avLst>
                <a:gd name="adj1" fmla="val 50000"/>
                <a:gd name="adj2" fmla="val 5994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2484360" y="112536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900000" y="333360"/>
            <a:ext cx="73440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Teórica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ceito-Ensaio da SBGC-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611280" y="2781360"/>
            <a:ext cx="7315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9"/>
          <p:cNvSpPr/>
          <p:nvPr/>
        </p:nvSpPr>
        <p:spPr>
          <a:xfrm>
            <a:off x="1044720" y="2276640"/>
            <a:ext cx="705636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Gestão do Conhecimento é o processo sistemático, integrado e transdisciplinar que permeia a organização, compreendendo criação, identificação, seleção, organização, compartilhamento, disseminação, utilização e proteção de conhecimentos estratégicos, gerando valor para as partes interessadas. 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755640" y="620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5050"/>
                </a:solidFill>
                <a:latin typeface="Arial"/>
              </a:rPr>
              <a:t>Prática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004760" y="2708280"/>
            <a:ext cx="7239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Gestão do Conhecimento é a conversão do conhecimento tácito em conhecimento explícito propiciando alcançar os objetivos estratégicos e operacionais da organiz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4"/>
          <p:cNvSpPr/>
          <p:nvPr/>
        </p:nvSpPr>
        <p:spPr>
          <a:xfrm>
            <a:off x="324000" y="333360"/>
            <a:ext cx="85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</a:t>
            </a:r>
            <a:r>
              <a:rPr b="0" lang="pt-BR" sz="4400" spc="-1" strike="noStrike">
                <a:solidFill>
                  <a:srgbClr val="ff5050"/>
                </a:solidFill>
                <a:latin typeface="Arial"/>
              </a:rPr>
              <a:t>“Matemática”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424440" y="1773360"/>
            <a:ext cx="77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quação Fundamental da Informação/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4476600" y="3852720"/>
            <a:ext cx="414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K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hecimento In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S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stado de 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¹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vo estado de 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I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3"/>
          <p:cNvGrpSpPr/>
          <p:nvPr/>
        </p:nvGrpSpPr>
        <p:grpSpPr>
          <a:xfrm>
            <a:off x="1329480" y="2632320"/>
            <a:ext cx="5810400" cy="2295720"/>
            <a:chOff x="1329480" y="2632320"/>
            <a:chExt cx="5810400" cy="2295720"/>
          </a:xfrm>
        </p:grpSpPr>
        <p:sp>
          <p:nvSpPr>
            <p:cNvPr id="371" name="Rectangle 10"/>
            <p:cNvSpPr/>
            <p:nvPr/>
          </p:nvSpPr>
          <p:spPr>
            <a:xfrm>
              <a:off x="1329480" y="2632320"/>
              <a:ext cx="5810400" cy="70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 (S) + </a:t>
              </a:r>
              <a:r>
                <a:rPr b="1" lang="el-G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 = K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¹</a:t>
              </a: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S + </a:t>
              </a:r>
              <a:r>
                <a:rPr b="1" lang="el-G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1"/>
            <p:cNvSpPr/>
            <p:nvPr/>
          </p:nvSpPr>
          <p:spPr>
            <a:xfrm>
              <a:off x="1361520" y="4224600"/>
              <a:ext cx="956160" cy="70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40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pt-BR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pt-BR" sz="40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pt-BR" sz="4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12"/>
            <p:cNvSpPr/>
            <p:nvPr/>
          </p:nvSpPr>
          <p:spPr>
            <a:xfrm rot="16200000">
              <a:off x="1595160" y="3671280"/>
              <a:ext cx="647640" cy="288720"/>
            </a:xfrm>
            <a:prstGeom prst="rightArrow">
              <a:avLst>
                <a:gd name="adj1" fmla="val 50000"/>
                <a:gd name="adj2" fmla="val 56079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14"/>
          <p:cNvSpPr/>
          <p:nvPr/>
        </p:nvSpPr>
        <p:spPr>
          <a:xfrm>
            <a:off x="611280" y="646740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BROOKES,B. The Foundation of Information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49"/>
          <p:cNvSpPr/>
          <p:nvPr/>
        </p:nvSpPr>
        <p:spPr>
          <a:xfrm rot="5226600">
            <a:off x="2462040" y="107640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0"/>
          <p:cNvSpPr/>
          <p:nvPr/>
        </p:nvSpPr>
        <p:spPr>
          <a:xfrm rot="16200000">
            <a:off x="4178520" y="-2968560"/>
            <a:ext cx="850680" cy="73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ordagem Estrutural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88"/>
          <p:cNvGrpSpPr/>
          <p:nvPr/>
        </p:nvGrpSpPr>
        <p:grpSpPr>
          <a:xfrm>
            <a:off x="63360" y="1484280"/>
            <a:ext cx="8972640" cy="4750920"/>
            <a:chOff x="63360" y="1484280"/>
            <a:chExt cx="8972640" cy="4750920"/>
          </a:xfrm>
        </p:grpSpPr>
        <p:grpSp>
          <p:nvGrpSpPr>
            <p:cNvPr id="378" name="Group 72"/>
            <p:cNvGrpSpPr/>
            <p:nvPr/>
          </p:nvGrpSpPr>
          <p:grpSpPr>
            <a:xfrm>
              <a:off x="63360" y="4868640"/>
              <a:ext cx="2334240" cy="1366560"/>
              <a:chOff x="63360" y="4868640"/>
              <a:chExt cx="2334240" cy="1366560"/>
            </a:xfrm>
          </p:grpSpPr>
          <p:sp>
            <p:nvSpPr>
              <p:cNvPr id="379" name="Rectangle 5"/>
              <p:cNvSpPr/>
              <p:nvPr/>
            </p:nvSpPr>
            <p:spPr>
              <a:xfrm>
                <a:off x="63360" y="5019120"/>
                <a:ext cx="2334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Processo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Organizacion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68"/>
              <p:cNvSpPr/>
              <p:nvPr/>
            </p:nvSpPr>
            <p:spPr>
              <a:xfrm>
                <a:off x="108000" y="4868640"/>
                <a:ext cx="2268360" cy="13665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3"/>
            <p:cNvGrpSpPr/>
            <p:nvPr/>
          </p:nvGrpSpPr>
          <p:grpSpPr>
            <a:xfrm>
              <a:off x="2303640" y="3716280"/>
              <a:ext cx="2268360" cy="1295280"/>
              <a:chOff x="2303640" y="3716280"/>
              <a:chExt cx="2268360" cy="1295280"/>
            </a:xfrm>
          </p:grpSpPr>
          <p:sp>
            <p:nvSpPr>
              <p:cNvPr id="382" name="Rectangle 74"/>
              <p:cNvSpPr/>
              <p:nvPr/>
            </p:nvSpPr>
            <p:spPr>
              <a:xfrm>
                <a:off x="2449440" y="3858840"/>
                <a:ext cx="1951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Processo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 Negócio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75"/>
              <p:cNvSpPr/>
              <p:nvPr/>
            </p:nvSpPr>
            <p:spPr>
              <a:xfrm>
                <a:off x="2303640" y="3716280"/>
                <a:ext cx="2268360" cy="129528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Rectangle 21"/>
            <p:cNvSpPr/>
            <p:nvPr/>
          </p:nvSpPr>
          <p:spPr>
            <a:xfrm>
              <a:off x="5261760" y="2563920"/>
              <a:ext cx="4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333399"/>
                  </a:solidFill>
                  <a:latin typeface="Tahoma"/>
                </a:rPr>
                <a:t>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77"/>
            <p:cNvSpPr/>
            <p:nvPr/>
          </p:nvSpPr>
          <p:spPr>
            <a:xfrm>
              <a:off x="4322880" y="2995560"/>
              <a:ext cx="230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Valor Intangí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78"/>
            <p:cNvSpPr/>
            <p:nvPr/>
          </p:nvSpPr>
          <p:spPr>
            <a:xfrm>
              <a:off x="4248360" y="2563920"/>
              <a:ext cx="2508120" cy="1295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83"/>
            <p:cNvGrpSpPr/>
            <p:nvPr/>
          </p:nvGrpSpPr>
          <p:grpSpPr>
            <a:xfrm>
              <a:off x="6551640" y="1484280"/>
              <a:ext cx="2484360" cy="1504800"/>
              <a:chOff x="6551640" y="1484280"/>
              <a:chExt cx="2484360" cy="1504800"/>
            </a:xfrm>
          </p:grpSpPr>
          <p:sp>
            <p:nvSpPr>
              <p:cNvPr id="388" name="Rectangle 81"/>
              <p:cNvSpPr/>
              <p:nvPr/>
            </p:nvSpPr>
            <p:spPr>
              <a:xfrm>
                <a:off x="6887520" y="1665000"/>
                <a:ext cx="1983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Benefícios 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Resultados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Tangívei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Oval 82"/>
              <p:cNvSpPr/>
              <p:nvPr/>
            </p:nvSpPr>
            <p:spPr>
              <a:xfrm>
                <a:off x="6551640" y="1484280"/>
                <a:ext cx="2484360" cy="150480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AutoShape 85"/>
            <p:cNvSpPr/>
            <p:nvPr/>
          </p:nvSpPr>
          <p:spPr>
            <a:xfrm rot="20087400">
              <a:off x="2592000" y="5300280"/>
              <a:ext cx="865440" cy="431640"/>
            </a:xfrm>
            <a:custGeom>
              <a:avLst/>
              <a:gdLst>
                <a:gd name="textAreaLeft" fmla="*/ 151200 w 865440"/>
                <a:gd name="textAreaRight" fmla="*/ 627480 w 865440"/>
                <a:gd name="textAreaTop" fmla="*/ 57600 h 431640"/>
                <a:gd name="textAreaBottom" fmla="*/ 3740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86"/>
            <p:cNvSpPr/>
            <p:nvPr/>
          </p:nvSpPr>
          <p:spPr>
            <a:xfrm rot="20087400">
              <a:off x="6840360" y="3284640"/>
              <a:ext cx="865080" cy="431640"/>
            </a:xfrm>
            <a:custGeom>
              <a:avLst/>
              <a:gdLst>
                <a:gd name="textAreaLeft" fmla="*/ 151200 w 865080"/>
                <a:gd name="textAreaRight" fmla="*/ 627120 w 865080"/>
                <a:gd name="textAreaTop" fmla="*/ 57600 h 431640"/>
                <a:gd name="textAreaBottom" fmla="*/ 3740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87"/>
            <p:cNvSpPr/>
            <p:nvPr/>
          </p:nvSpPr>
          <p:spPr>
            <a:xfrm rot="20087400">
              <a:off x="4751280" y="4147560"/>
              <a:ext cx="865440" cy="432000"/>
            </a:xfrm>
            <a:custGeom>
              <a:avLst/>
              <a:gdLst>
                <a:gd name="textAreaLeft" fmla="*/ 151200 w 865440"/>
                <a:gd name="textAreaRight" fmla="*/ 627480 w 865440"/>
                <a:gd name="textAreaTop" fmla="*/ 57600 h 432000"/>
                <a:gd name="textAreaBottom" fmla="*/ 37440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0"/>
          <p:cNvSpPr/>
          <p:nvPr/>
        </p:nvSpPr>
        <p:spPr>
          <a:xfrm rot="16200000">
            <a:off x="4102920" y="-1676880"/>
            <a:ext cx="85068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lic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7"/>
          <p:cNvSpPr/>
          <p:nvPr/>
        </p:nvSpPr>
        <p:spPr>
          <a:xfrm rot="16200000">
            <a:off x="7555320" y="2516760"/>
            <a:ext cx="91188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bjetivos/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347760" y="3192480"/>
            <a:ext cx="131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G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4"/>
          <p:cNvSpPr/>
          <p:nvPr/>
        </p:nvSpPr>
        <p:spPr>
          <a:xfrm rot="16200000">
            <a:off x="1494360" y="2457720"/>
            <a:ext cx="586728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Aprendizagem Organiz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apital Intele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Educação Corpo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Ambientes Virtuais de Aprendiz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Inteligência Empresa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omunidades de Pr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PI, CRM, ERP, BSC, DW, D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nco de Tal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ais (intra/extrane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eamento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1"/>
          <p:cNvSpPr/>
          <p:nvPr/>
        </p:nvSpPr>
        <p:spPr>
          <a:xfrm>
            <a:off x="179280" y="2995560"/>
            <a:ext cx="1584360" cy="1225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28"/>
          <p:cNvSpPr/>
          <p:nvPr/>
        </p:nvSpPr>
        <p:spPr>
          <a:xfrm>
            <a:off x="7020000" y="2925720"/>
            <a:ext cx="1944720" cy="1440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32"/>
          <p:cNvSpPr/>
          <p:nvPr/>
        </p:nvSpPr>
        <p:spPr>
          <a:xfrm rot="19848600">
            <a:off x="1692360" y="3357360"/>
            <a:ext cx="1008000" cy="36036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33"/>
          <p:cNvSpPr/>
          <p:nvPr/>
        </p:nvSpPr>
        <p:spPr>
          <a:xfrm rot="19848600">
            <a:off x="6084720" y="3284280"/>
            <a:ext cx="1008360" cy="36036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34"/>
          <p:cNvSpPr/>
          <p:nvPr/>
        </p:nvSpPr>
        <p:spPr>
          <a:xfrm>
            <a:off x="2700360" y="1125360"/>
            <a:ext cx="3456000" cy="5399280"/>
          </a:xfrm>
          <a:prstGeom prst="foldedCorner">
            <a:avLst>
              <a:gd name="adj" fmla="val 918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4"/>
          <p:cNvSpPr/>
          <p:nvPr/>
        </p:nvSpPr>
        <p:spPr>
          <a:xfrm>
            <a:off x="1371600" y="1828800"/>
            <a:ext cx="676908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teoria é quando nós sabemos tudo, mas nada funciona; a prática é quando tudo funciona, mas não sabemos por quê. Quando a teoria e a prática são reunidas, nada funciona e ninguém sabe por quê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Autor Anôni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Oval 2"/>
          <p:cNvSpPr/>
          <p:nvPr/>
        </p:nvSpPr>
        <p:spPr>
          <a:xfrm>
            <a:off x="1908000" y="1341360"/>
            <a:ext cx="5400720" cy="1366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826920" y="260280"/>
            <a:ext cx="77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volução Epistemológica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36"/>
          <p:cNvGrpSpPr/>
          <p:nvPr/>
        </p:nvGrpSpPr>
        <p:grpSpPr>
          <a:xfrm>
            <a:off x="395280" y="1989000"/>
            <a:ext cx="8101080" cy="3775320"/>
            <a:chOff x="395280" y="1989000"/>
            <a:chExt cx="8101080" cy="3775320"/>
          </a:xfrm>
        </p:grpSpPr>
        <p:pic>
          <p:nvPicPr>
            <p:cNvPr id="61" name="Picture 13" descr="Aids_Comprimidos (1)"/>
            <p:cNvPicPr/>
            <p:nvPr/>
          </p:nvPicPr>
          <p:blipFill>
            <a:blip r:embed="rId1"/>
            <a:stretch/>
          </p:blipFill>
          <p:spPr>
            <a:xfrm>
              <a:off x="6948360" y="5013360"/>
              <a:ext cx="154800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22"/>
            <p:cNvSpPr/>
            <p:nvPr/>
          </p:nvSpPr>
          <p:spPr>
            <a:xfrm>
              <a:off x="395280" y="5013360"/>
              <a:ext cx="197964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TELIGÊNCIA COLE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5"/>
            <p:cNvSpPr/>
            <p:nvPr/>
          </p:nvSpPr>
          <p:spPr>
            <a:xfrm>
              <a:off x="3348000" y="1989000"/>
              <a:ext cx="234000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HECIMENTO INDIVID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7"/>
            <p:cNvSpPr/>
            <p:nvPr/>
          </p:nvSpPr>
          <p:spPr>
            <a:xfrm>
              <a:off x="3276720" y="3500280"/>
              <a:ext cx="255564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HECIMENTO ORGANIZ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8"/>
            <p:cNvSpPr/>
            <p:nvPr/>
          </p:nvSpPr>
          <p:spPr>
            <a:xfrm>
              <a:off x="4427640" y="2852640"/>
              <a:ext cx="360360" cy="57636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29"/>
            <p:cNvSpPr/>
            <p:nvPr/>
          </p:nvSpPr>
          <p:spPr>
            <a:xfrm>
              <a:off x="4427640" y="4292640"/>
              <a:ext cx="360360" cy="57636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30"/>
            <p:cNvSpPr/>
            <p:nvPr/>
          </p:nvSpPr>
          <p:spPr>
            <a:xfrm>
              <a:off x="3276720" y="5013360"/>
              <a:ext cx="251928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HECIMENTO 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34"/>
            <p:cNvSpPr/>
            <p:nvPr/>
          </p:nvSpPr>
          <p:spPr>
            <a:xfrm rot="19388400">
              <a:off x="2411280" y="5157360"/>
              <a:ext cx="720720" cy="287280"/>
            </a:xfrm>
            <a:custGeom>
              <a:avLst/>
              <a:gdLst>
                <a:gd name="textAreaLeft" fmla="*/ 126000 w 720720"/>
                <a:gd name="textAreaRight" fmla="*/ 522720 w 720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5"/>
            <p:cNvSpPr/>
            <p:nvPr/>
          </p:nvSpPr>
          <p:spPr>
            <a:xfrm rot="19388400">
              <a:off x="5940360" y="5084280"/>
              <a:ext cx="720720" cy="287640"/>
            </a:xfrm>
            <a:custGeom>
              <a:avLst/>
              <a:gdLst>
                <a:gd name="textAreaLeft" fmla="*/ 126000 w 720720"/>
                <a:gd name="textAreaRight" fmla="*/ 522720 w 72072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0"/>
          <p:cNvSpPr/>
          <p:nvPr/>
        </p:nvSpPr>
        <p:spPr>
          <a:xfrm>
            <a:off x="539640" y="189000"/>
            <a:ext cx="81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e GC no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5050"/>
                </a:solidFill>
                <a:latin typeface="Arial"/>
              </a:rPr>
              <a:t>Âmbito da Administração Púb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900000" y="2421000"/>
            <a:ext cx="7345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Conjunto de </a:t>
            </a: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Processos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Práticas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sistematizados, articulados e intencionais, capazes de incrementar as habilidades dos gestores públicos em criar, organizar e compartilhar as informações e conhecimentos estratégicos que facilitam a tomada de decisões e condução da gestão de políticas públic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0"/>
          <p:cNvSpPr/>
          <p:nvPr/>
        </p:nvSpPr>
        <p:spPr>
          <a:xfrm>
            <a:off x="144360" y="11592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lguns Benefícios/Resultados da G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250920" y="1125360"/>
            <a:ext cx="864216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Criação e compartilhamento  de novos   conhecimento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e informaç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Inovação/Inven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Solução de probl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Aprendizagem Continuada (pessoal/organizacio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desenho de processos e funç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Otimização do processo decisó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Minimiza ou elimina a redundância de esforços  (retrabal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Minimiza a perda de Conhecimento (aposentadorias, rescisõ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3"/>
          <p:cNvSpPr/>
          <p:nvPr/>
        </p:nvSpPr>
        <p:spPr>
          <a:xfrm>
            <a:off x="250920" y="44280"/>
            <a:ext cx="871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uas Dimensões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8"/>
          <p:cNvSpPr/>
          <p:nvPr/>
        </p:nvSpPr>
        <p:spPr>
          <a:xfrm>
            <a:off x="-36360" y="3112920"/>
            <a:ext cx="446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hecimento da experi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hecimento simultân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hecimento ana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6"/>
          <p:cNvGrpSpPr/>
          <p:nvPr/>
        </p:nvGrpSpPr>
        <p:grpSpPr>
          <a:xfrm>
            <a:off x="1114560" y="1960560"/>
            <a:ext cx="8137440" cy="4276800"/>
            <a:chOff x="1114560" y="1960560"/>
            <a:chExt cx="8137440" cy="4276800"/>
          </a:xfrm>
        </p:grpSpPr>
        <p:sp>
          <p:nvSpPr>
            <p:cNvPr id="410" name="Text Box 14"/>
            <p:cNvSpPr/>
            <p:nvPr/>
          </p:nvSpPr>
          <p:spPr>
            <a:xfrm>
              <a:off x="1114560" y="1960560"/>
              <a:ext cx="1944720" cy="984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ahoma"/>
                </a:rPr>
                <a:t>Táci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Subjetiv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5"/>
            <p:cNvSpPr/>
            <p:nvPr/>
          </p:nvSpPr>
          <p:spPr>
            <a:xfrm>
              <a:off x="5651640" y="1960560"/>
              <a:ext cx="1944720" cy="984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Objetiv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4356000" y="3112920"/>
              <a:ext cx="489600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 da racional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 seqüen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 digi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1"/>
            <p:cNvSpPr/>
            <p:nvPr/>
          </p:nvSpPr>
          <p:spPr>
            <a:xfrm>
              <a:off x="1114560" y="5661000"/>
              <a:ext cx="1511280" cy="576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Prá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22"/>
            <p:cNvSpPr/>
            <p:nvPr/>
          </p:nvSpPr>
          <p:spPr>
            <a:xfrm>
              <a:off x="5938920" y="5661000"/>
              <a:ext cx="1511280" cy="576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eo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24"/>
            <p:cNvSpPr/>
            <p:nvPr/>
          </p:nvSpPr>
          <p:spPr>
            <a:xfrm>
              <a:off x="6515280" y="4913280"/>
              <a:ext cx="433080" cy="577800"/>
            </a:xfrm>
            <a:prstGeom prst="downArrow">
              <a:avLst>
                <a:gd name="adj1" fmla="val 50000"/>
                <a:gd name="adj2" fmla="val 3335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25"/>
            <p:cNvSpPr/>
            <p:nvPr/>
          </p:nvSpPr>
          <p:spPr>
            <a:xfrm>
              <a:off x="1692360" y="4869000"/>
              <a:ext cx="431640" cy="649080"/>
            </a:xfrm>
            <a:prstGeom prst="downArrow">
              <a:avLst>
                <a:gd name="adj1" fmla="val 50000"/>
                <a:gd name="adj2" fmla="val 3759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32"/>
            <p:cNvSpPr/>
            <p:nvPr/>
          </p:nvSpPr>
          <p:spPr>
            <a:xfrm>
              <a:off x="3490920" y="5734080"/>
              <a:ext cx="1655640" cy="360360"/>
            </a:xfrm>
            <a:prstGeom prst="leftRightArrow">
              <a:avLst>
                <a:gd name="adj1" fmla="val 50000"/>
                <a:gd name="adj2" fmla="val 9146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33"/>
            <p:cNvSpPr/>
            <p:nvPr/>
          </p:nvSpPr>
          <p:spPr>
            <a:xfrm>
              <a:off x="3564000" y="2247840"/>
              <a:ext cx="1655640" cy="360360"/>
            </a:xfrm>
            <a:prstGeom prst="leftRightArrow">
              <a:avLst>
                <a:gd name="adj1" fmla="val 50000"/>
                <a:gd name="adj2" fmla="val 9146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1"/>
          <p:cNvSpPr/>
          <p:nvPr/>
        </p:nvSpPr>
        <p:spPr>
          <a:xfrm>
            <a:off x="539640" y="260280"/>
            <a:ext cx="81010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versão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ipal foco da G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1"/>
          <p:cNvGrpSpPr/>
          <p:nvPr/>
        </p:nvGrpSpPr>
        <p:grpSpPr>
          <a:xfrm>
            <a:off x="1619280" y="2421000"/>
            <a:ext cx="5908680" cy="2951280"/>
            <a:chOff x="1619280" y="2421000"/>
            <a:chExt cx="5908680" cy="2951280"/>
          </a:xfrm>
        </p:grpSpPr>
        <p:sp>
          <p:nvSpPr>
            <p:cNvPr id="421" name="AutoShape 12"/>
            <p:cNvSpPr/>
            <p:nvPr/>
          </p:nvSpPr>
          <p:spPr>
            <a:xfrm>
              <a:off x="3929040" y="3646440"/>
              <a:ext cx="1366920" cy="397080"/>
            </a:xfrm>
            <a:prstGeom prst="leftRightArrow">
              <a:avLst>
                <a:gd name="adj1" fmla="val 50000"/>
                <a:gd name="adj2" fmla="val 68530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1695240" y="2421000"/>
              <a:ext cx="3745080" cy="2951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3782880" y="2421000"/>
              <a:ext cx="3745080" cy="2951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8"/>
            <p:cNvSpPr/>
            <p:nvPr/>
          </p:nvSpPr>
          <p:spPr>
            <a:xfrm>
              <a:off x="1619280" y="3564000"/>
              <a:ext cx="230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Conhecimento Táci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9"/>
            <p:cNvSpPr/>
            <p:nvPr/>
          </p:nvSpPr>
          <p:spPr>
            <a:xfrm>
              <a:off x="5352840" y="3487680"/>
              <a:ext cx="204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Conhecimento Explíci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4"/>
          <p:cNvSpPr/>
          <p:nvPr/>
        </p:nvSpPr>
        <p:spPr>
          <a:xfrm>
            <a:off x="755640" y="26028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 Práticos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971640" y="1557360"/>
            <a:ext cx="720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Processamento da Informação/Conheci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914400" y="2298600"/>
            <a:ext cx="79056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Contextualização da Informação/Conheci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(ambientes/cenári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914400" y="3367080"/>
            <a:ext cx="7667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Significação e relevância do que acontece e do que se fa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6"/>
          <p:cNvSpPr/>
          <p:nvPr/>
        </p:nvSpPr>
        <p:spPr>
          <a:xfrm>
            <a:off x="914400" y="4203720"/>
            <a:ext cx="7761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Criação e compartilhamento de novos conhecimentos (aprendizagem, inovaçã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942840" y="5194440"/>
            <a:ext cx="766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Otimização do processo de tomada de decis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0"/>
          <p:cNvSpPr/>
          <p:nvPr/>
        </p:nvSpPr>
        <p:spPr>
          <a:xfrm>
            <a:off x="503280" y="44280"/>
            <a:ext cx="83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os de Conversão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40"/>
          <p:cNvGrpSpPr/>
          <p:nvPr/>
        </p:nvGrpSpPr>
        <p:grpSpPr>
          <a:xfrm>
            <a:off x="1114560" y="1454760"/>
            <a:ext cx="6697080" cy="5127480"/>
            <a:chOff x="1114560" y="1454760"/>
            <a:chExt cx="6697080" cy="5127480"/>
          </a:xfrm>
        </p:grpSpPr>
        <p:sp>
          <p:nvSpPr>
            <p:cNvPr id="434" name="Text Box 11"/>
            <p:cNvSpPr/>
            <p:nvPr/>
          </p:nvSpPr>
          <p:spPr>
            <a:xfrm>
              <a:off x="1114560" y="1911240"/>
              <a:ext cx="2663640" cy="46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Socialização</a:t>
              </a:r>
              <a:r>
                <a:rPr b="1" lang="pt-BR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mestre – aprendi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Ex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Combin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In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professor – aluno)</a:t>
              </a:r>
              <a:r>
                <a:rPr b="1" lang="pt-BR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12"/>
            <p:cNvSpPr/>
            <p:nvPr/>
          </p:nvSpPr>
          <p:spPr>
            <a:xfrm>
              <a:off x="4427280" y="2198520"/>
              <a:ext cx="93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15"/>
            <p:cNvSpPr/>
            <p:nvPr/>
          </p:nvSpPr>
          <p:spPr>
            <a:xfrm>
              <a:off x="6445080" y="191124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17"/>
            <p:cNvSpPr/>
            <p:nvPr/>
          </p:nvSpPr>
          <p:spPr>
            <a:xfrm>
              <a:off x="4427280" y="3135240"/>
              <a:ext cx="93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8"/>
            <p:cNvSpPr/>
            <p:nvPr/>
          </p:nvSpPr>
          <p:spPr>
            <a:xfrm>
              <a:off x="6588000" y="5224320"/>
              <a:ext cx="93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23"/>
            <p:cNvSpPr/>
            <p:nvPr/>
          </p:nvSpPr>
          <p:spPr>
            <a:xfrm>
              <a:off x="6445080" y="299088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25"/>
            <p:cNvSpPr/>
            <p:nvPr/>
          </p:nvSpPr>
          <p:spPr>
            <a:xfrm>
              <a:off x="4356000" y="5367240"/>
              <a:ext cx="129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26"/>
            <p:cNvSpPr/>
            <p:nvPr/>
          </p:nvSpPr>
          <p:spPr>
            <a:xfrm>
              <a:off x="6516720" y="4071960"/>
              <a:ext cx="129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27"/>
            <p:cNvSpPr/>
            <p:nvPr/>
          </p:nvSpPr>
          <p:spPr>
            <a:xfrm>
              <a:off x="4356000" y="4216320"/>
              <a:ext cx="129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32"/>
            <p:cNvSpPr/>
            <p:nvPr/>
          </p:nvSpPr>
          <p:spPr>
            <a:xfrm rot="20448000">
              <a:off x="5292720" y="1695600"/>
              <a:ext cx="1512360" cy="287280"/>
            </a:xfrm>
            <a:custGeom>
              <a:avLst/>
              <a:gdLst>
                <a:gd name="textAreaLeft" fmla="*/ 264600 w 1512360"/>
                <a:gd name="textAreaRight" fmla="*/ 1096560 w 151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33"/>
            <p:cNvSpPr/>
            <p:nvPr/>
          </p:nvSpPr>
          <p:spPr>
            <a:xfrm rot="20614200">
              <a:off x="5364000" y="2703600"/>
              <a:ext cx="1512720" cy="287280"/>
            </a:xfrm>
            <a:custGeom>
              <a:avLst/>
              <a:gdLst>
                <a:gd name="textAreaLeft" fmla="*/ 264600 w 1512720"/>
                <a:gd name="textAreaRight" fmla="*/ 1096920 w 1512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34"/>
            <p:cNvSpPr/>
            <p:nvPr/>
          </p:nvSpPr>
          <p:spPr>
            <a:xfrm rot="20294400">
              <a:off x="5437080" y="3782520"/>
              <a:ext cx="1512360" cy="287640"/>
            </a:xfrm>
            <a:custGeom>
              <a:avLst/>
              <a:gdLst>
                <a:gd name="textAreaLeft" fmla="*/ 264600 w 1512360"/>
                <a:gd name="textAreaRight" fmla="*/ 1096560 w 151236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35"/>
            <p:cNvSpPr/>
            <p:nvPr/>
          </p:nvSpPr>
          <p:spPr>
            <a:xfrm rot="20614200">
              <a:off x="5508360" y="4935600"/>
              <a:ext cx="1512720" cy="287280"/>
            </a:xfrm>
            <a:custGeom>
              <a:avLst/>
              <a:gdLst>
                <a:gd name="textAreaLeft" fmla="*/ 264600 w 1512720"/>
                <a:gd name="textAreaRight" fmla="*/ 1096920 w 1512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Text Box 38"/>
          <p:cNvSpPr/>
          <p:nvPr/>
        </p:nvSpPr>
        <p:spPr>
          <a:xfrm>
            <a:off x="684360" y="6467400"/>
            <a:ext cx="51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Nonaka e Takeuc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0"/>
          <p:cNvSpPr/>
          <p:nvPr/>
        </p:nvSpPr>
        <p:spPr>
          <a:xfrm>
            <a:off x="719280" y="189000"/>
            <a:ext cx="79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údo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122"/>
          <p:cNvGrpSpPr/>
          <p:nvPr/>
        </p:nvGrpSpPr>
        <p:grpSpPr>
          <a:xfrm>
            <a:off x="360360" y="1413000"/>
            <a:ext cx="8327880" cy="4319640"/>
            <a:chOff x="360360" y="1413000"/>
            <a:chExt cx="8327880" cy="4319640"/>
          </a:xfrm>
        </p:grpSpPr>
        <p:sp>
          <p:nvSpPr>
            <p:cNvPr id="450" name="Rectangle 87"/>
            <p:cNvSpPr/>
            <p:nvPr/>
          </p:nvSpPr>
          <p:spPr>
            <a:xfrm>
              <a:off x="468360" y="1555920"/>
              <a:ext cx="24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Soci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88"/>
            <p:cNvSpPr/>
            <p:nvPr/>
          </p:nvSpPr>
          <p:spPr>
            <a:xfrm>
              <a:off x="468360" y="505944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In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89"/>
            <p:cNvSpPr/>
            <p:nvPr/>
          </p:nvSpPr>
          <p:spPr>
            <a:xfrm>
              <a:off x="395280" y="386100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Combin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90"/>
            <p:cNvSpPr/>
            <p:nvPr/>
          </p:nvSpPr>
          <p:spPr>
            <a:xfrm>
              <a:off x="477720" y="2708280"/>
              <a:ext cx="24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Ex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99"/>
            <p:cNvSpPr/>
            <p:nvPr/>
          </p:nvSpPr>
          <p:spPr>
            <a:xfrm>
              <a:off x="4564800" y="1700280"/>
              <a:ext cx="378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Compartilh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00"/>
            <p:cNvSpPr/>
            <p:nvPr/>
          </p:nvSpPr>
          <p:spPr>
            <a:xfrm>
              <a:off x="4643280" y="28530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Conceitu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01"/>
            <p:cNvSpPr/>
            <p:nvPr/>
          </p:nvSpPr>
          <p:spPr>
            <a:xfrm>
              <a:off x="4788000" y="3861000"/>
              <a:ext cx="35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Sistêm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02"/>
            <p:cNvSpPr/>
            <p:nvPr/>
          </p:nvSpPr>
          <p:spPr>
            <a:xfrm>
              <a:off x="4788000" y="5011920"/>
              <a:ext cx="35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Opera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103"/>
            <p:cNvSpPr/>
            <p:nvPr/>
          </p:nvSpPr>
          <p:spPr>
            <a:xfrm>
              <a:off x="8459640" y="2060640"/>
              <a:ext cx="228600" cy="6858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04"/>
            <p:cNvSpPr/>
            <p:nvPr/>
          </p:nvSpPr>
          <p:spPr>
            <a:xfrm>
              <a:off x="8459640" y="3175200"/>
              <a:ext cx="228600" cy="6858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05"/>
            <p:cNvSpPr/>
            <p:nvPr/>
          </p:nvSpPr>
          <p:spPr>
            <a:xfrm>
              <a:off x="8459640" y="4327560"/>
              <a:ext cx="228600" cy="6858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07"/>
            <p:cNvSpPr/>
            <p:nvPr/>
          </p:nvSpPr>
          <p:spPr>
            <a:xfrm>
              <a:off x="360360" y="2563920"/>
              <a:ext cx="2627280" cy="865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10"/>
            <p:cNvSpPr/>
            <p:nvPr/>
          </p:nvSpPr>
          <p:spPr>
            <a:xfrm>
              <a:off x="360360" y="3716280"/>
              <a:ext cx="2627280" cy="863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11"/>
            <p:cNvSpPr/>
            <p:nvPr/>
          </p:nvSpPr>
          <p:spPr>
            <a:xfrm>
              <a:off x="395280" y="4869000"/>
              <a:ext cx="2627280" cy="863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12"/>
            <p:cNvSpPr/>
            <p:nvPr/>
          </p:nvSpPr>
          <p:spPr>
            <a:xfrm>
              <a:off x="360360" y="1413000"/>
              <a:ext cx="2627280" cy="863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14"/>
            <p:cNvSpPr/>
            <p:nvPr/>
          </p:nvSpPr>
          <p:spPr>
            <a:xfrm>
              <a:off x="4067280" y="1555920"/>
              <a:ext cx="4321080" cy="792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15"/>
            <p:cNvSpPr/>
            <p:nvPr/>
          </p:nvSpPr>
          <p:spPr>
            <a:xfrm>
              <a:off x="4067280" y="2637000"/>
              <a:ext cx="4321080" cy="792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16"/>
            <p:cNvSpPr/>
            <p:nvPr/>
          </p:nvSpPr>
          <p:spPr>
            <a:xfrm>
              <a:off x="4068720" y="3716280"/>
              <a:ext cx="4319640" cy="792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17"/>
            <p:cNvSpPr/>
            <p:nvPr/>
          </p:nvSpPr>
          <p:spPr>
            <a:xfrm>
              <a:off x="4067280" y="4869000"/>
              <a:ext cx="4321080" cy="792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118"/>
            <p:cNvSpPr/>
            <p:nvPr/>
          </p:nvSpPr>
          <p:spPr>
            <a:xfrm rot="21298200">
              <a:off x="3058920" y="1484280"/>
              <a:ext cx="1152360" cy="28764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119"/>
            <p:cNvSpPr/>
            <p:nvPr/>
          </p:nvSpPr>
          <p:spPr>
            <a:xfrm rot="21298200">
              <a:off x="3058920" y="2637000"/>
              <a:ext cx="1152360" cy="28728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120"/>
            <p:cNvSpPr/>
            <p:nvPr/>
          </p:nvSpPr>
          <p:spPr>
            <a:xfrm rot="21298200">
              <a:off x="3058920" y="3789360"/>
              <a:ext cx="1152360" cy="28728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21"/>
            <p:cNvSpPr/>
            <p:nvPr/>
          </p:nvSpPr>
          <p:spPr>
            <a:xfrm rot="21298200">
              <a:off x="3058920" y="4869000"/>
              <a:ext cx="1152360" cy="28728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Text Box 123"/>
          <p:cNvSpPr/>
          <p:nvPr/>
        </p:nvSpPr>
        <p:spPr>
          <a:xfrm>
            <a:off x="684360" y="6453360"/>
            <a:ext cx="51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nte: Adaptação de Nonaka e Takeuc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4760" y="258840"/>
            <a:ext cx="86979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rdagem Pedagógica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6"/>
          <p:cNvSpPr/>
          <p:nvPr/>
        </p:nvSpPr>
        <p:spPr>
          <a:xfrm>
            <a:off x="179280" y="2565360"/>
            <a:ext cx="2952720" cy="180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7"/>
          <p:cNvSpPr/>
          <p:nvPr/>
        </p:nvSpPr>
        <p:spPr>
          <a:xfrm>
            <a:off x="3203640" y="2637000"/>
            <a:ext cx="2663640" cy="1655640"/>
          </a:xfrm>
          <a:prstGeom prst="rightArrow">
            <a:avLst>
              <a:gd name="adj1" fmla="val 50000"/>
              <a:gd name="adj2" fmla="val 4022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8"/>
          <p:cNvSpPr/>
          <p:nvPr/>
        </p:nvSpPr>
        <p:spPr>
          <a:xfrm>
            <a:off x="6084720" y="2276640"/>
            <a:ext cx="2735280" cy="273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611280" y="30686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hecimento 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1"/>
          <p:cNvSpPr/>
          <p:nvPr/>
        </p:nvSpPr>
        <p:spPr>
          <a:xfrm>
            <a:off x="6443640" y="306864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hecimento 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2"/>
          <p:cNvSpPr/>
          <p:nvPr/>
        </p:nvSpPr>
        <p:spPr>
          <a:xfrm>
            <a:off x="3203640" y="306864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PRENDIZ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RGANIZ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14"/>
          <p:cNvSpPr/>
          <p:nvPr/>
        </p:nvSpPr>
        <p:spPr>
          <a:xfrm>
            <a:off x="6012000" y="2565360"/>
            <a:ext cx="2952720" cy="180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10"/>
          <p:cNvSpPr/>
          <p:nvPr/>
        </p:nvSpPr>
        <p:spPr>
          <a:xfrm>
            <a:off x="468360" y="26028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ipologia de Práticas 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611280" y="1700280"/>
            <a:ext cx="810108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Gestão de Pessoas e Competências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: está relacionado à criação, disseminação e aplicação de informações que facilitam o conheciment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Processos de Negócios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: facilitam a estruturação e o fluxo do conhecimento organizacion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Tecnologia da Informação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focada na estrutura dos aplicativos e ferramentas que facilitam a captura, a codificação e o compartilhamento de conhecimen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5"/>
          <p:cNvSpPr/>
          <p:nvPr/>
        </p:nvSpPr>
        <p:spPr>
          <a:xfrm rot="16200000">
            <a:off x="3633840" y="3494880"/>
            <a:ext cx="36288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Texto para discussão n.1095 do IPEA/Brasilia, junho/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5"/>
          <p:cNvSpPr/>
          <p:nvPr/>
        </p:nvSpPr>
        <p:spPr>
          <a:xfrm>
            <a:off x="1835280" y="26028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ivos Intangív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15559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apital Intelectual: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900000" y="2565360"/>
            <a:ext cx="7272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Capital Humano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: Fonte de invenção, inovação e renovação. Competências individu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Capital Estrutural ou Organizacional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: Pertence à organização como um todo: publicações, tecnologias, patentes, sistemas, práticas, rotinas, procedimentos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Capital de Relacionamento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: É o valor dos relacionamentos de uma organização com os seus clientes, fornecedores e ambiente exter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4140360" y="1413000"/>
            <a:ext cx="4176720" cy="119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oma de Conhecimentos Individuais e Organiz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 rot="16200000">
            <a:off x="4461840" y="2595600"/>
            <a:ext cx="362880" cy="80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Capital Intelectual – 2007, Sátiro Santiago e Sátiro Santiago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826920" y="26028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odelo da Capacidade Absortiva do Conhecimento com 4 dimen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Capacidade Absortiva"/>
          <p:cNvPicPr/>
          <p:nvPr/>
        </p:nvPicPr>
        <p:blipFill>
          <a:blip r:embed="rId1"/>
          <a:stretch/>
        </p:blipFill>
        <p:spPr>
          <a:xfrm>
            <a:off x="324000" y="2576520"/>
            <a:ext cx="8496000" cy="1704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 rot="16200000">
            <a:off x="4251240" y="2525040"/>
            <a:ext cx="423720" cy="77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nte:Daghfous (2004); Minbaeva et al (2003); Liyanage e Barnard (200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10"/>
          <p:cNvSpPr/>
          <p:nvPr/>
        </p:nvSpPr>
        <p:spPr>
          <a:xfrm>
            <a:off x="468360" y="112680"/>
            <a:ext cx="83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xt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9"/>
          <p:cNvSpPr/>
          <p:nvPr/>
        </p:nvSpPr>
        <p:spPr>
          <a:xfrm>
            <a:off x="971640" y="61866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Novos e Melhores Produtos e Servi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31"/>
          <p:cNvGrpSpPr/>
          <p:nvPr/>
        </p:nvGrpSpPr>
        <p:grpSpPr>
          <a:xfrm>
            <a:off x="1547640" y="1052640"/>
            <a:ext cx="6193080" cy="5111640"/>
            <a:chOff x="1547640" y="1052640"/>
            <a:chExt cx="6193080" cy="5111640"/>
          </a:xfrm>
        </p:grpSpPr>
        <p:sp>
          <p:nvSpPr>
            <p:cNvPr id="493" name="Text Box 11"/>
            <p:cNvSpPr/>
            <p:nvPr/>
          </p:nvSpPr>
          <p:spPr>
            <a:xfrm>
              <a:off x="1547640" y="105264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prendizagem Organizac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4"/>
            <p:cNvSpPr/>
            <p:nvPr/>
          </p:nvSpPr>
          <p:spPr>
            <a:xfrm>
              <a:off x="1547640" y="206064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riação do Conhecimento Organizac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17"/>
            <p:cNvSpPr/>
            <p:nvPr/>
          </p:nvSpPr>
          <p:spPr>
            <a:xfrm>
              <a:off x="4427640" y="256536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18"/>
            <p:cNvSpPr/>
            <p:nvPr/>
          </p:nvSpPr>
          <p:spPr>
            <a:xfrm>
              <a:off x="1547640" y="306864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venção / Inov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22"/>
            <p:cNvSpPr/>
            <p:nvPr/>
          </p:nvSpPr>
          <p:spPr>
            <a:xfrm>
              <a:off x="1547640" y="414972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iferencial Competiti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24"/>
            <p:cNvSpPr/>
            <p:nvPr/>
          </p:nvSpPr>
          <p:spPr>
            <a:xfrm>
              <a:off x="1547640" y="515772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stentabil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26"/>
            <p:cNvSpPr/>
            <p:nvPr/>
          </p:nvSpPr>
          <p:spPr>
            <a:xfrm>
              <a:off x="4427640" y="155736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27"/>
            <p:cNvSpPr/>
            <p:nvPr/>
          </p:nvSpPr>
          <p:spPr>
            <a:xfrm>
              <a:off x="4427640" y="357336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28"/>
            <p:cNvSpPr/>
            <p:nvPr/>
          </p:nvSpPr>
          <p:spPr>
            <a:xfrm>
              <a:off x="4427640" y="465300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29"/>
            <p:cNvSpPr/>
            <p:nvPr/>
          </p:nvSpPr>
          <p:spPr>
            <a:xfrm>
              <a:off x="4427640" y="566100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0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Barreiras na Implant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1"/>
          <p:cNvSpPr/>
          <p:nvPr/>
        </p:nvSpPr>
        <p:spPr>
          <a:xfrm>
            <a:off x="971640" y="1341360"/>
            <a:ext cx="734544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sistência cultur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sistência organizacion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sistência a mudanças: novos        conhecimentos, novos processo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Falta de comprometimento da Administração Superior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Falta de capacitação dos facilitado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ceio de perda do controle de Informaçõ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Deficiência da Aprendizagem Organizac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30"/>
          <p:cNvGrpSpPr/>
          <p:nvPr/>
        </p:nvGrpSpPr>
        <p:grpSpPr>
          <a:xfrm>
            <a:off x="684360" y="1268280"/>
            <a:ext cx="7272360" cy="5163840"/>
            <a:chOff x="684360" y="1268280"/>
            <a:chExt cx="7272360" cy="5163840"/>
          </a:xfrm>
        </p:grpSpPr>
        <p:sp>
          <p:nvSpPr>
            <p:cNvPr id="506" name="AutoShape 8"/>
            <p:cNvSpPr/>
            <p:nvPr/>
          </p:nvSpPr>
          <p:spPr>
            <a:xfrm>
              <a:off x="2844720" y="2060640"/>
              <a:ext cx="566640" cy="2233440"/>
            </a:xfrm>
            <a:prstGeom prst="downArrow">
              <a:avLst>
                <a:gd name="adj1" fmla="val 50000"/>
                <a:gd name="adj2" fmla="val 98539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0"/>
            <p:cNvSpPr/>
            <p:nvPr/>
          </p:nvSpPr>
          <p:spPr>
            <a:xfrm>
              <a:off x="684360" y="4581360"/>
              <a:ext cx="70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Tahoma"/>
                </a:rPr>
                <a:t>      </a:t>
              </a:r>
              <a:r>
                <a:rPr b="0" lang="pt-BR" sz="2400" spc="-1" strike="noStrike">
                  <a:solidFill>
                    <a:srgbClr val="ff3300"/>
                  </a:solidFill>
                  <a:latin typeface="Tahoma"/>
                </a:rPr>
                <a:t>Projeto-Piloto de Gestão do Conhecimen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1"/>
            <p:cNvSpPr/>
            <p:nvPr/>
          </p:nvSpPr>
          <p:spPr>
            <a:xfrm>
              <a:off x="3852720" y="1917720"/>
              <a:ext cx="4104000" cy="27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Organiz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de Processos/Proje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peamento de Conhecim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de Competênci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peamento de Prát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de 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2"/>
            <p:cNvSpPr/>
            <p:nvPr/>
          </p:nvSpPr>
          <p:spPr>
            <a:xfrm>
              <a:off x="3852720" y="5229360"/>
              <a:ext cx="36007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Áreas Estratég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Processos de Conhecim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áticas/Ferrame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6"/>
            <p:cNvSpPr/>
            <p:nvPr/>
          </p:nvSpPr>
          <p:spPr>
            <a:xfrm rot="16200000">
              <a:off x="3576240" y="-831600"/>
              <a:ext cx="91188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Tahoma"/>
                </a:rPr>
                <a:t>Modelo de Gestão do Conhecimento</a:t>
              </a:r>
              <a:r>
                <a:rPr b="1" lang="pt-BR" sz="2400" spc="-1" strike="noStrike">
                  <a:solidFill>
                    <a:srgbClr val="ff33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27"/>
          <p:cNvSpPr/>
          <p:nvPr/>
        </p:nvSpPr>
        <p:spPr>
          <a:xfrm>
            <a:off x="0" y="260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mplementação/Implant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7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peamento das Compet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8"/>
          <p:cNvGrpSpPr/>
          <p:nvPr/>
        </p:nvGrpSpPr>
        <p:grpSpPr>
          <a:xfrm>
            <a:off x="108000" y="1197000"/>
            <a:ext cx="8928000" cy="5472000"/>
            <a:chOff x="108000" y="1197000"/>
            <a:chExt cx="8928000" cy="5472000"/>
          </a:xfrm>
        </p:grpSpPr>
        <p:sp>
          <p:nvSpPr>
            <p:cNvPr id="514" name="Text Box 13"/>
            <p:cNvSpPr/>
            <p:nvPr/>
          </p:nvSpPr>
          <p:spPr>
            <a:xfrm>
              <a:off x="3348000" y="4508640"/>
              <a:ext cx="25192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Lacu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e Competê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14"/>
            <p:cNvSpPr/>
            <p:nvPr/>
          </p:nvSpPr>
          <p:spPr>
            <a:xfrm>
              <a:off x="108000" y="3860640"/>
              <a:ext cx="30956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MPETÊ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RGANIZACIONA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cargos, funçõ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15"/>
            <p:cNvSpPr/>
            <p:nvPr/>
          </p:nvSpPr>
          <p:spPr>
            <a:xfrm>
              <a:off x="6084720" y="3906720"/>
              <a:ext cx="29512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MPETÊ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INDIVIDUA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conheciment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habilidades, atitud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17"/>
            <p:cNvSpPr/>
            <p:nvPr/>
          </p:nvSpPr>
          <p:spPr>
            <a:xfrm>
              <a:off x="4356000" y="3860640"/>
              <a:ext cx="503280" cy="576360"/>
            </a:xfrm>
            <a:prstGeom prst="downArrow">
              <a:avLst>
                <a:gd name="adj1" fmla="val 50000"/>
                <a:gd name="adj2" fmla="val 28630"/>
              </a:avLst>
            </a:prstGeom>
            <a:solidFill>
              <a:srgbClr val="ff99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Picture 18" descr=""/>
            <p:cNvPicPr/>
            <p:nvPr/>
          </p:nvPicPr>
          <p:blipFill>
            <a:blip r:embed="rId1"/>
            <a:stretch/>
          </p:blipFill>
          <p:spPr>
            <a:xfrm>
              <a:off x="3851280" y="1773360"/>
              <a:ext cx="150480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Oval 20"/>
            <p:cNvSpPr/>
            <p:nvPr/>
          </p:nvSpPr>
          <p:spPr>
            <a:xfrm>
              <a:off x="6012000" y="1268280"/>
              <a:ext cx="2808000" cy="266544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23"/>
            <p:cNvSpPr/>
            <p:nvPr/>
          </p:nvSpPr>
          <p:spPr>
            <a:xfrm flipH="1" rot="10491000">
              <a:off x="2983680" y="2063160"/>
              <a:ext cx="1657440" cy="864000"/>
            </a:xfrm>
            <a:custGeom>
              <a:avLst/>
              <a:gdLst>
                <a:gd name="textAreaLeft" fmla="*/ 290160 w 1657440"/>
                <a:gd name="textAreaRight" fmla="*/ 1202040 w 1657440"/>
                <a:gd name="textAreaTop" fmla="*/ 115560 h 864000"/>
                <a:gd name="textAreaBottom" fmla="*/ 748440 h 8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1" name="Picture 29" descr="cabeça"/>
            <p:cNvPicPr/>
            <p:nvPr/>
          </p:nvPicPr>
          <p:blipFill>
            <a:blip r:embed="rId2"/>
            <a:stretch/>
          </p:blipFill>
          <p:spPr>
            <a:xfrm>
              <a:off x="6732720" y="1773360"/>
              <a:ext cx="1336680" cy="15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Oval 30"/>
            <p:cNvSpPr/>
            <p:nvPr/>
          </p:nvSpPr>
          <p:spPr>
            <a:xfrm>
              <a:off x="250920" y="1197000"/>
              <a:ext cx="2808360" cy="266544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3" name="Picture 31" descr="organograma"/>
            <p:cNvPicPr/>
            <p:nvPr/>
          </p:nvPicPr>
          <p:blipFill>
            <a:blip r:embed="rId3"/>
            <a:stretch/>
          </p:blipFill>
          <p:spPr>
            <a:xfrm>
              <a:off x="345960" y="1887480"/>
              <a:ext cx="2568600" cy="10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Oval 32"/>
            <p:cNvSpPr/>
            <p:nvPr/>
          </p:nvSpPr>
          <p:spPr>
            <a:xfrm>
              <a:off x="2771640" y="5732640"/>
              <a:ext cx="3600720" cy="93636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34"/>
            <p:cNvSpPr/>
            <p:nvPr/>
          </p:nvSpPr>
          <p:spPr>
            <a:xfrm>
              <a:off x="3276720" y="5877000"/>
              <a:ext cx="25192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PRENDIZAG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35"/>
            <p:cNvSpPr/>
            <p:nvPr/>
          </p:nvSpPr>
          <p:spPr>
            <a:xfrm rot="10800000">
              <a:off x="4356000" y="5157360"/>
              <a:ext cx="503280" cy="576360"/>
            </a:xfrm>
            <a:prstGeom prst="downArrow">
              <a:avLst>
                <a:gd name="adj1" fmla="val 50000"/>
                <a:gd name="adj2" fmla="val 28630"/>
              </a:avLst>
            </a:prstGeom>
            <a:solidFill>
              <a:srgbClr val="ff99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22"/>
            <p:cNvSpPr/>
            <p:nvPr/>
          </p:nvSpPr>
          <p:spPr>
            <a:xfrm rot="11012400">
              <a:off x="4642560" y="1988640"/>
              <a:ext cx="1514520" cy="927360"/>
            </a:xfrm>
            <a:custGeom>
              <a:avLst/>
              <a:gdLst>
                <a:gd name="textAreaLeft" fmla="*/ 259200 w 1514520"/>
                <a:gd name="textAreaRight" fmla="*/ 1126080 w 1514520"/>
                <a:gd name="textAreaTop" fmla="*/ 124200 h 927360"/>
                <a:gd name="textAreaBottom" fmla="*/ 803160 h 92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401" hR="21600" stAng="10800000" swAng="-5400000"/>
                  <a:lnTo>
                    <a:pt x="12359" y="21600"/>
                  </a:lnTo>
                  <a:arcTo wR="7401" hR="21600" stAng="5400000" swAng="-2645993"/>
                  <a:lnTo>
                    <a:pt x="21177" y="7200"/>
                  </a:lnTo>
                  <a:lnTo>
                    <a:pt x="17280" y="0"/>
                  </a:lnTo>
                  <a:lnTo>
                    <a:pt x="12537" y="7200"/>
                  </a:lnTo>
                  <a:lnTo>
                    <a:pt x="14378" y="7200"/>
                  </a:lnTo>
                  <a:arcTo wR="7401" hR="21600" stAng="2754007" swAng="2229309"/>
                  <a:lnTo>
                    <a:pt x="9880" y="20352"/>
                  </a:lnTo>
                  <a:arcTo wR="7401" hR="21600" stAng="5816685" swAng="4983315"/>
                  <a:close/>
                </a:path>
                <a:path fill="darkenLess" w="21600" h="21600">
                  <a:moveTo>
                    <a:pt x="0" y="0"/>
                  </a:moveTo>
                  <a:arcTo wR="7401" hR="21600" stAng="10800000" swAng="-5400000"/>
                  <a:lnTo>
                    <a:pt x="12359" y="21600"/>
                  </a:lnTo>
                  <a:arcTo wR="7401" hR="21600" stAng="5400000" swAng="416685"/>
                  <a:lnTo>
                    <a:pt x="9880" y="20352"/>
                  </a:lnTo>
                  <a:arcTo wR="7401" hR="21600" stAng="5816685" swAng="4983315"/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58c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4"/>
          <p:cNvSpPr/>
          <p:nvPr/>
        </p:nvSpPr>
        <p:spPr>
          <a:xfrm>
            <a:off x="0" y="1890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ecnologia da Inform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mpon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41"/>
          <p:cNvGrpSpPr/>
          <p:nvPr/>
        </p:nvGrpSpPr>
        <p:grpSpPr>
          <a:xfrm>
            <a:off x="250920" y="1484280"/>
            <a:ext cx="8642160" cy="4319640"/>
            <a:chOff x="250920" y="1484280"/>
            <a:chExt cx="8642160" cy="4319640"/>
          </a:xfrm>
        </p:grpSpPr>
        <p:sp>
          <p:nvSpPr>
            <p:cNvPr id="530" name="Rectangle 8"/>
            <p:cNvSpPr/>
            <p:nvPr/>
          </p:nvSpPr>
          <p:spPr>
            <a:xfrm>
              <a:off x="395280" y="2565360"/>
              <a:ext cx="151272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9"/>
            <p:cNvSpPr/>
            <p:nvPr/>
          </p:nvSpPr>
          <p:spPr>
            <a:xfrm>
              <a:off x="2124000" y="2565360"/>
              <a:ext cx="144000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1"/>
            <p:cNvSpPr/>
            <p:nvPr/>
          </p:nvSpPr>
          <p:spPr>
            <a:xfrm>
              <a:off x="5651640" y="2565360"/>
              <a:ext cx="14414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2"/>
            <p:cNvSpPr/>
            <p:nvPr/>
          </p:nvSpPr>
          <p:spPr>
            <a:xfrm>
              <a:off x="7307280" y="2565360"/>
              <a:ext cx="14414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3"/>
            <p:cNvSpPr/>
            <p:nvPr/>
          </p:nvSpPr>
          <p:spPr>
            <a:xfrm>
              <a:off x="2124000" y="4653000"/>
              <a:ext cx="144000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4"/>
            <p:cNvSpPr/>
            <p:nvPr/>
          </p:nvSpPr>
          <p:spPr>
            <a:xfrm>
              <a:off x="3924360" y="4653000"/>
              <a:ext cx="14396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5"/>
            <p:cNvSpPr/>
            <p:nvPr/>
          </p:nvSpPr>
          <p:spPr>
            <a:xfrm>
              <a:off x="5724360" y="4653000"/>
              <a:ext cx="144000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0"/>
            <p:cNvSpPr/>
            <p:nvPr/>
          </p:nvSpPr>
          <p:spPr>
            <a:xfrm>
              <a:off x="3924360" y="2565360"/>
              <a:ext cx="14396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22"/>
            <p:cNvSpPr/>
            <p:nvPr/>
          </p:nvSpPr>
          <p:spPr>
            <a:xfrm rot="16200000">
              <a:off x="696240" y="2368800"/>
              <a:ext cx="9140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Processam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Transaçõ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5"/>
            <p:cNvSpPr/>
            <p:nvPr/>
          </p:nvSpPr>
          <p:spPr>
            <a:xfrm>
              <a:off x="4643280" y="1484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6"/>
            <p:cNvSpPr/>
            <p:nvPr/>
          </p:nvSpPr>
          <p:spPr>
            <a:xfrm flipH="1">
              <a:off x="250920" y="2060640"/>
              <a:ext cx="864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7"/>
            <p:cNvSpPr/>
            <p:nvPr/>
          </p:nvSpPr>
          <p:spPr>
            <a:xfrm flipH="1">
              <a:off x="1618920" y="4149720"/>
              <a:ext cx="60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8"/>
            <p:cNvSpPr/>
            <p:nvPr/>
          </p:nvSpPr>
          <p:spPr>
            <a:xfrm>
              <a:off x="4643280" y="162864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9"/>
            <p:cNvSpPr/>
            <p:nvPr/>
          </p:nvSpPr>
          <p:spPr>
            <a:xfrm>
              <a:off x="4643280" y="41497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28"/>
            <p:cNvSpPr/>
            <p:nvPr/>
          </p:nvSpPr>
          <p:spPr>
            <a:xfrm rot="16200000">
              <a:off x="2452320" y="2395800"/>
              <a:ext cx="78624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Contr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Proces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29"/>
            <p:cNvSpPr/>
            <p:nvPr/>
          </p:nvSpPr>
          <p:spPr>
            <a:xfrm rot="16200000">
              <a:off x="4335480" y="2369160"/>
              <a:ext cx="54720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labor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30"/>
            <p:cNvSpPr/>
            <p:nvPr/>
          </p:nvSpPr>
          <p:spPr>
            <a:xfrm rot="16200000">
              <a:off x="6014880" y="2359440"/>
              <a:ext cx="7862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Inform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Geren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31"/>
            <p:cNvSpPr/>
            <p:nvPr/>
          </p:nvSpPr>
          <p:spPr>
            <a:xfrm rot="16200000">
              <a:off x="7600680" y="2432520"/>
              <a:ext cx="7862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Apoio 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cis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32"/>
            <p:cNvSpPr/>
            <p:nvPr/>
          </p:nvSpPr>
          <p:spPr>
            <a:xfrm rot="16200000">
              <a:off x="2487240" y="4505400"/>
              <a:ext cx="7862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areho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3"/>
            <p:cNvSpPr/>
            <p:nvPr/>
          </p:nvSpPr>
          <p:spPr>
            <a:xfrm rot="16200000">
              <a:off x="4289040" y="4505400"/>
              <a:ext cx="7862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Inform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xecu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34"/>
            <p:cNvSpPr/>
            <p:nvPr/>
          </p:nvSpPr>
          <p:spPr>
            <a:xfrm rot="16200000">
              <a:off x="6086160" y="4505400"/>
              <a:ext cx="7862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i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5"/>
            <p:cNvSpPr/>
            <p:nvPr/>
          </p:nvSpPr>
          <p:spPr>
            <a:xfrm>
              <a:off x="111600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6"/>
            <p:cNvSpPr/>
            <p:nvPr/>
          </p:nvSpPr>
          <p:spPr>
            <a:xfrm>
              <a:off x="284328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37"/>
            <p:cNvSpPr/>
            <p:nvPr/>
          </p:nvSpPr>
          <p:spPr>
            <a:xfrm>
              <a:off x="637236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8"/>
            <p:cNvSpPr/>
            <p:nvPr/>
          </p:nvSpPr>
          <p:spPr>
            <a:xfrm>
              <a:off x="802800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9"/>
            <p:cNvSpPr/>
            <p:nvPr/>
          </p:nvSpPr>
          <p:spPr>
            <a:xfrm>
              <a:off x="2843280" y="41497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40"/>
            <p:cNvSpPr/>
            <p:nvPr/>
          </p:nvSpPr>
          <p:spPr>
            <a:xfrm>
              <a:off x="6443640" y="41497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Text Box 42"/>
          <p:cNvSpPr/>
          <p:nvPr/>
        </p:nvSpPr>
        <p:spPr>
          <a:xfrm>
            <a:off x="250920" y="6364440"/>
            <a:ext cx="72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Adaptado de Turban, Mclean e Weterbe (2004); O’Brien (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2"/>
          <p:cNvSpPr/>
          <p:nvPr/>
        </p:nvSpPr>
        <p:spPr>
          <a:xfrm>
            <a:off x="-324000" y="0"/>
            <a:ext cx="9468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Arquitetura de TI na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scoberta do Conhecimento - B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59"/>
          <p:cNvGrpSpPr/>
          <p:nvPr/>
        </p:nvGrpSpPr>
        <p:grpSpPr>
          <a:xfrm>
            <a:off x="1340640" y="1484280"/>
            <a:ext cx="6348600" cy="5257800"/>
            <a:chOff x="1340640" y="1484280"/>
            <a:chExt cx="6348600" cy="5257800"/>
          </a:xfrm>
        </p:grpSpPr>
        <p:grpSp>
          <p:nvGrpSpPr>
            <p:cNvPr id="560" name="Group 30"/>
            <p:cNvGrpSpPr/>
            <p:nvPr/>
          </p:nvGrpSpPr>
          <p:grpSpPr>
            <a:xfrm>
              <a:off x="1340640" y="1484280"/>
              <a:ext cx="1575360" cy="2087640"/>
              <a:chOff x="1340640" y="1484280"/>
              <a:chExt cx="1575360" cy="2087640"/>
            </a:xfrm>
          </p:grpSpPr>
          <p:sp>
            <p:nvSpPr>
              <p:cNvPr id="561" name="AutoShape 4"/>
              <p:cNvSpPr/>
              <p:nvPr/>
            </p:nvSpPr>
            <p:spPr>
              <a:xfrm>
                <a:off x="1403280" y="1484280"/>
                <a:ext cx="1512720" cy="208764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8"/>
              <p:cNvSpPr/>
              <p:nvPr/>
            </p:nvSpPr>
            <p:spPr>
              <a:xfrm rot="19532400">
                <a:off x="1403640" y="2274840"/>
                <a:ext cx="1440000" cy="66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Sistemas de Informaçã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4"/>
            <p:cNvGrpSpPr/>
            <p:nvPr/>
          </p:nvGrpSpPr>
          <p:grpSpPr>
            <a:xfrm>
              <a:off x="3772080" y="1484280"/>
              <a:ext cx="1871640" cy="2087280"/>
              <a:chOff x="3772080" y="1484280"/>
              <a:chExt cx="1871640" cy="2087280"/>
            </a:xfrm>
          </p:grpSpPr>
          <p:sp>
            <p:nvSpPr>
              <p:cNvPr id="564" name="AutoShape 5"/>
              <p:cNvSpPr/>
              <p:nvPr/>
            </p:nvSpPr>
            <p:spPr>
              <a:xfrm>
                <a:off x="3903840" y="1484280"/>
                <a:ext cx="1512720" cy="208728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10"/>
              <p:cNvSpPr/>
              <p:nvPr/>
            </p:nvSpPr>
            <p:spPr>
              <a:xfrm rot="19342200">
                <a:off x="3636360" y="2491920"/>
                <a:ext cx="21430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Data Wareho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35"/>
            <p:cNvGrpSpPr/>
            <p:nvPr/>
          </p:nvGrpSpPr>
          <p:grpSpPr>
            <a:xfrm>
              <a:off x="6220080" y="1916280"/>
              <a:ext cx="1469160" cy="1297800"/>
              <a:chOff x="6220080" y="1916280"/>
              <a:chExt cx="1469160" cy="1297800"/>
            </a:xfrm>
          </p:grpSpPr>
          <p:sp>
            <p:nvSpPr>
              <p:cNvPr id="567" name="AutoShape 6"/>
              <p:cNvSpPr/>
              <p:nvPr/>
            </p:nvSpPr>
            <p:spPr>
              <a:xfrm>
                <a:off x="6299280" y="1916280"/>
                <a:ext cx="1297080" cy="129528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11"/>
              <p:cNvSpPr/>
              <p:nvPr/>
            </p:nvSpPr>
            <p:spPr>
              <a:xfrm rot="19479000">
                <a:off x="6155280" y="2491920"/>
                <a:ext cx="159840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Data M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31"/>
            <p:cNvGrpSpPr/>
            <p:nvPr/>
          </p:nvGrpSpPr>
          <p:grpSpPr>
            <a:xfrm>
              <a:off x="5865840" y="4581360"/>
              <a:ext cx="1728720" cy="1297080"/>
              <a:chOff x="5865840" y="4581360"/>
              <a:chExt cx="1728720" cy="1297080"/>
            </a:xfrm>
          </p:grpSpPr>
          <p:sp>
            <p:nvSpPr>
              <p:cNvPr id="570" name="AutoShape 9"/>
              <p:cNvSpPr/>
              <p:nvPr/>
            </p:nvSpPr>
            <p:spPr>
              <a:xfrm>
                <a:off x="5938920" y="4581360"/>
                <a:ext cx="1655640" cy="1297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15"/>
              <p:cNvSpPr/>
              <p:nvPr/>
            </p:nvSpPr>
            <p:spPr>
              <a:xfrm>
                <a:off x="5865840" y="5089320"/>
                <a:ext cx="172872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Data Min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32"/>
            <p:cNvGrpSpPr/>
            <p:nvPr/>
          </p:nvGrpSpPr>
          <p:grpSpPr>
            <a:xfrm>
              <a:off x="2051280" y="3933720"/>
              <a:ext cx="1800000" cy="1297080"/>
              <a:chOff x="2051280" y="3933720"/>
              <a:chExt cx="1800000" cy="1297080"/>
            </a:xfrm>
          </p:grpSpPr>
          <p:sp>
            <p:nvSpPr>
              <p:cNvPr id="573" name="AutoShape 12"/>
              <p:cNvSpPr/>
              <p:nvPr/>
            </p:nvSpPr>
            <p:spPr>
              <a:xfrm>
                <a:off x="2124000" y="3933720"/>
                <a:ext cx="1656000" cy="1297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16"/>
              <p:cNvSpPr/>
              <p:nvPr/>
            </p:nvSpPr>
            <p:spPr>
              <a:xfrm>
                <a:off x="2051280" y="4221000"/>
                <a:ext cx="1800000" cy="75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Sistemas de Apoio à Decisão (SAD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55"/>
            <p:cNvGrpSpPr/>
            <p:nvPr/>
          </p:nvGrpSpPr>
          <p:grpSpPr>
            <a:xfrm>
              <a:off x="2554560" y="5445000"/>
              <a:ext cx="1728720" cy="1297080"/>
              <a:chOff x="2554560" y="5445000"/>
              <a:chExt cx="1728720" cy="1297080"/>
            </a:xfrm>
          </p:grpSpPr>
          <p:sp>
            <p:nvSpPr>
              <p:cNvPr id="576" name="AutoShape 44"/>
              <p:cNvSpPr/>
              <p:nvPr/>
            </p:nvSpPr>
            <p:spPr>
              <a:xfrm>
                <a:off x="2627280" y="5445000"/>
                <a:ext cx="1656000" cy="1297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Text Box 45"/>
              <p:cNvSpPr/>
              <p:nvPr/>
            </p:nvSpPr>
            <p:spPr>
              <a:xfrm>
                <a:off x="2554560" y="5621400"/>
                <a:ext cx="1728720" cy="10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Sistemas de Informações Executivas (EI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Line 47"/>
            <p:cNvSpPr/>
            <p:nvPr/>
          </p:nvSpPr>
          <p:spPr>
            <a:xfrm>
              <a:off x="5507280" y="249228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48"/>
            <p:cNvSpPr/>
            <p:nvPr/>
          </p:nvSpPr>
          <p:spPr>
            <a:xfrm flipH="1">
              <a:off x="6875640" y="3357720"/>
              <a:ext cx="1440" cy="1008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49"/>
            <p:cNvSpPr/>
            <p:nvPr/>
          </p:nvSpPr>
          <p:spPr>
            <a:xfrm flipH="1" flipV="1">
              <a:off x="4282920" y="4581000"/>
              <a:ext cx="1439640" cy="360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50"/>
            <p:cNvSpPr/>
            <p:nvPr/>
          </p:nvSpPr>
          <p:spPr>
            <a:xfrm flipH="1">
              <a:off x="4427640" y="5373720"/>
              <a:ext cx="1370160" cy="647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53"/>
            <p:cNvSpPr/>
            <p:nvPr/>
          </p:nvSpPr>
          <p:spPr>
            <a:xfrm>
              <a:off x="2987640" y="2421000"/>
              <a:ext cx="863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56"/>
            <p:cNvSpPr/>
            <p:nvPr/>
          </p:nvSpPr>
          <p:spPr>
            <a:xfrm flipH="1">
              <a:off x="3635280" y="3573360"/>
              <a:ext cx="360360" cy="2872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57"/>
            <p:cNvSpPr/>
            <p:nvPr/>
          </p:nvSpPr>
          <p:spPr>
            <a:xfrm>
              <a:off x="5292720" y="3500280"/>
              <a:ext cx="719280" cy="1008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58"/>
            <p:cNvSpPr/>
            <p:nvPr/>
          </p:nvSpPr>
          <p:spPr>
            <a:xfrm flipH="1">
              <a:off x="3922560" y="3645000"/>
              <a:ext cx="361800" cy="1728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tângulo 1"/>
          <p:cNvSpPr/>
          <p:nvPr/>
        </p:nvSpPr>
        <p:spPr>
          <a:xfrm>
            <a:off x="1708920" y="333360"/>
            <a:ext cx="51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ordagem Fun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CaixaDeTexto 4"/>
          <p:cNvSpPr/>
          <p:nvPr/>
        </p:nvSpPr>
        <p:spPr>
          <a:xfrm>
            <a:off x="1403280" y="1052640"/>
            <a:ext cx="676908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- Compartilhamento de conhecimento explíci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gs/Microb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- Compartilhamento de conhecimento táci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ó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nidades de Práticas Virt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conferê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deoconferê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des Sociais (pessoais/profissiona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rcadores (social bookmar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ções aprend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tory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CaixaDeTexto 1"/>
          <p:cNvSpPr/>
          <p:nvPr/>
        </p:nvSpPr>
        <p:spPr>
          <a:xfrm>
            <a:off x="1403280" y="907920"/>
            <a:ext cx="633744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- Sistemas que alavancam a G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stemas de Inform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stão da Inov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4- Sistemas de Gestão de Competências Pessoais e Organizacio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as Men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as Conceit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as Estraté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stão de Processos/Pro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áginas Amar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4"/>
          <p:cNvSpPr/>
          <p:nvPr/>
        </p:nvSpPr>
        <p:spPr>
          <a:xfrm>
            <a:off x="395280" y="0"/>
            <a:ext cx="8353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Web aplicada à G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108000" y="836640"/>
            <a:ext cx="5616360" cy="671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FOLKSONOMIA (Tagging): 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youtub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www.zoomclou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3348000" y="1557360"/>
            <a:ext cx="5616720" cy="67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AGREGADORES (RSS ou Atom): 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www.base10.com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108000" y="2060640"/>
            <a:ext cx="7343640" cy="822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BLOGS E CATALOGADORES DE BLOGS: 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www.technorat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ww.wordpres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3348000" y="2962440"/>
            <a:ext cx="561672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OCIALBOOKMARKS: www.deliciou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2413080" y="5805360"/>
            <a:ext cx="6551640" cy="95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GESTÃO DE PROCESSOS/PROJETOS: www.freemin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cmap.ihmc.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ww.dotproject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3348000" y="3968640"/>
            <a:ext cx="5616720" cy="95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FERRAMENTAS DE INTERAÇÃ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S: http://groups.goog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ÓRUNS: http://forum.imaster.uol.com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108000" y="5013360"/>
            <a:ext cx="5616360" cy="62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REDES SOCIAIS: www.facebook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ww.n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108000" y="3465360"/>
            <a:ext cx="561636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UITES COLABORATIVAS: www.zoh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Oval 5"/>
          <p:cNvSpPr/>
          <p:nvPr/>
        </p:nvSpPr>
        <p:spPr>
          <a:xfrm>
            <a:off x="2987640" y="476280"/>
            <a:ext cx="3600360" cy="1150920"/>
          </a:xfrm>
          <a:prstGeom prst="ellipse">
            <a:avLst/>
          </a:prstGeom>
          <a:solidFill>
            <a:srgbClr val="ffcc00">
              <a:alpha val="78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475128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2448000" y="2421000"/>
            <a:ext cx="54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gração de novos modelos organiza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3456000" y="3567240"/>
            <a:ext cx="287964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Grupos inter-funciona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Grupos inter-setoria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Equipes de trabalh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"/>
          <p:cNvSpPr/>
          <p:nvPr/>
        </p:nvSpPr>
        <p:spPr>
          <a:xfrm>
            <a:off x="3382920" y="5300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nidades de Pr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7128000" y="3500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s, tarefas,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1"/>
          <p:cNvSpPr/>
          <p:nvPr/>
        </p:nvSpPr>
        <p:spPr>
          <a:xfrm>
            <a:off x="7129440" y="487044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balh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rendizagem, mudança, inov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2"/>
          <p:cNvSpPr/>
          <p:nvPr/>
        </p:nvSpPr>
        <p:spPr>
          <a:xfrm>
            <a:off x="4751280" y="472428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3"/>
          <p:cNvSpPr/>
          <p:nvPr/>
        </p:nvSpPr>
        <p:spPr>
          <a:xfrm rot="16200000">
            <a:off x="6659280" y="3681000"/>
            <a:ext cx="216000" cy="574920"/>
          </a:xfrm>
          <a:prstGeom prst="downArrow">
            <a:avLst>
              <a:gd name="adj1" fmla="val 50000"/>
              <a:gd name="adj2" fmla="val 66542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4"/>
          <p:cNvSpPr/>
          <p:nvPr/>
        </p:nvSpPr>
        <p:spPr>
          <a:xfrm>
            <a:off x="287280" y="3284640"/>
            <a:ext cx="252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truturas formais, hierárquicas de aquisição e difusão de informações, idéias, conhecimen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5"/>
          <p:cNvSpPr/>
          <p:nvPr/>
        </p:nvSpPr>
        <p:spPr>
          <a:xfrm>
            <a:off x="358920" y="4871880"/>
            <a:ext cx="2520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truturas complementares às anteriores, não hierárquicas que, consolidam o compartilhamento de conhecimentos, e propiciam a 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aprendizagem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e a  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inovação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6"/>
          <p:cNvSpPr/>
          <p:nvPr/>
        </p:nvSpPr>
        <p:spPr>
          <a:xfrm rot="16200000">
            <a:off x="6586560" y="5194440"/>
            <a:ext cx="216000" cy="574560"/>
          </a:xfrm>
          <a:prstGeom prst="downArrow">
            <a:avLst>
              <a:gd name="adj1" fmla="val 50000"/>
              <a:gd name="adj2" fmla="val 665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46"/>
          <p:cNvSpPr/>
          <p:nvPr/>
        </p:nvSpPr>
        <p:spPr>
          <a:xfrm>
            <a:off x="3492360" y="69372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dades de Pr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47"/>
          <p:cNvSpPr/>
          <p:nvPr/>
        </p:nvSpPr>
        <p:spPr>
          <a:xfrm>
            <a:off x="179280" y="3141720"/>
            <a:ext cx="2700360" cy="12952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48"/>
          <p:cNvSpPr/>
          <p:nvPr/>
        </p:nvSpPr>
        <p:spPr>
          <a:xfrm>
            <a:off x="179280" y="4581360"/>
            <a:ext cx="2772000" cy="19432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49"/>
          <p:cNvSpPr/>
          <p:nvPr/>
        </p:nvSpPr>
        <p:spPr>
          <a:xfrm>
            <a:off x="3381480" y="5229360"/>
            <a:ext cx="3025800" cy="576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50"/>
          <p:cNvSpPr/>
          <p:nvPr/>
        </p:nvSpPr>
        <p:spPr>
          <a:xfrm>
            <a:off x="3382920" y="3284640"/>
            <a:ext cx="3097080" cy="14414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51"/>
          <p:cNvSpPr/>
          <p:nvPr/>
        </p:nvSpPr>
        <p:spPr>
          <a:xfrm>
            <a:off x="7093080" y="3429000"/>
            <a:ext cx="1836720" cy="10810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52"/>
          <p:cNvSpPr/>
          <p:nvPr/>
        </p:nvSpPr>
        <p:spPr>
          <a:xfrm>
            <a:off x="7056360" y="4726080"/>
            <a:ext cx="1873440" cy="14396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53"/>
          <p:cNvSpPr/>
          <p:nvPr/>
        </p:nvSpPr>
        <p:spPr>
          <a:xfrm>
            <a:off x="2340000" y="2276640"/>
            <a:ext cx="5076720" cy="6476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54"/>
          <p:cNvSpPr/>
          <p:nvPr/>
        </p:nvSpPr>
        <p:spPr>
          <a:xfrm>
            <a:off x="4751280" y="29242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55"/>
          <p:cNvSpPr/>
          <p:nvPr/>
        </p:nvSpPr>
        <p:spPr>
          <a:xfrm>
            <a:off x="2879640" y="3716280"/>
            <a:ext cx="503280" cy="216000"/>
          </a:xfrm>
          <a:prstGeom prst="leftRightArrow">
            <a:avLst>
              <a:gd name="adj1" fmla="val 50000"/>
              <a:gd name="adj2" fmla="val 4638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56"/>
          <p:cNvSpPr/>
          <p:nvPr/>
        </p:nvSpPr>
        <p:spPr>
          <a:xfrm>
            <a:off x="2951280" y="5373720"/>
            <a:ext cx="431640" cy="216000"/>
          </a:xfrm>
          <a:prstGeom prst="leftRightArrow">
            <a:avLst>
              <a:gd name="adj1" fmla="val 50000"/>
              <a:gd name="adj2" fmla="val 3978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apacidade Absortiva_fatores dimensoes variaveis"/>
          <p:cNvPicPr/>
          <p:nvPr/>
        </p:nvPicPr>
        <p:blipFill>
          <a:blip r:embed="rId1"/>
          <a:stretch/>
        </p:blipFill>
        <p:spPr>
          <a:xfrm>
            <a:off x="314280" y="1197000"/>
            <a:ext cx="8515440" cy="5019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826920" y="11592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imensões, Fatores e Variáveis da Capacidade Absor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 rot="16200000">
            <a:off x="2163960" y="4612680"/>
            <a:ext cx="4237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nte:Nilton Spíndola Júnior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10"/>
          <p:cNvSpPr/>
          <p:nvPr/>
        </p:nvSpPr>
        <p:spPr>
          <a:xfrm>
            <a:off x="1260360" y="1887480"/>
            <a:ext cx="68407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Mais difícil do que convencer alguém a aceitar novos conceitos é convencer alguém a </a:t>
            </a:r>
            <a:r>
              <a:rPr b="0" i="1" lang="pt-BR" sz="3600" spc="-1" strike="noStrike">
                <a:solidFill>
                  <a:srgbClr val="000000"/>
                </a:solidFill>
                <a:latin typeface="Tahoma"/>
              </a:rPr>
              <a:t>se livrar</a:t>
            </a: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 dos velhos conceitos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John Maynard Key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826920" y="1045800"/>
            <a:ext cx="743760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o ensinar-lhe, Tsu-lu, no que consiste o conhecimento? Quando você sabe alguma coisa, reconhecer que sabe; e, quando você não sabe alguma coisa, reconhecer que não sabe. Isso é conhecimento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úcio (Século IV a.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10"/>
          <p:cNvSpPr/>
          <p:nvPr/>
        </p:nvSpPr>
        <p:spPr>
          <a:xfrm>
            <a:off x="1403280" y="4428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468360" y="874800"/>
            <a:ext cx="8424720" cy="56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ALVARENGA NETO, Rivadavia Correa Drummond de - Gestão do conhecimento em organizaçõ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BROOKES, B. -The Foundation of Information Science.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CHOO, C.W. – A organização do Conhecimen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DAVENPORT &amp; PRUZAK – Conhecimento Empresari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GUARAGNA, Eduardo – Desmistificando o Aprendizado Organizacion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LÉVY. Pierre – A Inteligência Cole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LITTO, Freddric M.; FORMIGA, Marcos, (organizadores) – Educação a Distância, o estado da art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NONAKA &amp; TAKEUCHI  - Criação do Conhecimento na Empres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SCHERER, Felipe Ost; CARLOMAGNO, Maximiliano Selistre – Gestão da Inovação na Prát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SENGE, Peter – A Quinta Discipli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WENGER, Etienne – Comunidades de Prátic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TERRA, José Cláudio – Gestão do Conhecimento - O Grande Desafio Empresari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SANTIAGO, SANTIAGO Jr. – Capital Intelectu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SVEIBY, Karl – A Nova Riqueza da Organizaçã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SBGC-RS – Biblioteca Virtu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igência Cole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200px-CC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643120"/>
            <a:ext cx="190512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120px-Slickgnu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3789360"/>
            <a:ext cx="1584360" cy="633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011106_Wikipedi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14280" y="4437000"/>
            <a:ext cx="1128960" cy="1297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231_128x128"/>
          <p:cNvPicPr/>
          <p:nvPr/>
        </p:nvPicPr>
        <p:blipFill>
          <a:blip r:embed="rId7"/>
          <a:stretch/>
        </p:blipFill>
        <p:spPr>
          <a:xfrm>
            <a:off x="7093080" y="2133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1515_128x128"/>
          <p:cNvPicPr/>
          <p:nvPr/>
        </p:nvPicPr>
        <p:blipFill>
          <a:blip r:embed="rId8"/>
          <a:stretch/>
        </p:blipFill>
        <p:spPr>
          <a:xfrm>
            <a:off x="7093080" y="5229360"/>
            <a:ext cx="785520" cy="785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375000" y="1628640"/>
            <a:ext cx="2349360" cy="2592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11"/>
          <a:stretch/>
        </p:blipFill>
        <p:spPr>
          <a:xfrm>
            <a:off x="3419640" y="4941720"/>
            <a:ext cx="23763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 rot="16200000">
            <a:off x="3930840" y="149760"/>
            <a:ext cx="1642680" cy="65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Homem nada sab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é chamado a tudo conhecer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 rot="10800000">
            <a:off x="3562200" y="4804920"/>
            <a:ext cx="540576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Hermes, o Trimegisto, o Mensageiro dos Deuses, que viveu no antigo Egito, quando a atual raça humana estava em sua infância, isto é, mais ou menos 2.700 a.C., segundo alguns historiado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úsica: </a:t>
            </a:r>
            <a:r>
              <a:rPr b="0" lang="pt-BR" sz="1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youtube.com/watch?v=RDLs1-g3Lb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hermestrismegistus1"/>
          <p:cNvPicPr/>
          <p:nvPr/>
        </p:nvPicPr>
        <p:blipFill>
          <a:blip r:embed="rId2"/>
          <a:stretch/>
        </p:blipFill>
        <p:spPr>
          <a:xfrm>
            <a:off x="3851280" y="333360"/>
            <a:ext cx="17143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Conhecimento-Diagrama"/>
          <p:cNvPicPr/>
          <p:nvPr/>
        </p:nvPicPr>
        <p:blipFill>
          <a:blip r:embed="rId1"/>
          <a:stretch/>
        </p:blipFill>
        <p:spPr>
          <a:xfrm>
            <a:off x="1547640" y="1185840"/>
            <a:ext cx="6048720" cy="50086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 rot="16200000">
            <a:off x="3616560" y="3923640"/>
            <a:ext cx="393480" cy="54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nte: Platão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427 a.C - 347 a.C, Aten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39640" y="29052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Clássica 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4:15:33Z</dcterms:created>
  <dc:creator>Lisiane</dc:creator>
  <dc:description/>
  <dc:language>en-US</dc:language>
  <cp:lastModifiedBy>Windows</cp:lastModifiedBy>
  <dcterms:modified xsi:type="dcterms:W3CDTF">2011-06-01T22:56:23Z</dcterms:modified>
  <cp:revision>997</cp:revision>
  <dc:subject/>
  <dc:title>Gestão do Conhecimento no Contexto da SEFA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121046</vt:lpwstr>
  </property>
</Properties>
</file>