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C308-B81B-4597-8CA4-2EC4A9DB6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E8BE-ABF8-4C4A-8287-F159FD03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6505-49DE-44EE-A4D0-4E1F44346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8D26-3B9C-4E17-88D1-0A2080208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0952-BDB4-409B-848E-939348C80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1F32-FC12-4330-9DA4-494ACF25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F434-3452-4D59-B3B4-68EE5D7A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454D-9E85-46D1-AE2E-01981298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8E2A-495C-4247-A50C-BAEFAE81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CD7B-7CA8-4C06-973C-87757B45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E323-282F-4C01-9C15-93E5E201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E220-0A21-4AFA-BB4E-22FE69DC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5032-1CF4-432E-AD9C-4C69A400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87CE-7072-4AB9-B522-0D438162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EC9C-3349-4F82-9328-8A974A79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0DCE-435A-41BD-A615-ECE3CAFDE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5511B-2DB0-4D3A-9F87-B3582ED48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3145C-C106-45F9-98EC-5AD41D351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95613-9F73-41AE-BA16-A7A15E70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9E28F-0AAD-4353-8AB1-8075EFCA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353CE-480D-4C02-9CFB-FAD46BE5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23874-560C-4E86-A924-C1D435FD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D882-5CA4-49B2-BCD2-52124624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32968-25A4-484E-8A03-4D4323C0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E0325-09C7-4F6F-B863-2753423F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193A6-CE98-4910-8854-895CA33D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1917B-DD4F-401E-AD4C-8F529B15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0AD62-1B76-48B1-9EAC-3C08F8D5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DB83D-E360-4D4D-8F97-0EE46998D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06465-3473-4BC8-AFFB-A150A725F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07C98-24CC-4695-8F08-3B7522FE8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328C8-27A9-434C-96E7-A0A12431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93D5C-3681-43B4-84C4-E0E7BD27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C61A-C25D-4E32-BFA3-E9D7688A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DFBA2-D728-4807-B160-3EAE7732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ABBF3-5473-4098-807C-6ECC6682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8390C-1010-4CD6-A6BA-1E5F5AC1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E2FC9-0EFD-4726-95A3-AEE17606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39D2F-2154-423F-8D90-9DFF6833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2806D-0301-4AE1-8EF6-FB4ED088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6F4E9-AB16-4408-92D8-85EFA59C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04D23-FCCC-47E0-BCA4-FA674DBC7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3CCE3-B822-41EC-80C2-C7101F567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A5204-ECD1-431F-AC71-93F63A87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EB3F-CB53-4E52-AAC7-3FEE0460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25928-7678-471D-9A39-A88267CD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027FE-E5CF-42C6-B60C-C8ED7C9C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77E46-B97F-4A2B-91F6-3E3C2B2C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F0081-0463-435A-9E52-6600D69A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4C4C1-6FB5-4935-8691-B5464EA4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359B7-42B4-4788-AD1D-E4BE014E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7BD01-9A70-41F4-AD61-C2AE59EB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19869-9763-4641-A700-9223A571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E7F5F-ED1A-4C4D-8413-E84498C7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6B2CA-DCFA-4BAA-B94D-1AB176A01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A67C-C196-4FA4-BF32-DEC5F4A4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E0117-CA04-4402-8A98-8E300B01C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EA83-B5CD-4C44-A471-8E1F5C7A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820B-81DE-4BAE-87F8-5511CF28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6617-19AC-46AF-90EA-26220223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8 Rectángulo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766F-EC14-4C04-A693-50FDD021F8C0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7 Rectángulo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7 Rectángulo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9 Conector recto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2F46-6E8D-419A-98EB-8C43F248E960}" type="slidenum">
              <a:rPr b="0" lang="es-E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8 Rectángulo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F32B-76AE-413D-8007-7B40295DCF58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7 Rectángulo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9 Rectángulo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78F0-E645-4D68-8032-0F508237D2DF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8 Rectángulo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BA9B-A511-4585-A92C-A31825728C63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5 Título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 advTm="4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1 Título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39" name="3 Marcador de contenido" descr="paisaje_urbano10.jpg"/>
          <p:cNvPicPr/>
          <p:nvPr/>
        </p:nvPicPr>
        <p:blipFill>
          <a:blip r:embed="rId2"/>
          <a:stretch/>
        </p:blipFill>
        <p:spPr>
          <a:xfrm>
            <a:off x="846000" y="1609560"/>
            <a:ext cx="6461280" cy="48466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1 Título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41" name="3 Marcador de contenido" descr="paisaje_urbano11.jpg"/>
          <p:cNvPicPr/>
          <p:nvPr/>
        </p:nvPicPr>
        <p:blipFill>
          <a:blip r:embed="rId2"/>
          <a:stretch/>
        </p:blipFill>
        <p:spPr>
          <a:xfrm>
            <a:off x="457200" y="2535120"/>
            <a:ext cx="7238880" cy="2995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3 Título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23" name="5 Marcador de contenido" descr="paisaje_urbano1.jpg"/>
          <p:cNvPicPr/>
          <p:nvPr/>
        </p:nvPicPr>
        <p:blipFill>
          <a:blip r:embed="rId2"/>
          <a:stretch/>
        </p:blipFill>
        <p:spPr>
          <a:xfrm>
            <a:off x="2195640" y="2133720"/>
            <a:ext cx="4581360" cy="34686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1 Título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25" name="3 Marcador de contenido" descr="paisaje_urbano2.jpg"/>
          <p:cNvPicPr/>
          <p:nvPr/>
        </p:nvPicPr>
        <p:blipFill>
          <a:blip r:embed="rId2"/>
          <a:stretch/>
        </p:blipFill>
        <p:spPr>
          <a:xfrm>
            <a:off x="1219320" y="1741320"/>
            <a:ext cx="5715000" cy="45849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1 Título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27" name="3 Marcador de contenido" descr="paisaje_urbano3.jpg"/>
          <p:cNvPicPr/>
          <p:nvPr/>
        </p:nvPicPr>
        <p:blipFill>
          <a:blip r:embed="rId2"/>
          <a:stretch/>
        </p:blipFill>
        <p:spPr>
          <a:xfrm>
            <a:off x="1457280" y="2071800"/>
            <a:ext cx="5238720" cy="3924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1 Título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29" name="3 Marcador de contenido" descr="paisaje_urbano4.jpg"/>
          <p:cNvPicPr/>
          <p:nvPr/>
        </p:nvPicPr>
        <p:blipFill>
          <a:blip r:embed="rId2"/>
          <a:stretch/>
        </p:blipFill>
        <p:spPr>
          <a:xfrm>
            <a:off x="1908000" y="1844640"/>
            <a:ext cx="5303880" cy="35323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1 Título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31" name="3 Marcador de contenido" descr="paisaje_urbano5.jpg"/>
          <p:cNvPicPr/>
          <p:nvPr/>
        </p:nvPicPr>
        <p:blipFill>
          <a:blip r:embed="rId2"/>
          <a:stretch/>
        </p:blipFill>
        <p:spPr>
          <a:xfrm>
            <a:off x="846000" y="1609560"/>
            <a:ext cx="6461280" cy="48466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1 Título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33" name="3 Marcador de contenido" descr="paisaje_urbano6.jpg"/>
          <p:cNvPicPr/>
          <p:nvPr/>
        </p:nvPicPr>
        <p:blipFill>
          <a:blip r:embed="rId2"/>
          <a:stretch/>
        </p:blipFill>
        <p:spPr>
          <a:xfrm>
            <a:off x="977760" y="1798560"/>
            <a:ext cx="6197760" cy="4470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1 Título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35" name="3 Marcador de contenido" descr="paisaje_urbano8.jpg"/>
          <p:cNvPicPr/>
          <p:nvPr/>
        </p:nvPicPr>
        <p:blipFill>
          <a:blip r:embed="rId2"/>
          <a:stretch/>
        </p:blipFill>
        <p:spPr>
          <a:xfrm>
            <a:off x="1128600" y="2255760"/>
            <a:ext cx="5896080" cy="35528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1 Título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37" name="3 Marcador de contenido" descr="paisaje_urbano9.jpg"/>
          <p:cNvPicPr/>
          <p:nvPr/>
        </p:nvPicPr>
        <p:blipFill>
          <a:blip r:embed="rId2"/>
          <a:stretch/>
        </p:blipFill>
        <p:spPr>
          <a:xfrm>
            <a:off x="1098720" y="2046240"/>
            <a:ext cx="5956200" cy="39751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9T23:48:36Z</dcterms:created>
  <dc:creator>Javier</dc:creator>
  <dc:description/>
  <dc:language>en-US</dc:language>
  <cp:lastModifiedBy>Javier</cp:lastModifiedBy>
  <dcterms:modified xsi:type="dcterms:W3CDTF">2011-03-20T00:00:42Z</dcterms:modified>
  <cp:revision>2</cp:revision>
  <dc:subject/>
  <dc:title>Diapositiva 1</dc:title>
</cp:coreProperties>
</file>