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2A6-BFF8-4E65-8890-002DB8CE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96F-5FDB-4DB3-8A4B-D9223286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0C2-4CF3-47D2-953B-2D97D428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030-EB9B-4DDB-B9B7-DCF534C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3CE2-361A-4465-A2F5-350739B9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D15-1E48-4828-94BC-75A61E69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F3A5-9916-487B-9A61-04B32499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A18E-7363-4F22-BB7C-8A9840B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EF29-CDE4-4C12-B2B9-F4BAB9D0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0C62-8D96-4739-8113-9421408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E9C6-0420-4966-9C90-4FC73F6D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D82-4ED7-4BC5-B128-F55ABFA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D82F-CF8E-4B8B-9C00-9F77387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508F-85DD-48E1-97CB-41CE453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B0A3-8EC7-4EA9-AA16-F910DE55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DF44-EA2A-46B8-99AE-EC0F7B72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EA92-53E5-471C-A817-6B6008DA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DB3C-D3ED-4949-9F41-B40D5103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F320-5ADD-42C6-90E4-77D98516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850F-049F-420C-91B5-AF49EF82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FA28-CE76-408C-8D28-C243361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BE05-875B-4C2B-B44E-28913371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642-B3B4-4AC9-A548-71C5A8F9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47C9-F7B0-4DA3-B8A5-F26075DD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6FF4-D32E-4CB4-BD54-CBD7C2DC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F577-B4F2-441B-9B5E-7DE8879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3B67-FE20-44C2-93C0-3020931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3B6D-267C-40C5-A84C-0345BACC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49559-9B87-4179-8AC3-BF639F1A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47D1F-F0C1-4C05-B290-1707F944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FAE0-0937-4872-9BEF-F6BBA774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642C7-F9C9-4834-8ABA-9D9AB5B5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FC7F-FF5A-4309-9EBD-F763CD2B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AF5-88D1-43F0-B990-FA3D72D6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B4F0-8910-4662-A7CA-00B041B1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C2A3-3467-4B92-861D-08F2FDCA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EC8E-3517-4E9A-B0E6-902F279F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28D44-218F-46C2-A0A0-FFAB252E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8C02-174B-4452-8FE0-CB67852B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B135-C26C-4F13-9F11-030E72DF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719B9-C2EA-4D08-86F6-E372098A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DC28-613A-484E-BE88-C29ADE9C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1413-A9A8-4416-9566-1E058042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25104-0336-4F81-ACB4-ABBEC4B9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717-5642-4857-B8A6-A92E0F55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87FE-78A3-42EC-8B87-95197A35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DCE05-5BD8-4133-8787-4C24BA6F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EC3D-F85D-4A22-92A7-86935D05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4536F-BB3C-4D94-9395-84CEAE44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9599-495C-4255-888A-734710BF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6EA2-8FB7-4ED0-A7E3-0C69656A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B26C-77B6-4871-9872-E8EB946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B18E6-E708-45F3-8213-874B186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83D68-7AAA-4189-A911-8D94B009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5933-D11E-4CB6-8D14-5F6C0033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376-11D4-45FF-8C9F-D671624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7756A-0BC9-4645-B451-C875D24C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22A-FCC9-461F-B8A8-C90C4907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CE7-2CB7-46B5-9167-D69791F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997-C21A-4D35-A824-40F23F37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4572-FE7A-425E-BBDC-D8658A75B1FE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D5C4-9617-4607-91F1-D8D32D6ADCF0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BBA8-A155-4E72-9B16-F59789E6102F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906B-3D3E-4F2F-8FFA-3E515DD35DCC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D28E-C528-4EFD-B955-A45AD917637B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5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9" name="3 Marcador de contenido" descr="paisaje_urbano10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3 Marcador de contenido" descr="paisaje_urbano11.jpg"/>
          <p:cNvPicPr/>
          <p:nvPr/>
        </p:nvPicPr>
        <p:blipFill>
          <a:blip r:embed="rId2"/>
          <a:stretch/>
        </p:blipFill>
        <p:spPr>
          <a:xfrm>
            <a:off x="457200" y="2535120"/>
            <a:ext cx="7238880" cy="2995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3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5 Marcador de contenido" descr="paisaje_urbano1.jpg"/>
          <p:cNvPicPr/>
          <p:nvPr/>
        </p:nvPicPr>
        <p:blipFill>
          <a:blip r:embed="rId2"/>
          <a:stretch/>
        </p:blipFill>
        <p:spPr>
          <a:xfrm>
            <a:off x="2195640" y="2133720"/>
            <a:ext cx="458136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3 Marcador de contenido" descr="paisaje_urbano2.jpg"/>
          <p:cNvPicPr/>
          <p:nvPr/>
        </p:nvPicPr>
        <p:blipFill>
          <a:blip r:embed="rId2"/>
          <a:stretch/>
        </p:blipFill>
        <p:spPr>
          <a:xfrm>
            <a:off x="1219320" y="1741320"/>
            <a:ext cx="5715000" cy="4584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3 Marcador de contenido" descr="paisaje_urbano3.jpg"/>
          <p:cNvPicPr/>
          <p:nvPr/>
        </p:nvPicPr>
        <p:blipFill>
          <a:blip r:embed="rId2"/>
          <a:stretch/>
        </p:blipFill>
        <p:spPr>
          <a:xfrm>
            <a:off x="1457280" y="2071800"/>
            <a:ext cx="5238720" cy="392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3 Marcador de contenido" descr="paisaje_urbano4.jpg"/>
          <p:cNvPicPr/>
          <p:nvPr/>
        </p:nvPicPr>
        <p:blipFill>
          <a:blip r:embed="rId2"/>
          <a:stretch/>
        </p:blipFill>
        <p:spPr>
          <a:xfrm>
            <a:off x="1908000" y="1844640"/>
            <a:ext cx="5303880" cy="3532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3 Marcador de contenido" descr="paisaje_urbano5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3 Marcador de contenido" descr="paisaje_urbano6.jpg"/>
          <p:cNvPicPr/>
          <p:nvPr/>
        </p:nvPicPr>
        <p:blipFill>
          <a:blip r:embed="rId2"/>
          <a:stretch/>
        </p:blipFill>
        <p:spPr>
          <a:xfrm>
            <a:off x="977760" y="1798560"/>
            <a:ext cx="6197760" cy="4470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3 Marcador de contenido" descr="paisaje_urbano8.jpg"/>
          <p:cNvPicPr/>
          <p:nvPr/>
        </p:nvPicPr>
        <p:blipFill>
          <a:blip r:embed="rId2"/>
          <a:stretch/>
        </p:blipFill>
        <p:spPr>
          <a:xfrm>
            <a:off x="1128600" y="2255760"/>
            <a:ext cx="5896080" cy="3552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3 Marcador de contenido" descr="paisaje_urbano9.jpg"/>
          <p:cNvPicPr/>
          <p:nvPr/>
        </p:nvPicPr>
        <p:blipFill>
          <a:blip r:embed="rId2"/>
          <a:stretch/>
        </p:blipFill>
        <p:spPr>
          <a:xfrm>
            <a:off x="1098720" y="2046240"/>
            <a:ext cx="5956200" cy="397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3:48:36Z</dcterms:created>
  <dc:creator>Javier</dc:creator>
  <dc:description/>
  <dc:language>en-US</dc:language>
  <cp:lastModifiedBy>Javier</cp:lastModifiedBy>
  <dcterms:modified xsi:type="dcterms:W3CDTF">2011-03-20T00:00:42Z</dcterms:modified>
  <cp:revision>2</cp:revision>
  <dc:subject/>
  <dc:title>Diapositiva 1</dc:title>
</cp:coreProperties>
</file>