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21C-C63F-42E6-9205-CB52B663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46B-6944-4115-9B50-836D57F3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5AC-7BB8-4AF5-B30F-80EE7812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212-B15A-402F-9E3F-C8FDFCB0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2CEA-F212-4F5C-BF53-388B91B6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6802-F173-4FD6-96F3-57F67AF3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FBE8-7F9A-41C2-82AC-7CD2EFDA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5AC2-65D0-4E95-84B8-33F12609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55D1-2D45-4398-B562-39272024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B49A-B7B3-4C1E-BF9E-FC2992A2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ED1C-E335-4B38-979D-E0A67E1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083-F0BF-4E19-ABBC-21C315E8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37F3-BCDB-4E86-9579-58900E92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DBA1-4CE6-44B5-AF42-76F7DEDF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EC0B-4833-4177-ABB6-A504AB4A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F1FC-51AB-4AC0-8F6F-8C218BE2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B9C8-9E5E-4EB3-950F-CC7E4A8D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73C9-38A9-481D-8F63-DCC688C8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E4D1-5860-44B3-A75F-68AC0A33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D1EE-B297-4A83-83AA-B6ADBF0A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4506-BC82-43D2-92C2-E33EC866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189E-8E1D-4897-8CCF-D4DF6098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CDC-47FB-47B6-8605-5C7AD4A7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2321-69C5-4EE9-8528-DB3D7771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19E0-6193-44D5-8C72-CF2021A7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63268-6257-4099-B8C2-4B90C841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B0D1-5395-4CD5-9784-179264BB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FB8F-7D5A-4095-BC98-C9A9405C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B541-72AA-42AA-9DEC-966FBC69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EEA78-4E6E-401C-AC34-B68D25A1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7017-2F0D-461B-A2E6-6A922210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987C-3A6F-4063-B5EB-BDF9780F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6C3E-C840-4FB4-99A3-E993DFDA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1F1-6E2E-4141-87B7-C7C1D670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05981-165A-4698-A090-BB84838C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B59A-D81B-47FD-BF32-5A0AFF6F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E356-B698-4012-A30D-4B43F9BF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D60FD-37A2-4192-AF86-75546A3A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F18C-9CD9-4DE1-A5E6-0BE124F6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7B612-BDE4-4AB7-A68B-611209B9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9CA0-EDAD-43DC-BAE4-32142594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5B876-75E0-47A7-9C76-23251FBD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BF037-F8C0-4688-851F-8F121A32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DD535-E9AD-43D8-B599-A624320A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4EC-17C7-44B8-808D-FAEEE669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C9906-8BB0-42A3-8BB0-9BDE6DFB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C8B1E-1D74-473D-A54C-7F5A0AAF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F4A8A-55C0-4F30-8C72-FABF578D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8F461-5E1F-48DB-BABE-8F7EFBE3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D5CE5-AAC7-4857-8040-C14AD441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F5A15-3D43-4A56-9760-7721D1DF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2E2B7-6114-4D6E-8DE9-0C0004B8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E1B8B-3657-46FD-8340-9E12FAE5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4B8A1-75F5-43D2-82CA-7F0DB4BD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5612D-BD37-42FE-986F-A8E291EE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F3E-87D4-4D9F-8E6A-4C8353BC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1CCF3-C252-467F-8AE4-7D2971DF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2BF-553E-49FD-AE83-F1E01FBA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51E-4176-410B-9E63-52C59CF9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029-53D7-4F39-91CF-3B1C416F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84E9-B273-46B7-8204-67B7EF768485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98E8-C987-40BE-A274-F10A594892D1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37AD-DB40-4C6D-98AB-BD1C60D6AD38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9AFD-5649-46E8-8E60-06C7583E9125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B41D-E831-46EE-9EC4-1DA610CEDE69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5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 advTm="4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9" name="3 Marcador de contenido" descr="paisaje_urbano10.jpg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3 Marcador de contenido" descr="paisaje_urbano11.jpg"/>
          <p:cNvPicPr/>
          <p:nvPr/>
        </p:nvPicPr>
        <p:blipFill>
          <a:blip r:embed="rId2"/>
          <a:stretch/>
        </p:blipFill>
        <p:spPr>
          <a:xfrm>
            <a:off x="457200" y="2535120"/>
            <a:ext cx="7238880" cy="2995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3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5 Marcador de contenido" descr="paisaje_urbano1.jpg"/>
          <p:cNvPicPr/>
          <p:nvPr/>
        </p:nvPicPr>
        <p:blipFill>
          <a:blip r:embed="rId2"/>
          <a:stretch/>
        </p:blipFill>
        <p:spPr>
          <a:xfrm>
            <a:off x="2195640" y="2133720"/>
            <a:ext cx="458136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3 Marcador de contenido" descr="paisaje_urbano2.jpg"/>
          <p:cNvPicPr/>
          <p:nvPr/>
        </p:nvPicPr>
        <p:blipFill>
          <a:blip r:embed="rId2"/>
          <a:stretch/>
        </p:blipFill>
        <p:spPr>
          <a:xfrm>
            <a:off x="1219320" y="1741320"/>
            <a:ext cx="5715000" cy="4584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3 Marcador de contenido" descr="paisaje_urbano3.jpg"/>
          <p:cNvPicPr/>
          <p:nvPr/>
        </p:nvPicPr>
        <p:blipFill>
          <a:blip r:embed="rId2"/>
          <a:stretch/>
        </p:blipFill>
        <p:spPr>
          <a:xfrm>
            <a:off x="1457280" y="2071800"/>
            <a:ext cx="5238720" cy="3924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3 Marcador de contenido" descr="paisaje_urbano4.jpg"/>
          <p:cNvPicPr/>
          <p:nvPr/>
        </p:nvPicPr>
        <p:blipFill>
          <a:blip r:embed="rId2"/>
          <a:stretch/>
        </p:blipFill>
        <p:spPr>
          <a:xfrm>
            <a:off x="1908000" y="1844640"/>
            <a:ext cx="5303880" cy="3532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3 Marcador de contenido" descr="paisaje_urbano5.jpg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3 Marcador de contenido" descr="paisaje_urbano6.jpg"/>
          <p:cNvPicPr/>
          <p:nvPr/>
        </p:nvPicPr>
        <p:blipFill>
          <a:blip r:embed="rId2"/>
          <a:stretch/>
        </p:blipFill>
        <p:spPr>
          <a:xfrm>
            <a:off x="977760" y="1798560"/>
            <a:ext cx="6197760" cy="4470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3 Marcador de contenido" descr="paisaje_urbano8.jpg"/>
          <p:cNvPicPr/>
          <p:nvPr/>
        </p:nvPicPr>
        <p:blipFill>
          <a:blip r:embed="rId2"/>
          <a:stretch/>
        </p:blipFill>
        <p:spPr>
          <a:xfrm>
            <a:off x="1128600" y="2255760"/>
            <a:ext cx="5896080" cy="3552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3 Marcador de contenido" descr="paisaje_urbano9.jpg"/>
          <p:cNvPicPr/>
          <p:nvPr/>
        </p:nvPicPr>
        <p:blipFill>
          <a:blip r:embed="rId2"/>
          <a:stretch/>
        </p:blipFill>
        <p:spPr>
          <a:xfrm>
            <a:off x="1098720" y="2046240"/>
            <a:ext cx="5956200" cy="3975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3:48:36Z</dcterms:created>
  <dc:creator>Javier</dc:creator>
  <dc:description/>
  <dc:language>en-US</dc:language>
  <cp:lastModifiedBy>Javier</cp:lastModifiedBy>
  <dcterms:modified xsi:type="dcterms:W3CDTF">2011-03-20T00:00:42Z</dcterms:modified>
  <cp:revision>2</cp:revision>
  <dc:subject/>
  <dc:title>Diapositiva 1</dc:title>
</cp:coreProperties>
</file>