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5402-1CA3-4B9D-881B-B9DAA6C0E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40C0-2E64-44B1-9792-E978BDD1A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4CC6-E5E7-4F81-9D88-3EE56E3B2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0F47-4F8B-45C3-A80C-17A6CEA1D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63DB-5BC8-4EED-830B-D97E795B6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58A6-CF15-4B98-AA33-5703268B9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00A1-A028-4BF6-91F5-12F921AD7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2188-5534-4F9A-9DC3-F7C0BA079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8977-E4D5-4546-8668-6E7004911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39BB-AE95-4C47-B964-F5296AD7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5C98-88BF-489E-9056-03992485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A702-0257-43B0-8CE8-78DF7692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24584-C7FD-44FA-914D-CE4A85965A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580000" y="47628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方正宋黑简体"/>
              </a:rPr>
              <a:t>1. Web of Sc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26920" y="3141720"/>
            <a:ext cx="1081080" cy="2887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2700000">
            <a:off x="1816560" y="4963320"/>
            <a:ext cx="649080" cy="206280"/>
          </a:xfrm>
          <a:prstGeom prst="leftArrow">
            <a:avLst>
              <a:gd name="adj1" fmla="val 50000"/>
              <a:gd name="adj2" fmla="val 78665"/>
            </a:avLst>
          </a:prstGeom>
          <a:solidFill>
            <a:srgbClr val="bbe0e3"/>
          </a:solidFill>
          <a:ln w="9360">
            <a:solidFill>
              <a:srgbClr val="6fb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403280" y="1052640"/>
            <a:ext cx="7740720" cy="5805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419640" y="2421000"/>
            <a:ext cx="215640" cy="21744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方正宋黑简体"/>
              </a:rPr>
              <a:t>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19640" y="3141720"/>
            <a:ext cx="215640" cy="21744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方正宋黑简体"/>
              </a:rPr>
              <a:t>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2360" y="4437000"/>
            <a:ext cx="216000" cy="21744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方正宋黑简体"/>
              </a:rPr>
              <a:t>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308720" y="5445000"/>
            <a:ext cx="1513080" cy="4334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1100160"/>
            <a:ext cx="7677000" cy="57578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843280" y="1989000"/>
            <a:ext cx="792000" cy="360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51280" y="3860640"/>
            <a:ext cx="3600360" cy="863640"/>
          </a:xfrm>
          <a:prstGeom prst="rect">
            <a:avLst/>
          </a:prstGeom>
          <a:solidFill>
            <a:srgbClr val="bbe0e3"/>
          </a:solidFill>
          <a:ln w="31680">
            <a:solidFill>
              <a:srgbClr val="6fb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方正宋黑简体"/>
              </a:rPr>
              <a:t>将显示的检索结果保存，然后使用合适的过滤器导入文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95640" y="1989000"/>
            <a:ext cx="792360" cy="360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067280" y="2565360"/>
            <a:ext cx="3313080" cy="720720"/>
          </a:xfrm>
          <a:prstGeom prst="wedgeRectCallout">
            <a:avLst>
              <a:gd name="adj1" fmla="val -30643"/>
              <a:gd name="adj2" fmla="val -892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方正宋黑简体"/>
              </a:rPr>
              <a:t>也可以选择查新格式，这是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方正宋黑简体"/>
              </a:rPr>
              <a:t>CNKI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方正宋黑简体"/>
              </a:rPr>
              <a:t>数据库内唯一有页码的显示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050920" y="2133720"/>
            <a:ext cx="792360" cy="360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467000" y="1100160"/>
            <a:ext cx="7677000" cy="57578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492360" y="2421000"/>
            <a:ext cx="503280" cy="28728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84720" y="2637000"/>
            <a:ext cx="2158920" cy="647640"/>
          </a:xfrm>
          <a:prstGeom prst="wedgeRectCallout">
            <a:avLst>
              <a:gd name="adj1" fmla="val -61763"/>
              <a:gd name="adj2" fmla="val -5612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方正宋黑简体"/>
              </a:rPr>
              <a:t>所带页码，同样可以编辑过滤器导入文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2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2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1100160"/>
            <a:ext cx="7677000" cy="5757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301760" y="976320"/>
            <a:ext cx="7842240" cy="58816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708360" y="4221000"/>
            <a:ext cx="1440000" cy="2876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588000" y="4797360"/>
            <a:ext cx="863640" cy="2872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236000" y="5300640"/>
            <a:ext cx="1728720" cy="657360"/>
          </a:xfrm>
          <a:prstGeom prst="wedgeRectCallout">
            <a:avLst>
              <a:gd name="adj1" fmla="val -60101"/>
              <a:gd name="adj2" fmla="val -867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方正宋黑简体"/>
              </a:rPr>
              <a:t>记录导入选择的文献库保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724360" y="33336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方正宋黑简体"/>
              </a:rPr>
              <a:t>2. Elsev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763640" y="2708280"/>
            <a:ext cx="1513080" cy="4334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300720" y="2924280"/>
            <a:ext cx="1008000" cy="4334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1310" b="3746"/>
          <a:stretch/>
        </p:blipFill>
        <p:spPr>
          <a:xfrm>
            <a:off x="0" y="1095480"/>
            <a:ext cx="9144000" cy="576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68360" y="4437000"/>
            <a:ext cx="216000" cy="21744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方正宋黑简体"/>
              </a:rPr>
              <a:t>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5084640"/>
            <a:ext cx="216000" cy="21744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方正宋黑简体"/>
              </a:rPr>
              <a:t>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734080"/>
            <a:ext cx="216000" cy="21744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方正宋黑简体"/>
              </a:rPr>
              <a:t>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8360" y="6308640"/>
            <a:ext cx="216000" cy="21744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方正宋黑简体"/>
              </a:rPr>
              <a:t>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4149720"/>
            <a:ext cx="1368720" cy="360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987640" y="2127240"/>
            <a:ext cx="6156360" cy="47307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995640" y="5373720"/>
            <a:ext cx="2737080" cy="21600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93080" y="5084640"/>
            <a:ext cx="1871640" cy="792360"/>
          </a:xfrm>
          <a:prstGeom prst="wedgeRectCallout">
            <a:avLst>
              <a:gd name="adj1" fmla="val -69509"/>
              <a:gd name="adj2" fmla="val 17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方正宋黑简体"/>
              </a:rPr>
              <a:t>选择导出的文献格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方正宋黑简体"/>
              </a:rPr>
              <a:t>(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  <a:ea typeface="方正宋黑简体"/>
              </a:rPr>
              <a:t>RIS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  <a:ea typeface="方正宋黑简体"/>
              </a:rPr>
              <a:t>格式可以直接导 到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  <a:ea typeface="方正宋黑简体"/>
              </a:rPr>
              <a:t>Endnote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方正宋黑简体"/>
              </a:rPr>
              <a:t>)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方正宋黑简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08360" y="5950080"/>
            <a:ext cx="863640" cy="2872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219640" y="5877000"/>
            <a:ext cx="1728720" cy="657000"/>
          </a:xfrm>
          <a:prstGeom prst="wedgeRectCallout">
            <a:avLst>
              <a:gd name="adj1" fmla="val -88750"/>
              <a:gd name="adj2" fmla="val -154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方正宋黑简体"/>
              </a:rPr>
              <a:t>记录导出到选择的文献库保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580000" y="40464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方正宋黑简体"/>
              </a:rPr>
              <a:t>3. Googlescho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1298520"/>
            <a:ext cx="7236000" cy="55594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148360" y="4005360"/>
            <a:ext cx="1368360" cy="2872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219640" y="4653000"/>
            <a:ext cx="1873440" cy="728640"/>
          </a:xfrm>
          <a:prstGeom prst="wedgeRectCallout">
            <a:avLst>
              <a:gd name="adj1" fmla="val -2796"/>
              <a:gd name="adj2" fmla="val -966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方正宋黑简体"/>
              </a:rPr>
              <a:t>先行设置，否则没有记录导出选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990800" y="1362240"/>
            <a:ext cx="7153200" cy="54957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364000" y="4221000"/>
            <a:ext cx="1079640" cy="432000"/>
          </a:xfrm>
          <a:prstGeom prst="wedgeRectCallout">
            <a:avLst>
              <a:gd name="adj1" fmla="val -108675"/>
              <a:gd name="adj2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方正宋黑简体"/>
              </a:rPr>
              <a:t>默认选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4500720" y="4941720"/>
            <a:ext cx="885600" cy="809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356000" y="5084640"/>
            <a:ext cx="863640" cy="2876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5229360"/>
            <a:ext cx="1368360" cy="4316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7451640" cy="57247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050920" y="3860640"/>
            <a:ext cx="1368720" cy="4320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59280" y="3789360"/>
            <a:ext cx="720720" cy="4316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990800" y="1362240"/>
            <a:ext cx="7153200" cy="54957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580000" y="5300640"/>
            <a:ext cx="863640" cy="21600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588000" y="4437000"/>
            <a:ext cx="1873440" cy="647640"/>
          </a:xfrm>
          <a:prstGeom prst="wedgeRectCallout">
            <a:avLst>
              <a:gd name="adj1" fmla="val -58050"/>
              <a:gd name="adj2" fmla="val 977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方正宋黑简体"/>
              </a:rPr>
              <a:t>出现导入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方正宋黑简体"/>
              </a:rPr>
              <a:t>Endnote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方正宋黑简体"/>
              </a:rPr>
              <a:t>的选项，选择导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990800" y="1362240"/>
            <a:ext cx="7153200" cy="54957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148360" y="3933720"/>
            <a:ext cx="1079280" cy="4320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443640" y="4869000"/>
            <a:ext cx="1728720" cy="657000"/>
          </a:xfrm>
          <a:prstGeom prst="wedgeRectCallout">
            <a:avLst>
              <a:gd name="adj1" fmla="val -71120"/>
              <a:gd name="adj2" fmla="val -1369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方正宋黑简体"/>
              </a:rPr>
              <a:t>记录导出到选择的文献库保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580000" y="40464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方正宋黑简体"/>
              </a:rPr>
              <a:t>4. World C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1084320"/>
            <a:ext cx="9144000" cy="57736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39640" y="4292640"/>
            <a:ext cx="1440000" cy="4316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24360" y="4292640"/>
            <a:ext cx="1152360" cy="4316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24000" y="1114560"/>
            <a:ext cx="8820000" cy="57434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771640" y="4724280"/>
            <a:ext cx="5185080" cy="86544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24000" y="1125360"/>
            <a:ext cx="8820000" cy="5750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340000" y="5300640"/>
            <a:ext cx="1295280" cy="2890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7006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492360" y="3933720"/>
            <a:ext cx="1079640" cy="4320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16360" y="4941720"/>
            <a:ext cx="1728720" cy="657360"/>
          </a:xfrm>
          <a:prstGeom prst="wedgeRectCallout">
            <a:avLst>
              <a:gd name="adj1" fmla="val -71120"/>
              <a:gd name="adj2" fmla="val -1369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方正宋黑简体"/>
              </a:rPr>
              <a:t>记录导出到选择的文献库保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80000" y="40464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宋黑简体"/>
              </a:rPr>
              <a:t>5. CNKI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宋黑简体"/>
              </a:rPr>
              <a:t>中文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0" r="0" b="4523"/>
          <a:stretch/>
        </p:blipFill>
        <p:spPr>
          <a:xfrm>
            <a:off x="0" y="1197000"/>
            <a:ext cx="7885080" cy="5653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203640" y="2852640"/>
            <a:ext cx="863640" cy="28908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64000" y="2852640"/>
            <a:ext cx="1079640" cy="360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467000" y="1100160"/>
            <a:ext cx="7677000" cy="57578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564000" y="3789360"/>
            <a:ext cx="287280" cy="259236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885080" y="3284640"/>
            <a:ext cx="719280" cy="360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0T03:56:31Z</dcterms:created>
  <dc:creator>MC SYSTEM</dc:creator>
  <dc:description/>
  <dc:language>en-US</dc:language>
  <cp:lastModifiedBy>MC SYSTEM</cp:lastModifiedBy>
  <dcterms:modified xsi:type="dcterms:W3CDTF">2010-07-20T03:56:58Z</dcterms:modified>
  <cp:revision>1</cp:revision>
  <dc:subject/>
  <dc:title>幻灯片 1</dc:title>
</cp:coreProperties>
</file>