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A70-8D50-46EA-884A-FCF2D865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E87-0568-4178-99B7-0BD18633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DF4-4473-4BB3-9E03-0613D431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A8C-7D66-427E-9653-0B64807E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5C6-94EF-402E-ACAE-14003AA2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C42-6F48-4E2F-9DB8-55940628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AD9-9994-4D73-8D12-6D63B690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DB5-C3EE-42F7-B541-D860122B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C23-DB7B-409E-AA5B-E5EF196A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0EF-2774-494C-9BE9-0E165B0D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C1B-60AA-486D-819D-8656E53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936-CF3F-465E-8C01-76A9923D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8C44-7E91-406E-8ECF-5BD7CDFD69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80000" y="476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1. Web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3141720"/>
            <a:ext cx="1081080" cy="288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700000">
            <a:off x="1816560" y="4963320"/>
            <a:ext cx="649080" cy="206280"/>
          </a:xfrm>
          <a:prstGeom prst="leftArrow">
            <a:avLst>
              <a:gd name="adj1" fmla="val 50000"/>
              <a:gd name="adj2" fmla="val 78665"/>
            </a:avLst>
          </a:prstGeom>
          <a:solidFill>
            <a:srgbClr val="bbe0e3"/>
          </a:solidFill>
          <a:ln w="9360">
            <a:solidFill>
              <a:srgbClr val="6fb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19640" y="2421000"/>
            <a:ext cx="21564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3141720"/>
            <a:ext cx="21564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43700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5445000"/>
            <a:ext cx="1513080" cy="433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100160"/>
            <a:ext cx="7677000" cy="5757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43280" y="1989000"/>
            <a:ext cx="792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860640"/>
            <a:ext cx="3600360" cy="863640"/>
          </a:xfrm>
          <a:prstGeom prst="rect">
            <a:avLst/>
          </a:prstGeom>
          <a:solidFill>
            <a:srgbClr val="bbe0e3"/>
          </a:solidFill>
          <a:ln w="31680">
            <a:solidFill>
              <a:srgbClr val="6fb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将显示的检索结果保存，然后使用合适的过滤器导入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1989000"/>
            <a:ext cx="79236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2565360"/>
            <a:ext cx="3313080" cy="720720"/>
          </a:xfrm>
          <a:prstGeom prst="wedgeRectCallout">
            <a:avLst>
              <a:gd name="adj1" fmla="val -30643"/>
              <a:gd name="adj2" fmla="val -8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也可以选择查新格式，这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CNKI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数据库内唯一有页码的显示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2133720"/>
            <a:ext cx="79236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67000" y="1100160"/>
            <a:ext cx="7677000" cy="5757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92360" y="2421000"/>
            <a:ext cx="503280" cy="287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637000"/>
            <a:ext cx="2158920" cy="647640"/>
          </a:xfrm>
          <a:prstGeom prst="wedgeRectCallout">
            <a:avLst>
              <a:gd name="adj1" fmla="val -61763"/>
              <a:gd name="adj2" fmla="val -56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所带页码，同样可以编辑过滤器导入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00160"/>
            <a:ext cx="7677000" cy="575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01760" y="976320"/>
            <a:ext cx="7842240" cy="5881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360" y="4221000"/>
            <a:ext cx="1440000" cy="28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797360"/>
            <a:ext cx="86364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6000" y="5300640"/>
            <a:ext cx="1728720" cy="657360"/>
          </a:xfrm>
          <a:prstGeom prst="wedgeRectCallout">
            <a:avLst>
              <a:gd name="adj1" fmla="val -60101"/>
              <a:gd name="adj2" fmla="val -86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入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24360" y="333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2. Elsev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63640" y="2708280"/>
            <a:ext cx="1513080" cy="433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2924280"/>
            <a:ext cx="1008000" cy="433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310" b="3746"/>
          <a:stretch/>
        </p:blipFill>
        <p:spPr>
          <a:xfrm>
            <a:off x="0" y="109548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443700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508464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73408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6308640"/>
            <a:ext cx="216000" cy="217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149720"/>
            <a:ext cx="1368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87640" y="2127240"/>
            <a:ext cx="6156360" cy="473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95640" y="5373720"/>
            <a:ext cx="2737080" cy="2160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5084640"/>
            <a:ext cx="1871640" cy="792360"/>
          </a:xfrm>
          <a:prstGeom prst="wedgeRectCallout">
            <a:avLst>
              <a:gd name="adj1" fmla="val -69509"/>
              <a:gd name="adj2" fmla="val 1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宋黑简体"/>
              </a:rPr>
              <a:t>选择导出的文献格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宋黑简体"/>
              </a:rPr>
              <a:t>(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方正宋黑简体"/>
              </a:rPr>
              <a:t>RIS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方正宋黑简体"/>
              </a:rPr>
              <a:t>格式可以直接导 到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方正宋黑简体"/>
              </a:rPr>
              <a:t>Endnot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方正宋黑简体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5950080"/>
            <a:ext cx="86364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5877000"/>
            <a:ext cx="1728720" cy="657000"/>
          </a:xfrm>
          <a:prstGeom prst="wedgeRectCallout">
            <a:avLst>
              <a:gd name="adj1" fmla="val -88750"/>
              <a:gd name="adj2" fmla="val -15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出到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80000" y="40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3. Googlesch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98520"/>
            <a:ext cx="7236000" cy="5559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48360" y="4005360"/>
            <a:ext cx="1368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4653000"/>
            <a:ext cx="1873440" cy="728640"/>
          </a:xfrm>
          <a:prstGeom prst="wedgeRectCallout">
            <a:avLst>
              <a:gd name="adj1" fmla="val -2796"/>
              <a:gd name="adj2" fmla="val -96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先行设置，否则没有记录导出选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90800" y="1362240"/>
            <a:ext cx="7153200" cy="549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64000" y="4221000"/>
            <a:ext cx="1079640" cy="432000"/>
          </a:xfrm>
          <a:prstGeom prst="wedgeRectCallout">
            <a:avLst>
              <a:gd name="adj1" fmla="val -108675"/>
              <a:gd name="adj2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默认选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00720" y="494172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356000" y="5084640"/>
            <a:ext cx="863640" cy="28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5229360"/>
            <a:ext cx="136836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7451640" cy="572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0920" y="3860640"/>
            <a:ext cx="136872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3789360"/>
            <a:ext cx="72072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90800" y="1362240"/>
            <a:ext cx="7153200" cy="5495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80000" y="5300640"/>
            <a:ext cx="863640" cy="2160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437000"/>
            <a:ext cx="1873440" cy="647640"/>
          </a:xfrm>
          <a:prstGeom prst="wedgeRectCallout">
            <a:avLst>
              <a:gd name="adj1" fmla="val -58050"/>
              <a:gd name="adj2" fmla="val 9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出现导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Endnot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的选项，选择导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990800" y="1362240"/>
            <a:ext cx="7153200" cy="549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48360" y="3933720"/>
            <a:ext cx="107928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4869000"/>
            <a:ext cx="1728720" cy="657000"/>
          </a:xfrm>
          <a:prstGeom prst="wedgeRectCallout">
            <a:avLst>
              <a:gd name="adj1" fmla="val -71120"/>
              <a:gd name="adj2" fmla="val -136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出到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80000" y="40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4. World 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84320"/>
            <a:ext cx="9144000" cy="577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4292640"/>
            <a:ext cx="144000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4292640"/>
            <a:ext cx="115236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1114560"/>
            <a:ext cx="8820000" cy="5743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71640" y="4724280"/>
            <a:ext cx="5185080" cy="865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820000" cy="5750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40000" y="5300640"/>
            <a:ext cx="1295280" cy="2890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700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92360" y="3933720"/>
            <a:ext cx="107964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4941720"/>
            <a:ext cx="1728720" cy="657360"/>
          </a:xfrm>
          <a:prstGeom prst="wedgeRectCallout">
            <a:avLst>
              <a:gd name="adj1" fmla="val -71120"/>
              <a:gd name="adj2" fmla="val -136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方正宋黑简体"/>
              </a:rPr>
              <a:t>记录导出到选择的文献库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40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5. CNKI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宋黑简体"/>
              </a:rPr>
              <a:t>中文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4523"/>
          <a:stretch/>
        </p:blipFill>
        <p:spPr>
          <a:xfrm>
            <a:off x="0" y="1197000"/>
            <a:ext cx="7885080" cy="5653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3640" y="2852640"/>
            <a:ext cx="863640" cy="2890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2852640"/>
            <a:ext cx="107964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67000" y="1100160"/>
            <a:ext cx="7677000" cy="5757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64000" y="3789360"/>
            <a:ext cx="287280" cy="25923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85080" y="3284640"/>
            <a:ext cx="71928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3:56:31Z</dcterms:created>
  <dc:creator>MC SYSTEM</dc:creator>
  <dc:description/>
  <dc:language>en-US</dc:language>
  <cp:lastModifiedBy>MC SYSTEM</cp:lastModifiedBy>
  <dcterms:modified xsi:type="dcterms:W3CDTF">2010-07-20T03:56:58Z</dcterms:modified>
  <cp:revision>1</cp:revision>
  <dc:subject/>
  <dc:title>幻灯片 1</dc:title>
</cp:coreProperties>
</file>