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0B2-2EC7-4E70-8F99-E0CEDE2B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01E-6F3F-485E-A108-1A62393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0A4-B375-4A77-86B9-09DDBEC1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AC1-C73A-4706-B20D-8CCDFA09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E74-DF3D-4A31-A107-8DA644E8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61F-2BEF-4A44-878B-C572FF94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73D-811B-459C-BCAD-0372832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B59-DDBC-42E0-95FC-B554662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2CA-CE6E-45A8-A794-72BA993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574-99DF-445D-8006-AC1A3BA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ED5-F0DF-4D1E-AC2C-25AC237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840-27C2-45A5-BBAE-C8EE25B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49F-E94E-4FE3-BD60-1F42945FF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0000" y="476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1. Web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3141720"/>
            <a:ext cx="1081080" cy="288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700000">
            <a:off x="1816560" y="4963320"/>
            <a:ext cx="649080" cy="206280"/>
          </a:xfrm>
          <a:prstGeom prst="leftArrow">
            <a:avLst>
              <a:gd name="adj1" fmla="val 50000"/>
              <a:gd name="adj2" fmla="val 78665"/>
            </a:avLst>
          </a:prstGeom>
          <a:solidFill>
            <a:srgbClr val="bbe0e3"/>
          </a:solidFill>
          <a:ln w="936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19640" y="242100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314172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544500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3280" y="1989000"/>
            <a:ext cx="792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860640"/>
            <a:ext cx="3600360" cy="863640"/>
          </a:xfrm>
          <a:prstGeom prst="rect">
            <a:avLst/>
          </a:prstGeom>
          <a:solidFill>
            <a:srgbClr val="bbe0e3"/>
          </a:solidFill>
          <a:ln w="3168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将显示的检索结果保存，然后使用合适的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198900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565360"/>
            <a:ext cx="3313080" cy="720720"/>
          </a:xfrm>
          <a:prstGeom prst="wedgeRectCallout">
            <a:avLst>
              <a:gd name="adj1" fmla="val -30643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也可以选择查新格式，这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CNK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数据库内唯一有页码的显示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213372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360" y="2421000"/>
            <a:ext cx="503280" cy="287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637000"/>
            <a:ext cx="2158920" cy="647640"/>
          </a:xfrm>
          <a:prstGeom prst="wedgeRectCallout">
            <a:avLst>
              <a:gd name="adj1" fmla="val -61763"/>
              <a:gd name="adj2" fmla="val -56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所带页码，同样可以编辑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01760" y="976320"/>
            <a:ext cx="7842240" cy="588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360" y="4221000"/>
            <a:ext cx="144000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79736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5300640"/>
            <a:ext cx="1728720" cy="657360"/>
          </a:xfrm>
          <a:prstGeom prst="wedgeRectCallout">
            <a:avLst>
              <a:gd name="adj1" fmla="val -60101"/>
              <a:gd name="adj2" fmla="val -86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入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24360" y="33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2. Else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3640" y="270828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2924280"/>
            <a:ext cx="100800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0" b="3746"/>
          <a:stretch/>
        </p:blipFill>
        <p:spPr>
          <a:xfrm>
            <a:off x="0" y="109548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084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73408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308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149720"/>
            <a:ext cx="1368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87640" y="2127240"/>
            <a:ext cx="6156360" cy="473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5373720"/>
            <a:ext cx="273708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5084640"/>
            <a:ext cx="1871640" cy="792360"/>
          </a:xfrm>
          <a:prstGeom prst="wedgeRectCallout">
            <a:avLst>
              <a:gd name="adj1" fmla="val -69509"/>
              <a:gd name="adj2" fmla="val 1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选择导出的文献格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(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RIS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格式可以直接导 到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Endnot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595008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877000"/>
            <a:ext cx="1728720" cy="657000"/>
          </a:xfrm>
          <a:prstGeom prst="wedgeRectCallout">
            <a:avLst>
              <a:gd name="adj1" fmla="val -88750"/>
              <a:gd name="adj2" fmla="val -15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3. Googlesch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8520"/>
            <a:ext cx="7236000" cy="555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48360" y="4005360"/>
            <a:ext cx="1368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4653000"/>
            <a:ext cx="1873440" cy="728640"/>
          </a:xfrm>
          <a:prstGeom prst="wedgeRectCallout">
            <a:avLst>
              <a:gd name="adj1" fmla="val -2796"/>
              <a:gd name="adj2" fmla="val -96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先行设置，否则没有记录导出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64000" y="4221000"/>
            <a:ext cx="1079640" cy="432000"/>
          </a:xfrm>
          <a:prstGeom prst="wedgeRectCallout">
            <a:avLst>
              <a:gd name="adj1" fmla="val -108675"/>
              <a:gd name="adj2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默认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00720" y="494172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56000" y="5084640"/>
            <a:ext cx="86364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5229360"/>
            <a:ext cx="1368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451640" cy="572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3860640"/>
            <a:ext cx="136872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789360"/>
            <a:ext cx="72072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80000" y="5300640"/>
            <a:ext cx="86364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437000"/>
            <a:ext cx="1873440" cy="647640"/>
          </a:xfrm>
          <a:prstGeom prst="wedgeRectCallout">
            <a:avLst>
              <a:gd name="adj1" fmla="val -58050"/>
              <a:gd name="adj2" fmla="val 9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出现导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Endnot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的选项，选择导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48360" y="3933720"/>
            <a:ext cx="107928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869000"/>
            <a:ext cx="1728720" cy="65700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4. World 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577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4292640"/>
            <a:ext cx="144000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292640"/>
            <a:ext cx="1152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114560"/>
            <a:ext cx="8820000" cy="57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71640" y="4724280"/>
            <a:ext cx="5185080" cy="865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820000" cy="5750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5300640"/>
            <a:ext cx="1295280" cy="289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70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3933720"/>
            <a:ext cx="1079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941720"/>
            <a:ext cx="1728720" cy="65736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5. CNK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中文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4523"/>
          <a:stretch/>
        </p:blipFill>
        <p:spPr>
          <a:xfrm>
            <a:off x="0" y="1197000"/>
            <a:ext cx="7885080" cy="565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3640" y="2852640"/>
            <a:ext cx="863640" cy="289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2852640"/>
            <a:ext cx="107964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64000" y="3789360"/>
            <a:ext cx="287280" cy="2592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3284640"/>
            <a:ext cx="71928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3:56:31Z</dcterms:created>
  <dc:creator>MC SYSTEM</dc:creator>
  <dc:description/>
  <dc:language>en-US</dc:language>
  <cp:lastModifiedBy>MC SYSTEM</cp:lastModifiedBy>
  <dcterms:modified xsi:type="dcterms:W3CDTF">2010-07-20T03:56:58Z</dcterms:modified>
  <cp:revision>1</cp:revision>
  <dc:subject/>
  <dc:title>幻灯片 1</dc:title>
</cp:coreProperties>
</file>