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71A0-91B9-4FB2-B6B7-0270327155D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lar pre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结果显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结果显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Google scholar Nature Blackwell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比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近期文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近期文章结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简单检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简单检索结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高级检索页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38880"/>
            <a:ext cx="9144000" cy="52056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第三届上海国际图书馆论坛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2006SI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" Target="slide20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oogle Scholar: Introduction and Evaluatio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22856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an Q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Subject Librarian, Capital Normal University Library, Beijing, Chi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ichael Bailou Hu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Associate Librarian, Health Sciences Center Library, Stony Brook University, U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6320" y="198108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320" y="243828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200400"/>
            <a:ext cx="99072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52480" y="330660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Times New Roman"/>
              </a:rPr>
              <a:t>National Library of China  </a:t>
            </a:r>
            <a:r>
              <a:rPr b="0" lang="zh-CN" sz="1200" spc="-1" strike="noStrike">
                <a:solidFill>
                  <a:srgbClr val="ff0000"/>
                </a:solidFill>
                <a:latin typeface="Times New Roman"/>
              </a:rPr>
              <a:t>或 </a:t>
            </a:r>
            <a:r>
              <a:rPr b="0" lang="zh-CN" sz="1200" spc="-1" strike="noStrike">
                <a:solidFill>
                  <a:srgbClr val="ff0000"/>
                </a:solidFill>
                <a:latin typeface="Times New Roman"/>
              </a:rPr>
              <a:t>N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330660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Chi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2" action="ppaction://hlinksldjump"/>
          </p:cNvPr>
          <p:cNvSpPr/>
          <p:nvPr/>
        </p:nvSpPr>
        <p:spPr>
          <a:xfrm>
            <a:off x="4267080" y="3276720"/>
            <a:ext cx="106704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3" action="ppaction://hlinksldjump"/>
          </p:cNvPr>
          <p:cNvSpPr/>
          <p:nvPr/>
        </p:nvSpPr>
        <p:spPr>
          <a:xfrm>
            <a:off x="7391520" y="838080"/>
            <a:ext cx="1752480" cy="3812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90360"/>
            <a:ext cx="5562720" cy="52056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lar P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67480" y="5562720"/>
            <a:ext cx="489240" cy="458640"/>
          </a:xfrm>
          <a:custGeom>
            <a:avLst/>
            <a:gdLst>
              <a:gd name="textAreaLeft" fmla="*/ 29520 w 489240"/>
              <a:gd name="textAreaRight" fmla="*/ 459720 w 489240"/>
              <a:gd name="textAreaTop" fmla="*/ 29520 h 458640"/>
              <a:gd name="textAreaBottom" fmla="*/ 429120 h 458640"/>
            </a:gdLst>
            <a:ahLst/>
            <a:rect l="textAreaLeft" t="textAreaTop" r="textAreaRight" b="textAreaBottom"/>
            <a:pathLst>
              <a:path w="23040" h="21600">
                <a:moveTo>
                  <a:pt x="0" y="0"/>
                </a:moveTo>
                <a:lnTo>
                  <a:pt x="23040" y="0"/>
                </a:lnTo>
                <a:lnTo>
                  <a:pt x="23040" y="21600"/>
                </a:lnTo>
                <a:lnTo>
                  <a:pt x="0" y="21600"/>
                </a:lnTo>
                <a:close/>
              </a:path>
              <a:path fill="lightenLess" w="23040" h="21600">
                <a:moveTo>
                  <a:pt x="0" y="0"/>
                </a:moveTo>
                <a:lnTo>
                  <a:pt x="23040" y="0"/>
                </a:lnTo>
                <a:lnTo>
                  <a:pt x="21640" y="1400"/>
                </a:lnTo>
                <a:lnTo>
                  <a:pt x="1400" y="1400"/>
                </a:lnTo>
                <a:close/>
              </a:path>
              <a:path fill="darken" w="23040" h="21600">
                <a:moveTo>
                  <a:pt x="23040" y="0"/>
                </a:moveTo>
                <a:lnTo>
                  <a:pt x="23040" y="21600"/>
                </a:lnTo>
                <a:lnTo>
                  <a:pt x="21640" y="20200"/>
                </a:lnTo>
                <a:lnTo>
                  <a:pt x="21640" y="1400"/>
                </a:lnTo>
                <a:close/>
              </a:path>
              <a:path fill="darkenLess" w="23040" h="21600">
                <a:moveTo>
                  <a:pt x="230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0" y="20200"/>
                </a:lnTo>
                <a:close/>
              </a:path>
              <a:path fill="lighten" w="230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0" h="21600">
                <a:moveTo>
                  <a:pt x="8021" y="10800"/>
                </a:moveTo>
                <a:lnTo>
                  <a:pt x="18526" y="3794"/>
                </a:lnTo>
                <a:lnTo>
                  <a:pt x="18526" y="17806"/>
                </a:lnTo>
                <a:close/>
              </a:path>
              <a:path fill="darken" w="23040" h="21600">
                <a:moveTo>
                  <a:pt x="4514" y="3794"/>
                </a:moveTo>
                <a:lnTo>
                  <a:pt x="6176" y="3794"/>
                </a:lnTo>
                <a:lnTo>
                  <a:pt x="6176" y="17806"/>
                </a:lnTo>
                <a:lnTo>
                  <a:pt x="451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1447920" y="2971800"/>
            <a:ext cx="495288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previousslide"/>
          </p:cNvPr>
          <p:cNvSpPr/>
          <p:nvPr/>
        </p:nvSpPr>
        <p:spPr>
          <a:xfrm>
            <a:off x="75438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结果显示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(Search Result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三类记录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three record typ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互联网文献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eb document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rticle c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ook citatio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3352680"/>
            <a:ext cx="304920" cy="1371600"/>
          </a:xfrm>
          <a:custGeom>
            <a:avLst/>
            <a:gdLst>
              <a:gd name="textAreaLeft" fmla="*/ 194760 w 304920"/>
              <a:gd name="textAreaRight" fmla="*/ 305280 w 3049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19640" y="495288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33ff"/>
                </a:solidFill>
                <a:latin typeface="Times New Roman"/>
              </a:rPr>
              <a:t>举例说明</a:t>
            </a:r>
            <a:r>
              <a:rPr b="0" lang="zh-CN" sz="2800" spc="-1" strike="noStrike">
                <a:solidFill>
                  <a:srgbClr val="9933ff"/>
                </a:solidFill>
                <a:latin typeface="Times New Roman"/>
              </a:rPr>
              <a:t>(for examp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781680" y="1905120"/>
            <a:ext cx="609840" cy="1600200"/>
          </a:xfrm>
          <a:custGeom>
            <a:avLst/>
            <a:gdLst>
              <a:gd name="textAreaLeft" fmla="*/ 0 w 609840"/>
              <a:gd name="textAreaRight" fmla="*/ 220320 w 6098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74560" y="1612800"/>
            <a:ext cx="472320" cy="507600"/>
          </a:xfrm>
          <a:custGeom>
            <a:avLst/>
            <a:gdLst>
              <a:gd name="textAreaLeft" fmla="*/ 107640 w 472320"/>
              <a:gd name="textAreaRight" fmla="*/ 364680 w 472320"/>
              <a:gd name="textAreaTop" fmla="*/ 115920 h 507600"/>
              <a:gd name="textAreaBottom" fmla="*/ 391680 h 507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33280" y="2345400"/>
            <a:ext cx="472320" cy="508320"/>
          </a:xfrm>
          <a:custGeom>
            <a:avLst/>
            <a:gdLst>
              <a:gd name="textAreaLeft" fmla="*/ 107640 w 472320"/>
              <a:gd name="textAreaRight" fmla="*/ 364680 w 472320"/>
              <a:gd name="textAreaTop" fmla="*/ 115920 h 508320"/>
              <a:gd name="textAreaBottom" fmla="*/ 392400 h 508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09200" y="3031200"/>
            <a:ext cx="472320" cy="508320"/>
          </a:xfrm>
          <a:custGeom>
            <a:avLst/>
            <a:gdLst>
              <a:gd name="textAreaLeft" fmla="*/ 107640 w 472320"/>
              <a:gd name="textAreaRight" fmla="*/ 364680 w 472320"/>
              <a:gd name="textAreaTop" fmla="*/ 115920 h 508320"/>
              <a:gd name="textAreaBottom" fmla="*/ 392400 h 508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76360" y="0"/>
            <a:ext cx="719280" cy="333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76320" y="1447920"/>
            <a:ext cx="1752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320" y="1143000"/>
            <a:ext cx="533376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1295280"/>
            <a:ext cx="1447560" cy="152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320" y="1447920"/>
            <a:ext cx="495288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3505320"/>
            <a:ext cx="91440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791320" y="1639800"/>
            <a:ext cx="2895480" cy="3578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334120" y="3657600"/>
            <a:ext cx="457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320" y="41911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41911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38280" y="4191120"/>
            <a:ext cx="1371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3880" y="297180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77080" y="5516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17" dur="1" fill="hold"/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正面评价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(Pro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用户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for us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对于无法获取收费的专业索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文摘数据库的用户有重要意义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(an important service for those who do not have access to the most appropriate fee-based indexing/abstracting databases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等价于几个价格昂贵的传统在线索引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文摘数据库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(equivalent to several traditional online indexing/abstracting databases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图书馆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for librar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存在的问题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(Con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Google Scholar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击中的记录远少于出版商自带搜索引擎得到的结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oogle Schola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vs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he publishers’ search engine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举例说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for examp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Google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公司从未透露过其数据库内容更新的时间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oogle has not disclosed how often it is updated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两项研究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(two researches)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5334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133720" y="2133720"/>
            <a:ext cx="7010280" cy="47624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6321600"/>
            <a:ext cx="2152800" cy="536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1371600"/>
            <a:ext cx="9144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2666880"/>
            <a:ext cx="358128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2362320"/>
            <a:ext cx="1371600" cy="30456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1219320"/>
            <a:ext cx="685800" cy="30456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7696080" y="59436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两项研究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(two research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leklinski, J. M. (2005). Studying Google Scholar: Wall to wall coverage? 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Online (Weston, Conn.), 2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 22-6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Jacso, P. (2005). Google Scholar: The pros and the cons. 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Online Information Review, 29(2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 208-1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存在的问题（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the cons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在内容方面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Google Scholar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有时会收录一些非学术性的资料；同时也会收录一些不准确的资料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Sometimes, Google Scholar crawler returns material unlikely for a scholarly databas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library handbooks, course syllabi, and undergraduate term papers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大纲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(Outlin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概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introduc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内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scope and coverage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检索方法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retrieval method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结果显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search result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评价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evaluation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总结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conclus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存在的问题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(Cons 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在检索结果排列方面，由于根据引文被引用情况排列，因此那些排在前面的论文往往是年份较早的，同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Google Scholar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又没有提供按日期排列的服务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改进：“近期文章”按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排序方式无法自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315200" y="56386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8153280" y="609480"/>
            <a:ext cx="83844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181480" y="914400"/>
            <a:ext cx="3962520" cy="4572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114800" y="685800"/>
            <a:ext cx="822240" cy="386388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rId3" action="ppaction://hlinksldjump"/>
          </p:cNvPr>
          <p:cNvSpPr/>
          <p:nvPr/>
        </p:nvSpPr>
        <p:spPr>
          <a:xfrm>
            <a:off x="7848720" y="594360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10800"/>
                </a:moveTo>
                <a:lnTo>
                  <a:pt x="22120" y="3794"/>
                </a:lnTo>
                <a:lnTo>
                  <a:pt x="22120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总结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(Conclusion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Google Scholar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的面世，为科研用户提供了一个强有力的学术搜索工具，它可以帮助用户第一手的全面了解某一领域的学术文献，可以帮助用户屏蔽掉网上许多无关信息，可以帮助用户找到信息的来源，可以帮助用户发现其还不了解的内容。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(It helps us find out what we don’t know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ookman Old Style"/>
              </a:rPr>
              <a:t>THE E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Jokerman"/>
              </a:rPr>
              <a:t>THANK YO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Jokerman"/>
              </a:rPr>
              <a:t>FOR YOUR ATTEN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sente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n Q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_mail:libxkgy2@mail.cnu.edu.c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概述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(Introduc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登陆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launched 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00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月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网址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ttp://scholar.google.co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理念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faith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tand on the shoulder of gia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内容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(Scope and Coverage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Google Schola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收录来自学术出版商、专业协会、预印本库和大学等方面的学术信息资源，内容覆盖同行评论的文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peer-reviewed papers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论文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theses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图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books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预印本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preprint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摘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abstracts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技术报告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technical reports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等学术文献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内容（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Three Sources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覆盖学术和技术领域的专业数据库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proprietary databases covering a range of scholarly and technical disciplin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学术性和技术性出版商的网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Web sites of scholarly and technical publish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研究机构（通常是大学）的局域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intranets of research institutions&lt;usually universities&gt;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检索方法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(Retrieval Methods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简单检索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Basic Searc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高级检索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dvanced Scholar Search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参数设置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cholar Preferences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2971800" y="2895480"/>
            <a:ext cx="2666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90360"/>
            <a:ext cx="5562720" cy="52056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简单检索界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3733920"/>
            <a:ext cx="2971800" cy="190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54" y="1295"/>
                </a:moveTo>
                <a:lnTo>
                  <a:pt x="-716" y="1295"/>
                </a:lnTo>
                <a:lnTo>
                  <a:pt x="-716" y="-5167"/>
                </a:lnTo>
                <a:lnTo>
                  <a:pt x="15115" y="-11665"/>
                </a:ln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运算符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、  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site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、“ ”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Filetype : pdf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259092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Memory – intitle: “visual  memory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756560" y="1905120"/>
            <a:ext cx="914400" cy="761760"/>
          </a:xfrm>
          <a:prstGeom prst="borderCallout1">
            <a:avLst>
              <a:gd name="adj1" fmla="val 18750"/>
              <a:gd name="adj2" fmla="val -8333"/>
              <a:gd name="adj3" fmla="val 85208"/>
              <a:gd name="adj4" fmla="val -88194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高级检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91520" y="3581280"/>
            <a:ext cx="914400" cy="83844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-25000"/>
              <a:gd name="adj5" fmla="val -88824"/>
              <a:gd name="adj6" fmla="val -42189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参数设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" action="ppaction://hlinksldjump"/>
          </p:cNvPr>
          <p:cNvSpPr/>
          <p:nvPr/>
        </p:nvSpPr>
        <p:spPr>
          <a:xfrm>
            <a:off x="5562720" y="2438280"/>
            <a:ext cx="53316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600200" y="90360"/>
            <a:ext cx="5562720" cy="52056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简单检索结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1066680"/>
            <a:ext cx="2210040" cy="457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596360" y="544500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10800"/>
                </a:moveTo>
                <a:lnTo>
                  <a:pt x="19941" y="3794"/>
                </a:lnTo>
                <a:lnTo>
                  <a:pt x="19941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600200" y="90360"/>
            <a:ext cx="5562720" cy="52056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高级检索界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547560"/>
            <a:ext cx="9144000" cy="6310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619280" y="3129120"/>
            <a:ext cx="2419200" cy="376200"/>
          </a:xfrm>
          <a:prstGeom prst="borderCallout1">
            <a:avLst>
              <a:gd name="adj1" fmla="val -10191"/>
              <a:gd name="adj2" fmla="val -4375"/>
              <a:gd name="adj3" fmla="val 20580"/>
              <a:gd name="adj4" fmla="val -4375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按照作者检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24200" y="3586320"/>
            <a:ext cx="2419200" cy="376200"/>
          </a:xfrm>
          <a:prstGeom prst="borderCallout1">
            <a:avLst>
              <a:gd name="adj1" fmla="val -10191"/>
              <a:gd name="adj2" fmla="val -4375"/>
              <a:gd name="adj3" fmla="val 20580"/>
              <a:gd name="adj4" fmla="val -4375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按照出版物检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967200"/>
            <a:ext cx="3657600" cy="376200"/>
          </a:xfrm>
          <a:prstGeom prst="borderCallout1">
            <a:avLst>
              <a:gd name="adj1" fmla="val -6741"/>
              <a:gd name="adj2" fmla="val -4375"/>
              <a:gd name="adj3" fmla="val 20925"/>
              <a:gd name="adj4" fmla="val -4375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按照出版日期范围检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81080" y="4495680"/>
            <a:ext cx="3048120" cy="376200"/>
          </a:xfrm>
          <a:prstGeom prst="borderCallout1">
            <a:avLst>
              <a:gd name="adj1" fmla="val -8089"/>
              <a:gd name="adj2" fmla="val -4375"/>
              <a:gd name="adj3" fmla="val 20790"/>
              <a:gd name="adj4" fmla="val -4375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限制主题范围检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81080" y="1752480"/>
            <a:ext cx="5029200" cy="376200"/>
          </a:xfrm>
          <a:prstGeom prst="borderCallout1">
            <a:avLst>
              <a:gd name="adj1" fmla="val -4902"/>
              <a:gd name="adj2" fmla="val -4375"/>
              <a:gd name="adj3" fmla="val 21109"/>
              <a:gd name="adj4" fmla="val -4375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检索词限于文章标题的检索或者全文检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1447920"/>
            <a:ext cx="1752480" cy="1371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91120" y="1447920"/>
            <a:ext cx="1447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Visual 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07280" y="2438280"/>
            <a:ext cx="914400" cy="2286000"/>
          </a:xfrm>
          <a:prstGeom prst="borderCallout1">
            <a:avLst>
              <a:gd name="adj1" fmla="val -1800"/>
              <a:gd name="adj2" fmla="val -6255"/>
              <a:gd name="adj3" fmla="val -1800"/>
              <a:gd name="adj4" fmla="val 2052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选择结果页面显示搜索结果条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719760" y="1706400"/>
            <a:ext cx="831960" cy="960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067280" y="2708280"/>
            <a:ext cx="1444680" cy="3715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020000" y="573408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10800"/>
                </a:moveTo>
                <a:lnTo>
                  <a:pt x="19992" y="3794"/>
                </a:lnTo>
                <a:lnTo>
                  <a:pt x="19992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1T01:38:10Z</dcterms:created>
  <dc:creator>qn</dc:creator>
  <dc:description/>
  <dc:language>en-US</dc:language>
  <cp:lastModifiedBy>User</cp:lastModifiedBy>
  <dcterms:modified xsi:type="dcterms:W3CDTF">2007-03-14T13:19:39Z</dcterms:modified>
  <cp:revision>50</cp:revision>
  <dc:subject/>
  <dc:title>Google Scholar介绍及评价 </dc:title>
</cp:coreProperties>
</file>