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4B05-6B99-449B-ABA2-EA69BF111B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lar p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oogle scholar Nature Blackwel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近期文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近期文章结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简单检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简单检索结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高级检索页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第三届上海国际图书馆论坛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006SI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gle Scholar: Introduction and Evalu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an Q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Subject Librarian, Capital Normal University Library, Beijing, Ch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ichael Bailou Hu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Associate Librarian, Health Sciences Center Library, Stony Brook University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19810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2438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0400"/>
            <a:ext cx="9907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3306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National Library of China  </a:t>
            </a: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或 </a:t>
            </a: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N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3306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Chi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4267080" y="3276720"/>
            <a:ext cx="10670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7391520" y="838080"/>
            <a:ext cx="17524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lar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5562720"/>
            <a:ext cx="489240" cy="458640"/>
          </a:xfrm>
          <a:custGeom>
            <a:avLst/>
            <a:gdLst>
              <a:gd name="textAreaLeft" fmla="*/ 29520 w 489240"/>
              <a:gd name="textAreaRight" fmla="*/ 459720 w 4892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8021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6176" y="3794"/>
                </a:lnTo>
                <a:lnTo>
                  <a:pt x="6176" y="17806"/>
                </a:lnTo>
                <a:lnTo>
                  <a:pt x="451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447920" y="2971800"/>
            <a:ext cx="49528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75438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Search Resul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类记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three record 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互联网文献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b document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ticle 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ok cit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3526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9528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举例说明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(for examp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81680" y="1905120"/>
            <a:ext cx="609840" cy="1600200"/>
          </a:xfrm>
          <a:custGeom>
            <a:avLst/>
            <a:gdLst>
              <a:gd name="textAreaLeft" fmla="*/ 0 w 609840"/>
              <a:gd name="textAreaRight" fmla="*/ 220320 w 609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74560" y="1612800"/>
            <a:ext cx="472320" cy="507600"/>
          </a:xfrm>
          <a:custGeom>
            <a:avLst/>
            <a:gdLst>
              <a:gd name="textAreaLeft" fmla="*/ 107640 w 472320"/>
              <a:gd name="textAreaRight" fmla="*/ 364680 w 472320"/>
              <a:gd name="textAreaTop" fmla="*/ 115920 h 507600"/>
              <a:gd name="textAreaBottom" fmla="*/ 391680 h 50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3280" y="2345400"/>
            <a:ext cx="472320" cy="508320"/>
          </a:xfrm>
          <a:custGeom>
            <a:avLst/>
            <a:gdLst>
              <a:gd name="textAreaLeft" fmla="*/ 107640 w 472320"/>
              <a:gd name="textAreaRight" fmla="*/ 364680 w 472320"/>
              <a:gd name="textAreaTop" fmla="*/ 115920 h 508320"/>
              <a:gd name="textAreaBottom" fmla="*/ 392400 h 50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9200" y="3031200"/>
            <a:ext cx="472320" cy="508320"/>
          </a:xfrm>
          <a:custGeom>
            <a:avLst/>
            <a:gdLst>
              <a:gd name="textAreaLeft" fmla="*/ 107640 w 472320"/>
              <a:gd name="textAreaRight" fmla="*/ 364680 w 472320"/>
              <a:gd name="textAreaTop" fmla="*/ 115920 h 508320"/>
              <a:gd name="textAreaBottom" fmla="*/ 392400 h 50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0"/>
            <a:ext cx="7192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76320" y="14479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1143000"/>
            <a:ext cx="53337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295280"/>
            <a:ext cx="144756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1447920"/>
            <a:ext cx="4952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505320"/>
            <a:ext cx="9144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91320" y="1639800"/>
            <a:ext cx="2895480" cy="3578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4120" y="365760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191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191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1911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9718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77080" y="5516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正面评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Pr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用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or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对于无法获取收费的专业索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文摘数据库的用户有重要意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an important service for those who do not have access to the most appropriate fee-based indexing/abstracting databas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价于几个价格昂贵的传统在线索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文摘数据库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equivalent to several traditional online indexing/abstracting databas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图书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or libra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存在的问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击中的记录远少于出版商自带搜索引擎得到的结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vs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e publishers’ search engine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举例说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or examp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公司从未透露过其数据库内容更新的时间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ogle has not disclosed how often it is update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两项研究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(two researches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533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7010280" cy="4762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6321600"/>
            <a:ext cx="2152800" cy="53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137160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666880"/>
            <a:ext cx="35812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362320"/>
            <a:ext cx="1371600" cy="304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219320"/>
            <a:ext cx="685800" cy="304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76960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两项研究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two research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leklinski, J. M. (2005). Studying Google Scholar: Wall to wall coverage?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Online (Weston, Conn.), 2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22-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acso, P. (2005). Google Scholar: The pros and the cons.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Online Information Review, 29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 208-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存在的问题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con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内容方面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时会收录一些非学术性的资料；同时也会收录一些不准确的资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Sometimes, Google Scholar crawler returns material unlikely for a scholarly databa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library handbooks, course syllabi, and undergraduate term paper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Outl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introd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scope and coverag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检索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retrieval method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显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search result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评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evaluatio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concl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存在的问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ons 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检索结果排列方面，由于根据引文被引用情况排列，因此那些排在前面的论文往往是年份较早的，同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又没有提供按日期排列的服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改进：“近期文章”按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排序方式无法自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5638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153280" y="609480"/>
            <a:ext cx="8384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1480" y="914400"/>
            <a:ext cx="3962520" cy="457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114800" y="685800"/>
            <a:ext cx="822240" cy="386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8487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onclusi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面世，为科研用户提供了一个强有力的学术搜索工具，它可以帮助用户第一手的全面了解某一领域的学术文献，可以帮助用户屏蔽掉网上许多无关信息，可以帮助用户找到信息的来源，可以帮助用户发现其还不了解的内容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(It helps us find out what we don’t know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Jokerman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Jokerman"/>
              </a:rPr>
              <a:t>FOR YOUR ATTEN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n Q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_mail:libxkgy2@mail.cnu.edu.c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Introduc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登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launched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ttp://scholar.google.c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faith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on the shoulder of gi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Scope and Coverage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录来自学术出版商、专业协会、预印本库和大学等方面的学术信息资源，内容覆盖同行评论的文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eer-reviewed paper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论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these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图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ook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预印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reprint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摘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abstract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技术报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technical report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学术文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内容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ree Sources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覆盖学术和技术领域的专业数据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roprietary databases covering a range of scholarly and technical discipl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术性和技术性出版商的网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Web sites of scholarly and technical publish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研究机构（通常是大学）的局域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intranets of research institutions&lt;usually universities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检索方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Retrieval Methods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简单检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asic 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级检索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vanced Scholar Searc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参数设置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cholar Preference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971800" y="2895480"/>
            <a:ext cx="2666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检索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733920"/>
            <a:ext cx="2971800" cy="19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54" y="1295"/>
                </a:moveTo>
                <a:lnTo>
                  <a:pt x="-716" y="1295"/>
                </a:lnTo>
                <a:lnTo>
                  <a:pt x="-716" y="-5167"/>
                </a:lnTo>
                <a:lnTo>
                  <a:pt x="15115" y="-11665"/>
                </a:ln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运算符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site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“ ”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Filetype : pdf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5909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Memory – intitle: “visual  memor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56560" y="1905120"/>
            <a:ext cx="914400" cy="761760"/>
          </a:xfrm>
          <a:prstGeom prst="borderCallout1">
            <a:avLst>
              <a:gd name="adj1" fmla="val 18750"/>
              <a:gd name="adj2" fmla="val -8333"/>
              <a:gd name="adj3" fmla="val 85208"/>
              <a:gd name="adj4" fmla="val -8819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3581280"/>
            <a:ext cx="91440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25000"/>
              <a:gd name="adj5" fmla="val -88824"/>
              <a:gd name="adj6" fmla="val -421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参数设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5562720" y="2438280"/>
            <a:ext cx="53316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单检索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066680"/>
            <a:ext cx="221004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5445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00200" y="90360"/>
            <a:ext cx="556272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级检索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9144000" cy="631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19280" y="3129120"/>
            <a:ext cx="2419200" cy="376200"/>
          </a:xfrm>
          <a:prstGeom prst="borderCallout1">
            <a:avLst>
              <a:gd name="adj1" fmla="val -10191"/>
              <a:gd name="adj2" fmla="val -4375"/>
              <a:gd name="adj3" fmla="val 20580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按照作者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24200" y="3586320"/>
            <a:ext cx="2419200" cy="376200"/>
          </a:xfrm>
          <a:prstGeom prst="borderCallout1">
            <a:avLst>
              <a:gd name="adj1" fmla="val -10191"/>
              <a:gd name="adj2" fmla="val -4375"/>
              <a:gd name="adj3" fmla="val 20580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按照出版物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967200"/>
            <a:ext cx="3657600" cy="376200"/>
          </a:xfrm>
          <a:prstGeom prst="borderCallout1">
            <a:avLst>
              <a:gd name="adj1" fmla="val -6741"/>
              <a:gd name="adj2" fmla="val -4375"/>
              <a:gd name="adj3" fmla="val 20925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按照出版日期范围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495680"/>
            <a:ext cx="3048120" cy="376200"/>
          </a:xfrm>
          <a:prstGeom prst="borderCallout1">
            <a:avLst>
              <a:gd name="adj1" fmla="val -8089"/>
              <a:gd name="adj2" fmla="val -4375"/>
              <a:gd name="adj3" fmla="val 20790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限制主题范围检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1752480"/>
            <a:ext cx="5029200" cy="376200"/>
          </a:xfrm>
          <a:prstGeom prst="borderCallout1">
            <a:avLst>
              <a:gd name="adj1" fmla="val -4902"/>
              <a:gd name="adj2" fmla="val -4375"/>
              <a:gd name="adj3" fmla="val 21109"/>
              <a:gd name="adj4" fmla="val -437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检索词限于文章标题的检索或者全文检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447920"/>
            <a:ext cx="175248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1447920"/>
            <a:ext cx="1447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Visual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07280" y="2438280"/>
            <a:ext cx="914400" cy="2286000"/>
          </a:xfrm>
          <a:prstGeom prst="borderCallout1">
            <a:avLst>
              <a:gd name="adj1" fmla="val -1800"/>
              <a:gd name="adj2" fmla="val -6255"/>
              <a:gd name="adj3" fmla="val -1800"/>
              <a:gd name="adj4" fmla="val 205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选择结果页面显示搜索结果条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19760" y="1706400"/>
            <a:ext cx="831960" cy="960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444680" cy="371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2000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1:38:10Z</dcterms:created>
  <dc:creator>qn</dc:creator>
  <dc:description/>
  <dc:language>en-US</dc:language>
  <cp:lastModifiedBy>User</cp:lastModifiedBy>
  <dcterms:modified xsi:type="dcterms:W3CDTF">2007-03-14T13:19:39Z</dcterms:modified>
  <cp:revision>50</cp:revision>
  <dc:subject/>
  <dc:title>Google Scholar介绍及评价 </dc:title>
</cp:coreProperties>
</file>