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3C60E0-9639-4F67-9C6F-3CC8533AE4AB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entarios. ¿Y si me insult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ecarios prec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ttp://becariaenabc.blogspo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todas las casas cuecen habas: experiencia en la Un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ntencia alumno IES Arganda del 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ídeos, Youtube, happyslapp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CEF. Código de autorregulación en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2C5-E2E3-4414-9325-5C253E37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902-18AD-4D59-925E-1F0854DB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1CC-8FB7-41E5-8388-6E2928A6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5A2-60FA-4A45-8C3C-2F5CB42C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4DFB-9406-4D49-A1C0-0DB2DFEB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358A-5B59-4165-9C02-AC87A45F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A473-7E6D-44E8-9293-523AC05B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5230-A89C-49DF-A722-2FEC967A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A865-6529-4DCF-A3A7-B4826E65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CB5A-06E0-41D7-8CE6-36C24143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5521-6058-4412-91B9-E7E22678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635-C01A-4BCA-B9D4-779E3CCC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FBFD-D9E8-4A70-AD4B-766364FE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9CE1-87B0-4498-A9E8-9CE7AADD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DF18-B7EC-443A-A14F-352B814D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170D-65DB-4EAC-AD57-7CD897B0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D815-8580-44A6-B8F1-1CE91126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1A6-B31D-4A21-B23A-1FBF0223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65C-AB48-4593-A3EE-BBD6356D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984-2B91-4138-A084-82A1E701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D1C-F36B-4F75-A259-52BA6C94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311-13FA-490E-9421-DCA388C8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177-D127-47B5-8B73-D16D854A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E37-A5E3-41AB-9A4C-59CA67AD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ECD0-1288-4C96-97F1-9F6D2941FB7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8BA9-2213-4A02-AD45-A5508CA4130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20minutos.es/noticia/133347/0/blog/alumno/expediente/" TargetMode="External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hyperlink" Target="http://www.culturalibre.org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blogs.com/" TargetMode="External"/><Relationship Id="rId2" Type="http://schemas.openxmlformats.org/officeDocument/2006/relationships/hyperlink" Target="http://www.edublogs.org/" TargetMode="External"/><Relationship Id="rId3" Type="http://schemas.openxmlformats.org/officeDocument/2006/relationships/hyperlink" Target="http://blogs.law.harvard.edu/home/" TargetMode="External"/><Relationship Id="rId4" Type="http://schemas.openxmlformats.org/officeDocument/2006/relationships/hyperlink" Target="http://blogs.law.harvard.edu/home/" TargetMode="External"/><Relationship Id="rId5" Type="http://schemas.openxmlformats.org/officeDocument/2006/relationships/hyperlink" Target="http://blogs.law.harvard.edu/home/" TargetMode="External"/><Relationship Id="rId6" Type="http://schemas.openxmlformats.org/officeDocument/2006/relationships/hyperlink" Target="http://blogs.law.harvard.edu/home/" TargetMode="External"/><Relationship Id="rId7" Type="http://schemas.openxmlformats.org/officeDocument/2006/relationships/hyperlink" Target="http://blogs.law.harvard.edu/home/" TargetMode="External"/><Relationship Id="rId8" Type="http://schemas.openxmlformats.org/officeDocument/2006/relationships/hyperlink" Target="http://blogs.law.harvard.edu/home/" TargetMode="External"/><Relationship Id="rId9" Type="http://schemas.openxmlformats.org/officeDocument/2006/relationships/hyperlink" Target="http://www.incsub.org/awards/" TargetMode="External"/><Relationship Id="rId10" Type="http://schemas.openxmlformats.org/officeDocument/2006/relationships/hyperlink" Target="http://www.incsub.org/awards/" TargetMode="External"/><Relationship Id="rId11" Type="http://schemas.openxmlformats.org/officeDocument/2006/relationships/hyperlink" Target="http://www.incsub.org/awards/" TargetMode="External"/><Relationship Id="rId12" Type="http://schemas.openxmlformats.org/officeDocument/2006/relationships/hyperlink" Target="http://www.incsub.org/awards/" TargetMode="External"/><Relationship Id="rId13" Type="http://schemas.openxmlformats.org/officeDocument/2006/relationships/hyperlink" Target="http://www.tinglado.net/encuentro/" TargetMode="External"/><Relationship Id="rId14" Type="http://schemas.openxmlformats.org/officeDocument/2006/relationships/hyperlink" Target="http://www.tinglado.net/encuentro/" TargetMode="External"/><Relationship Id="rId15" Type="http://schemas.openxmlformats.org/officeDocument/2006/relationships/hyperlink" Target="http://www.tinglado.net/encuentro/" TargetMode="External"/><Relationship Id="rId16" Type="http://schemas.openxmlformats.org/officeDocument/2006/relationships/hyperlink" Target="http://www.tinglado.net/encuentro/" TargetMode="External"/><Relationship Id="rId1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blog.com/planeta/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inglado.ne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zayas.com/tic/blogs_aula/mis_blogs.html" TargetMode="External"/><Relationship Id="rId2" Type="http://schemas.openxmlformats.org/officeDocument/2006/relationships/hyperlink" Target="http://www.fzayas.com/tic/blogs_aula/mis_blogs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24360" y="1267920"/>
            <a:ext cx="770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Uso educativo </a:t>
            </a:r>
            <a:br>
              <a:rPr sz="8000"/>
            </a:b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de los blogs 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99"/>
                </a:solidFill>
                <a:latin typeface="Trebuchet MS"/>
              </a:rPr>
              <a:t>Tíscar L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Universidad de León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13 de Juli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12356" t="29114" r="63140" b="54929"/>
          <a:stretch/>
        </p:blipFill>
        <p:spPr>
          <a:xfrm>
            <a:off x="4572000" y="4365720"/>
            <a:ext cx="27003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6560" y="1224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tipos según autoría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39560" y="1933560"/>
            <a:ext cx="8190000" cy="4519800"/>
            <a:chOff x="439560" y="1933560"/>
            <a:chExt cx="8190000" cy="4519800"/>
          </a:xfrm>
        </p:grpSpPr>
        <p:sp>
          <p:nvSpPr>
            <p:cNvPr id="185" name="_s149509"/>
            <p:cNvSpPr/>
            <p:nvPr/>
          </p:nvSpPr>
          <p:spPr>
            <a:xfrm>
              <a:off x="3554280" y="1933560"/>
              <a:ext cx="4402440" cy="4402080"/>
            </a:xfrm>
            <a:prstGeom prst="ellipse">
              <a:avLst/>
            </a:prstGeom>
            <a:solidFill>
              <a:srgbClr val="669999">
                <a:alpha val="50000"/>
              </a:srgbClr>
            </a:solidFill>
            <a:ln w="46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49510"/>
            <p:cNvSpPr/>
            <p:nvPr/>
          </p:nvSpPr>
          <p:spPr>
            <a:xfrm>
              <a:off x="6691320" y="4230720"/>
              <a:ext cx="1938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49511"/>
            <p:cNvSpPr/>
            <p:nvPr/>
          </p:nvSpPr>
          <p:spPr>
            <a:xfrm>
              <a:off x="439560" y="4230720"/>
              <a:ext cx="1936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49512"/>
            <p:cNvSpPr/>
            <p:nvPr/>
          </p:nvSpPr>
          <p:spPr>
            <a:xfrm>
              <a:off x="1609560" y="2941560"/>
              <a:ext cx="3511800" cy="351180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46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8640" y="46688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de PROFE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54280" y="3660840"/>
              <a:ext cx="15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GRUPAL, profesor/es + alum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219640" y="285264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BLOGS de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5373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tradicional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83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innovador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tutor o g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28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mi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351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cc00"/>
                </a:solidFill>
                <a:latin typeface="Trebuchet MS"/>
              </a:rPr>
              <a:t>PROGRA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xige más trabajo por anticipa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tener unos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objetivos clar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para diseñar la actividad y el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recorrido de 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a través del blo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edicar con el ejempl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habe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experimentado previament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las 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Nuevos modelos de evaluación.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Valora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qué se ha aprendi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a través del blog.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No imponer criteri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temas, extensión, etc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Implicación de los modelos abierto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tir de un modelo de Análisis-Producción-Evalu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conocer otros blogs, desarrollar un blog y reflexionar sobre los aprendizajes de la activi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fini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yectos integral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onde tenga sentido la incorporación del blog dentro de la práctica docente. Integr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un medio de aprendizaj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no como un fin en sí m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Orientar sobr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fórmulas correcta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citado, hiperenlaces, licencias, identificació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Especific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uáles van a ser los criteri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evaluación a lo largo de la a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Tom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medio personal del alumno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 y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vitar una excesiva direc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por parte del profesor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No imponer el tema ni el ritmo de public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. Su presencia ha de ser tan natural como un cuaderno de apuntes.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entrarse en la actividad alrededor/con el blog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sarroll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del profesor como un eslabón má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ntro de la red de blogs del grupo. Crear redes entre todos los blogs (mediante blogrolling, RSS, planets, etc.)</a:t>
            </a:r>
            <a:r>
              <a:rPr b="0" lang="es-ES" sz="20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Práctica de Creación de Blog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Escoger servidor y tema de interé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(se puede suger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 del profe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como referencia. Escribir en los comentarios URL, tema, nomb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Post de análisis de blog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similares enlazados (se investiga, se sintetiza y se articula un argument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roll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del grupo de trabajo y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lectura R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Integración de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ntador de visitas y búsqueda de referencias 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(dimensión universal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mentarios del profesor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en los blogs de alumn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Analizar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impresiones y sensacio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91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El blog </a:t>
            </a:r>
            <a:r>
              <a:rPr b="1" lang="es-ES_tradnl" sz="3000" spc="-1" strike="noStrike">
                <a:solidFill>
                  <a:srgbClr val="330066"/>
                </a:solidFill>
                <a:latin typeface="Trebuchet MS"/>
              </a:rPr>
              <a:t>aporta valores</a:t>
            </a: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 positivos com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identidad /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colaboración / generosidad / so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del conocimiento / humi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transparencia / cred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Pluralismo de voces / horizontalidad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BLOGS Y VALORES</a:t>
            </a:r>
            <a:br>
              <a:rPr sz="35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ás ÉTICA en la ESTÉTICA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00440" y="2781360"/>
            <a:ext cx="187704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noni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17560" y="4076640"/>
            <a:ext cx="11257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la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81080" y="4986360"/>
            <a:ext cx="31813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uplantación (F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5320" y="5851440"/>
            <a:ext cx="192276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ifa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4920" y="2227320"/>
            <a:ext cx="58377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Pero también 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travalores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iedo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a y 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límite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de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MIEDOS o FALTA DE AUTOCRÍTICA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Comentarios abiertos: ¿Y si me insulta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Documentos del aula en redes P2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PLAG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Tan fácil es copiar como detectar la copia (ej. Caso Bitacoras.or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DERECHOS DE AU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Límites a la creación colecti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ccc00"/>
                </a:solidFill>
                <a:latin typeface="Trebuchet MS"/>
              </a:rPr>
              <a:t>¿Y cuando me insultan en otros blogs…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ANONIMATO como arma de difam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Las intrigas palaciegas llevadas al blo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Becarios precarios http://becariaenabc.blogspot.com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Juici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a un </a:t>
            </a: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alumn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de Bachillerato por las críticas en su blog a la práctica docente de su profes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860640"/>
            <a:ext cx="1584360" cy="559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443640" y="2637000"/>
            <a:ext cx="15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7926" t="14564" r="16032" b="12586"/>
          <a:stretch/>
        </p:blipFill>
        <p:spPr>
          <a:xfrm>
            <a:off x="0" y="0"/>
            <a:ext cx="4824360" cy="3465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2"/>
          </p:cNvPr>
          <p:cNvPicPr/>
          <p:nvPr/>
        </p:nvPicPr>
        <p:blipFill>
          <a:blip r:embed="rId3"/>
          <a:srcRect l="18997" t="17512" r="36720" b="10636"/>
          <a:stretch/>
        </p:blipFill>
        <p:spPr>
          <a:xfrm>
            <a:off x="4500720" y="1341360"/>
            <a:ext cx="4319280" cy="5256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88600" y="3645000"/>
            <a:ext cx="3538080" cy="302004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Responsabilidad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Quiénes y cuáles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utore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omentarios del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ervicio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Jurisd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PROTECCIÓN DEL DERECHO AL HONOR Y A LA PROPIA IMA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Integración multimedia (youtube p.ej.) + Facilidad de publicación y acceso:  ej. happysl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TODOS SOMOS PERIODISTAS? Está por ver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Sentencia bloggers/periodistas en Califor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En Españ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Todos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ciudadano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enemos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derecho a la informac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libertad de expres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. Pero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periodista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ienen protegido el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secreto profesional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la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cláusula de conci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cc00"/>
                </a:solidFill>
                <a:latin typeface="Trebuchet MS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¿¿¿Autorregulación (ej. Código IQUA) + Ética </a:t>
            </a:r>
            <a:r>
              <a:rPr b="0" lang="es-ES" sz="2400" spc="-1" strike="noStrike">
                <a:solidFill>
                  <a:srgbClr val="cccc00"/>
                </a:solidFill>
                <a:latin typeface="Trebuchet MS"/>
              </a:rPr>
              <a:t>Vs.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Prohibición ??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miedos a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y 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límites de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NUESTRO RETO COMO EDUCADORES, CIUDADANOS, APRENDICE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2421000"/>
            <a:ext cx="7632720" cy="4115880"/>
          </a:xfrm>
          <a:prstGeom prst="rect">
            <a:avLst/>
          </a:prstGeom>
          <a:solidFill>
            <a:srgbClr val="cccc00"/>
          </a:solidFill>
          <a:ln w="38160">
            <a:solidFill>
              <a:srgbClr val="33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Cómo seremos capaces de promo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el </a:t>
            </a:r>
            <a:r>
              <a:rPr b="1" lang="es-ES_tradnl" sz="4400" spc="-1" strike="noStrike">
                <a:solidFill>
                  <a:srgbClr val="330066"/>
                </a:solidFill>
                <a:latin typeface="Trebuchet MS"/>
              </a:rPr>
              <a:t>uso libre y responsable</a:t>
            </a: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 del ciberespa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definición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odríamos entender los </a:t>
            </a:r>
            <a:r>
              <a:rPr b="1" lang="es-ES" sz="3600" spc="-1" strike="noStrike">
                <a:solidFill>
                  <a:srgbClr val="330066"/>
                </a:solidFill>
                <a:latin typeface="Trebuchet MS"/>
              </a:rPr>
              <a:t>edu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como aquellos weblogs cuyo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incipal objetiv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s apoyar u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oceso de enseñanza-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n un contexto educa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3680" y="3855960"/>
            <a:ext cx="275004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43400" y="3860640"/>
            <a:ext cx="156600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67760" y="5084640"/>
            <a:ext cx="3367440" cy="1556280"/>
          </a:xfrm>
          <a:prstGeom prst="rect">
            <a:avLst/>
          </a:prstGeom>
          <a:solidFill>
            <a:srgbClr val="669999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rebuchet MS"/>
              </a:rPr>
              <a:t>PROCESOS</a:t>
            </a: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e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ia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4581360"/>
            <a:ext cx="1152360" cy="100836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300360" y="4581360"/>
            <a:ext cx="792360" cy="93528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164360" y="4292640"/>
            <a:ext cx="21600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424720" cy="216036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GRACIAS</a:t>
            </a:r>
            <a:br>
              <a:rPr sz="4400"/>
            </a:br>
            <a:r>
              <a:rPr b="0" i="1" lang="es-ES" sz="4400" spc="-1" strike="noStrike">
                <a:solidFill>
                  <a:srgbClr val="ffffff"/>
                </a:solidFill>
                <a:latin typeface="Arial"/>
              </a:rPr>
              <a:t>Nos vemos en los blogs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3800" y="4381560"/>
            <a:ext cx="6506640" cy="1008360"/>
          </a:xfrm>
          <a:prstGeom prst="rect">
            <a:avLst/>
          </a:prstGeom>
          <a:noFill/>
          <a:ln w="57240">
            <a:solidFill>
              <a:srgbClr val="cc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cccc00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@</a:t>
            </a:r>
            <a:r>
              <a:rPr b="0" lang="es-ES" sz="6000" spc="-1" strike="noStrike">
                <a:solidFill>
                  <a:srgbClr val="669999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2356" t="27366" r="63140" b="54929"/>
          <a:stretch/>
        </p:blipFill>
        <p:spPr>
          <a:xfrm>
            <a:off x="4643280" y="2852640"/>
            <a:ext cx="27003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6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orígene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84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Natural y espontáneo como el resto de los usos de los blogs: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war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j-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n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HITOS VI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Servidores especializad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schoolblogs.com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sde 2001 (o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edublogs.or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poyos institucionale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5"/>
              </a:rPr>
              <a:t>at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6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7"/>
              </a:rPr>
              <a:t>Harvard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8"/>
              </a:rPr>
              <a:t>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curs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9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0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1"/>
              </a:rPr>
              <a:t>Award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2"/>
              </a:rPr>
              <a:t> 2004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Encuen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3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4"/>
              </a:rPr>
              <a:t> Roa d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5"/>
              </a:rPr>
              <a:t>Duero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6"/>
              </a:rPr>
              <a:t> 2006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ventajas del format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2000" y="1719360"/>
            <a:ext cx="43336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Fácil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Gratu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utoría compar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cceso desde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ualquier l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ublicació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grador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 otras herramientas (web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19720" y="1719000"/>
            <a:ext cx="4905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ategoría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temat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nlaces perma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archivo, hemeroteca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g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ractiv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comentarios, track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Sindicación RSS 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distribución y document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gregación RS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lanet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784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USOS EDUCATIVOS de los blog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Organización del discurs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todo se clasifica y es fácilmente recu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Fomento del debat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 través de los comentarios y el track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nstrucción de identidad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como a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rea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munidades de aprendizaje 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rof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lumnos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cto de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Compromiso con la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Apoyo al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E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ocument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poyada con R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Alfabetización digital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, crítica y reflexiva. Requiere de metodologías abiertas, que favorezcan la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onstrucción de conocimientos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Mapa conceptual d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elip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aya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-38160" y="1125360"/>
            <a:ext cx="91821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aprender / Long-life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ccesibilidad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a las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fu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ransformar la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formación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n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Vivimos en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sistemas abierto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es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Nuestro reto es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vivir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 en la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incertidum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Verificador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/ Sobreabund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odos estamos sometidos al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escrutinio públ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s tiempo de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dar explicacion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(empresas, profesores, periodista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89000"/>
            <a:ext cx="7777440" cy="122400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CONTEXTO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de la Sociedad de la  Inform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rti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e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a qué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y llegar a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qué, cómo y por q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Reflexión desde la cre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Buscar, seleccionar, verificar, producir y compartir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información en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ducir mensajes multimedia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sde un espíritu crítico-reflex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onocer y experimentar los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valores del ciberespaci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identificar sus riesg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producción colaborativa, cultura libre, copyleft, plagio, anonimato, spam, credibilidad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Prácticas orientadas a proyect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aprendizaje instrumental como medio y no como fin. Crear motivaciones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hacer para querer aprende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actuar para querer produci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Énfasis en los proces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Prácticas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abiertas y personale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Aprendizaje lógico-intuitivo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frente a aprendizaje lineal. Aprender a enfrentarse a la tecnología desde l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intuición y la reflexión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Frente a los cursos para “aprender programas”, cursos par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estimular</a:t>
            </a: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 el “qué”, “por qué” y “para qué”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con/de “esos programa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8:58:46Z</dcterms:created>
  <dc:creator>Libra</dc:creator>
  <dc:description/>
  <dc:language>en-US</dc:language>
  <cp:lastModifiedBy>web2cero</cp:lastModifiedBy>
  <dcterms:modified xsi:type="dcterms:W3CDTF">2006-07-13T10:09:36Z</dcterms:modified>
  <cp:revision>168</cp:revision>
  <dc:subject/>
  <dc:title>Weblogs y periodismo participativo</dc:title>
</cp:coreProperties>
</file>