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77C-DE8B-4721-B734-9BE28626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73B-92C4-434A-BD1B-92A92BC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FC1-DC6F-43FE-A6DE-E3046706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97D-5E16-43D9-A996-48F113EA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897-02D7-4FCE-BEC0-D6DAEBC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84B-225A-48AF-9DE8-1FF15C6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D06-163B-4923-A3DB-701CA0D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785-2228-4968-B3BB-4C34FE3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27E-03F0-499D-8DDE-4A970A4F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8B4-5C60-4A29-A6F8-5655EDA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C1D-9B63-45F8-8C34-4DA177C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92D-131E-4D26-B1BA-9BB4DF1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DD24-A104-4281-93F5-F896BFE1D0F3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tec.cat/audiovisuals/" TargetMode="External"/><Relationship Id="rId3" Type="http://schemas.openxmlformats.org/officeDocument/2006/relationships/hyperlink" Target="http://www.xtec.cat/~mvert2/mp3/mp3crp.swf" TargetMode="External"/><Relationship Id="rId4" Type="http://schemas.openxmlformats.org/officeDocument/2006/relationships/hyperlink" Target="http://www.xtec.cat/~mvert2/truita2.swf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292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bàsiques i l’educació en Comunic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4720" y="6237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elona, 26 de novem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1440" y="62856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JOR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 en Comunicació i Currículum a de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antil i Primà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5920" y="285120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ció del nou currículum d’educació primà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hi està representada l’educació en Comunicaci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síntesi, el desenvolupament de la competència lingüística i audiovisual, supo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ferent domini de llengües –oral, escrit-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últiples suports,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complement dels llenguatges audiovisuals en varietat de contextos i finalita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a eina per aprendre a apren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lumnat sigui conscient del procés seg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ui capaç d’usar funcionalment la reflexió, revisant i reformulant les seves producc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petència artística i 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r cr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parau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propi c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tota mena de materials, suports i eines tecnològiques (..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epresentacions i anàlisi de la reali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viure i conviure en soci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5199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una competència interdisciplinària, que cal desenvolupar en les activitats de totes les à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ractament de la informació i 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de diferents sup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zació de les tecnologies de la informació i la comunicació com element essencial 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r-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ndr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r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4002120"/>
            <a:ext cx="41767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ctament de la informació es desenvolu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e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a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ment de la informaci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 tècniques i estratègies diverses segons la font i els suports que s’utilitz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è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visu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48000" y="1125360"/>
            <a:ext cx="1841400" cy="144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300720" y="422100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4581360"/>
            <a:ext cx="1979640" cy="22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924360" y="4581360"/>
            <a:ext cx="235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ament de la informació i competènci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eix el domi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lenguatges específics bà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èr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òn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à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eves pautes de decodificació i transferè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plicació en distintes situacions i contextos del coneix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diferents tipus d’informació, fonts, possibilitats i localització dels llenguatges i suports més freqü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02400" y="1341360"/>
            <a:ext cx="2254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r la informació en coneix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re-la i integrar-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 coneixements adqui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rar de manera cre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expressius que incorpo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ssibilitats que ofereix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ecnologies de 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unicac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530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65800" y="907920"/>
            <a:ext cx="2698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reflexiu i competent de les tec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s clau en el desenvolupa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otes les competè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ir una actitud crítica i reflex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t de la ideologia que transm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que condiciona la vida individual i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IC com a eina en l’ús de models de proce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àtics, físics, social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r i gestionar adequadament informació abundant i comp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dre probl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ballar en entorns col·labora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ser competents, s’han de mobilitzar estratè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ir en compte que els textos no són lineals, format multimè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ús de diferents tipus de processos de comprensió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variades estratègies per al seu ús en diferents contextos comunicat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matemà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mpetències pers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620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strar esperit crí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observació de la realita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anàlisi dels missatge informatius i publicit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tilització de valors i criteris ètics associ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ciència i al desenvolupament tecnolò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social i ciuta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bàs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r els diferents aprenentatges impulsant la transversalitat dels coneix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umnat integri els seus aprenentat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i els diferents tipus de conting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 utilitzi de manera efectiva en diferents situacions i contex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re al professor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continguts i criteris d’avaluació bàsics per a tot l’alumnat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dre decisions relatives al procés d’ensenyament i aprenentat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6760" y="2130480"/>
            <a:ext cx="14428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enllaços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udiovisua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l Depar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u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porta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83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àrees curricu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upament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1398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esenvolupament de diferents competè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0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6560" y="1555920"/>
            <a:ext cx="20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42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e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7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3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ssolir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22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 el treball en distintes à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42920" y="4076640"/>
            <a:ext cx="2808360" cy="12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339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transver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comunicativa lingüística i audio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artística i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ament de la informació i competència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matemà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pers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social i ciut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142040" y="3500280"/>
            <a:ext cx="1967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sa saber interacci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escri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ls llenguatges audio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re a comuni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saber utilitzar diferents llenguatges i tecnologies de la informació i la comunica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stes tecnologies condicionen la comunicaci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odifiquen la manera de veure el món i de  relacion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70800" y="1125360"/>
            <a:ext cx="2438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Competència comunicativa lingüística i audiovis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seu desenvolupament és responsabilitat de totes les àrees i matèries del currícul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arietat de tex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766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en: anècdota, testimoni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2492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escriuen:    informe d’observacions,               fulletó informati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2421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organitzen informació o idees: esquema, mapa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573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uen com fer:    dossier de sortida de camp, recept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08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xpliquen:     notícia periodística report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357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quen interaccions verbals:    entrevista, còmic, conversa, dramatitzaci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878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rveixen d’eines de referència:    diccionari, banc de dad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8200" y="5373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a convèncer o actuar:    anunci, deba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67440"/>
            <a:ext cx="8172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poden presentar amb l’ús de llenguatges audiovis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sentar-los 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5157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icar emocions, sentiments: textos poètic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nguatges audiovis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s codis que cal conèix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n aparèixer en suport paper o dig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es formes diferents que s’han de considerar en el procés d’aprenentat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35280" y="5229360"/>
            <a:ext cx="33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511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petència comunicativa lingüística i audiovisual cal que s’apliq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erca, selecció i processament de la informació provinent de tot tipus de mitjans, convencionals o dig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omprensió i composició de missatges diferents amb intencions comunicatives o creatives, i en suports dive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56360" y="4984920"/>
            <a:ext cx="294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0:07Z</dcterms:created>
  <dc:creator>montserrat</dc:creator>
  <dc:description/>
  <dc:language>en-US</dc:language>
  <cp:lastModifiedBy>paco_m</cp:lastModifiedBy>
  <dcterms:modified xsi:type="dcterms:W3CDTF">2010-04-23T23:20:57Z</dcterms:modified>
  <cp:revision>46</cp:revision>
  <dc:subject/>
  <dc:title>Competències bàsiques i l’educació en Comunicació</dc:title>
</cp:coreProperties>
</file>