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4FA0-8365-44C0-984C-30D23FFF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899B-C725-40EF-8F4F-3C63B8F2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02E-B27A-4784-803B-3B544174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23B6-3515-439B-A271-66A76D11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AA9-3A4D-4A29-AE48-A87FA974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FA78-91B2-4329-830F-6D6A9130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40DF-46A9-4E73-BF1C-7B919697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D845-3A2C-48DE-BDAC-2D2D6664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E7B-0B8E-4AD5-91D9-743FF186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931D-582A-4A01-8B85-736F4CBA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4A7B-C79E-4677-9DD6-AA36F7B4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86EC-4D02-49DF-9747-3E9E4EEE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A3BB-9FB2-44E1-AFBF-F2D0D1DCEE3F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xtec.cat/audiovisuals/" TargetMode="External"/><Relationship Id="rId3" Type="http://schemas.openxmlformats.org/officeDocument/2006/relationships/hyperlink" Target="http://www.xtec.cat/~mvert2/mp3/mp3crp.swf" TargetMode="External"/><Relationship Id="rId4" Type="http://schemas.openxmlformats.org/officeDocument/2006/relationships/hyperlink" Target="http://www.xtec.cat/~mvert2/truita2.swf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29228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ències bàsiques i l’educació en Comunica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84720" y="623736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celona, 26 de novembre d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1440" y="628560"/>
            <a:ext cx="70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 JOR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cació en Comunicació i Currículum a deb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antil i Primà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5920" y="2851200"/>
            <a:ext cx="764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ció del nou currículum d’educació primà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 hi està representada l’educació en Comunicació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79912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síntesi, el desenvolupament de la competència lingüística i audiovisual, supo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diferent domini de llengües –oral, escrit-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múltiples suports,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 el complement dels llenguatges audiovisuals en varietat de contextos i finalita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 a eina per aprendre a aprend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lumnat sigui conscient del procés segu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ui capaç d’usar funcionalment la reflexió, revisant i reformulant les seves producc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Competència artística i cultu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ber cr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 paraul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 el propi c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 tota mena de materials, suports i eines tecnològiques (..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representacions i anàlisi de la realit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viure i conviure en societ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51991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s una competència interdisciplinària, que cal desenvolupar en les activitats de totes les à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competències metodològiqu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Tractament de la informació i competència digi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4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ús de diferents supo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tzació de les tecnologies de la informació i la comunicació com element essencial p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r-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endre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r-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932360" y="4002120"/>
            <a:ext cx="41767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4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tractament de la informació es desenvolup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a cerc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aci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ci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e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ament de la informaci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 l’ús de tècniques i estratègies diverses segons la font i els suports que s’utilitz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è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ovisu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348000" y="1125360"/>
            <a:ext cx="1841400" cy="1443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300720" y="4221000"/>
            <a:ext cx="2448000" cy="2232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0" y="4581360"/>
            <a:ext cx="1979640" cy="227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3924360" y="4581360"/>
            <a:ext cx="2357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tament de la informació i competència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reix el domi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lenguatges específics bà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èri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òni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à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seves pautes de decodificació i transferè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aplicació en distintes situacions i contextos del coneix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 diferents tipus d’informació, fonts, possibilitats i localització dels llenguatges i suports més freqü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02400" y="1341360"/>
            <a:ext cx="22543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147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r la informació en coneix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ndre-la i integrar-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ic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informació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 coneixements adquir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rar de manera cre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sos expressius que incorpo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ssibilitats que ofereix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tecnologies de la informació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municaci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9640" y="5300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265800" y="907920"/>
            <a:ext cx="2698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ència digi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ús reflexiu i competent de les tecnolog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s clau en el desenvolupa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totes les competèn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ir una actitud crítica i reflex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ant de la ideologia que transm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que condiciona la vida individual i 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TIC com a eina en l’ús de models de proces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màtics, físics, social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ar i gestionar adequadament informació abundant i comple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dre probl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ballar en entorns col·laborat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ser competents, s’han de mobilitzar estratè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ir en compte que els textos no són lineals, format multimè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ús de diferents tipus de processos de comprensió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variades estratègies per al seu ús en diferents contextos comunicati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ència matemà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ència d’aprendre a aprend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competències person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ència d’autonomia i iniciativa 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5280" y="620640"/>
            <a:ext cx="822960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ències específiques centrades en conviure i habitar el m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ència en el coneixement i la interacció amb el món fí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strar esperit crí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’observació de la realitat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’anàlisi dels missatge informatius i publicitar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utilització de valors i criteris ètics associ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 ciència i al desenvolupament tecnològ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ència social i ciutad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ències bàs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r els diferents aprenentatges impulsant la transversalitat dels coneix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alumnat integri els seus aprenentat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cioni els diferents tipus de conting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 utilitzi de manera efectiva en diferents situacions i contex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etre al professor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r continguts i criteris d’avaluació bàsics per a tot l’alumnat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ndre decisions relatives al procés d’ensenyament i aprenentat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16760" y="2130480"/>
            <a:ext cx="144288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bé enllaços a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udiovisual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del Depart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l 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bé u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eportat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71640" y="836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una de les àrees curricu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765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nvolupament de les competències bàs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21398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desenvolupament de diferents competè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1052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6560" y="1555920"/>
            <a:ext cx="20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35640" y="3429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una de les competències bàs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1844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ibue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59280" y="47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4365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assolir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522936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 el treball en distintes à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842920" y="4076640"/>
            <a:ext cx="2808360" cy="1224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33992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ències transvers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competències comunic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ència comunicativa lingüística i audiovi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ències artística i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competències metodolò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tament de la informació i competència dig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ència matemà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ència d’aprendre a aprend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competències perso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ència d’autonomia i iniciativa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ències específiques centrades en conviure i habitar el m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ència en el coneixement i la interacció amb el món fí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ència social i ciutad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142040" y="3500280"/>
            <a:ext cx="19670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competències comunic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osa saber interaccion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lm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escrit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 l’ús dels llenguatges audiovis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endre a comunic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s saber utilitzar diferents llenguatges i tecnologies de la informació i la comunicaci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uestes tecnologies condicionen la comunicaci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modifiquen la manera de veure el món i de  relacionar-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670800" y="1125360"/>
            <a:ext cx="2438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Competència comunicativa lingüística i audiovis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507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seu desenvolupament és responsabilitat de totes les àrees i matèries del currícul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varietat de tex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227664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conten: anècdota, testimoniatg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249228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descriuen:    informe d’observacions,               fulletó informatiu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19640" y="242100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organitzen informació o idees: esquema, mapa 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573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diuen com fer:    dossier de sortida de camp, recept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5084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expliquen:     notícia periodística reportatg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335772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impliquen interaccions verbals:    entrevista, còmic, conversa, dramatització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458784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serveixen d’eines de referència:    diccionari, banc de dad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8200" y="537372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a convèncer o actuar:    anunci, deba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79640" y="6067440"/>
            <a:ext cx="81723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s poden presentar amb l’ús de llenguatges audiovisu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esentar-los tamb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700360" y="515772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plicar emocions, sentiments: textos poètics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nguatges audiovis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en uns codis que cal conèix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n aparèixer en suport paper o dig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en unes formes diferents que s’han de considerar en el procés d’aprenentat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635280" y="5229360"/>
            <a:ext cx="33130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484360" y="3789360"/>
            <a:ext cx="5112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mpetència comunicativa lingüística i audiovisual cal que s’apliqu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16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cerca, selecció i processament de la informació provinent de tot tipus de mitjans, convencionals o digi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comprensió i composició de missatges diferents amb intencions comunicatives o creatives, i en suports diver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56360" y="4984920"/>
            <a:ext cx="2943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0:10:07Z</dcterms:created>
  <dc:creator>montserrat</dc:creator>
  <dc:description/>
  <dc:language>en-US</dc:language>
  <cp:lastModifiedBy>paco_m</cp:lastModifiedBy>
  <dcterms:modified xsi:type="dcterms:W3CDTF">2010-04-23T23:20:57Z</dcterms:modified>
  <cp:revision>46</cp:revision>
  <dc:subject/>
  <dc:title>Competències bàsiques i l’educació en Comunicació</dc:title>
</cp:coreProperties>
</file>